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7543-C5F0-4CB2-B2ED-4852C9425D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F35-42B4-4B12-ADA0-743B6767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354-2088-4A85-97E7-FC25AF26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679-CFD6-4D19-95BD-B09DD0EA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6E2-1B7D-4524-B4FF-80C36908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3D5-3B34-4B43-9D90-24F2ECFD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C84-7C60-4FED-82FD-B306621E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F7B-F8A0-420E-9728-5E543D2E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A3A-DFF6-4B6F-A353-27120427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6FB-CB51-4250-9DED-6C12FF3F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299-F997-4264-B2E2-7F4F7E4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10D-8E1B-40DD-8914-A46370F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0EF-44C3-43E2-BCA6-10F86CC9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810C-C8EF-49BD-AE7E-6CB0BBB39D8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Ways of the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A Brief Global His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11480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e and Fall of World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876920" y="64310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9040" y="762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W. Str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ap 22-3 (inset)"/>
          <p:cNvPicPr/>
          <p:nvPr/>
        </p:nvPicPr>
        <p:blipFill>
          <a:blip r:embed="rId1"/>
          <a:stretch/>
        </p:blipFill>
        <p:spPr>
          <a:xfrm>
            <a:off x="1663560" y="165240"/>
            <a:ext cx="5819760" cy="6532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ap 22-3"/>
          <p:cNvPicPr/>
          <p:nvPr/>
        </p:nvPicPr>
        <p:blipFill>
          <a:blip r:embed="rId1"/>
          <a:stretch/>
        </p:blipFill>
        <p:spPr>
          <a:xfrm>
            <a:off x="304920" y="457200"/>
            <a:ext cx="8531280" cy="594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ap 22-4"/>
          <p:cNvPicPr/>
          <p:nvPr/>
        </p:nvPicPr>
        <p:blipFill>
          <a:blip r:embed="rId1"/>
          <a:stretch/>
        </p:blipFill>
        <p:spPr>
          <a:xfrm>
            <a:off x="304920" y="507960"/>
            <a:ext cx="8531280" cy="5856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, p658"/>
          <p:cNvPicPr/>
          <p:nvPr/>
        </p:nvPicPr>
        <p:blipFill>
          <a:blip r:embed="rId1"/>
          <a:stretch/>
        </p:blipFill>
        <p:spPr>
          <a:xfrm>
            <a:off x="2082960" y="165240"/>
            <a:ext cx="4971960" cy="65325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age, p665"/>
          <p:cNvPicPr/>
          <p:nvPr/>
        </p:nvPicPr>
        <p:blipFill>
          <a:blip r:embed="rId1"/>
          <a:stretch/>
        </p:blipFill>
        <p:spPr>
          <a:xfrm>
            <a:off x="368280" y="165240"/>
            <a:ext cx="8404200" cy="6532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, p669"/>
          <p:cNvPicPr/>
          <p:nvPr/>
        </p:nvPicPr>
        <p:blipFill>
          <a:blip r:embed="rId1"/>
          <a:stretch/>
        </p:blipFill>
        <p:spPr>
          <a:xfrm>
            <a:off x="2425680" y="165240"/>
            <a:ext cx="4291200" cy="6532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age, p673"/>
          <p:cNvPicPr/>
          <p:nvPr/>
        </p:nvPicPr>
        <p:blipFill>
          <a:blip r:embed="rId1"/>
          <a:stretch/>
        </p:blipFill>
        <p:spPr>
          <a:xfrm>
            <a:off x="2565360" y="165240"/>
            <a:ext cx="4022640" cy="65325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age, p677"/>
          <p:cNvPicPr/>
          <p:nvPr/>
        </p:nvPicPr>
        <p:blipFill>
          <a:blip r:embed="rId1"/>
          <a:stretch/>
        </p:blipFill>
        <p:spPr>
          <a:xfrm>
            <a:off x="304920" y="431640"/>
            <a:ext cx="8531280" cy="6002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mage, p680"/>
          <p:cNvPicPr/>
          <p:nvPr/>
        </p:nvPicPr>
        <p:blipFill>
          <a:blip r:embed="rId1"/>
          <a:stretch/>
        </p:blipFill>
        <p:spPr>
          <a:xfrm>
            <a:off x="304920" y="216000"/>
            <a:ext cx="8531280" cy="6422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, p683"/>
          <p:cNvPicPr/>
          <p:nvPr/>
        </p:nvPicPr>
        <p:blipFill>
          <a:blip r:embed="rId1"/>
          <a:stretch/>
        </p:blipFill>
        <p:spPr>
          <a:xfrm>
            <a:off x="304920" y="368280"/>
            <a:ext cx="8531280" cy="61308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Rev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Path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: Revolution in a Sing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 Prolonged Revolutionary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Socialism in Two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t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sm in the Country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m and Industr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arch for Ene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 versus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lobal Divide and a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Conflict and the 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Standoff and Third World Ri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States: Superpower of the West, 1945–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st World, 1950s–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the End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bandoning Communism and Maintaining the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viet Union: The Collapse of Communism an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2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and Fall of World Communism, 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1 Russia in 1917 (p. 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2 The Rise of Communism in China (p. 6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3 The Global Cold War (p. 6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4 The Collapse of the Soviet Empire (p. 6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in (p. 6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o Zedong and the Long March (p. 6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zing Women for Communism (p. 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ng Manpower for Machinery (p. 6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ydrogen Bomb (p. 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zechoslovakia, 1968 (p. 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munism in China (p. 6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p 22-1"/>
          <p:cNvPicPr/>
          <p:nvPr/>
        </p:nvPicPr>
        <p:blipFill>
          <a:blip r:embed="rId1"/>
          <a:stretch/>
        </p:blipFill>
        <p:spPr>
          <a:xfrm>
            <a:off x="304920" y="279360"/>
            <a:ext cx="8531280" cy="6313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p 22-2"/>
          <p:cNvPicPr/>
          <p:nvPr/>
        </p:nvPicPr>
        <p:blipFill>
          <a:blip r:embed="rId1"/>
          <a:stretch/>
        </p:blipFill>
        <p:spPr>
          <a:xfrm>
            <a:off x="1434960" y="165240"/>
            <a:ext cx="6283440" cy="6532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Robert W. Strayer</dc:creator>
  <dc:description/>
  <dc:language>en-US</dc:language>
  <cp:lastModifiedBy>Legion</cp:lastModifiedBy>
  <dcterms:modified xsi:type="dcterms:W3CDTF">2017-07-05T12:45:24Z</dcterms:modified>
  <cp:revision>79</cp:revision>
  <dc:subject/>
  <dc:title>Ways of the World</dc:title>
</cp:coreProperties>
</file>