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B8E7-292E-4A8A-8FF4-3CF9E0C8CC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9329-1BFB-4FAC-9984-1C212D8B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D32-BC7A-480A-AA27-3D0BC757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2BA-024B-4C7E-B91B-66DBB406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9B9-549A-4FAA-9E52-D90A6F8A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4AB-F9CE-44A8-BB62-E94A003D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4D4-4FAA-4F5D-A809-0928F0DE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A89-C7D1-4B69-97CB-1DA852E5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671-9B89-4A01-8627-77320537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89A-6439-49D3-BF31-A057AA25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74B-DB5A-452A-BCFF-92CF01CA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FAB-0785-4C83-85A7-B8BAB8D7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A315-4394-426C-98FD-2D564684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34BE-8794-449D-8983-3DAC451BD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Seminole Ind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eminole-indians-2"/>
          <p:cNvPicPr/>
          <p:nvPr/>
        </p:nvPicPr>
        <p:blipFill>
          <a:blip r:embed="rId1"/>
          <a:stretch/>
        </p:blipFill>
        <p:spPr>
          <a:xfrm>
            <a:off x="3124080" y="1828800"/>
            <a:ext cx="3022560" cy="4686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ere do the Seminole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 Seminole lived in the southeast region, specifically in the state of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arted out in northern Florida, but when the Americans attacked them, the Seminole tribe retreated further south, into the Everglades.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o are the Semino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people were once part of the creek t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y farmed the southern regions of what is known today as Georgia and Alab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hen European settlers arrived, some of the creek people decided to stay behind, while others moved to northern and central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se people became known as the Seminole (which means “runaway” or “Wander”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at did they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planted corn, beans, squash and other vegetables and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fished and hunted, often catching alligators in the Florida sw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n land the Seminole hunted deer , bear, raccoon, squirrel, and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gathered roots and pota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ach family owned a vegetable 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rn was an important staple in the Seminole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often used to make a corn dish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iny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or it was ground into meal to make corn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What did they w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wore colorful cotton clothing decorated with striped or plaid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women wore long-sleeved blouses and skirts that touched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ore necklaces made of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common for Seminole women to wear several pounds of beaded necklaces that reached all the way to her 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en wore colorful shirts and plaid turbans on their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en the weather was cold, men wore coats with ruffles called long sh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living near the Everglades built open-sided wooden huts called chick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chickee was built on a platform raised about 3 feet off the swampy ground, and it had a thatched roof constructed of palmetto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roof kept out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lept in hammo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pent most of their time out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Chic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miccos08"/>
          <p:cNvPicPr/>
          <p:nvPr/>
        </p:nvPicPr>
        <p:blipFill>
          <a:blip r:embed="rId1"/>
          <a:stretch/>
        </p:blipFill>
        <p:spPr>
          <a:xfrm>
            <a:off x="990720" y="1295280"/>
            <a:ext cx="7810560" cy="42958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How did the Seminoles trav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made flat dugout canoes from hollowed-out cypress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eered the boats with poles rather than pad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at were the Seminole villages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Was made up of many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Families in the villages were related  through their m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ll women and children belonged to the same clan (vocabulary 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women worked near camp, taking care of the children, cooking, sewing, and gard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men hunted, fishing, and f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In the early summer, the Seminole prepared for an important festival- </a:t>
            </a: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the green corn 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villages came together to celebrate the festival by dancing, playing games, and fe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he naming ceremony was held that year at the green corn dance fest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3:05:39Z</dcterms:created>
  <dc:creator>Minter, Erin</dc:creator>
  <dc:description/>
  <dc:language>en-US</dc:language>
  <cp:lastModifiedBy>Legion</cp:lastModifiedBy>
  <dcterms:modified xsi:type="dcterms:W3CDTF">2017-07-05T12:49:08Z</dcterms:modified>
  <cp:revision>11</cp:revision>
  <dc:subject/>
  <dc:title>Seminole Indians</dc:title>
</cp:coreProperties>
</file>