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178C-C424-40C1-9CC6-68E5A29CCC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nole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 the Seminole L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lived in the southeast region, specifically in the state of Florid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tarted out in northern Florida, but when the Americans attacked them, the Seminole tribe retreated further south, into the Everglad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e Seminole L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lived in the southeast region, specifically in the state of Flori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tarted out in northern Florida, but when the Americans attacked them, the Seminole tribe retreated further south, into the Evergla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are the Seminole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people were once part of the creek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armed the southern regions of what is known today as Georgia and Alab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European settlers arrived, some of the creek people decided to stay behind, while others moved to northern and central Flori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people became known as the Seminole (which means “runaway” or “Wander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the Seminole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people were once part of the creek tr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armed the southern regions of what is known today as Georgia and Alab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uropean settlers arrived, some of the creek people decided to stay behind, while others moved to northern and central Flor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eople became known as the Seminole (which means “runaway” or “Wander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y 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lanted corn, beans, squash and other vegetables and fr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ished and hunted, often catching alligators in the Florida swa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land the Seminole hunted deer , bear, raccoon, squirrel, and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thered roots and potat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family owned a vegetable gard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 was an important staple in the Seminole di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often used to make a corn dish called hominy or it was ground into meal to make cornbre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they e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lanted corn, beans, squash and other vegetables and 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ished and hunted, often catching alligators in the Florida sw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land the Seminole hunted deer , bear, raccoon, squirrel, and 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thered roots and potat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family owned a vegetable gar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 was an important staple in the Seminole di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often used to make a corn dish called hominy or it was ground into meal to make cornb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y we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re colorful cotton clothing decorated with striped or plaid de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en wore long-sleeved blouses and skirts that touched the fl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e necklaces made of glass be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common for Seminole women to wear several pounds of beaded necklaces that reached all the way to her 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wore colorful shirts and plaid turbans on their he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weather was cold, men wore coats with ruffles called long shi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they w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ore colorful cotton clothing decorated with striped or plaid de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men wore long-sleeved blouses and skirts that touched the fl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e necklaces made of glass b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common for Seminole women to wear several pounds of beaded necklaces that reached all the way to her 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wore colorful shirts and plaid turbans on their h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weather was cold, men wore coats with ruffles called long shi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Chicke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living near the Everglades built open-sided wooden huts called chick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hickee was built on a platform raised about 3 feet off the swampy ground, and it had a thatched roof constructed of palmetto le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of kept out 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slept in hammoc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spent most of their time outdo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Chicke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living near the Everglades built open-sided wooden huts called chick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ickee was built on a platform raised about 3 feet off the swampy ground, and it had a thatched roof constructed of palmetto le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f kept out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slept in hammoc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spent most of their time outdo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c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id the Seminoles trave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de flat dugout canoes from hollowed-out cypress lo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teered the boats with poles rather than padd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the Seminoles tra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de flat dugout canoes from hollowed-out cypress lo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teered the boats with poles rather than pad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ere the Seminole villages li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 made up of many famil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milies in the villages were related  through their m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women and children belonged to the same clan (vocabulary wor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women worked near camp, taking care of the children, cooking, sewing, and gard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men hunted, fishing, and far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early summer, the Seminole prepared for an important festival- the green corn 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villages came together to celebrate the festival by dancing, playing games, and feas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ming ceremony was held that year at the green corn dance festi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Seminole villages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made up of many fami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in the villages were related  through their m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women and children belonged to the same clan (vocabulary wor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nole women worked near camp, taking care of the children, cooking, sewing, and gard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nole men hunted, fishing, and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arly summer, the Seminole prepared for an important festival- the green corn d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nole villages came together to celebrate the festival by dancing, playing games, and fea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ming ceremony was held that year at the green corn dance fest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393D-1173-4B9A-8742-4BA5A2DB0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7C5B-C35D-43B3-B9C0-1AC32DDA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CC16-84CB-48D7-8087-A803E2044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C9C5-391B-441A-8A9E-317DEA455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A37B-D1CE-437B-8E37-7A7F1F8A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30EB-71CB-4F31-BA58-5FBDA743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A8B8-D791-4600-A274-71186B35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D27F-4B84-4F1A-948B-C5F90D1F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8460-8CCB-4CE6-912C-2830269A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BA7D-48C8-4F7C-B5FD-8A4DD635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BEB4-3360-4E62-8056-55F03090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A38F-614B-4091-AC41-58E77D17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61D1-ED97-44F5-8586-3C8EA763F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Seminole India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seminole-indians-2"/>
          <p:cNvPicPr/>
          <p:nvPr/>
        </p:nvPicPr>
        <p:blipFill>
          <a:blip r:embed="rId1"/>
          <a:stretch/>
        </p:blipFill>
        <p:spPr>
          <a:xfrm>
            <a:off x="3124080" y="1828800"/>
            <a:ext cx="3022560" cy="46864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Where do the Seminole L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e Seminole lived in the southeast region, specifically in the state of Flor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ey started out in northern Florida, but when the Americans attacked them, the Seminole tribe retreated further south, into the Everglades.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Who are the Semino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Ind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Seminole people were once part of the creek tri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y farmed the southern regions of what is known today as Georgia and Alab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When European settlers arrived, some of the creek people decided to stay behind, while others moved to northern and central Flo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se people became known as the Seminole (which means “runaway” or “Wander”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What did they e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y planted corn, beans, squash and other vegetables and f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y fished and hunted, often catching alligators in the Florida sw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On land the Seminole hunted deer , bear, raccoon, squirrel, and bi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 gathered roots and potat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Each family owned a vegetable ga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orn was an important staple in the Seminole d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t was often used to make a corn dish call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hominy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or it was ground into meal to make cornb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What did they we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y wore colorful cotton clothing decorated with striped or plaid de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 women wore long-sleeved blouses and skirts that touched the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ore necklaces made of glass b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t was common for Seminole women to wear several pounds of beaded necklaces that reached all the way to her 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Men wore colorful shirts and plaid turbans on their h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hen the weather was cold, men wore coats with ruffles called long shi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Chicke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Seminole living near the Everglades built open-sided wooden huts called chick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 chickee was built on a platform raised about 3 feet off the swampy ground, and it had a thatched roof constructed of palmetto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roof kept out 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Seminole slept in hammoc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Seminole spent most of their time outdo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Chick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miccos08"/>
          <p:cNvPicPr/>
          <p:nvPr/>
        </p:nvPicPr>
        <p:blipFill>
          <a:blip r:embed="rId1"/>
          <a:stretch/>
        </p:blipFill>
        <p:spPr>
          <a:xfrm>
            <a:off x="990720" y="1295280"/>
            <a:ext cx="7810560" cy="429588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How did the Seminoles trave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ey made flat dugout canoes from hollowed-out cypress 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ey steered the boats with poles rather than padd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What were the Seminole villages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Was made up of many fami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Families in the villages were related  through their m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All women and children belonged to the same clan (vocabulary w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Seminole women worked near camp, taking care of the children, cooking, sewing, and gard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Seminole men hunted, fishing, and fa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In the early summer, the Seminole prepared for an important festival- </a:t>
            </a: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the green corn d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Seminole villages came together to celebrate the festival by dancing, playing games, and fe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The naming ceremony was held that year at the green corn dance fest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23:05:39Z</dcterms:created>
  <dc:creator>Minter, Erin</dc:creator>
  <dc:description/>
  <dc:language>en-US</dc:language>
  <cp:lastModifiedBy>Legion</cp:lastModifiedBy>
  <dcterms:modified xsi:type="dcterms:W3CDTF">2017-07-05T12:49:08Z</dcterms:modified>
  <cp:revision>11</cp:revision>
  <dc:subject/>
  <dc:title>Seminole Indians</dc:title>
</cp:coreProperties>
</file>