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D8C2-6076-48F3-9A7C-18722904AB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: Andrew, Blair, Kayla, And Bro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Andrew, Blair, Kayla, And Bro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 of Surv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i: Pueblo houses, farmed, stored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ache: fighters, hunted, gathered food, stole from Pueblo, made permanent ho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ajo: fighters, Hunted, gathered food, stole from Pueblo, mud covered log Hog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: They used ladders to protect themselves, lived in pueblos, lived by rivers, farm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uni: like the Pueblo-Indi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Southwest Indians were farm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m stayed in one place and made permanent homes. They could grow large crops this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of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i: Pueblo houses, farmed, stored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che: fighters, hunted, gathered food, stole from Pueblo, made permanent 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ajo: fighters, Hunted, gathered food, stole from Pueblo, mud covered log Ho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: They used ladders to protect themselves, lived in pueblos, lived by rivers, fa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uni: like the Pueblo-Ind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west Indians were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m stayed in one place and made permanent homes. They could grow large crops this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west Indians ate Buffalo, Chuckwalla “Lizard” and Fish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ate wild plants and  wild s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rew corn, maize, melons and common gr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find nuts and roots and eat them some ti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most common food was buffalo, fish, and grown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te strange food like chuckwalla “ lizard” and wild plants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west Indians ate Buffalo, Chuckwalla “Lizard” and Fish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ate wild plants and  wild see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rew corn, maize, melons and common gr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uld find nuts and roots and eat them some ti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most common food was buffalo, fish, and grown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strange food like chuckwalla “ lizard” and wild plants.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tep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underground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vajo lived in a mud covered Ho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d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ff dwel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tep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underground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vajo lived in a mud covered H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ry 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d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ff dwe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dolls for religious meet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pottery for drinking and bow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baskets for the corn in their cr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 ancient paintings for dec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ainted rattles like turtle sh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d dolls for religious meet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pottery for drinking and bow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d baskets for the corn in thei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 ancient paintings for dec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ainted rattles like turtle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730-779F-4BA0-8F70-2F5CB9EC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4C44-0586-4DC4-B240-4B477950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089D-64FA-4B8C-AB80-524AFC8B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021-D88C-4193-8BC8-6550F15A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B3C-0CA9-4B10-9DC0-C1C8382D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867-6B24-4EA1-872E-CD1933CE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6CC-FBC8-4109-B148-4A954AC6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765-7374-488B-94B5-A6C3B928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44A-2F1C-4DAA-A01F-5310321A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63F-F422-483C-A53E-539C13F6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0CB-8436-47A4-BCC2-DAEDD85B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494-C972-4E24-B9B9-C49F8C8E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9E90-23F1-436C-914C-71358D7D3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west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ndrew, Blair, Kayla, And Bro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y of Surv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i: Pueblo houses, farmed, stored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: fighters, hunted, gathered food, stole from Pueblo, made permanent ho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ajo: fighters, Hunted, gathered food, stole from Pueblo, mud covered log Ho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blo: They used ladders to protect themselves, lived in pueblos, lived by rivers, farm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ni: like the Pueblo-Ind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Southwest Indians were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m stayed in one place and made permanent homes. They could grow large crops this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uthwest Indians ate Buffalo, Chuckwalla “Lizard” and Fish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lso ate wild plants and  wild see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grew corn, maize, melons and common gr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ould find nuts and roots and eat them some ti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most common food was buffalo, fish, and grown f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te strange food like chuckwalla “ lizard” and wild plants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ived in tep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nderground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vajo lived in a mud covered H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dry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d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ff dwe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ne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dolls for religious m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y made pottery for drinking and bow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baskets for the corn in their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They did ancient paintings for deco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ainted rattles like turtle sh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43:16Z</dcterms:created>
  <dc:creator>patricia Gaspard</dc:creator>
  <dc:description/>
  <dc:language>en-US</dc:language>
  <cp:lastModifiedBy>Legion</cp:lastModifiedBy>
  <dcterms:modified xsi:type="dcterms:W3CDTF">2017-07-05T12:50:40Z</dcterms:modified>
  <cp:revision>9</cp:revision>
  <dc:subject/>
  <dc:title>Southwest Indians</dc:title>
</cp:coreProperties>
</file>