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050A7-DE09-475F-89A6-DA05699811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esting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de pottery for drinking and bow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id ancient paintings for deco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1C6-3C21-4D07-B41B-E20B62AE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88B-8A46-4446-B568-8E11A3E9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680-4FD3-45BB-B640-7E6E3E1C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757-2AA3-40D2-B6F1-4F6DADA4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597B-3388-414D-9624-A55D466A5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175C-3261-4EA6-86FB-17227D05C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1383-EF97-48D0-8E3B-FEF3A513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9727-29C1-4387-9D9F-953D9DE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43A-E346-494E-8191-A236E2EC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A238-DECB-4C00-94FC-2DEB00EED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DA19-4A1E-468E-BE43-BE612C5B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070B-3CB3-44CC-9F1C-FAE3D39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E03D-A975-4FC6-A85C-D1A1477AE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a800"/>
            </a:gs>
            <a:gs pos="100000">
              <a:srgbClr val="8256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thwest Indi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Andrew, Blair, Kayla, And Bro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y of Surviv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pi: Pueblo houses, farmed, stored fo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ache: fighters, hunted, gathered food, stole from Pueblo, made permanent hou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vajo: fighters, Hunted, gathered food, stole from Pueblo, mud covered log Hog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blo: They used ladders to protect themselves, lived in pueblos, lived by rivers, farm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uni: like the Pueblo-Indi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 Southwest Indians were far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of them stayed in one place and made permanent homes. They could grow large crops this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0082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outhwest Indians ate Buffalo, Chuckwalla “Lizard” and Fish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lso ate wild plants and  wild seed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grew corn, maize, melons and common grai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would find nuts and roots and eat them some tim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most common food was buffalo, fish, and grown foo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te strange food like chuckwalla “ lizard” and wild plants.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lived in tep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undergroun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avajo lived in a mud covered Hog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ry pl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d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ff dwel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ne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dolls for religious meet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They made pottery for drinking and b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used baskets for the corn in their cr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They did ancient paintings for deco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painted rattles like turtle sh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9:43:16Z</dcterms:created>
  <dc:creator>patricia Gaspard</dc:creator>
  <dc:description/>
  <dc:language>en-US</dc:language>
  <cp:lastModifiedBy>Legion</cp:lastModifiedBy>
  <dcterms:modified xsi:type="dcterms:W3CDTF">2017-07-05T12:50:40Z</dcterms:modified>
  <cp:revision>9</cp:revision>
  <dc:subject/>
  <dc:title>Southwest Indians</dc:title>
</cp:coreProperties>
</file>