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D099-60BD-43AB-A251-9E88E70DC61E}" type="slidenum">
              <a:rPr b="1" lang="en-US" sz="1200" spc="-1" strike="noStrike">
                <a:solidFill>
                  <a:srgbClr val="000078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, Stripes, and Symbols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rs, Stripes, and Symbols of Americ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 was created by Ben Franklin, John Adams, and Thomas Jeffer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nding fathers felt that the Great Seal would show other countries of the world that America was an independent and free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 was created by Ben Franklin, John Adams, and Thomas Jeffers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ounding fathers felt that the Great Seal would show other countries of the world that America was an independent and free count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 is an important document that tells about our government and the rights of American citiz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 is an important document that tells about our government and the rights of American citizen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 is where the President of the United States liv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our nation’s capital, Washington, D.C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 is where the President of the United States lives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our nation’s capital, Washington, D.C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 is known as the father of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president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is on the dollar bill and the quar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 is known as the father of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was the first president of the United States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is face is on the dollar bill and the quarter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. B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urrent president is George W. Bu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the 43rd president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becoming president, he lived in the state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. Bush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current president is George W. Bush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is the 43rd president of the United Stat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Before becoming president, he lived in the state of Texa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.S. 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le 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edge of Alleg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ve (symbol for pe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U.S. Symbol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Uncle Sa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Pledge of Allegiance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Dove (symbol for peace)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has many different symbols that are unique to our country and represent the freedoms that we enjo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National Symbo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has many different symbols that are unique to our country and represent the freedoms that we enjo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hat are National Symbols?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la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erican Flag represents our culture and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fty stars represent the fifty states and the 13 stripes represent the original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U.S. flag was designed in 1777. The flag has been changed many times since then. New stars are added each time new states join the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7 Star Spangled B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Flag</a:t>
            </a:r>
            <a:br>
              <a:rPr sz="1200"/>
            </a:b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American Flag represents our culture and histo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fty stars represent the fifty states and the 13 stripes represent the original 13 coloni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rst U.S. flag was designed in 1777. The flag has been changed many times since then. New stars are added each time new states join the uni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1907 Star Spangled Banner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al An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is Scott Key wrote the words to the Star Spangled Banner in 1814 when he saw the flag still flying after a night-time battle with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National Anthe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Francis Scott Key wrote the words to the Star Spangled Banner in 1814 when he saw the flag still flying after a night-time battle with England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, the Beauti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Country Tis of Th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You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the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 include: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, the Beautifu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My Country Tis of The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is Land is Your 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the US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of Lib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ue of Liberty was a gift from France in 1886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Ellis Island in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ymbol of freedom to all who come to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tue of Liberty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Statue of Liberty was a gift from France in 1886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on Ellis Island in New York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a symbol of freedom to all who come to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Trip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Virtual Trip to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Ellis Is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 is located in Philadelphia’s State Hou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rung to celebrate the adoption of the Declaration of Indepen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 is located in Philadelphia’s State House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rung to celebrate the adoption of the Declaration of Independenc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 is the world’s tallest ston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tructed to commemorate Georg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 is the world’s tallest stone structur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Washington D.C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constructed to commemorate George Washingt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F73-6B51-4F5D-A84B-FB6E9F38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D4F-E114-4DFF-9D76-209C6C30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4D3-8B48-4A9D-82BA-BEE4B516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45B-A868-4877-9B52-1701AD27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0689-E8EC-4611-B5A1-FDC7DD0A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95E-98B6-47E3-968D-29967344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3B8-7373-4E6D-9CC9-AA7EEFE4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2AC-13AB-4011-9949-D7D3E16B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2BD-EFDB-48E6-9029-710C7199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C49-CA40-474B-837A-87A3372E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604-B00E-4B6B-B7EA-091AAE5B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116-9D71-4AD0-A08F-8B071F97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Sam Grogan\My Documents\Proxima\Templates\Set3\2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FDD5-F560-4FF8-A9FC-C956EE081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query/I?fsaall,app,brum,detr,swann,look,gottscho,pan,horyd,genthe,var,cai,cd,hh,yan,bbcards,lomax,ils,prok,brhc,nclc,matpc,iucpub,tgmi,lamb:7:./temp/~pp_HGjy::displayType=1:m856sd=cph:m856sf=3g02108:@@@mdb=fsaall,app,brum,detr,swann,look,gottscho,pan,horyd,genthe,var,cai,cd,hh,yan,bbcards,lomax,ils,prok,brhc,nclc,matpc,iucpub,tgmi,lamb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ag:1:./temp/~ammem_H0Jh::displayType=1:m856sd=cph:m856sf=3c12293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:./temp/~ammem_qKZo::displayType=1:m856sd=thc:m856sf=5a50172:@@@hory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8:./temp/~ammem_TWLb::displayType=1:m856sd=thc:m856sf=5a38550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memory.loc.gov/cgi-bin/query/I?detr:33:./temp/~ammem_TWLb::displayType=1:m856sd=det:m856sf=4a25713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etr:95:./temp/~ammem_NHWl::displayType=1:m856sd=det:m856sf=4a09427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99"/>
                </a:solidFill>
                <a:latin typeface="AbcBulletin"/>
              </a:rPr>
              <a:t>Stars, Stripes, and Symbols of America</a:t>
            </a:r>
            <a:endParaRPr b="1" lang="en-US" sz="6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0" name="Picture 4" descr="http://www.geocities.com/mrsjacksonsclass/patriotickids.gif"/>
          <p:cNvPicPr/>
          <p:nvPr/>
        </p:nvPicPr>
        <p:blipFill>
          <a:blip r:embed="rId1"/>
          <a:stretch/>
        </p:blipFill>
        <p:spPr>
          <a:xfrm>
            <a:off x="3124080" y="3429000"/>
            <a:ext cx="309564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Great Sea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743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Great Seal was created by Ben Franklin, John Adams, and Thomas Jeffers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founding fathers felt that the Great Seal would show other countries of the world that America was an independent and free country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7" name="Picture 2" descr="3g02108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8640" cy="193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8"/>
                </a:solidFill>
                <a:latin typeface="AbcBulletin"/>
              </a:rPr>
              <a:t>The Constituti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93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Constitution is an important document that tells about our government and the rights of American citizen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1" name="Picture 2" descr="Constitution of the United States (1787)"/>
          <p:cNvPicPr/>
          <p:nvPr/>
        </p:nvPicPr>
        <p:blipFill>
          <a:blip r:embed="rId1"/>
          <a:stretch/>
        </p:blipFill>
        <p:spPr>
          <a:xfrm>
            <a:off x="762120" y="1752480"/>
            <a:ext cx="342900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hite House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1120" y="1904760"/>
            <a:ext cx="4419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hite House is where the President of the United States lives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our nation’s capital, Washington, D.C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5" name="Picture 2" descr="3c12293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4a12677t"/>
          <p:cNvPicPr/>
          <p:nvPr/>
        </p:nvPicPr>
        <p:blipFill>
          <a:blip r:embed="rId3"/>
          <a:stretch/>
        </p:blipFill>
        <p:spPr>
          <a:xfrm>
            <a:off x="990720" y="4114800"/>
            <a:ext cx="2743200" cy="2160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ashingt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16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George Washington is known as the father of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was the first president of the United States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is face is on the dollar bill and the quarter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0" name="Picture 2" descr="4a26549t"/>
          <p:cNvPicPr/>
          <p:nvPr/>
        </p:nvPicPr>
        <p:blipFill>
          <a:blip r:embed="rId1"/>
          <a:stretch/>
        </p:blipFill>
        <p:spPr>
          <a:xfrm>
            <a:off x="762120" y="2057400"/>
            <a:ext cx="2660400" cy="3298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. Bush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7600" y="18288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Our current president is George W. Bush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is the 4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bcKids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 president of the United State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Before becoming president, he lived in the state of Texa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4" name="Picture 2" descr="President George W. Bush"/>
          <p:cNvPicPr/>
          <p:nvPr/>
        </p:nvPicPr>
        <p:blipFill>
          <a:blip r:embed="rId1"/>
          <a:stretch/>
        </p:blipFill>
        <p:spPr>
          <a:xfrm>
            <a:off x="914400" y="21337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62699"/>
                </a:solidFill>
                <a:latin typeface="AbcBulletin"/>
              </a:rPr>
              <a:t>Other U.S. Symbols</a:t>
            </a:r>
            <a:endParaRPr b="1" lang="en-US" sz="55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Uncle Sam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The Pledge of Allegiance 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5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Dove </a:t>
            </a:r>
            <a:r>
              <a:rPr b="1" lang="en-US" sz="3800" spc="-1" strike="noStrike">
                <a:solidFill>
                  <a:srgbClr val="ff0000"/>
                </a:solidFill>
                <a:latin typeface="AbcKids"/>
              </a:rPr>
              <a:t>(symbol for peace)</a:t>
            </a: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78"/>
                </a:solidFill>
                <a:latin typeface="AbcKids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3800"/>
            </a:br>
            <a:r>
              <a:rPr b="1" lang="en-US" sz="3800" spc="-1" strike="noStrike">
                <a:solidFill>
                  <a:srgbClr val="c00000"/>
                </a:solidFill>
                <a:latin typeface="AbcKids"/>
              </a:rPr>
              <a:t>God Bless </a:t>
            </a:r>
            <a:endParaRPr b="1" lang="en-US" sz="3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110" name="Picture 2" descr="american flag doll"/>
          <p:cNvPicPr/>
          <p:nvPr/>
        </p:nvPicPr>
        <p:blipFill>
          <a:blip r:embed="rId1"/>
          <a:stretch/>
        </p:blipFill>
        <p:spPr>
          <a:xfrm>
            <a:off x="3124080" y="4800600"/>
            <a:ext cx="3000600" cy="1771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bcKids"/>
              </a:rPr>
              <a:t>America has many different symbols that are unique to our country and represent the freedoms that we enjoy.</a:t>
            </a:r>
            <a:endParaRPr b="1" lang="en-US" sz="4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14400" y="53352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7632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1" strike="noStrike">
              <a:ln w="7632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What are National Symbols?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262699"/>
                </a:solidFill>
                <a:latin typeface="AbcBulletin"/>
              </a:rPr>
              <a:t>Our Flag</a:t>
            </a:r>
            <a:br>
              <a:rPr sz="7200"/>
            </a:br>
            <a:endParaRPr b="1" lang="en-US" sz="7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American Flag represents our culture and history.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fty stars represent the fifty states and the 13 stripes represent the original 13 colonies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rst U.S. flag was designed in 1777. The flag has been changed many times since then. New stars are added each time new states join the union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8" name="Picture 4" descr="Large Image"/>
          <p:cNvPicPr/>
          <p:nvPr/>
        </p:nvPicPr>
        <p:blipFill>
          <a:blip r:embed="rId1"/>
          <a:stretch/>
        </p:blipFill>
        <p:spPr>
          <a:xfrm>
            <a:off x="4724280" y="1600200"/>
            <a:ext cx="38451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4876920" y="5257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AbcKids"/>
              </a:rPr>
              <a:t>1907 Star Spangled Banner</a:t>
            </a:r>
            <a:endParaRPr b="1" lang="en-US" sz="2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ur National Anthem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7524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bcKids"/>
              </a:rPr>
              <a:t>Francis Scott Key wrote the words to the Star Spangled Banner in 1814 when he saw the flag still flying after a night-time battle with England.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63" name="Picture 4" descr="5a50172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895480"/>
            <a:ext cx="1981080" cy="294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[Facsimile of Keim manuscript] [manuscript]"/>
          <p:cNvPicPr/>
          <p:nvPr/>
        </p:nvPicPr>
        <p:blipFill>
          <a:blip r:embed="rId3"/>
          <a:stretch/>
        </p:blipFill>
        <p:spPr>
          <a:xfrm>
            <a:off x="5826240" y="1371600"/>
            <a:ext cx="288756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ther Patriotic Songs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Other patriotic songs include: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America, the Beautiful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My Country Tis of Thee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This Land is Your Land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God Bless the USA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Statue of Liberty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182844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Statue of Liberty was a gift from France in 1886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on Ellis Island in New York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a symbol of freedom to all who come to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1" name="Picture 2" descr="3c22833t"/>
          <p:cNvPicPr/>
          <p:nvPr/>
        </p:nvPicPr>
        <p:blipFill>
          <a:blip r:embed="rId1"/>
          <a:stretch/>
        </p:blipFill>
        <p:spPr>
          <a:xfrm>
            <a:off x="5440320" y="1828800"/>
            <a:ext cx="292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Virtual Trip to </a:t>
            </a:r>
            <a:br>
              <a:rPr sz="4800"/>
            </a:b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Ellis Island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74" name="statue_of_liberty.mpg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83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Liberty Bel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339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Liberty Bell is located in Philadelphia’s State House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rung to celebrate the adoption of the Declaration of Independenc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8" name="Picture 2" descr="5a38550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447920"/>
            <a:ext cx="193680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4a25713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1986120" cy="24620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ashington Monument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1480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ashington Monument is the world’s tallest stone structur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Washington D.C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constructed to commemorate George Washingt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3" name="Picture 2" descr="4a09427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81080"/>
            <a:ext cx="343692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5:40:04Z</dcterms:created>
  <dc:creator>Farmington Elementary</dc:creator>
  <dc:description/>
  <dc:language>en-US</dc:language>
  <cp:lastModifiedBy>Legion</cp:lastModifiedBy>
  <dcterms:modified xsi:type="dcterms:W3CDTF">2017-07-05T12:52:38Z</dcterms:modified>
  <cp:revision>89</cp:revision>
  <dc:subject/>
  <dc:title>PowerPoint Presentation</dc:title>
</cp:coreProperties>
</file>