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78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&lt;date/time&gt;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8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78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5FCF-2EAC-43DE-AC60-DFDDB9F7CD08}" type="slidenum">
              <a:rPr b="1" lang="en-US" sz="1200" spc="-1" strike="noStrike">
                <a:solidFill>
                  <a:srgbClr val="000078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, Stripes, and Symbols of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Stars, Stripes, and Symbols of America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at S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at Seal was created by Ben Franklin, John Adams, and Thomas Jeffer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unding fathers felt that the Great Seal would show other countries of the world that America was an independent and free count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Great Seal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Great Seal was created by Ben Franklin, John Adams, and Thomas Jefferson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founding fathers felt that the Great Seal would show other countries of the world that America was an independent and free country.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stit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stitution is an important document that tells about our government and the rights of American citiz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Constitution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Constitution is an important document that tells about our government and the rights of American citizens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hit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hite House is where the President of the United States live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located in our nation’s capital, Washington, D.C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White House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White House is where the President of the United States lives.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is located in our nation’s capital, Washington, D.C.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e Washing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e Washington is known as the father of our coun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the first president of the United Sta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face is on the dollar bill and the quar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eorge Washington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eorge Washington is known as the father of our country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He was the first president of the United States.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His face is on the dollar bill and the quarter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e W. Bu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current president is George W. Bus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is the 43rd president of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fore becoming president, he lived in the state of Tex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eorge W. Bush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ur current president is George W. Bush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He is the 43rd president of the United States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Before becoming president, he lived in the state of Texas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U.S. Symb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cle S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edge of Allegia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ve (symbol for pe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ther U.S. Symbols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Uncle Sa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Pledge of Allegiance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Dove (symbol for peace)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erica is a great country full of opportunities for ALL people.  The symbols we have learned about represent our many freedoms. It is our job to be a good citizen and to show patriotism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 Bl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America is a great country full of opportunities for ALL people.  The symbols we have learned about represent our many freedoms. It is our job to be a good citizen and to show patriotism. </a:t>
            </a:r>
            <a:br>
              <a:rPr sz="1200"/>
            </a:b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od Bless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erica has many different symbols that are unique to our country and represent the freedoms that we enjo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National Symbo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America has many different symbols that are unique to our country and represent the freedoms that we enjoy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hat are National Symbols?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Fla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erican Flag represents our culture and histo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fty stars represent the fifty states and the 13 stripes represent the original 13 colon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U.S. flag was designed in 1777. The flag has been changed many times since then. New stars are added each time new states join the un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7 Star Spangled Ban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ur Flag</a:t>
            </a:r>
            <a:br>
              <a:rPr sz="1200"/>
            </a:b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American Flag represents our culture and history.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fifty stars represent the fifty states and the 13 stripes represent the original 13 colonies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first U.S. flag was designed in 1777. The flag has been changed many times since then. New stars are added each time new states join the union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1907 Star Spangled Banner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National An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ncis Scott Key wrote the words to the Star Spangled Banner in 1814 when he saw the flag still flying after a night-time battle with Eng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ur National Anthe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Francis Scott Key wrote the words to the Star Spangled Banner in 1814 when he saw the flag still flying after a night-time battle with England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atriotic So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atriotic songs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erica, the Beauti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Country Tis of Th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and is Your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 Bless the U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ther Patriotic Songs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ther patriotic songs include: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America, the Beautiful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My Country Tis of Thee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is Land is Your Land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od Bless the USA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ue of Lib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atue of Liberty was a gift from France in 1886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located on Ellis Island in New Y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symbol of freedom to all who come to our coun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Statue of Liberty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Statue of Liberty was a gift from France in 1886.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is located on Ellis Island in New York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is a symbol of freedom to all who come to our country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tual Trip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lis Is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Virtual Trip to </a:t>
            </a:r>
            <a:br>
              <a:rPr sz="1200"/>
            </a:b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Ellis Island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berty B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berty Bell is located in Philadelphia’s State Hous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rung to celebrate the adoption of the Declaration of Independ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Liberty Bell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Liberty Bell is located in Philadelphia’s State House.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was rung to celebrate the adoption of the Declaration of Independence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shington Monu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shington Monument is the world’s tallest stone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located in Washington D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constructed to commemorate George Washingt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Washington Monument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Washington Monument is the world’s tallest stone structure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is located in Washington D.C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was constructed to commemorate George Washington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0054-35FC-4F69-9A10-D85E6CD2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379980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D5A1-5752-4E19-BB36-D7848757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196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2E69-EB21-4850-8DDB-D5EB5493E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3880" y="13716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3000" y="13716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37998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3880" y="37998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3000" y="37998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EFF8-E5C3-4664-A499-2B4C139A1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3716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2914-7676-409A-AB6F-14AAA47B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6020-FC7B-4E22-BC78-D6D15F14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D182-74E3-4CDB-9C98-EF69F13D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B71C-A65E-4C42-89B0-75056B75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-36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B365-88D5-49C2-AADE-0F470F4A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52F8-8998-4906-BB5D-127DE994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196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0308-A553-4A37-A1CF-45DEE7E8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79980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45EF-A85B-44B9-9976-3048275F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Sam Grogan\My Documents\Proxima\Templates\Set3\2.bmp"/>
          <p:cNvPicPr/>
          <p:nvPr/>
        </p:nvPicPr>
        <p:blipFill>
          <a:blip r:embed="rId2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3716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7B1E-80C2-4D5D-978C-2BF7873A0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lcweb2.loc.gov/cgi-bin/query/I?fsaall,app,brum,detr,swann,look,gottscho,pan,horyd,genthe,var,cai,cd,hh,yan,bbcards,lomax,ils,prok,brhc,nclc,matpc,iucpub,tgmi,lamb:7:./temp/~pp_HGjy::displayType=1:m856sd=cph:m856sf=3g02108:@@@mdb=fsaall,app,brum,detr,swann,look,gottscho,pan,horyd,genthe,var,cai,cd,hh,yan,bbcards,lomax,ils,prok,brhc,nclc,matpc,iucpub,tgmi,lamb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emory.loc.gov/cgi-bin/query/I?dag:1:./temp/~ammem_H0Jh::displayType=1:m856sd=cph:m856sf=3c12293:@@@mdb=manz,eaa,aaeo,aaodyssey,hh,gottscho,bbpix,bbcards,magbell,berl,lbcoll,cdn,cic,cwnyhs,cwar,consrvbib,coolbib,coplandbib,curt,dag,fsaall,aep,fine,fmuever,dcm,cmns,cowellbib,toddbib,afcnyebib,lomaxbib,ngp,gottlieb,alad,mffbib,mcc,mymhiwebib,aipn,afcwip,fawbib,omhbib,pan,vv,wpapos,psbib,pin,presp,qlt,ncr,afc911bib,mesnbib,denn,runyon,wtc,detr,upboverbib,varstg,horyd,hawp,suffrg,mnwp,rbcmillerbib,awh,awhbib,sgproto,wright" TargetMode="Externa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emory.loc.gov/cgi-bin/query/I?horyd:1:./temp/~ammem_qKZo::displayType=1:m856sd=thc:m856sf=5a50172:@@@hory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emory.loc.gov/cgi-bin/query/I?horyd:18:./temp/~ammem_TWLb::displayType=1:m856sd=thc:m856sf=5a38550:@@@mdb=mcc,gottscho,detr,nfor,wpa,aap,cwar,bbpix,cowellbib,calbkbib,consrvbib,bdsbib,dag,fsaall,gmd,pan,vv,presp,varstg,suffrg,nawbib,horyd,wtc,toddbib,mgw,ncr,ngp,musdibib,hlaw,papr,lhbumbib,rbpebib,lbcoll,alad,hh,aaodyssey,magbell,bbcards,dcm,raelbib,runyon,dukesm,lomaxbib,mtj,gottlieb,aep,qlt,coolbib,fpnas,aasm,scsm,denn,relpet,amss,aaeo,mffbib,afc911bib,mjm,mnwp,rbcmillerbib,molden,ww2map,mfdipbib,afcnyebib,klpmap,hawp,omhbib,rbaapcbib,mal,ncpsbib,ncpm,lhbprbib,ftvbib,afcreed,aipn,cwband,flwpabib,wpapos,cmns,psbib,pin,coplandbib,cola,tccc,curt,mharendt,lhbcbbib,eaa,haybib,mesnbib,fine,cwnyhs,svybib,mmorse,afcwwgbib,mymhiwebib,uncall,afcwip,mtaft,manz,llstbib,fawbib,berl,fmuever,cdn,upboverbib,mussm,cic,afcpearl,awh,awhbib,sgp,wright,lhbtnbib,afcesnbib,hurstonbib,mreynoldsbib,spaldingbib,sgproto" TargetMode="External"/><Relationship Id="rId2" Type="http://schemas.openxmlformats.org/officeDocument/2006/relationships/image" Target="../media/image8.png"/><Relationship Id="rId3" Type="http://schemas.openxmlformats.org/officeDocument/2006/relationships/hyperlink" Target="http://memory.loc.gov/cgi-bin/query/I?detr:33:./temp/~ammem_TWLb::displayType=1:m856sd=det:m856sf=4a25713:@@@mdb=mcc,gottscho,detr,nfor,wpa,aap,cwar,bbpix,cowellbib,calbkbib,consrvbib,bdsbib,dag,fsaall,gmd,pan,vv,presp,varstg,suffrg,nawbib,horyd,wtc,toddbib,mgw,ncr,ngp,musdibib,hlaw,papr,lhbumbib,rbpebib,lbcoll,alad,hh,aaodyssey,magbell,bbcards,dcm,raelbib,runyon,dukesm,lomaxbib,mtj,gottlieb,aep,qlt,coolbib,fpnas,aasm,scsm,denn,relpet,amss,aaeo,mffbib,afc911bib,mjm,mnwp,rbcmillerbib,molden,ww2map,mfdipbib,afcnyebib,klpmap,hawp,omhbib,rbaapcbib,mal,ncpsbib,ncpm,lhbprbib,ftvbib,afcreed,aipn,cwband,flwpabib,wpapos,cmns,psbib,pin,coplandbib,cola,tccc,curt,mharendt,lhbcbbib,eaa,haybib,mesnbib,fine,cwnyhs,svybib,mmorse,afcwwgbib,mymhiwebib,uncall,afcwip,mtaft,manz,llstbib,fawbib,berl,fmuever,cdn,upboverbib,mussm,cic,afcpearl,awh,awhbib,sgp,wright,lhbtnbib,afcesnbib,hurstonbib,mreynoldsbib,spaldingbib,sgproto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emory.loc.gov/cgi-bin/query/I?detr:95:./temp/~ammem_NHWl::displayType=1:m856sd=det:m856sf=4a09427:@@@mdb=manz,eaa,aaeo,aaodyssey,hh,gottscho,bbpix,bbcards,magbell,berl,lbcoll,cdn,cic,cwnyhs,cwar,consrvbib,coolbib,coplandbib,curt,dag,fsaall,aep,fine,fmuever,dcm,cmns,cowellbib,toddbib,afcnyebib,lomaxbib,ngp,gottlieb,alad,mffbib,mcc,mymhiwebib,aipn,afcwip,fawbib,omhbib,pan,vv,wpapos,psbib,pin,presp,qlt,ncr,afc911bib,mesnbib,denn,runyon,wtc,detr,upboverbib,varstg,horyd,hawp,suffrg,mnwp,rbcmillerbib,awh,awhbib,sgproto,wright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33520" y="609480"/>
            <a:ext cx="81532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99"/>
                </a:solidFill>
                <a:latin typeface="AbcBulletin"/>
              </a:rPr>
              <a:t>Stars, Stripes, and Symbols of America</a:t>
            </a:r>
            <a:endParaRPr b="1" lang="en-US" sz="60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50" name="Picture 4" descr="http://www.geocities.com/mrsjacksonsclass/patriotickids.gif"/>
          <p:cNvPicPr/>
          <p:nvPr/>
        </p:nvPicPr>
        <p:blipFill>
          <a:blip r:embed="rId1"/>
          <a:stretch/>
        </p:blipFill>
        <p:spPr>
          <a:xfrm>
            <a:off x="3124080" y="3429000"/>
            <a:ext cx="3095640" cy="26956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The Great Seal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09480" y="2743200"/>
            <a:ext cx="79250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Great Seal was created by Ben Franklin, John Adams, and Thomas Jefferson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founding fathers felt that the Great Seal would show other countries of the world that America was an independent and free country.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87" name="Picture 2" descr="3g02108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04920"/>
            <a:ext cx="2438640" cy="19350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78"/>
                </a:solidFill>
                <a:latin typeface="AbcBulletin"/>
              </a:rPr>
              <a:t>The Constitution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419360" y="1828800"/>
            <a:ext cx="4267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Constitution is an important document that tells about our government and the rights of American citizens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91" name="Picture 2" descr="Constitution of the United States (1787)"/>
          <p:cNvPicPr/>
          <p:nvPr/>
        </p:nvPicPr>
        <p:blipFill>
          <a:blip r:embed="rId1"/>
          <a:stretch/>
        </p:blipFill>
        <p:spPr>
          <a:xfrm>
            <a:off x="762120" y="1752480"/>
            <a:ext cx="3429000" cy="416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The White House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191120" y="1904760"/>
            <a:ext cx="4419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White House is where the President of the United States lives. 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is located in our nation’s capital, Washington, D.C. 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95" name="Picture 2" descr="3c12293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600200"/>
            <a:ext cx="2778120" cy="2209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4a12677t"/>
          <p:cNvPicPr/>
          <p:nvPr/>
        </p:nvPicPr>
        <p:blipFill>
          <a:blip r:embed="rId3"/>
          <a:stretch/>
        </p:blipFill>
        <p:spPr>
          <a:xfrm>
            <a:off x="990720" y="4114800"/>
            <a:ext cx="2743200" cy="21607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George Washington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962160" y="1828800"/>
            <a:ext cx="4800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George Washington is known as the father of our country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He was the first president of the United States.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His face is on the dollar bill and the quarter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100" name="Picture 2" descr="4a26549t"/>
          <p:cNvPicPr/>
          <p:nvPr/>
        </p:nvPicPr>
        <p:blipFill>
          <a:blip r:embed="rId1"/>
          <a:stretch/>
        </p:blipFill>
        <p:spPr>
          <a:xfrm>
            <a:off x="762120" y="2057400"/>
            <a:ext cx="2660400" cy="32986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George W. Bush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657600" y="1828800"/>
            <a:ext cx="5105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Our current president is George W. Bush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He is the 43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bcKids"/>
              </a:rPr>
              <a:t>rd</a:t>
            </a: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 president of the United States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Before becoming president, he lived in the state of Texas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104" name="Picture 2" descr="President George W. Bush"/>
          <p:cNvPicPr/>
          <p:nvPr/>
        </p:nvPicPr>
        <p:blipFill>
          <a:blip r:embed="rId1"/>
          <a:stretch/>
        </p:blipFill>
        <p:spPr>
          <a:xfrm>
            <a:off x="914400" y="2133720"/>
            <a:ext cx="2438280" cy="30477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262699"/>
                </a:solidFill>
                <a:latin typeface="AbcBulletin"/>
              </a:rPr>
              <a:t>Other U.S. Symbols</a:t>
            </a:r>
            <a:endParaRPr b="1" lang="en-US" sz="55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86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04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bcKids"/>
              </a:rPr>
              <a:t>Uncle Sam</a:t>
            </a:r>
            <a:endParaRPr b="1" lang="en-US" sz="4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bcKids"/>
              </a:rPr>
              <a:t>The Pledge of Allegiance </a:t>
            </a:r>
            <a:endParaRPr b="1" lang="en-US" sz="4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50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bcKids"/>
              </a:rPr>
              <a:t>Dove </a:t>
            </a:r>
            <a:r>
              <a:rPr b="1" lang="en-US" sz="3800" spc="-1" strike="noStrike">
                <a:solidFill>
                  <a:srgbClr val="ff0000"/>
                </a:solidFill>
                <a:latin typeface="AbcKids"/>
              </a:rPr>
              <a:t>(symbol for peace)</a:t>
            </a:r>
            <a:endParaRPr b="1" lang="en-US" sz="3800" spc="-1" strike="noStrike">
              <a:solidFill>
                <a:srgbClr val="ff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checker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78"/>
                </a:solidFill>
                <a:latin typeface="AbcKids"/>
              </a:rPr>
              <a:t>America is a great country full of opportunities for ALL people.  The symbols we have learned about represent our many freedoms. It is our job to be a good citizen and to show patriotism. </a:t>
            </a:r>
            <a:br>
              <a:rPr sz="3800"/>
            </a:br>
            <a:r>
              <a:rPr b="1" lang="en-US" sz="3800" spc="-1" strike="noStrike">
                <a:solidFill>
                  <a:srgbClr val="c00000"/>
                </a:solidFill>
                <a:latin typeface="AbcKids"/>
              </a:rPr>
              <a:t>God Bless </a:t>
            </a:r>
            <a:endParaRPr b="1" lang="en-US" sz="3800" spc="-1" strike="noStrike">
              <a:solidFill>
                <a:srgbClr val="000078"/>
              </a:solidFill>
              <a:latin typeface="Verdana"/>
            </a:endParaRPr>
          </a:p>
        </p:txBody>
      </p:sp>
      <p:pic>
        <p:nvPicPr>
          <p:cNvPr id="110" name="Picture 2" descr="american flag doll"/>
          <p:cNvPicPr/>
          <p:nvPr/>
        </p:nvPicPr>
        <p:blipFill>
          <a:blip r:embed="rId1"/>
          <a:stretch/>
        </p:blipFill>
        <p:spPr>
          <a:xfrm>
            <a:off x="3124080" y="4800600"/>
            <a:ext cx="3000600" cy="17715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62120" y="23623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bcKids"/>
              </a:rPr>
              <a:t>America has many different symbols that are unique to our country and represent the freedoms that we enjoy.</a:t>
            </a:r>
            <a:endParaRPr b="1" lang="en-US" sz="4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914400" y="533520"/>
            <a:ext cx="7238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7632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1" lang="en-US" sz="3200" spc="1" strike="noStrike">
              <a:ln w="7632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304920" y="38088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What are National Symbols?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en-US" sz="7200" spc="-1" strike="noStrike">
                <a:solidFill>
                  <a:srgbClr val="262699"/>
                </a:solidFill>
                <a:latin typeface="AbcBulletin"/>
              </a:rPr>
              <a:t>Our Flag</a:t>
            </a:r>
            <a:br>
              <a:rPr sz="7200"/>
            </a:br>
            <a:endParaRPr b="1" lang="en-US" sz="7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920" y="137160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bcKids"/>
              </a:rPr>
              <a:t>The American Flag represents our culture and history. </a:t>
            </a: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bcKid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bcKids"/>
              </a:rPr>
              <a:t>The fifty stars represent the fifty states and the 13 stripes represent the original 13 colonies.</a:t>
            </a: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bcKids"/>
              </a:rPr>
              <a:t>The first U.S. flag was designed in 1777. The flag has been changed many times since then. New stars are added each time new states join the union.</a:t>
            </a: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 </a:t>
            </a: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58" name="Picture 4" descr="Large Image"/>
          <p:cNvPicPr/>
          <p:nvPr/>
        </p:nvPicPr>
        <p:blipFill>
          <a:blip r:embed="rId1"/>
          <a:stretch/>
        </p:blipFill>
        <p:spPr>
          <a:xfrm>
            <a:off x="4724280" y="1600200"/>
            <a:ext cx="3845160" cy="3429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4876920" y="525780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99"/>
                </a:solidFill>
                <a:latin typeface="AbcKids"/>
              </a:rPr>
              <a:t>1907 Star Spangled Banner</a:t>
            </a:r>
            <a:endParaRPr b="1" lang="en-US" sz="24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Our National Anthem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4920" y="175248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bcKids"/>
              </a:rPr>
              <a:t>Francis Scott Key wrote the words to the Star Spangled Banner in 1814 when he saw the flag still flying after a night-time battle with England.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63" name="Picture 4" descr="5a50172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2895480"/>
            <a:ext cx="1981080" cy="2941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[Facsimile of Keim manuscript] [manuscript]"/>
          <p:cNvPicPr/>
          <p:nvPr/>
        </p:nvPicPr>
        <p:blipFill>
          <a:blip r:embed="rId3"/>
          <a:stretch/>
        </p:blipFill>
        <p:spPr>
          <a:xfrm>
            <a:off x="5826240" y="1371600"/>
            <a:ext cx="2887560" cy="35053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Other Patriotic Songs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848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Other patriotic songs include: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America, the Beautiful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My Country Tis of Thee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This Land is Your Land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God Bless the USA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Statue of Liberty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37720" y="1828440"/>
            <a:ext cx="4496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Statue of Liberty was a gift from France in 1886. 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is located on Ellis Island in New York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is a symbol of freedom to all who come to our country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71" name="Picture 2" descr="3c22833t"/>
          <p:cNvPicPr/>
          <p:nvPr/>
        </p:nvPicPr>
        <p:blipFill>
          <a:blip r:embed="rId1"/>
          <a:stretch/>
        </p:blipFill>
        <p:spPr>
          <a:xfrm>
            <a:off x="5440320" y="1828800"/>
            <a:ext cx="2925720" cy="365760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Virtual Trip to </a:t>
            </a:r>
            <a:br>
              <a:rPr sz="4800"/>
            </a:b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Ellis Island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pic>
        <p:nvPicPr>
          <p:cNvPr id="74" name="statue_of_liberty.mpg" descr=""/>
          <p:cNvPicPr/>
          <p:nvPr/>
        </p:nvPicPr>
        <p:blipFill>
          <a:blip r:embed="rId1"/>
          <a:stretch/>
        </p:blipFill>
        <p:spPr>
          <a:xfrm>
            <a:off x="2286000" y="2286000"/>
            <a:ext cx="5130720" cy="38480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50835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The Liberty Bell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733920" y="1752480"/>
            <a:ext cx="4495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Liberty Bell is located in Philadelphia’s State House. 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was rung to celebrate the adoption of the Declaration of Independence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78" name="Picture 2" descr="5a38550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447920"/>
            <a:ext cx="1936800" cy="2361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4a25713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3962520"/>
            <a:ext cx="1986120" cy="246204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The Washington Monument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114800" y="18284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Washington Monument is the world’s tallest stone structure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is located in Washington D.C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was constructed to commemorate George Washington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83" name="Picture 2" descr="4a09427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981080"/>
            <a:ext cx="3436920" cy="419112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15:40:04Z</dcterms:created>
  <dc:creator>Farmington Elementary</dc:creator>
  <dc:description/>
  <dc:language>en-US</dc:language>
  <cp:lastModifiedBy>Legion</cp:lastModifiedBy>
  <dcterms:modified xsi:type="dcterms:W3CDTF">2017-07-05T12:52:38Z</dcterms:modified>
  <cp:revision>89</cp:revision>
  <dc:subject/>
  <dc:title>PowerPoint Presentation</dc:title>
</cp:coreProperties>
</file>