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F55D-0F9B-42D3-B370-7B0152E7795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and 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into their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and 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’ houses were made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efs were men and landowners were w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chiefs were men, but the peace chief could be a wo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known as the Trail of T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 Indians often fought with the Cherokee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formed the Creek Confederacy as a def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an area near the Ocmulgee Cr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homes were also built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0EF-A93D-4C9B-BC8D-85D5AD93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E37-80FC-45D6-B9EB-FED069C2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27A-0D06-4FC4-A401-03C23BCF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CBE-3BEE-48AD-B68C-972AB141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55E89-A8E3-4946-A79F-FE372FD9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A2DB0-85EC-403F-BF02-8FAEA1AE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9E142-E330-4067-A077-0DE0E7D4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9D2F1-249B-414B-8614-7D4604E2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ED312-28B2-4654-9283-39FE1627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83304-9B15-457D-A214-70262DA5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DCCC0-E628-406B-A583-D44C4C9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D05-5433-4FC5-80DD-FC62E947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EBC81-7300-43CD-A571-777BF3CE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E7916-B245-4FC0-8DD0-F177269F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F9A49-78E7-48FC-BB68-5BC9FE5D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D9ABA-4225-449D-A715-9797DF3D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F29ED-C44C-48D6-8948-74346D01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DBB-FBB4-4551-80EA-F2E5F9D1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342-3BE6-48E9-84AF-CF577DF8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EA3-0C33-4BE0-895B-E6B38C61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A03-93E7-44E8-8F09-7C62A773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393-9CD7-4C6D-B2BD-C685375E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C47-2CC3-4F25-A38B-65030A3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A71-F1E1-4F47-B15B-93EB73E6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5417-D322-424D-86CF-6FCDD0E380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1E3D-DCF3-4166-9537-72279BEBAD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ukon.lib.ok.us/Sequoyah-2.gif&amp;imgrefurl=http://www.yukon.lib.ok.us/sequoyah.html&amp;h=307&amp;w=256&amp;sz=41&amp;hl=en&amp;start=3&amp;um=1&amp;tbnid=hfhB0KW9zc6tWM:&amp;tbnh=117&amp;tbnw=98&amp;prev=/images%3Fq%3DSequoyah%26svnum%3D10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erokees and Creek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0" descr="Sequoyah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362320"/>
            <a:ext cx="297180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4" descr="the_trail_of_tears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2585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trail-of-tears-map2"/>
          <p:cNvPicPr/>
          <p:nvPr/>
        </p:nvPicPr>
        <p:blipFill>
          <a:blip r:embed="rId2"/>
          <a:stretch/>
        </p:blipFill>
        <p:spPr>
          <a:xfrm>
            <a:off x="5257800" y="4114800"/>
            <a:ext cx="2819520" cy="2127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MPj03139480000[1]"/>
          <p:cNvPicPr/>
          <p:nvPr/>
        </p:nvPicPr>
        <p:blipFill>
          <a:blip r:embed="rId1"/>
          <a:stretch/>
        </p:blipFill>
        <p:spPr>
          <a:xfrm>
            <a:off x="704880" y="2019240"/>
            <a:ext cx="354168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MPj03139500000[1]"/>
          <p:cNvPicPr/>
          <p:nvPr/>
        </p:nvPicPr>
        <p:blipFill>
          <a:blip r:embed="rId1"/>
          <a:stretch/>
        </p:blipFill>
        <p:spPr>
          <a:xfrm>
            <a:off x="4869000" y="2019240"/>
            <a:ext cx="359712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5:49:16Z</dcterms:created>
  <dc:creator>College of Education</dc:creator>
  <dc:description/>
  <dc:language>en-US</dc:language>
  <cp:lastModifiedBy>Legion</cp:lastModifiedBy>
  <dcterms:modified xsi:type="dcterms:W3CDTF">2017-07-05T13:00:47Z</dcterms:modified>
  <cp:revision>6</cp:revision>
  <dc:subject/>
  <dc:title>Cherokees and Creeks</dc:title>
</cp:coreProperties>
</file>