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3FD2-F3F9-4E03-B00F-38ABDAA485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and 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into their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and 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’ houses were made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efs were men and landowners were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chiefs were men, but the peace chief could be a wo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known as the Trail of T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 Indians often fought with the Cherokee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formed the Creek Confederacy as a def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an area near the Ocmulgee Cr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homes were also built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E1F-967F-46CC-A51E-6335FA1E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A0E-2910-4841-82A7-648894F3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9F9-22FA-45F5-97DA-208A205C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B6C-E743-4A1A-8EB3-37E69283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C8C30-C984-482F-8125-800E5CAB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E6256-4E83-47B2-B92F-DEFC40D5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51AD0-72E2-4127-B4F4-3E1FF36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47F4C-DD50-4307-BE60-261D53C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E5BDF-3ACB-4E3C-8E54-9C852FEE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A139F-C2D2-4F11-B934-94A98627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0BFB4-3979-410B-B12E-45EF001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A97-544B-450F-BA15-9CCCF60C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671DB-08B8-423B-A033-154FE53A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5F614-B650-4C0E-858B-5446FC8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D11A7-6409-408A-AC07-37861A08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D1DE9-45B3-442A-8B0C-8B23B28C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1F3A3-24C8-4108-A65C-92D99897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38A-5080-4343-89E4-92B7DD6F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6EF-64AE-4C76-8ADC-06DB9795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AD2-E1C2-416C-8E8F-5EFEED8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76B-0BD1-4CF3-854B-C8F7399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0ED-CB4F-4ABB-A1DE-68943E3A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ACB-356E-48EC-B386-377636BC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64B-7072-47A9-8420-A11E9AD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5C51-8419-4B66-9990-197B80D510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29AF-D58B-4C7F-80A9-F55AF55237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kon.lib.ok.us/Sequoyah-2.gif&amp;imgrefurl=http://www.yukon.lib.ok.us/sequoyah.html&amp;h=307&amp;w=256&amp;sz=41&amp;hl=en&amp;start=3&amp;um=1&amp;tbnid=hfhB0KW9zc6tWM:&amp;tbnh=117&amp;tbnw=98&amp;prev=/images%3Fq%3DSequoyah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erokees and Creek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Sequoyah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29718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the_trail_of_tears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trail-of-tears-map2"/>
          <p:cNvPicPr/>
          <p:nvPr/>
        </p:nvPicPr>
        <p:blipFill>
          <a:blip r:embed="rId2"/>
          <a:stretch/>
        </p:blipFill>
        <p:spPr>
          <a:xfrm>
            <a:off x="5257800" y="4114800"/>
            <a:ext cx="2819520" cy="2127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MPj03139480000[1]"/>
          <p:cNvPicPr/>
          <p:nvPr/>
        </p:nvPicPr>
        <p:blipFill>
          <a:blip r:embed="rId1"/>
          <a:stretch/>
        </p:blipFill>
        <p:spPr>
          <a:xfrm>
            <a:off x="704880" y="2019240"/>
            <a:ext cx="354168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MPj03139500000[1]"/>
          <p:cNvPicPr/>
          <p:nvPr/>
        </p:nvPicPr>
        <p:blipFill>
          <a:blip r:embed="rId1"/>
          <a:stretch/>
        </p:blipFill>
        <p:spPr>
          <a:xfrm>
            <a:off x="4869000" y="2019240"/>
            <a:ext cx="359712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5:49:16Z</dcterms:created>
  <dc:creator>College of Education</dc:creator>
  <dc:description/>
  <dc:language>en-US</dc:language>
  <cp:lastModifiedBy>Legion</cp:lastModifiedBy>
  <dcterms:modified xsi:type="dcterms:W3CDTF">2017-07-05T13:00:47Z</dcterms:modified>
  <cp:revision>6</cp:revision>
  <dc:subject/>
  <dc:title>Cherokees and Creeks</dc:title>
</cp:coreProperties>
</file>