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ACF1-B115-4C7B-AB97-51CF37F1CF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 and Cr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into their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 and Cr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iew into their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’ houses were made of rivercane and pl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efs were men and landowners were wo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chiefs were men, but the peace chief could be a wo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rokees’ houses were made of rivercane and pla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efs were men and landowners were wome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 chiefs were men, but the peace chief could be a wom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 created the Cherokee syllabary, which enabled the Cherokees to read, write, record their laws, and publish newspapers in their own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oy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oyah created the Cherokee syllabary, which enabled the Cherokees to read, write, record their laws, and publish newspapers in their own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1800’s the US government created an Indian Territory in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839, US troops expelled the Cherokee from their ancestral homeland in the Southeast to this Indian Terri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as known as the Trail of T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e 1800’s the US government created an Indian Territory in Oklaho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839, US troops expelled the Cherokee from their ancestral homeland in the Southeast to this Indian Terri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known as the Trail of T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 Indians often fought with the Cherokee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formed the Creek Confederacy as a defe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an area near the Ocmulgee Cr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 Indians often fought with the Cherokee India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formed the Creek Confederacy as a defen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lived in an area near the Ocmulgee Cree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homes were also built of rivercane and pl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Creek population reached about 400-600 people they would split and half would move to a nearby 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In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homes were also built of rivercane and pla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he Creek population reached about 400-600 people they would split and half would move to a nearby s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Rem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s avoided the American revolution, but their lives changed after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ia viewed the Creeks as impediments to the expansion of slav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aties of New York(1790), Fort Wilkinson(1802), and Washington(1805) the Creeks ceded their lands east of the Ocmulge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Remov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s avoided the American revolution, but their lives changed afterwar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ia viewed the Creeks as impediments to the expansion of slave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Treaties of New York(1790), Fort Wilkinson(1802), and Washington(1805) the Creeks ceded their lands east of the Ocmulgee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Rem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eaty of Indian Springs of 1825, is when Georgia agents bribed Creek leader William McIntosh to sign away all Creek territory in Georg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were furious with the Creek leader and put McIntosh to death for his treach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Remov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aty of Indian Springs of 1825, is when Georgia agents bribed Creek leader William McIntosh to sign away all Creek territory in Georg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were furious with the Creek leader and put McIntosh to death for his treacher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websites listed we will now research more about the Cherokee and Creek Indians on the inter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will create a graphic organizer on Inspiration listing the details that we learned about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 we will create a Venn diagram using Inspiration that compares and contrast these Native American cul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the websites listed we will now research more about the Cherokee and Creek Indians on the inter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we will create a graphic organizer on Inspiration listing the details that we learned about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ally we will create a Venn diagram using Inspiration that compares and contrast these Native American cult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F98-49B7-492B-A18D-1EB925E7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87F-081C-4015-B252-E6709312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B2D-7D97-4CE9-A04F-3B353647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AD6-E16E-46B6-9319-A13B753E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174E5-EE4C-4129-9573-82AC3A0D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2F3DD-2711-4188-AA16-59471F60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699C6-6BD8-4C2D-A769-4143F9FB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34B0A-6875-4B7C-8A99-E3458223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B81FA-7F6D-4B1F-B366-D332A4C3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E9DE8-4276-4817-98FA-4E169B13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13612-16E3-4962-91A0-DB2C04D3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DF2-CAC5-45D0-A4EE-436D10FC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95648-CB58-4431-A7EF-4E57A848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0B135-6C77-474D-BB0C-249E7FD1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E4E25-A311-498C-9EE4-47BC37FB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50261-F61B-42A4-A142-10DF38D0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91669-6C5B-4CA0-A042-CED3B301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F9C-B5BF-4CC8-B8DB-8B09312E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092-8D57-416F-8AB9-E5206DE5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C21-9107-436B-9313-8AF36932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852-B6AB-49FD-B92B-493CDB9A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0BB-256B-41E4-945E-ACBB8E17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34D-A3DD-48ED-8086-DAFAC8D9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B12-3615-4DD8-8B37-8733DB3F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F48B-CBEE-43C7-8D45-92A0A6A65D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CCF3-2C43-4BD4-8146-CFD1160804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ukon.lib.ok.us/Sequoyah-2.gif&amp;imgrefurl=http://www.yukon.lib.ok.us/sequoyah.html&amp;h=307&amp;w=256&amp;sz=41&amp;hl=en&amp;start=3&amp;um=1&amp;tbnid=hfhB0KW9zc6tWM:&amp;tbnh=117&amp;tbnw=98&amp;prev=/images%3Fq%3DSequoyah%26svnum%3D10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erokees and Creek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iew into their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eroke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erokees’ houses were made of rivercane and pl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fs were men and landowners were wo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 chiefs were men, but the peace chief could be a wo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quoya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oyah created the Cherokee syllabary, which enabled the Cherokees to read, write, record their laws, and publish newspapers in their own langu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0" descr="Sequoyah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362320"/>
            <a:ext cx="2971800" cy="2666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erokee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1800’s the US government created an Indian Territory in Oklaho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39, US troops expelled the Cherokee from their ancestral homeland in the Southeast to this Indian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as known as the Trail of T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4" descr="the_trail_of_tears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2585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trail-of-tears-map2"/>
          <p:cNvPicPr/>
          <p:nvPr/>
        </p:nvPicPr>
        <p:blipFill>
          <a:blip r:embed="rId2"/>
          <a:stretch/>
        </p:blipFill>
        <p:spPr>
          <a:xfrm>
            <a:off x="5257800" y="4114800"/>
            <a:ext cx="2819520" cy="21272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eek Indians often fought with the Cherokee India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eeks formed the Creek Confederacy as a defe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lived in an area near the Ocmulgee Cr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MPj03139480000[1]"/>
          <p:cNvPicPr/>
          <p:nvPr/>
        </p:nvPicPr>
        <p:blipFill>
          <a:blip r:embed="rId1"/>
          <a:stretch/>
        </p:blipFill>
        <p:spPr>
          <a:xfrm>
            <a:off x="704880" y="2019240"/>
            <a:ext cx="354168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eks homes were also built of rivercane and pl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eek population reached about 400-600 people they would split and half would move to a nearby 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MPj03139500000[1]"/>
          <p:cNvPicPr/>
          <p:nvPr/>
        </p:nvPicPr>
        <p:blipFill>
          <a:blip r:embed="rId1"/>
          <a:stretch/>
        </p:blipFill>
        <p:spPr>
          <a:xfrm>
            <a:off x="4869000" y="2019240"/>
            <a:ext cx="359712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Remov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eks avoided the American revolution, but their lives changed afterw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ia viewed the Creeks as impediments to the expansion of slav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Treaties of New York(1790), Fort Wilkinson(1802), and Washington(1805) the Creeks ceded their lands east of the Ocmulgee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Remov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aty of Indian Springs of 1825, is when Georgia agents bribed Creek leader William McIntosh to sign away all Creek territory in Georg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eks were furious with the Creek leader and put McIntosh to death for his treache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websites listed we will now research more about the Cherokee and Creek Indians on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will create a graphic organizer on Inspiration listing the details that we learned about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ly we will create a Venn diagram using Inspiration that compares and contrast these Native American cul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5:49:16Z</dcterms:created>
  <dc:creator>College of Education</dc:creator>
  <dc:description/>
  <dc:language>en-US</dc:language>
  <cp:lastModifiedBy>Legion</cp:lastModifiedBy>
  <dcterms:modified xsi:type="dcterms:W3CDTF">2017-07-05T13:00:47Z</dcterms:modified>
  <cp:revision>6</cp:revision>
  <dc:subject/>
  <dc:title>Cherokees and Creeks</dc:title>
</cp:coreProperties>
</file>