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3775D-1ACB-42C5-85DB-8493D488109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rokees and Cree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iew into their his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rokees and Creek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view into their his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roke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erokees’ houses were made of rivercane and plas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iefs were men and landowners were wome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 chiefs were men, but the peace chief could be a woma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roke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herokees’ houses were made of rivercane and plast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iefs were men and landowners were women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r chiefs were men, but the peace chief could be a woma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quoya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quoyah created the Cherokee syllabary, which enabled the Cherokees to read, write, record their laws, and publish newspapers in their own langua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quoya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quoyah created the Cherokee syllabary, which enabled the Cherokees to read, write, record their laws, and publish newspapers in their own languag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roke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ring the 1800’s the US government created an Indian Territory in Oklahom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1839, US troops expelled the Cherokee from their ancestral homeland in the Southeast to this Indian Territo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was known as the Trail of T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rokee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uring the 1800’s the US government created an Indian Territory in Oklahom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1839, US troops expelled the Cherokee from their ancestral homeland in the Southeast to this Indian Territor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was known as the Trail of Tea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ee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reek Indians often fought with the Cherokee India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reeks formed the Creek Confederacy as a defen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lived in an area near the Ocmulgee Cree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eek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reek Indians often fought with the Cherokee Indian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reeks formed the Creek Confederacy as a defens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lived in an area near the Ocmulgee Creek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eek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reeks homes were also built of rivercane and plas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Creek population reached about 400-600 people they would split and half would move to a nearby 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eek India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reeks homes were also built of rivercane and plast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n the Creek population reached about 400-600 people they would split and half would move to a nearby sit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eek Remov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eeks avoided the American revolution, but their lives changed afterwar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orgia viewed the Creeks as impediments to the expansion of slave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Treaties of New York(1790), Fort Wilkinson(1802), and Washington(1805) the Creeks ceded their lands east of the Ocmulgee Riv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eek Remov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eeks avoided the American revolution, but their lives changed afterward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rgia viewed the Creeks as impediments to the expansion of slaver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the Treaties of New York(1790), Fort Wilkinson(1802), and Washington(1805) the Creeks ceded their lands east of the Ocmulgee Riv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eek Remov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eaty of Indian Springs of 1825, is when Georgia agents bribed Creek leader William McIntosh to sign away all Creek territory in Georg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reeks were furious with the Creek leader and put McIntosh to death for his treacher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eek Remov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Treaty of Indian Springs of 1825, is when Georgia agents bribed Creek leader William McIntosh to sign away all Creek territory in Georgi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reeks were furious with the Creek leader and put McIntosh to death for his treachery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the websites listed we will now research more about the Cherokee and Creek Indians on the inter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we will create a graphic organizer on Inspiration listing the details that we learned about th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ally we will create a Venn diagram using Inspiration that compares and contrast these Native American cultu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earc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ing the websites listed we will now research more about the Cherokee and Creek Indians on the interne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n we will create a graphic organizer on Inspiration listing the details that we learned about the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nally we will create a Venn diagram using Inspiration that compares and contrast these Native American cultur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3AA1-2AAD-4F46-85F2-DDE9324F5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BA86-D00D-410D-AD07-3242AEBA8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F7E3-5322-47A6-8CFC-F8194DEE0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ECDD-0AFB-4A8A-AC72-5594536A3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E4E94E-B998-4E38-B4A9-E22F6110B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4836F3-A3CC-4AB1-8B63-54172FEAB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C06906-38D2-4A11-928D-673C5F33B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B745FD-1780-4A0B-B9DA-FCBA7920F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FCF13C-84AC-4615-A784-0B8A219CF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AE7570-6472-454D-B17B-348758F31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422E34-9425-47F6-8BCD-5BFF1FBD6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5B45-16C7-4CB2-B9DA-815086EA6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45375D-320D-4447-BD0D-4EC6C5B32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A22C7D-C814-4FCB-BFE9-B34CE7488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EF0F18-5991-444E-A379-B54DEA1F7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921F79-B598-4726-8284-586DFBD36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55D2F8-53CB-448E-A968-5C32AD4A0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C0F8-1F11-4145-982E-8DFDD8107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4828-3430-40EB-A8D1-00E3FAF38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ECE4-68AE-4787-9E21-148D8D85C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A83B-D640-4086-9C76-3218F18EC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977B-10C9-4A3B-B103-6848989A1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DBB6-0256-4240-967A-889571775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1C2B-AE55-4949-BBB1-6535FE15B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FBB44-01B7-45CB-ADA5-F0CCECC6D46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A88BE-8CED-40DD-BEC8-21C2F85A938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yukon.lib.ok.us/Sequoyah-2.gif&amp;imgrefurl=http://www.yukon.lib.ok.us/sequoyah.html&amp;h=307&amp;w=256&amp;sz=41&amp;hl=en&amp;start=3&amp;um=1&amp;tbnid=hfhB0KW9zc6tWM:&amp;tbnh=117&amp;tbnw=98&amp;prev=/images%3Fq%3DSequoyah%26svnum%3D10%26um%3D1%26hl%3Den%26sa%3DN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herokees and Creeks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view into their his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heroke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herokees’ houses were made of rivercane and plas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iefs were men and landowners were wome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r chiefs were men, but the peace chief could be a woma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equoyah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quoyah created the Cherokee syllabary, which enabled the Cherokees to read, write, record their laws, and publish newspapers in their own langu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10" descr="Sequoyah-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2362320"/>
            <a:ext cx="2971800" cy="266688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herokees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ring the 1800’s the US government created an Indian Territory in Oklaho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839, US troops expelled the Cherokee from their ancestral homeland in the Southeast to this Indian Territo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was known as the Trail of Tea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0" y="167652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12"/>
          <p:cNvSpPr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14" descr="the_trail_of_tears"/>
          <p:cNvPicPr/>
          <p:nvPr/>
        </p:nvPicPr>
        <p:blipFill>
          <a:blip r:embed="rId1"/>
          <a:stretch/>
        </p:blipFill>
        <p:spPr>
          <a:xfrm>
            <a:off x="4572000" y="1676520"/>
            <a:ext cx="4038480" cy="25858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6" descr="trail-of-tears-map2"/>
          <p:cNvPicPr/>
          <p:nvPr/>
        </p:nvPicPr>
        <p:blipFill>
          <a:blip r:embed="rId2"/>
          <a:stretch/>
        </p:blipFill>
        <p:spPr>
          <a:xfrm>
            <a:off x="5257800" y="4114800"/>
            <a:ext cx="2819520" cy="212724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reek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reek Indians often fought with the Cherokee India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reeks formed the Creek Confederacy as a defen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lived in an area near the Ocmulgee Cree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6" descr="MPj03139480000[1]"/>
          <p:cNvPicPr/>
          <p:nvPr/>
        </p:nvPicPr>
        <p:blipFill>
          <a:blip r:embed="rId1"/>
          <a:stretch/>
        </p:blipFill>
        <p:spPr>
          <a:xfrm>
            <a:off x="704880" y="2019240"/>
            <a:ext cx="3541680" cy="365760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reek India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reeks homes were also built of rivercane and plas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the Creek population reached about 400-600 people they would split and half would move to a nearby si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9" descr="MPj03139500000[1]"/>
          <p:cNvPicPr/>
          <p:nvPr/>
        </p:nvPicPr>
        <p:blipFill>
          <a:blip r:embed="rId1"/>
          <a:stretch/>
        </p:blipFill>
        <p:spPr>
          <a:xfrm>
            <a:off x="4869000" y="2019240"/>
            <a:ext cx="3597120" cy="365760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reek Removal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eks avoided the American revolution, but their lives changed afterwar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orgia viewed the Creeks as impediments to the expansion of slave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Treaties of New York(1790), Fort Wilkinson(1802), and Washington(1805) the Creeks ceded their lands east of the Ocmulgee Riv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reek Removal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eaty of Indian Springs of 1825, is when Georgia agents bribed Creek leader William McIntosh to sign away all Creek territory in Georg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reeks were furious with the Creek leader and put McIntosh to death for his treacher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esearch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ing the websites listed we will now research more about the Cherokee and Creek Indians on the intern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we will create a graphic organizer on Inspiration listing the details that we learned about th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ally we will create a Venn diagram using Inspiration that compares and contrast these Native American cultu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0T15:49:16Z</dcterms:created>
  <dc:creator>College of Education</dc:creator>
  <dc:description/>
  <dc:language>en-US</dc:language>
  <cp:lastModifiedBy>Legion</cp:lastModifiedBy>
  <dcterms:modified xsi:type="dcterms:W3CDTF">2017-07-05T13:00:47Z</dcterms:modified>
  <cp:revision>6</cp:revision>
  <dc:subject/>
  <dc:title>Cherokees and Creeks</dc:title>
</cp:coreProperties>
</file>