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D27C-520C-4D4D-8E1C-CD9E04DE17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s - pgs. 95-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s - pgs. 95-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s made their homes in the rich river valleys of the southern Appalachian Mount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y l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s made their homes in the rich river valleys of the southern Appalachian Mou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gr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rew corn, beans, squash, pumpkins, sunflowers, and tobac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lso gathered wild plants from the fo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hu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unted squirrels, rabbits, turkeys, bears, and de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ished in the many streams and rivers in the Appalachian Mount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gr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rew corn, beans, squash, pumpkins, sunflowers, and tobac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gathered wild plants from the fo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hu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unted squirrels, rabbits, turkeys, bears, and d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ished in the many streams and rivers in the Appalachian Mou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eroke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herokee families had two hou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-shap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ered with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-shap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k ro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ss or clay w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rokee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herokee families had two 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e-sha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ed wit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x-sha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k 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 or clay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Vill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ral families of the same clan liv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houses – often as many as 300 to 400 – were built close together to form vill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center of each village was a temple built on a high, flat-topped m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Vill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families of the same clan liv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houses – often as many as 300 to 400 – were built close together to form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enter of each village was a temple built on a high, flat-topped m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s, called chiefs, governed each vill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village was part of a larger confede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federation was a group of connected vill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federation could have as many as 100 vill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ers, called chiefs, governed each vill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age was part of a larger confede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federation was a group of connected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federation could have as many as 100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most talked about issues in the confederation was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villages had high wooden fences made of logs to keep out enem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ost talked about issues in the confederation was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villages had high wooden fences made of logs to keep out enem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AB40-8EC2-4848-A351-D0A7EAFD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CAF5-9116-4F27-8303-4A56DA1B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5D1F-8964-423F-892A-D499221A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23B7-AC9E-446C-8C91-D7B84A59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6F2E-5A53-4E77-87F2-CE182719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4087-92AE-45BA-9F5F-7AC5F581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A878-6A05-4BA0-ADE1-8D3D036F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C288-583A-4A37-99AF-1AAEB77D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A7AD-47C3-4810-B832-F4A87FE8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A16E-77E6-4D97-8601-64943D16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E08-D581-4EDD-9833-7DCD0AF2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7087-93C5-4AD4-AF51-80538D02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AAEA-598E-41AF-A200-92B872F65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Cheroke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gs. 95-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nativemap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did they 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erokees made their homes in the rich river valleys of the southern Appalachian Mount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herokeelands"/>
          <p:cNvPicPr/>
          <p:nvPr/>
        </p:nvPicPr>
        <p:blipFill>
          <a:blip r:embed="rId1"/>
          <a:stretch/>
        </p:blipFill>
        <p:spPr>
          <a:xfrm>
            <a:off x="2743200" y="2743200"/>
            <a:ext cx="5410080" cy="38862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id they gr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grew corn, beans, squash, pumpkins, sunflowers, and tobac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so gathered wild plants from the fo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id they hu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unted squirrels, rabbits, turkeys, bears, and de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fished in the many streams and rivers in the Appalachian Mount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Cherokee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Cherokee families had two hou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4"/>
          <p:cNvSpPr/>
          <p:nvPr/>
        </p:nvSpPr>
        <p:spPr>
          <a:xfrm>
            <a:off x="3429000" y="3124080"/>
            <a:ext cx="2743200" cy="76212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963600" y="335268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990720" y="2438280"/>
            <a:ext cx="1828800" cy="609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7"/>
          <p:cNvSpPr/>
          <p:nvPr/>
        </p:nvSpPr>
        <p:spPr>
          <a:xfrm>
            <a:off x="990720" y="3581280"/>
            <a:ext cx="1828800" cy="609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"/>
          <p:cNvSpPr/>
          <p:nvPr/>
        </p:nvSpPr>
        <p:spPr>
          <a:xfrm>
            <a:off x="533520" y="4648320"/>
            <a:ext cx="2209680" cy="76176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2743200" y="28954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V="1">
            <a:off x="2743200" y="3733920"/>
            <a:ext cx="99072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 flipV="1">
            <a:off x="2819520" y="35809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1526040" y="25146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1144440" y="365760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e-sha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534960" y="48006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vered with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5"/>
          <p:cNvSpPr/>
          <p:nvPr/>
        </p:nvSpPr>
        <p:spPr>
          <a:xfrm>
            <a:off x="4267080" y="4876920"/>
            <a:ext cx="2514600" cy="838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4650840" y="51055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7"/>
          <p:cNvSpPr/>
          <p:nvPr/>
        </p:nvSpPr>
        <p:spPr>
          <a:xfrm>
            <a:off x="6629400" y="3581280"/>
            <a:ext cx="1981080" cy="609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8"/>
          <p:cNvSpPr/>
          <p:nvPr/>
        </p:nvSpPr>
        <p:spPr>
          <a:xfrm>
            <a:off x="2895480" y="5867280"/>
            <a:ext cx="2514600" cy="76212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9"/>
          <p:cNvSpPr/>
          <p:nvPr/>
        </p:nvSpPr>
        <p:spPr>
          <a:xfrm>
            <a:off x="6858000" y="4572000"/>
            <a:ext cx="1981080" cy="6094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0"/>
          <p:cNvSpPr/>
          <p:nvPr/>
        </p:nvSpPr>
        <p:spPr>
          <a:xfrm>
            <a:off x="6934320" y="5943600"/>
            <a:ext cx="1981080" cy="6094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6859800" y="365760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x-sha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7469280" y="46483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7317360" y="60199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k 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3110040" y="605628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ss or clay 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5"/>
          <p:cNvSpPr/>
          <p:nvPr/>
        </p:nvSpPr>
        <p:spPr>
          <a:xfrm flipH="1">
            <a:off x="3352680" y="52578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"/>
          <p:cNvSpPr/>
          <p:nvPr/>
        </p:nvSpPr>
        <p:spPr>
          <a:xfrm>
            <a:off x="5715000" y="571500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 flipV="1">
            <a:off x="6781680" y="4952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8"/>
          <p:cNvSpPr/>
          <p:nvPr/>
        </p:nvSpPr>
        <p:spPr>
          <a:xfrm flipV="1">
            <a:off x="5791320" y="396252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winter house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summer house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rokee Vill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families of the sam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v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rokee houses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ften as many as 300 to 4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ere built close together to form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center of each village wa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ilt on a high, flat-topped m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rokee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, call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hief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governed each vill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village was part of a larg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ed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federation was a group of connected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federation could have as many as 100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r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most talked about issues in the confederation was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villages had high wooden fences made of logs to keep out enem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23:01:57Z</dcterms:created>
  <dc:creator>Mardena Collins</dc:creator>
  <dc:description/>
  <dc:language>en-US</dc:language>
  <cp:lastModifiedBy>Legion</cp:lastModifiedBy>
  <dcterms:modified xsi:type="dcterms:W3CDTF">2017-07-05T13:02:32Z</dcterms:modified>
  <cp:revision>12</cp:revision>
  <dc:subject/>
  <dc:title>The Cherokees</dc:title>
</cp:coreProperties>
</file>