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0657B-289D-46E1-9D5E-E54205B1DF1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rokees - pgs. 95-9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erokees - pgs. 95-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id they li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rokees made their homes in the rich river valleys of the southern Appalachian Mounta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id they li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erokees made their homes in the rich river valleys of the southern Appalachian Mount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id they gr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grew corn, beans, squash, pumpkins, sunflowers, and tobacc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lso gathered wild plants from the for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id they hu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hunted squirrels, rabbits, turkeys, bears, and de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fished in the many streams and rivers in the Appalachian Mounta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d they gr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grew corn, beans, squash, pumpkins, sunflowers, and tobac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lso gathered wild plants from the for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d they hu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unted squirrels, rabbits, turkeys, bears, and de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fished in the many streams and rivers in the Appalachian Mount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herokee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Cherokee families had two hous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ter 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m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e-shap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vered with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er 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x-shap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rk ro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ss or clay wa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herokee H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Cherokee families had two hou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ter 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e-sha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ered with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er 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x-sha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k ro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ss or clay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ter 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ter 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er 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er 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rokee Vill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veral families of the same clan lived toge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rokee houses – often as many as 300 to 400 – were built close together to form villag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e center of each village was a temple built on a high, flat-topped m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rokee Vill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ral families of the same clan lived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rokee houses – often as many as 300 to 400 – were built close together to form vill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center of each village was a temple built on a high, flat-topped m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rokee Govern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ders, called chiefs, governed each villa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village was part of a larger confeder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nfederation was a group of connected villag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nfederation could have as many as 100 villag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rokee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ers, called chiefs, governed each vill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village was part of a larger confeder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nfederation was a group of connected vill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nfederation could have as many as 100 vill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 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of the most talked about issues in the confederation was w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villages had high wooden fences made of logs to keep out enem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most talked about issues in the confederation was w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villages had high wooden fences made of logs to keep out enem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37CB-9204-4390-8298-87509BBFC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E7B9-3B4F-4D7B-BFE4-3C54B0C30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527C-E1EE-4FCC-882E-2CE636B32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6180-A3A9-435A-B1A3-3D21B20F2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0C63-A10B-48F3-A103-3FC2496F2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3D9B-BE33-4744-B963-412DF07C5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6434-FC60-4054-A127-56C3D2C0E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D2B7-D41A-49E9-9B2C-9FC10AD2D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C94B-CF1B-438B-8A1D-5A096C43D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BBC5-90DE-4749-9162-B033480EF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4075-DC18-42CD-82F0-C7B23C95E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FDA4-EF66-41EC-855A-E773967F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A4BCA-4C6F-4E25-87F7-0DAAE2975B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he Cheroke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gs. 95-9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nativemap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ere did they li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herokees made their homes in the rich river valleys of the southern Appalachian Mounta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cherokeelands"/>
          <p:cNvPicPr/>
          <p:nvPr/>
        </p:nvPicPr>
        <p:blipFill>
          <a:blip r:embed="rId1"/>
          <a:stretch/>
        </p:blipFill>
        <p:spPr>
          <a:xfrm>
            <a:off x="2743200" y="2743200"/>
            <a:ext cx="5410080" cy="388620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did they gr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grew corn, beans, squash, pumpkins, sunflowers, and tobac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lso gathered wild plants from the fo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did they hu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hunted squirrels, rabbits, turkeys, bears, and de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fished in the many streams and rivers in the Appalachian Mounta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 Cherokee H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st Cherokee families had two hou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4"/>
          <p:cNvSpPr/>
          <p:nvPr/>
        </p:nvSpPr>
        <p:spPr>
          <a:xfrm>
            <a:off x="3429000" y="3124080"/>
            <a:ext cx="2743200" cy="76212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3963600" y="3352680"/>
            <a:ext cx="165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nter 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6"/>
          <p:cNvSpPr/>
          <p:nvPr/>
        </p:nvSpPr>
        <p:spPr>
          <a:xfrm>
            <a:off x="990720" y="2438280"/>
            <a:ext cx="1828800" cy="609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7"/>
          <p:cNvSpPr/>
          <p:nvPr/>
        </p:nvSpPr>
        <p:spPr>
          <a:xfrm>
            <a:off x="990720" y="3581280"/>
            <a:ext cx="1828800" cy="609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8"/>
          <p:cNvSpPr/>
          <p:nvPr/>
        </p:nvSpPr>
        <p:spPr>
          <a:xfrm>
            <a:off x="533520" y="4648320"/>
            <a:ext cx="2209680" cy="76176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9"/>
          <p:cNvSpPr/>
          <p:nvPr/>
        </p:nvSpPr>
        <p:spPr>
          <a:xfrm>
            <a:off x="2743200" y="289548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0"/>
          <p:cNvSpPr/>
          <p:nvPr/>
        </p:nvSpPr>
        <p:spPr>
          <a:xfrm flipV="1">
            <a:off x="2743200" y="3733920"/>
            <a:ext cx="99072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1"/>
          <p:cNvSpPr/>
          <p:nvPr/>
        </p:nvSpPr>
        <p:spPr>
          <a:xfrm flipV="1">
            <a:off x="2819520" y="358092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2"/>
          <p:cNvSpPr/>
          <p:nvPr/>
        </p:nvSpPr>
        <p:spPr>
          <a:xfrm>
            <a:off x="1526040" y="251460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m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3"/>
          <p:cNvSpPr/>
          <p:nvPr/>
        </p:nvSpPr>
        <p:spPr>
          <a:xfrm>
            <a:off x="1144440" y="365760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e-sha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4"/>
          <p:cNvSpPr/>
          <p:nvPr/>
        </p:nvSpPr>
        <p:spPr>
          <a:xfrm>
            <a:off x="534960" y="48006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vered with ea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15"/>
          <p:cNvSpPr/>
          <p:nvPr/>
        </p:nvSpPr>
        <p:spPr>
          <a:xfrm>
            <a:off x="4267080" y="4876920"/>
            <a:ext cx="2514600" cy="83808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6"/>
          <p:cNvSpPr/>
          <p:nvPr/>
        </p:nvSpPr>
        <p:spPr>
          <a:xfrm>
            <a:off x="4650840" y="51055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mer 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17"/>
          <p:cNvSpPr/>
          <p:nvPr/>
        </p:nvSpPr>
        <p:spPr>
          <a:xfrm>
            <a:off x="6629400" y="3581280"/>
            <a:ext cx="1981080" cy="609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18"/>
          <p:cNvSpPr/>
          <p:nvPr/>
        </p:nvSpPr>
        <p:spPr>
          <a:xfrm>
            <a:off x="2895480" y="5867280"/>
            <a:ext cx="2514600" cy="76212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19"/>
          <p:cNvSpPr/>
          <p:nvPr/>
        </p:nvSpPr>
        <p:spPr>
          <a:xfrm>
            <a:off x="6858000" y="4572000"/>
            <a:ext cx="1981080" cy="60948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20"/>
          <p:cNvSpPr/>
          <p:nvPr/>
        </p:nvSpPr>
        <p:spPr>
          <a:xfrm>
            <a:off x="6934320" y="5943600"/>
            <a:ext cx="1981080" cy="60948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1"/>
          <p:cNvSpPr/>
          <p:nvPr/>
        </p:nvSpPr>
        <p:spPr>
          <a:xfrm>
            <a:off x="6859800" y="3657600"/>
            <a:ext cx="148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x-sha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2"/>
          <p:cNvSpPr/>
          <p:nvPr/>
        </p:nvSpPr>
        <p:spPr>
          <a:xfrm>
            <a:off x="7469280" y="464832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3"/>
          <p:cNvSpPr/>
          <p:nvPr/>
        </p:nvSpPr>
        <p:spPr>
          <a:xfrm>
            <a:off x="7317360" y="60199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rk ro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4"/>
          <p:cNvSpPr/>
          <p:nvPr/>
        </p:nvSpPr>
        <p:spPr>
          <a:xfrm>
            <a:off x="3110040" y="6056280"/>
            <a:ext cx="22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ss or clay w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5"/>
          <p:cNvSpPr/>
          <p:nvPr/>
        </p:nvSpPr>
        <p:spPr>
          <a:xfrm flipH="1">
            <a:off x="3352680" y="5257800"/>
            <a:ext cx="9144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6"/>
          <p:cNvSpPr/>
          <p:nvPr/>
        </p:nvSpPr>
        <p:spPr>
          <a:xfrm>
            <a:off x="5715000" y="571500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7"/>
          <p:cNvSpPr/>
          <p:nvPr/>
        </p:nvSpPr>
        <p:spPr>
          <a:xfrm flipV="1">
            <a:off x="6781680" y="49525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8"/>
          <p:cNvSpPr/>
          <p:nvPr/>
        </p:nvSpPr>
        <p:spPr>
          <a:xfrm flipV="1">
            <a:off x="5791320" y="396252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inter Ho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winter house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mmer Ho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summer house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erokee Vill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al families of the sam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ived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rokee houses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ften as many as 300 to 40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were built close together to form vill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he center of each village was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mp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uilt on a high, flat-topped m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erokee 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ders, calle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hief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governed each vill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village was part of a large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feder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nfederation was a group of connected vill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nfederation could have as many as 100 vill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r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the most talked about issues in the confederation was w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villages had high wooden fences made of logs to keep out enem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2T23:01:57Z</dcterms:created>
  <dc:creator>Mardena Collins</dc:creator>
  <dc:description/>
  <dc:language>en-US</dc:language>
  <cp:lastModifiedBy>Legion</cp:lastModifiedBy>
  <dcterms:modified xsi:type="dcterms:W3CDTF">2017-07-05T13:02:32Z</dcterms:modified>
  <cp:revision>12</cp:revision>
  <dc:subject/>
  <dc:title>The Cherokees</dc:title>
</cp:coreProperties>
</file>