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4F4F-AA5A-4C80-B808-2E3EFC18E02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10 :  Making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passing along metal wires is a flow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cell/battery, electricity comes from a chemical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need replaced as the chem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being used up in the reaction to supply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cells/batteries are rechargeable, 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ad cells (nickel-cadmium cells)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ad-acid battery used in cars/vans/b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10 :  Making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passing along metal wires is a flow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ell/battery, electricity comes from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need replaced as the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eing used up in the reaction to supply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ells/batteries are rechargeable, 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d cells (nickel-cadmium cells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-acid battery used in cars/vans/b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ution was blue due to the copper(II)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copper ions are being changed to copper atoms, the blue colour fad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per ions have been displaced from the solution as copper ato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splacement reaction will occur when a metal is placed in a solution of metal ions, if the metal is higher in the electrochemical series than the metal 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was blue due to the copper(II)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copper ions are being changed to copper atoms, the blue colour fa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per ions have been displaced from the solution as copper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placement reaction will occur when a metal is placed in a solution of metal ions, if the metal is higher in the electrochemical series than the metal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-electron equations can be used to show the reaction (use page 7 of data bookle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given to Cu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 ions gain electrons to form Cu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-electron equations can be used to show the reaction (use page 7 of data bookle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given to Cu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ions gain electrons to form Cu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on-electron equations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-electron equations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produced by connecting two different metals in solutions of their metal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he lower me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flow in the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metal high in the electrochemical se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produced by connecting two different metals in solutions of their metal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ower me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low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metal high in the electrochemical se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the “ion bridge” (“salt bridge”) is to 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ion bridge/salt brid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 flow through solution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vement of ions through the ion bridge completes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e “ion bridge” (“salt bridge”) is to complete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e ion bridge/salt bri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s flow through solution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ement of ions through the ion bridge completes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compared to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e of transpor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are highly portable / mains electricity is no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fety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/battery voltages/currents are safer than those of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s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are much more expens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finite resourc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cells/batteries uses up more finite resources than producing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compared to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e of transpor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are highly portable / mains electricity is no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/battery voltages/currents are safer than those of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are much more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finite resour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ells/batteries uses up more finite resources than producing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of metals with dilute acids can establish the position of hydrogen in an electrochemical series, e.g. Magnesium and hydrochloric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given to H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ons gain electrons to form H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above hydrogen in the electrochemical series react with dilute acids to produce hydrogen gas. Metals below hydrogen do not react with dilute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of metals with dilute acids can establish the position of hydrogen in an electrochemical series, e.g. Magnesium and hydrochlor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given to H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ions gain electrons to form H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bove hydrogen in the electrochemical series react with dilute acids to produce hydrogen gas. Metals below hydrogen do not react with dilute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on-electron equations (page 7 in data booklet)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-electron equations (page 7 in data booklet)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          R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is los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duction is 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ELECTRO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is a loss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is a gain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          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lo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duction is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ELECTR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a loss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s a gain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redox  reaction, reduction and oxidation go on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l element reacting to form a compound is an example of oxid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ound reacting to form a metal element is an example of re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redox  reaction, reduction and oxidation go on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al element reacting to form a compound is an example of oxi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reacting to form a metal element is an example of re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 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inc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r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ap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onium chlor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monium chloride in the cell is an example of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the electrolyte is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ly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inc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r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raphi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monium chloride in the cell is an example o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e electrolyte i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ly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 in complex ion-electron equations (page 7 in data booklet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as written in data bookl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42-(aq) + 2H+(aq) + 2e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-&gt;    SO32-(aq) +  H2O(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hows reduction (electrons on the reactant side of the arrow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ing this ion-electron equation g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32-(aq) +  H2O(l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O42-(aq) + 2H+(aq) + 2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hows oxidation (electrons on the product side of the arr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 in complex ion-electron equations (page 7 in data booklet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s written in data bookl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42-(aq) + 2H+(aq) + 2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-&gt;    SO32-(aq) +  H2O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reduction (electrons on the reactant side of the arrow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ing this ion-electron equation 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32-(aq) +  H2O(l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--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42-(aq) + 2H+(aq) + 2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hows oxidation (electrons on the product side of the arrow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produced by connecting different metals together (with an electrolyte) to form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airs of metals connected in a cell give different voltages. This enables us to construct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chemical series (see data booklet - page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produced by connecting different metals together (with an electrolyte) to form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pairs of metals connected in a cell give different voltages. This enables us to construct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chemical series (see data booklet - pag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 is higher in the electrochemical series than cop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 gives electrons to the copper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per ions gaining these electrons form copper atoms (brown soli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esium atoms lose electrons to form colourless ions which dissolve in the solu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higher in the electrochemical series than cop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gives electrons to the copper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per ions gaining these electrons form copper atoms (brown soli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nesium atoms lose electrons to form colourless ions which dissolve in the solu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C16-DAF1-4E74-9C60-8C33BA2C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2EF-C89A-4F09-B589-1C036A80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6246-5644-45B0-BDA2-D057E2F5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492-82F0-43B6-BE17-D100772F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30E7-CA3F-4732-B72A-B603C9E9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338-95C3-4E69-A4B9-B9A40D6B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CB1-582C-4C9D-B973-A85F5622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0D39-AC3B-484D-AD3F-E7344EB0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B5D-4976-4CC6-A3C6-6CF2560B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3A86-E319-4163-BC86-135419B2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9BF8-D690-48CD-A083-7B401A90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C0B0-9F11-48DD-A145-CE62F3DD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F648-429D-4099-939B-0EB1726017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d181e"/>
                </a:solidFill>
                <a:latin typeface="Times New Roman"/>
              </a:rPr>
              <a:t>Topic 10 :  Making Electri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04920" y="1219320"/>
            <a:ext cx="18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electrons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6280" y="762120"/>
            <a:ext cx="85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Electricity passing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along metal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wires is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flow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04920" y="1828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In a cell/battery, electricity comes from a </a:t>
            </a:r>
            <a:r>
              <a:rPr b="1" lang="en-GB" sz="3200" spc="-1" strike="noStrike">
                <a:solidFill>
                  <a:srgbClr val="ff5050"/>
                </a:solidFill>
                <a:latin typeface="Times New Roman"/>
              </a:rPr>
              <a:t>chemica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836640" y="2819520"/>
            <a:ext cx="29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chem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5027040" y="2819520"/>
            <a:ext cx="31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electrical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4038480" y="3200400"/>
            <a:ext cx="762120" cy="0"/>
          </a:xfrm>
          <a:prstGeom prst="line">
            <a:avLst/>
          </a:prstGeom>
          <a:ln w="38160">
            <a:solidFill>
              <a:srgbClr val="1822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99160" y="3505320"/>
            <a:ext cx="80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Cells/batteries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need replaced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as the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304920" y="39625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are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being used up in the reaction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to supply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297360" y="5029200"/>
            <a:ext cx="74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Some cells/batterie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rechargeable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00960" y="548640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nicad cells (nickel-cadmium cells)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298080" y="5943600"/>
            <a:ext cx="800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the lead-acid battery used in cars/vans/b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solution was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blu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due to 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(II)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s 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re being changed to </a:t>
            </a:r>
            <a:r>
              <a:rPr b="1" lang="en-GB" sz="2800" spc="-1" strike="noStrike">
                <a:solidFill>
                  <a:srgbClr val="ff7518"/>
                </a:solidFill>
                <a:latin typeface="Times New Roman"/>
              </a:rPr>
              <a:t>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, the blue colour fa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have been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displaced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from the solution as </a:t>
            </a:r>
            <a:r>
              <a:rPr b="1" lang="en-GB" sz="2800" spc="-1" strike="noStrike">
                <a:solidFill>
                  <a:srgbClr val="ff7518"/>
                </a:solidFill>
                <a:latin typeface="Times New Roman"/>
              </a:rPr>
              <a:t>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displacement reactio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ill occur when a metal is placed in a solution of metal ions,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if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he metal is higher in the electrochemical series than the metal 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on-electron equations can be used to show the reaction (use page 7 of data bookle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553440" y="205740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1296360" y="2819520"/>
            <a:ext cx="6255360" cy="581400"/>
            <a:chOff x="1296360" y="2819520"/>
            <a:chExt cx="6255360" cy="581400"/>
          </a:xfrm>
        </p:grpSpPr>
        <p:sp>
          <p:nvSpPr>
            <p:cNvPr id="152" name="Line 3"/>
            <p:cNvSpPr/>
            <p:nvPr/>
          </p:nvSpPr>
          <p:spPr>
            <a:xfrm>
              <a:off x="5181480" y="31240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6"/>
            <p:cNvSpPr/>
            <p:nvPr/>
          </p:nvSpPr>
          <p:spPr>
            <a:xfrm>
              <a:off x="1296360" y="281952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9"/>
          <p:cNvGrpSpPr/>
          <p:nvPr/>
        </p:nvGrpSpPr>
        <p:grpSpPr>
          <a:xfrm>
            <a:off x="1373040" y="4724280"/>
            <a:ext cx="6186960" cy="581400"/>
            <a:chOff x="1373040" y="4724280"/>
            <a:chExt cx="6186960" cy="581400"/>
          </a:xfrm>
        </p:grpSpPr>
        <p:sp>
          <p:nvSpPr>
            <p:cNvPr id="155" name="Line 4"/>
            <p:cNvSpPr/>
            <p:nvPr/>
          </p:nvSpPr>
          <p:spPr>
            <a:xfrm>
              <a:off x="5181480" y="5028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1373040" y="4724280"/>
              <a:ext cx="61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0"/>
          <p:cNvSpPr/>
          <p:nvPr/>
        </p:nvSpPr>
        <p:spPr>
          <a:xfrm>
            <a:off x="6629760" y="5334120"/>
            <a:ext cx="134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H="1">
            <a:off x="2666880" y="251460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066680" y="1905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52280" y="3581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ns given to Cu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2666880" y="563868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1676520" y="3352680"/>
            <a:ext cx="0" cy="152424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1295280" y="5715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 ions gain electrons to form Cu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ion-electron equations can be re-written to show each step in the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17"/>
          <p:cNvGrpSpPr/>
          <p:nvPr/>
        </p:nvGrpSpPr>
        <p:grpSpPr>
          <a:xfrm>
            <a:off x="1372680" y="1905120"/>
            <a:ext cx="6052680" cy="581400"/>
            <a:chOff x="1372680" y="1905120"/>
            <a:chExt cx="6052680" cy="581400"/>
          </a:xfrm>
        </p:grpSpPr>
        <p:sp>
          <p:nvSpPr>
            <p:cNvPr id="166" name="Line 5"/>
            <p:cNvSpPr/>
            <p:nvPr/>
          </p:nvSpPr>
          <p:spPr>
            <a:xfrm>
              <a:off x="2590920" y="2209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6"/>
            <p:cNvSpPr/>
            <p:nvPr/>
          </p:nvSpPr>
          <p:spPr>
            <a:xfrm>
              <a:off x="1372680" y="1905120"/>
              <a:ext cx="60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7"/>
          <p:cNvGrpSpPr/>
          <p:nvPr/>
        </p:nvGrpSpPr>
        <p:grpSpPr>
          <a:xfrm>
            <a:off x="1373040" y="3124080"/>
            <a:ext cx="6186960" cy="581400"/>
            <a:chOff x="1373040" y="3124080"/>
            <a:chExt cx="6186960" cy="581400"/>
          </a:xfrm>
        </p:grpSpPr>
        <p:sp>
          <p:nvSpPr>
            <p:cNvPr id="169" name="Line 8"/>
            <p:cNvSpPr/>
            <p:nvPr/>
          </p:nvSpPr>
          <p:spPr>
            <a:xfrm>
              <a:off x="5181480" y="34286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9"/>
            <p:cNvSpPr/>
            <p:nvPr/>
          </p:nvSpPr>
          <p:spPr>
            <a:xfrm>
              <a:off x="1373040" y="3124080"/>
              <a:ext cx="61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8"/>
          <p:cNvGrpSpPr/>
          <p:nvPr/>
        </p:nvGrpSpPr>
        <p:grpSpPr>
          <a:xfrm>
            <a:off x="1404360" y="1916280"/>
            <a:ext cx="6255360" cy="581400"/>
            <a:chOff x="1404360" y="1916280"/>
            <a:chExt cx="6255360" cy="581400"/>
          </a:xfrm>
        </p:grpSpPr>
        <p:sp>
          <p:nvSpPr>
            <p:cNvPr id="172" name="Line 19"/>
            <p:cNvSpPr/>
            <p:nvPr/>
          </p:nvSpPr>
          <p:spPr>
            <a:xfrm>
              <a:off x="5289480" y="2220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0"/>
            <p:cNvSpPr/>
            <p:nvPr/>
          </p:nvSpPr>
          <p:spPr>
            <a:xfrm>
              <a:off x="1404360" y="191628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ctricity can be produced by connecting two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metals in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olutions of their metal 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38"/>
          <p:cNvGrpSpPr/>
          <p:nvPr/>
        </p:nvGrpSpPr>
        <p:grpSpPr>
          <a:xfrm>
            <a:off x="990360" y="1066680"/>
            <a:ext cx="6858360" cy="3581640"/>
            <a:chOff x="990360" y="1066680"/>
            <a:chExt cx="6858360" cy="3581640"/>
          </a:xfrm>
        </p:grpSpPr>
        <p:sp>
          <p:nvSpPr>
            <p:cNvPr id="176" name="Rectangle 15"/>
            <p:cNvSpPr/>
            <p:nvPr/>
          </p:nvSpPr>
          <p:spPr>
            <a:xfrm>
              <a:off x="990720" y="3505320"/>
              <a:ext cx="2819160" cy="1143000"/>
            </a:xfrm>
            <a:prstGeom prst="rect">
              <a:avLst/>
            </a:prstGeom>
            <a:solidFill>
              <a:srgbClr val="15f4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2362320" y="2286000"/>
              <a:ext cx="0" cy="1981080"/>
            </a:xfrm>
            <a:prstGeom prst="line">
              <a:avLst/>
            </a:prstGeom>
            <a:ln w="38088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18"/>
            <p:cNvSpPr/>
            <p:nvPr/>
          </p:nvSpPr>
          <p:spPr>
            <a:xfrm>
              <a:off x="3962520" y="1066680"/>
              <a:ext cx="914400" cy="91440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V="1">
              <a:off x="990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V="1">
              <a:off x="380988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4"/>
            <p:cNvSpPr/>
            <p:nvPr/>
          </p:nvSpPr>
          <p:spPr>
            <a:xfrm>
              <a:off x="5029200" y="3505320"/>
              <a:ext cx="281952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 flipV="1">
              <a:off x="502920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6"/>
            <p:cNvSpPr/>
            <p:nvPr/>
          </p:nvSpPr>
          <p:spPr>
            <a:xfrm flipV="1">
              <a:off x="7848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5029200" y="464832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7"/>
            <p:cNvSpPr/>
            <p:nvPr/>
          </p:nvSpPr>
          <p:spPr>
            <a:xfrm>
              <a:off x="6477120" y="2286000"/>
              <a:ext cx="0" cy="1981080"/>
            </a:xfrm>
            <a:prstGeom prst="line">
              <a:avLst/>
            </a:prstGeom>
            <a:ln w="38088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28"/>
            <p:cNvSpPr/>
            <p:nvPr/>
          </p:nvSpPr>
          <p:spPr>
            <a:xfrm>
              <a:off x="2362320" y="1523880"/>
              <a:ext cx="1600200" cy="762120"/>
            </a:xfrm>
            <a:custGeom>
              <a:avLst/>
              <a:gdLst/>
              <a:ahLst/>
              <a:rect l="l" t="t" r="r" b="b"/>
              <a:pathLst>
                <a:path w="1008" h="480">
                  <a:moveTo>
                    <a:pt x="0" y="480"/>
                  </a:moveTo>
                  <a:cubicBezTo>
                    <a:pt x="4" y="432"/>
                    <a:pt x="8" y="384"/>
                    <a:pt x="48" y="336"/>
                  </a:cubicBezTo>
                  <a:cubicBezTo>
                    <a:pt x="88" y="288"/>
                    <a:pt x="176" y="232"/>
                    <a:pt x="240" y="192"/>
                  </a:cubicBezTo>
                  <a:cubicBezTo>
                    <a:pt x="304" y="152"/>
                    <a:pt x="360" y="120"/>
                    <a:pt x="432" y="96"/>
                  </a:cubicBezTo>
                  <a:cubicBezTo>
                    <a:pt x="504" y="72"/>
                    <a:pt x="576" y="64"/>
                    <a:pt x="672" y="48"/>
                  </a:cubicBezTo>
                  <a:cubicBezTo>
                    <a:pt x="768" y="32"/>
                    <a:pt x="952" y="8"/>
                    <a:pt x="10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29"/>
            <p:cNvSpPr/>
            <p:nvPr/>
          </p:nvSpPr>
          <p:spPr>
            <a:xfrm>
              <a:off x="4876920" y="1447920"/>
              <a:ext cx="1600200" cy="83808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1008" y="528"/>
                  </a:moveTo>
                  <a:cubicBezTo>
                    <a:pt x="1000" y="476"/>
                    <a:pt x="992" y="424"/>
                    <a:pt x="960" y="384"/>
                  </a:cubicBezTo>
                  <a:cubicBezTo>
                    <a:pt x="928" y="344"/>
                    <a:pt x="880" y="320"/>
                    <a:pt x="816" y="288"/>
                  </a:cubicBezTo>
                  <a:cubicBezTo>
                    <a:pt x="752" y="256"/>
                    <a:pt x="656" y="224"/>
                    <a:pt x="576" y="192"/>
                  </a:cubicBezTo>
                  <a:cubicBezTo>
                    <a:pt x="496" y="160"/>
                    <a:pt x="432" y="128"/>
                    <a:pt x="336" y="96"/>
                  </a:cubicBezTo>
                  <a:cubicBezTo>
                    <a:pt x="240" y="64"/>
                    <a:pt x="120" y="3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37"/>
            <p:cNvGrpSpPr/>
            <p:nvPr/>
          </p:nvGrpSpPr>
          <p:grpSpPr>
            <a:xfrm>
              <a:off x="3352680" y="2514240"/>
              <a:ext cx="2057400" cy="1904760"/>
              <a:chOff x="3352680" y="2514240"/>
              <a:chExt cx="2057400" cy="1904760"/>
            </a:xfrm>
          </p:grpSpPr>
          <p:sp>
            <p:nvSpPr>
              <p:cNvPr id="190" name="Line 31"/>
              <p:cNvSpPr/>
              <p:nvPr/>
            </p:nvSpPr>
            <p:spPr>
              <a:xfrm flipV="1">
                <a:off x="33526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32"/>
              <p:cNvSpPr/>
              <p:nvPr/>
            </p:nvSpPr>
            <p:spPr>
              <a:xfrm flipV="1">
                <a:off x="54100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33"/>
              <p:cNvSpPr/>
              <p:nvPr/>
            </p:nvSpPr>
            <p:spPr>
              <a:xfrm flipV="1">
                <a:off x="525780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34"/>
              <p:cNvSpPr/>
              <p:nvPr/>
            </p:nvSpPr>
            <p:spPr>
              <a:xfrm flipV="1">
                <a:off x="350532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5"/>
              <p:cNvSpPr/>
              <p:nvPr/>
            </p:nvSpPr>
            <p:spPr>
              <a:xfrm>
                <a:off x="3352680" y="25146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36"/>
              <p:cNvSpPr/>
              <p:nvPr/>
            </p:nvSpPr>
            <p:spPr>
              <a:xfrm>
                <a:off x="3505320" y="26668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44"/>
          <p:cNvGrpSpPr/>
          <p:nvPr/>
        </p:nvGrpSpPr>
        <p:grpSpPr>
          <a:xfrm>
            <a:off x="533520" y="1752480"/>
            <a:ext cx="1600200" cy="914400"/>
            <a:chOff x="533520" y="1752480"/>
            <a:chExt cx="1600200" cy="914400"/>
          </a:xfrm>
        </p:grpSpPr>
        <p:sp>
          <p:nvSpPr>
            <p:cNvPr id="197" name="Rectangle 39"/>
            <p:cNvSpPr/>
            <p:nvPr/>
          </p:nvSpPr>
          <p:spPr>
            <a:xfrm>
              <a:off x="533520" y="175248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>
              <a:off x="1371600" y="213372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46"/>
          <p:cNvGrpSpPr/>
          <p:nvPr/>
        </p:nvGrpSpPr>
        <p:grpSpPr>
          <a:xfrm>
            <a:off x="6629400" y="1828800"/>
            <a:ext cx="1523880" cy="914400"/>
            <a:chOff x="6629400" y="1828800"/>
            <a:chExt cx="1523880" cy="914400"/>
          </a:xfrm>
        </p:grpSpPr>
        <p:sp>
          <p:nvSpPr>
            <p:cNvPr id="200" name="Rectangle 41"/>
            <p:cNvSpPr/>
            <p:nvPr/>
          </p:nvSpPr>
          <p:spPr>
            <a:xfrm>
              <a:off x="7238880" y="182880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45"/>
            <p:cNvSpPr/>
            <p:nvPr/>
          </p:nvSpPr>
          <p:spPr>
            <a:xfrm flipH="1">
              <a:off x="6629400" y="22096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48"/>
          <p:cNvGrpSpPr/>
          <p:nvPr/>
        </p:nvGrpSpPr>
        <p:grpSpPr>
          <a:xfrm>
            <a:off x="685800" y="4495320"/>
            <a:ext cx="3581280" cy="610200"/>
            <a:chOff x="685800" y="4495320"/>
            <a:chExt cx="3581280" cy="610200"/>
          </a:xfrm>
        </p:grpSpPr>
        <p:sp>
          <p:nvSpPr>
            <p:cNvPr id="203" name="Rectangle 40"/>
            <p:cNvSpPr/>
            <p:nvPr/>
          </p:nvSpPr>
          <p:spPr>
            <a:xfrm>
              <a:off x="685800" y="4648320"/>
              <a:ext cx="358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 sulphat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47"/>
            <p:cNvSpPr/>
            <p:nvPr/>
          </p:nvSpPr>
          <p:spPr>
            <a:xfrm flipV="1">
              <a:off x="1828800" y="44953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50"/>
          <p:cNvGrpSpPr/>
          <p:nvPr/>
        </p:nvGrpSpPr>
        <p:grpSpPr>
          <a:xfrm>
            <a:off x="5029200" y="4495320"/>
            <a:ext cx="3124080" cy="610200"/>
            <a:chOff x="5029200" y="4495320"/>
            <a:chExt cx="3124080" cy="610200"/>
          </a:xfrm>
        </p:grpSpPr>
        <p:sp>
          <p:nvSpPr>
            <p:cNvPr id="206" name="Rectangle 42"/>
            <p:cNvSpPr/>
            <p:nvPr/>
          </p:nvSpPr>
          <p:spPr>
            <a:xfrm>
              <a:off x="5029200" y="464832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 chlorid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49"/>
            <p:cNvSpPr/>
            <p:nvPr/>
          </p:nvSpPr>
          <p:spPr>
            <a:xfrm flipV="1">
              <a:off x="6095880" y="449532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51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to the lower 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2"/>
          <p:cNvSpPr/>
          <p:nvPr/>
        </p:nvSpPr>
        <p:spPr>
          <a:xfrm>
            <a:off x="0" y="50292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low in th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3"/>
          <p:cNvSpPr/>
          <p:nvPr/>
        </p:nvSpPr>
        <p:spPr>
          <a:xfrm>
            <a:off x="0" y="56386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he metal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high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n the electrochemical se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2895480" y="205740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Ion bridge/sal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63"/>
          <p:cNvGrpSpPr/>
          <p:nvPr/>
        </p:nvGrpSpPr>
        <p:grpSpPr>
          <a:xfrm>
            <a:off x="2742840" y="1219320"/>
            <a:ext cx="609480" cy="533160"/>
            <a:chOff x="2742840" y="1219320"/>
            <a:chExt cx="609480" cy="533160"/>
          </a:xfrm>
        </p:grpSpPr>
        <p:sp>
          <p:nvSpPr>
            <p:cNvPr id="213" name="Line 58"/>
            <p:cNvSpPr/>
            <p:nvPr/>
          </p:nvSpPr>
          <p:spPr>
            <a:xfrm flipH="1">
              <a:off x="2742840" y="152388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2819520" y="12193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64"/>
          <p:cNvGrpSpPr/>
          <p:nvPr/>
        </p:nvGrpSpPr>
        <p:grpSpPr>
          <a:xfrm>
            <a:off x="5562360" y="1371600"/>
            <a:ext cx="762120" cy="456840"/>
            <a:chOff x="5562360" y="1371600"/>
            <a:chExt cx="762120" cy="456840"/>
          </a:xfrm>
        </p:grpSpPr>
        <p:sp>
          <p:nvSpPr>
            <p:cNvPr id="216" name="Line 57"/>
            <p:cNvSpPr/>
            <p:nvPr/>
          </p:nvSpPr>
          <p:spPr>
            <a:xfrm flipH="1" flipV="1">
              <a:off x="5562360" y="159984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62"/>
            <p:cNvSpPr/>
            <p:nvPr/>
          </p:nvSpPr>
          <p:spPr>
            <a:xfrm>
              <a:off x="5867280" y="1371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purpose of the “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ion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” (“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alt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”) is to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lete the circui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990360" y="1066680"/>
            <a:ext cx="6858360" cy="3581640"/>
            <a:chOff x="990360" y="1066680"/>
            <a:chExt cx="6858360" cy="3581640"/>
          </a:xfrm>
        </p:grpSpPr>
        <p:sp>
          <p:nvSpPr>
            <p:cNvPr id="220" name="Rectangle 4"/>
            <p:cNvSpPr/>
            <p:nvPr/>
          </p:nvSpPr>
          <p:spPr>
            <a:xfrm>
              <a:off x="990720" y="3505320"/>
              <a:ext cx="2819160" cy="1143000"/>
            </a:xfrm>
            <a:prstGeom prst="rect">
              <a:avLst/>
            </a:prstGeom>
            <a:solidFill>
              <a:srgbClr val="15f4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5"/>
            <p:cNvSpPr/>
            <p:nvPr/>
          </p:nvSpPr>
          <p:spPr>
            <a:xfrm>
              <a:off x="2362320" y="2286000"/>
              <a:ext cx="0" cy="1981080"/>
            </a:xfrm>
            <a:prstGeom prst="line">
              <a:avLst/>
            </a:prstGeom>
            <a:ln w="38088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3962520" y="1066680"/>
              <a:ext cx="914400" cy="91440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 flipV="1">
              <a:off x="990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8"/>
            <p:cNvSpPr/>
            <p:nvPr/>
          </p:nvSpPr>
          <p:spPr>
            <a:xfrm flipV="1">
              <a:off x="380988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0"/>
            <p:cNvSpPr/>
            <p:nvPr/>
          </p:nvSpPr>
          <p:spPr>
            <a:xfrm>
              <a:off x="5029200" y="3505320"/>
              <a:ext cx="281952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 flipV="1">
              <a:off x="502920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2"/>
            <p:cNvSpPr/>
            <p:nvPr/>
          </p:nvSpPr>
          <p:spPr>
            <a:xfrm flipV="1">
              <a:off x="7848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 flipH="1">
              <a:off x="5029200" y="464832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6477120" y="2286000"/>
              <a:ext cx="0" cy="1981080"/>
            </a:xfrm>
            <a:prstGeom prst="line">
              <a:avLst/>
            </a:prstGeom>
            <a:ln w="38088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2362320" y="1523880"/>
              <a:ext cx="1600200" cy="762120"/>
            </a:xfrm>
            <a:custGeom>
              <a:avLst/>
              <a:gdLst/>
              <a:ahLst/>
              <a:rect l="l" t="t" r="r" b="b"/>
              <a:pathLst>
                <a:path w="1008" h="480">
                  <a:moveTo>
                    <a:pt x="0" y="480"/>
                  </a:moveTo>
                  <a:cubicBezTo>
                    <a:pt x="4" y="432"/>
                    <a:pt x="8" y="384"/>
                    <a:pt x="48" y="336"/>
                  </a:cubicBezTo>
                  <a:cubicBezTo>
                    <a:pt x="88" y="288"/>
                    <a:pt x="176" y="232"/>
                    <a:pt x="240" y="192"/>
                  </a:cubicBezTo>
                  <a:cubicBezTo>
                    <a:pt x="304" y="152"/>
                    <a:pt x="360" y="120"/>
                    <a:pt x="432" y="96"/>
                  </a:cubicBezTo>
                  <a:cubicBezTo>
                    <a:pt x="504" y="72"/>
                    <a:pt x="576" y="64"/>
                    <a:pt x="672" y="48"/>
                  </a:cubicBezTo>
                  <a:cubicBezTo>
                    <a:pt x="768" y="32"/>
                    <a:pt x="952" y="8"/>
                    <a:pt x="10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4876920" y="1447920"/>
              <a:ext cx="1600200" cy="83808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1008" y="528"/>
                  </a:moveTo>
                  <a:cubicBezTo>
                    <a:pt x="1000" y="476"/>
                    <a:pt x="992" y="424"/>
                    <a:pt x="960" y="384"/>
                  </a:cubicBezTo>
                  <a:cubicBezTo>
                    <a:pt x="928" y="344"/>
                    <a:pt x="880" y="320"/>
                    <a:pt x="816" y="288"/>
                  </a:cubicBezTo>
                  <a:cubicBezTo>
                    <a:pt x="752" y="256"/>
                    <a:pt x="656" y="224"/>
                    <a:pt x="576" y="192"/>
                  </a:cubicBezTo>
                  <a:cubicBezTo>
                    <a:pt x="496" y="160"/>
                    <a:pt x="432" y="128"/>
                    <a:pt x="336" y="96"/>
                  </a:cubicBezTo>
                  <a:cubicBezTo>
                    <a:pt x="240" y="64"/>
                    <a:pt x="120" y="3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17"/>
            <p:cNvGrpSpPr/>
            <p:nvPr/>
          </p:nvGrpSpPr>
          <p:grpSpPr>
            <a:xfrm>
              <a:off x="3352680" y="2514240"/>
              <a:ext cx="2057400" cy="1904760"/>
              <a:chOff x="3352680" y="2514240"/>
              <a:chExt cx="2057400" cy="1904760"/>
            </a:xfrm>
          </p:grpSpPr>
          <p:sp>
            <p:nvSpPr>
              <p:cNvPr id="234" name="Line 18"/>
              <p:cNvSpPr/>
              <p:nvPr/>
            </p:nvSpPr>
            <p:spPr>
              <a:xfrm flipV="1">
                <a:off x="33526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19"/>
              <p:cNvSpPr/>
              <p:nvPr/>
            </p:nvSpPr>
            <p:spPr>
              <a:xfrm flipV="1">
                <a:off x="54100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20"/>
              <p:cNvSpPr/>
              <p:nvPr/>
            </p:nvSpPr>
            <p:spPr>
              <a:xfrm flipV="1">
                <a:off x="525780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21"/>
              <p:cNvSpPr/>
              <p:nvPr/>
            </p:nvSpPr>
            <p:spPr>
              <a:xfrm flipV="1">
                <a:off x="350532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3352680" y="25146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>
                <a:off x="3505320" y="26668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24"/>
          <p:cNvGrpSpPr/>
          <p:nvPr/>
        </p:nvGrpSpPr>
        <p:grpSpPr>
          <a:xfrm>
            <a:off x="533520" y="1752480"/>
            <a:ext cx="1600200" cy="914400"/>
            <a:chOff x="533520" y="1752480"/>
            <a:chExt cx="1600200" cy="914400"/>
          </a:xfrm>
        </p:grpSpPr>
        <p:sp>
          <p:nvSpPr>
            <p:cNvPr id="241" name="Rectangle 25"/>
            <p:cNvSpPr/>
            <p:nvPr/>
          </p:nvSpPr>
          <p:spPr>
            <a:xfrm>
              <a:off x="533520" y="175248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26"/>
            <p:cNvSpPr/>
            <p:nvPr/>
          </p:nvSpPr>
          <p:spPr>
            <a:xfrm>
              <a:off x="1371600" y="213372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27"/>
          <p:cNvGrpSpPr/>
          <p:nvPr/>
        </p:nvGrpSpPr>
        <p:grpSpPr>
          <a:xfrm>
            <a:off x="6629400" y="1828800"/>
            <a:ext cx="1523880" cy="914400"/>
            <a:chOff x="6629400" y="1828800"/>
            <a:chExt cx="1523880" cy="914400"/>
          </a:xfrm>
        </p:grpSpPr>
        <p:sp>
          <p:nvSpPr>
            <p:cNvPr id="244" name="Rectangle 28"/>
            <p:cNvSpPr/>
            <p:nvPr/>
          </p:nvSpPr>
          <p:spPr>
            <a:xfrm>
              <a:off x="7238880" y="182880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29"/>
            <p:cNvSpPr/>
            <p:nvPr/>
          </p:nvSpPr>
          <p:spPr>
            <a:xfrm flipH="1">
              <a:off x="6629400" y="22096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30"/>
          <p:cNvGrpSpPr/>
          <p:nvPr/>
        </p:nvGrpSpPr>
        <p:grpSpPr>
          <a:xfrm>
            <a:off x="685800" y="4495320"/>
            <a:ext cx="3581280" cy="610200"/>
            <a:chOff x="685800" y="4495320"/>
            <a:chExt cx="3581280" cy="610200"/>
          </a:xfrm>
        </p:grpSpPr>
        <p:sp>
          <p:nvSpPr>
            <p:cNvPr id="247" name="Rectangle 31"/>
            <p:cNvSpPr/>
            <p:nvPr/>
          </p:nvSpPr>
          <p:spPr>
            <a:xfrm>
              <a:off x="685800" y="4648320"/>
              <a:ext cx="358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 sulphat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2"/>
            <p:cNvSpPr/>
            <p:nvPr/>
          </p:nvSpPr>
          <p:spPr>
            <a:xfrm flipV="1">
              <a:off x="1828800" y="44953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33"/>
          <p:cNvGrpSpPr/>
          <p:nvPr/>
        </p:nvGrpSpPr>
        <p:grpSpPr>
          <a:xfrm>
            <a:off x="5029200" y="4495320"/>
            <a:ext cx="3124080" cy="610200"/>
            <a:chOff x="5029200" y="4495320"/>
            <a:chExt cx="3124080" cy="610200"/>
          </a:xfrm>
        </p:grpSpPr>
        <p:sp>
          <p:nvSpPr>
            <p:cNvPr id="250" name="Rectangle 34"/>
            <p:cNvSpPr/>
            <p:nvPr/>
          </p:nvSpPr>
          <p:spPr>
            <a:xfrm>
              <a:off x="5029200" y="464832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 chlorid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35"/>
            <p:cNvSpPr/>
            <p:nvPr/>
          </p:nvSpPr>
          <p:spPr>
            <a:xfrm flipV="1">
              <a:off x="6095880" y="449532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Rectangle 36"/>
          <p:cNvSpPr/>
          <p:nvPr/>
        </p:nvSpPr>
        <p:spPr>
          <a:xfrm>
            <a:off x="0" y="5410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through the ion bridge/salt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8"/>
          <p:cNvSpPr/>
          <p:nvPr/>
        </p:nvSpPr>
        <p:spPr>
          <a:xfrm>
            <a:off x="0" y="4952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I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low through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oluti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9"/>
          <p:cNvSpPr/>
          <p:nvPr/>
        </p:nvSpPr>
        <p:spPr>
          <a:xfrm>
            <a:off x="2895480" y="205740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Ion bridge/sal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40"/>
          <p:cNvGrpSpPr/>
          <p:nvPr/>
        </p:nvGrpSpPr>
        <p:grpSpPr>
          <a:xfrm>
            <a:off x="2742840" y="1219320"/>
            <a:ext cx="609480" cy="533160"/>
            <a:chOff x="2742840" y="1219320"/>
            <a:chExt cx="609480" cy="533160"/>
          </a:xfrm>
        </p:grpSpPr>
        <p:sp>
          <p:nvSpPr>
            <p:cNvPr id="256" name="Line 41"/>
            <p:cNvSpPr/>
            <p:nvPr/>
          </p:nvSpPr>
          <p:spPr>
            <a:xfrm flipH="1">
              <a:off x="2742840" y="152388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42"/>
            <p:cNvSpPr/>
            <p:nvPr/>
          </p:nvSpPr>
          <p:spPr>
            <a:xfrm>
              <a:off x="2819520" y="12193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43"/>
          <p:cNvGrpSpPr/>
          <p:nvPr/>
        </p:nvGrpSpPr>
        <p:grpSpPr>
          <a:xfrm>
            <a:off x="5562360" y="1371600"/>
            <a:ext cx="762120" cy="456840"/>
            <a:chOff x="5562360" y="1371600"/>
            <a:chExt cx="762120" cy="456840"/>
          </a:xfrm>
        </p:grpSpPr>
        <p:sp>
          <p:nvSpPr>
            <p:cNvPr id="259" name="Line 44"/>
            <p:cNvSpPr/>
            <p:nvPr/>
          </p:nvSpPr>
          <p:spPr>
            <a:xfrm flipH="1" flipV="1">
              <a:off x="5562360" y="159984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45"/>
            <p:cNvSpPr/>
            <p:nvPr/>
          </p:nvSpPr>
          <p:spPr>
            <a:xfrm>
              <a:off x="5867280" y="1371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Rectangle 46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The movement of ions through the ion bridge completes the circu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8701b"/>
                </a:solidFill>
                <a:latin typeface="Times New Roman"/>
              </a:rPr>
              <a:t>Cells/batteries compared to mains electri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Ease of transpor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s/batterie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highly portabl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/ mains electricity is no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Safet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/battery voltages/current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afe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han those of mains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Cost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s/batteries are much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ore expensi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Uses of finite resourc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king cells/batteries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uses up mor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inite resources than producing mains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actions of </a:t>
            </a:r>
            <a:r>
              <a:rPr b="1" lang="en-GB" sz="2800" spc="-1" strike="noStrike">
                <a:solidFill>
                  <a:srgbClr val="6c18b0"/>
                </a:solidFill>
                <a:latin typeface="Times New Roman"/>
              </a:rPr>
              <a:t>metal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ith dilute </a:t>
            </a:r>
            <a:r>
              <a:rPr b="1" lang="en-GB" sz="2800" spc="-1" strike="noStrike">
                <a:solidFill>
                  <a:srgbClr val="ed181e"/>
                </a:solidFill>
                <a:latin typeface="Times New Roman"/>
              </a:rPr>
              <a:t>acid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can establish the position of hydrogen in an electrochemical series, e.g. Magnesium and hydrochloric ac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6553440" y="152388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1296360" y="2286000"/>
            <a:ext cx="6255360" cy="581400"/>
            <a:chOff x="1296360" y="2286000"/>
            <a:chExt cx="6255360" cy="581400"/>
          </a:xfrm>
        </p:grpSpPr>
        <p:sp>
          <p:nvSpPr>
            <p:cNvPr id="267" name="Line 5"/>
            <p:cNvSpPr/>
            <p:nvPr/>
          </p:nvSpPr>
          <p:spPr>
            <a:xfrm>
              <a:off x="5181480" y="259092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6"/>
            <p:cNvSpPr/>
            <p:nvPr/>
          </p:nvSpPr>
          <p:spPr>
            <a:xfrm>
              <a:off x="1296360" y="228600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7"/>
          <p:cNvGrpSpPr/>
          <p:nvPr/>
        </p:nvGrpSpPr>
        <p:grpSpPr>
          <a:xfrm>
            <a:off x="1380600" y="4191120"/>
            <a:ext cx="6101640" cy="648720"/>
            <a:chOff x="1380600" y="4191120"/>
            <a:chExt cx="6101640" cy="648720"/>
          </a:xfrm>
        </p:grpSpPr>
        <p:sp>
          <p:nvSpPr>
            <p:cNvPr id="270" name="Line 8"/>
            <p:cNvSpPr/>
            <p:nvPr/>
          </p:nvSpPr>
          <p:spPr>
            <a:xfrm>
              <a:off x="5181480" y="44956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9"/>
            <p:cNvSpPr/>
            <p:nvPr/>
          </p:nvSpPr>
          <p:spPr>
            <a:xfrm>
              <a:off x="1380600" y="4191120"/>
              <a:ext cx="610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Text Box 10"/>
          <p:cNvSpPr/>
          <p:nvPr/>
        </p:nvSpPr>
        <p:spPr>
          <a:xfrm>
            <a:off x="6629040" y="480060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1"/>
          <p:cNvSpPr/>
          <p:nvPr/>
        </p:nvSpPr>
        <p:spPr>
          <a:xfrm flipH="1">
            <a:off x="2666880" y="198108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1066680" y="1371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152280" y="30481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ns given to H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2666880" y="510552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5"/>
          <p:cNvSpPr/>
          <p:nvPr/>
        </p:nvSpPr>
        <p:spPr>
          <a:xfrm>
            <a:off x="1676520" y="2818800"/>
            <a:ext cx="0" cy="152388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1295280" y="5181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 ions gain electrons to form H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0" y="5715000"/>
            <a:ext cx="8915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tals </a:t>
            </a:r>
            <a:r>
              <a:rPr b="1" lang="en-GB" sz="2400" spc="-1" strike="noStrike">
                <a:solidFill>
                  <a:srgbClr val="6c18b0"/>
                </a:solidFill>
                <a:latin typeface="Times New Roman"/>
              </a:rPr>
              <a:t>abov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hydrogen in the electrochemical series </a:t>
            </a:r>
            <a:r>
              <a:rPr b="1" lang="en-GB" sz="2400" spc="-1" strike="noStrike">
                <a:solidFill>
                  <a:srgbClr val="6c18b0"/>
                </a:solidFill>
                <a:latin typeface="Times New Roman"/>
              </a:rPr>
              <a:t>react with dilute acid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o produce hydrogen gas. Metals </a:t>
            </a: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below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hydrogen </a:t>
            </a: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do not reac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with dilute ac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6c18b0"/>
                </a:solidFill>
                <a:latin typeface="Times New Roman"/>
              </a:rPr>
              <a:t>ion-electron equat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page 7 in data booklet) can be re-written to show each step in the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1372680" y="1905120"/>
            <a:ext cx="6052680" cy="581400"/>
            <a:chOff x="1372680" y="1905120"/>
            <a:chExt cx="6052680" cy="581400"/>
          </a:xfrm>
        </p:grpSpPr>
        <p:sp>
          <p:nvSpPr>
            <p:cNvPr id="282" name="Line 4"/>
            <p:cNvSpPr/>
            <p:nvPr/>
          </p:nvSpPr>
          <p:spPr>
            <a:xfrm>
              <a:off x="2590920" y="2209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5"/>
            <p:cNvSpPr/>
            <p:nvPr/>
          </p:nvSpPr>
          <p:spPr>
            <a:xfrm>
              <a:off x="1372680" y="1905120"/>
              <a:ext cx="60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6"/>
          <p:cNvGrpSpPr/>
          <p:nvPr/>
        </p:nvGrpSpPr>
        <p:grpSpPr>
          <a:xfrm>
            <a:off x="1380600" y="3124080"/>
            <a:ext cx="6101640" cy="648720"/>
            <a:chOff x="1380600" y="3124080"/>
            <a:chExt cx="6101640" cy="648720"/>
          </a:xfrm>
        </p:grpSpPr>
        <p:sp>
          <p:nvSpPr>
            <p:cNvPr id="285" name="Line 7"/>
            <p:cNvSpPr/>
            <p:nvPr/>
          </p:nvSpPr>
          <p:spPr>
            <a:xfrm>
              <a:off x="5181480" y="34286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>
              <a:off x="1380600" y="3124080"/>
              <a:ext cx="610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9"/>
          <p:cNvGrpSpPr/>
          <p:nvPr/>
        </p:nvGrpSpPr>
        <p:grpSpPr>
          <a:xfrm>
            <a:off x="1404360" y="1916280"/>
            <a:ext cx="6255360" cy="581400"/>
            <a:chOff x="1404360" y="1916280"/>
            <a:chExt cx="6255360" cy="581400"/>
          </a:xfrm>
        </p:grpSpPr>
        <p:sp>
          <p:nvSpPr>
            <p:cNvPr id="288" name="Line 10"/>
            <p:cNvSpPr/>
            <p:nvPr/>
          </p:nvSpPr>
          <p:spPr>
            <a:xfrm>
              <a:off x="5289480" y="2220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1"/>
            <p:cNvSpPr/>
            <p:nvPr/>
          </p:nvSpPr>
          <p:spPr>
            <a:xfrm>
              <a:off x="1404360" y="191628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los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4"/>
          <p:cNvSpPr/>
          <p:nvPr/>
        </p:nvSpPr>
        <p:spPr>
          <a:xfrm flipH="1">
            <a:off x="2133360" y="1219320"/>
            <a:ext cx="9903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"/>
          <p:cNvSpPr/>
          <p:nvPr/>
        </p:nvSpPr>
        <p:spPr>
          <a:xfrm flipH="1">
            <a:off x="3123720" y="1219320"/>
            <a:ext cx="3049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3657600" y="12193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5029200" y="1219320"/>
            <a:ext cx="1522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5334120" y="1219320"/>
            <a:ext cx="9903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5562720" y="1219320"/>
            <a:ext cx="14475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0" y="38862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loss 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by a reactant in any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0" y="5181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ain 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by a reactant in any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</a:t>
            </a:r>
            <a:r>
              <a:rPr b="1" lang="en-GB" sz="3200" spc="-1" strike="noStrike">
                <a:solidFill>
                  <a:srgbClr val="fa911a"/>
                </a:solidFill>
                <a:latin typeface="Times New Roman"/>
              </a:rPr>
              <a:t>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4"/>
          <p:cNvSpPr/>
          <p:nvPr/>
        </p:nvSpPr>
        <p:spPr>
          <a:xfrm flipH="1">
            <a:off x="2971440" y="2286000"/>
            <a:ext cx="11430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"/>
          <p:cNvSpPr/>
          <p:nvPr/>
        </p:nvSpPr>
        <p:spPr>
          <a:xfrm>
            <a:off x="4952880" y="2286000"/>
            <a:ext cx="14479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0" y="6858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ox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reaction, reduction and oxidation go on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togethe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lement reacting to form 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oun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n example of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oun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reacting to form 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lement is an example of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7624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d181e"/>
                </a:solidFill>
                <a:latin typeface="Times New Roman"/>
              </a:rPr>
              <a:t>Dry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09880" cy="2847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6171840" y="119556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metal 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990720" y="1728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zinc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6171120" y="2033640"/>
            <a:ext cx="22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arbon r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(graph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8"/>
          <p:cNvSpPr/>
          <p:nvPr/>
        </p:nvSpPr>
        <p:spPr>
          <a:xfrm>
            <a:off x="1371600" y="310032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ammonium chlo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228600" y="44197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The ammonium chloride in the cell is an example of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228600" y="56386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The purpose of the </a:t>
            </a: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electrolyte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 i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1232280" y="4911840"/>
            <a:ext cx="20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electrolyte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2"/>
          <p:cNvSpPr/>
          <p:nvPr/>
        </p:nvSpPr>
        <p:spPr>
          <a:xfrm>
            <a:off x="226440" y="609588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complete the circuit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 in complex ion-electron equations (page 7 in data booklet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.g. as written in data bookl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e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--&gt;    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 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(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is shows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electrons on the reactant side of the arrow)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versing this ion-electron equation 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 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(l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--&gt;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hich shows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electrons on the product side of the arrow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04920" y="1522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ctricity can be produced by connecting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metals together (with an electrolyte) to form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2057400" y="1130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el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304920" y="17524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 pair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of metals connected in a cell giv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 voltag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 This enables us to construct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28"/>
          <p:cNvGrpSpPr/>
          <p:nvPr/>
        </p:nvGrpSpPr>
        <p:grpSpPr>
          <a:xfrm>
            <a:off x="3123720" y="3962520"/>
            <a:ext cx="2819520" cy="2666880"/>
            <a:chOff x="3123720" y="3962520"/>
            <a:chExt cx="2819520" cy="2666880"/>
          </a:xfrm>
        </p:grpSpPr>
        <p:sp>
          <p:nvSpPr>
            <p:cNvPr id="74" name="Rectangle 17"/>
            <p:cNvSpPr/>
            <p:nvPr/>
          </p:nvSpPr>
          <p:spPr>
            <a:xfrm>
              <a:off x="3124080" y="5486400"/>
              <a:ext cx="281916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>
              <a:off x="3581280" y="4495680"/>
              <a:ext cx="0" cy="1981440"/>
            </a:xfrm>
            <a:prstGeom prst="line">
              <a:avLst/>
            </a:prstGeom>
            <a:ln w="7632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410080" y="4495680"/>
              <a:ext cx="0" cy="198144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4190760" y="3962520"/>
              <a:ext cx="533520" cy="53316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3555720" y="4165560"/>
              <a:ext cx="635040" cy="330120"/>
            </a:xfrm>
            <a:custGeom>
              <a:avLst/>
              <a:gdLst/>
              <a:ahLst/>
              <a:rect l="l" t="t" r="r" b="b"/>
              <a:pathLst>
                <a:path w="400" h="208">
                  <a:moveTo>
                    <a:pt x="16" y="208"/>
                  </a:moveTo>
                  <a:cubicBezTo>
                    <a:pt x="8" y="176"/>
                    <a:pt x="0" y="144"/>
                    <a:pt x="16" y="112"/>
                  </a:cubicBezTo>
                  <a:cubicBezTo>
                    <a:pt x="32" y="80"/>
                    <a:pt x="48" y="32"/>
                    <a:pt x="112" y="16"/>
                  </a:cubicBezTo>
                  <a:cubicBezTo>
                    <a:pt x="176" y="0"/>
                    <a:pt x="352" y="16"/>
                    <a:pt x="400" y="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4724280" y="4178160"/>
              <a:ext cx="711000" cy="317520"/>
            </a:xfrm>
            <a:custGeom>
              <a:avLst/>
              <a:gdLst/>
              <a:ahLst/>
              <a:rect l="l" t="t" r="r" b="b"/>
              <a:pathLst>
                <a:path w="448" h="200">
                  <a:moveTo>
                    <a:pt x="432" y="200"/>
                  </a:moveTo>
                  <a:cubicBezTo>
                    <a:pt x="440" y="164"/>
                    <a:pt x="448" y="128"/>
                    <a:pt x="432" y="104"/>
                  </a:cubicBezTo>
                  <a:cubicBezTo>
                    <a:pt x="416" y="80"/>
                    <a:pt x="392" y="72"/>
                    <a:pt x="336" y="56"/>
                  </a:cubicBezTo>
                  <a:cubicBezTo>
                    <a:pt x="280" y="40"/>
                    <a:pt x="152" y="16"/>
                    <a:pt x="96" y="8"/>
                  </a:cubicBezTo>
                  <a:cubicBezTo>
                    <a:pt x="40" y="0"/>
                    <a:pt x="20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5"/>
            <p:cNvSpPr/>
            <p:nvPr/>
          </p:nvSpPr>
          <p:spPr>
            <a:xfrm flipV="1">
              <a:off x="3124080" y="47242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6"/>
            <p:cNvSpPr/>
            <p:nvPr/>
          </p:nvSpPr>
          <p:spPr>
            <a:xfrm flipV="1">
              <a:off x="5943240" y="47242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7"/>
            <p:cNvSpPr/>
            <p:nvPr/>
          </p:nvSpPr>
          <p:spPr>
            <a:xfrm flipH="1">
              <a:off x="3123720" y="662940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Text Box 33"/>
          <p:cNvSpPr/>
          <p:nvPr/>
        </p:nvSpPr>
        <p:spPr>
          <a:xfrm>
            <a:off x="2575080" y="27306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electrochemical seri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see data booklet - page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40"/>
          <p:cNvGrpSpPr/>
          <p:nvPr/>
        </p:nvGrpSpPr>
        <p:grpSpPr>
          <a:xfrm>
            <a:off x="4724280" y="3809880"/>
            <a:ext cx="2667240" cy="459720"/>
            <a:chOff x="4724280" y="3809880"/>
            <a:chExt cx="2667240" cy="459720"/>
          </a:xfrm>
        </p:grpSpPr>
        <p:sp>
          <p:nvSpPr>
            <p:cNvPr id="85" name="Text Box 31"/>
            <p:cNvSpPr/>
            <p:nvPr/>
          </p:nvSpPr>
          <p:spPr>
            <a:xfrm>
              <a:off x="5715000" y="38098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Voltmet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36"/>
            <p:cNvSpPr/>
            <p:nvPr/>
          </p:nvSpPr>
          <p:spPr>
            <a:xfrm flipV="1">
              <a:off x="4724280" y="4038480"/>
              <a:ext cx="10670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39"/>
          <p:cNvGrpSpPr/>
          <p:nvPr/>
        </p:nvGrpSpPr>
        <p:grpSpPr>
          <a:xfrm>
            <a:off x="228600" y="3962520"/>
            <a:ext cx="5181480" cy="1143000"/>
            <a:chOff x="228600" y="3962520"/>
            <a:chExt cx="5181480" cy="1143000"/>
          </a:xfrm>
        </p:grpSpPr>
        <p:sp>
          <p:nvSpPr>
            <p:cNvPr id="88" name="Text Box 32"/>
            <p:cNvSpPr/>
            <p:nvPr/>
          </p:nvSpPr>
          <p:spPr>
            <a:xfrm>
              <a:off x="228600" y="39625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Two </a:t>
              </a: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differe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meta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34"/>
            <p:cNvSpPr/>
            <p:nvPr/>
          </p:nvSpPr>
          <p:spPr>
            <a:xfrm>
              <a:off x="1828800" y="4343400"/>
              <a:ext cx="1752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35"/>
            <p:cNvSpPr/>
            <p:nvPr/>
          </p:nvSpPr>
          <p:spPr>
            <a:xfrm>
              <a:off x="1828800" y="4343400"/>
              <a:ext cx="35812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41"/>
          <p:cNvGrpSpPr/>
          <p:nvPr/>
        </p:nvGrpSpPr>
        <p:grpSpPr>
          <a:xfrm>
            <a:off x="5715000" y="5181480"/>
            <a:ext cx="2895480" cy="1191240"/>
            <a:chOff x="5715000" y="5181480"/>
            <a:chExt cx="2895480" cy="1191240"/>
          </a:xfrm>
        </p:grpSpPr>
        <p:sp>
          <p:nvSpPr>
            <p:cNvPr id="92" name="Text Box 30"/>
            <p:cNvSpPr/>
            <p:nvPr/>
          </p:nvSpPr>
          <p:spPr>
            <a:xfrm>
              <a:off x="6248520" y="5181480"/>
              <a:ext cx="236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lectrolyte, e.g. sodium chloride sol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37"/>
            <p:cNvSpPr/>
            <p:nvPr/>
          </p:nvSpPr>
          <p:spPr>
            <a:xfrm flipV="1">
              <a:off x="5715000" y="56386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7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8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42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97" name="Rectangle 30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1822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32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6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7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38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Text Box 39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0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07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415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19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3f8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57240">
              <a:solidFill>
                <a:srgbClr val="fa91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30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34c0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57240">
              <a:solidFill>
                <a:srgbClr val="f87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41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26e3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38160">
              <a:solidFill>
                <a:srgbClr val="f44a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 is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highe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in the electrochemical series than cop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gives electr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the copper 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copper ions gaining these electrons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form 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brown sol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magnesium atoms lose electrons to form colourless ions which dissolve in the sol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00:47:05Z</dcterms:created>
  <dc:creator>Geo</dc:creator>
  <dc:description/>
  <dc:language>en-US</dc:language>
  <cp:lastModifiedBy>RomaK</cp:lastModifiedBy>
  <dcterms:modified xsi:type="dcterms:W3CDTF">2015-09-02T05:56:16Z</dcterms:modified>
  <cp:revision>61</cp:revision>
  <dc:subject/>
  <dc:title>Making Electricity</dc:title>
</cp:coreProperties>
</file>