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E315-C895-434B-973E-A2D074C22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27C5-8B29-4526-A473-4F646E41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B72-0543-4FE9-9F70-4DFFD998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7A4-10AD-43C3-9DE2-04BB9502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2DB-EE84-4C1A-8076-7D531F02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8B4B-299A-4550-837B-83768E1D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87A9-36D0-45C9-998A-6C8B004D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1C6C-BC3D-4B0B-8E0E-7A9BB43A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D59C-705F-43F3-B885-FA4D39E3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E439-E2D8-446F-BDB7-F041404E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1161-FCB8-489D-A668-E7166A94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7F66-022C-4C1B-B94D-C8F425E7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991B-86CE-470E-A70F-D2698885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ACF4-1176-408C-8E1E-5A2B388B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5949-9681-4494-AE7D-C67D9EEC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18EC-0076-490A-A3E4-8455B0E3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6DFF-BE65-4B22-A784-DB5EF1D5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25B2-6D83-43C5-90C8-6C4D2410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5FB6-1FF6-40EC-A173-09281D86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3AF6-7154-4063-8CFE-D10E4BE0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FD8E-DCA2-4964-8F4D-7FF39787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CA56-13BD-4C8C-95B0-FFBEADDA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6522-6EF9-48DB-8CF9-3AB53231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03ED-1C66-4704-9C59-6469EC1F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9D52-268A-4C3E-AE6B-D0D681C7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6627-B36D-4DC7-9C8B-C4C8CE256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3036-6ACF-4C0C-8E45-9BC3C9DF2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17.png"/><Relationship Id="rId6" Type="http://schemas.openxmlformats.org/officeDocument/2006/relationships/image" Target="../media/image1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Dutch and French Colonies in the New Worl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.S. History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669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nglish Conques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266720" y="9144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ter Stuyves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came governor in 164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tled Conn. Boundary &amp; conquered Swedish colony to the sou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hed with local elit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ing Charles I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ranted land to his broth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mes, Duke of York &amp;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yvesant forced to surrender to English in 1664 without a f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s &amp; New Amsterdam became New York, and Ft. Orange became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6" descr="Stuyvesant"/>
          <p:cNvPicPr/>
          <p:nvPr/>
        </p:nvPicPr>
        <p:blipFill>
          <a:blip r:embed="rId7"/>
          <a:stretch/>
        </p:blipFill>
        <p:spPr>
          <a:xfrm>
            <a:off x="304920" y="990720"/>
            <a:ext cx="2057400" cy="270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StuyvesantSurrender.jpg"/>
          <p:cNvPicPr/>
          <p:nvPr/>
        </p:nvPicPr>
        <p:blipFill>
          <a:blip r:embed="rId8"/>
          <a:stretch/>
        </p:blipFill>
        <p:spPr>
          <a:xfrm>
            <a:off x="0" y="3782880"/>
            <a:ext cx="4343400" cy="307512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611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French Colonizat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6019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cques Carti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America 1536-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ted cross on Gaspé Peninsula in 15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ited Stadacona (Quebec) &amp; Hochelaga (Montreal) in 1535-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. short-lived colony of "Charlesbourg- Royal," near Stadacona, 1541-4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rmoil in France prevented follow-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muel de Champl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de several voyages beginning in 16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ed est. settlements at Ste. Croix &amp; Port Roy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nded first permanent French settlement at Quebec in 16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ied with Hurons against Iriquo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Picture 6" descr="Cartier(color)"/>
          <p:cNvPicPr/>
          <p:nvPr/>
        </p:nvPicPr>
        <p:blipFill>
          <a:blip r:embed="rId10"/>
          <a:stretch/>
        </p:blipFill>
        <p:spPr>
          <a:xfrm>
            <a:off x="7010280" y="990720"/>
            <a:ext cx="1724040" cy="2361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Champlain(color)"/>
          <p:cNvPicPr/>
          <p:nvPr/>
        </p:nvPicPr>
        <p:blipFill>
          <a:blip r:embed="rId11"/>
          <a:stretch/>
        </p:blipFill>
        <p:spPr>
          <a:xfrm>
            <a:off x="7010280" y="3809880"/>
            <a:ext cx="1764000" cy="23623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8"/>
          <p:cNvSpPr/>
          <p:nvPr/>
        </p:nvSpPr>
        <p:spPr>
          <a:xfrm>
            <a:off x="7167240" y="335268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6863040" y="624852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Franc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6" name="Content Placeholder 7" descr=""/>
          <p:cNvPicPr/>
          <p:nvPr/>
        </p:nvPicPr>
        <p:blipFill>
          <a:blip r:embed="rId1"/>
          <a:stretch/>
        </p:blipFill>
        <p:spPr>
          <a:xfrm>
            <a:off x="0" y="1219320"/>
            <a:ext cx="4916520" cy="3276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876560" y="990720"/>
            <a:ext cx="41907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ny of New Fra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00 Associates) owned colony, 1627-16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me royal colony in 1663, with Jean-Baptiste Talon as superintend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ther Jacques Marquette &amp; Louis Jolli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Great Lakes &amp; upper Mississippi valley in 167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né-Robert Cavalier, Sieur de La Sall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ailed down the Mississippi to the Gulf of Mexico in 1679-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79040" y="-36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France &amp; Louisiana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90760" y="91440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lation grew slow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63: 3,050; 1700: 15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ly because King Louis XIV refused to allow Huguenots to settle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Indian allies, so tended to treat them better than English &amp; Spanish d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1" name="Picture 6" descr="NorthAmerica1750map"/>
          <p:cNvPicPr/>
          <p:nvPr/>
        </p:nvPicPr>
        <p:blipFill>
          <a:blip r:embed="rId5"/>
          <a:stretch/>
        </p:blipFill>
        <p:spPr>
          <a:xfrm>
            <a:off x="152280" y="1066680"/>
            <a:ext cx="3810240" cy="348768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hilip II &amp; the Netherlands Revol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0" y="106632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vinist uprising in Aug. 1566 ruthlessly put down by Duke of Alva by 15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provinces unite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lliam the Silent, Prince of Orang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ander Farnese, Duke of Parma, reconquered southern 10 provi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thern 7 provinces for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on of Utrec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9; declare independence as the United Provinces of the Netherlands in 158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999000" y="5029200"/>
            <a:ext cx="39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© 2000 Wadsworth / Thomson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7" descr="PhilipIIMap"/>
          <p:cNvPicPr/>
          <p:nvPr/>
        </p:nvPicPr>
        <p:blipFill>
          <a:blip r:embed="rId5"/>
          <a:stretch/>
        </p:blipFill>
        <p:spPr>
          <a:xfrm>
            <a:off x="152280" y="3651120"/>
            <a:ext cx="4419720" cy="32068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6"/>
          <a:stretch/>
        </p:blipFill>
        <p:spPr>
          <a:xfrm>
            <a:off x="152280" y="830160"/>
            <a:ext cx="2057400" cy="27990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"/>
          <p:cNvSpPr/>
          <p:nvPr/>
        </p:nvSpPr>
        <p:spPr>
          <a:xfrm>
            <a:off x="2133720" y="2766960"/>
            <a:ext cx="250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lizabeth I &amp; English Intervention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6248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izabe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urned down offer of Dutch crown, but gave them money &amp; tr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ilip plotted wi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y Queen of Sc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ot discovered &amp; Mary executed in Feb. 158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pe Sixtus V offered Philip 1 million gold ducats to conquer England &amp; avenge M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anish Armad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feated in English Channel in 158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Spain’s dec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rise of Dutch &amp; English empi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ds to the est. of North American colon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Picture 6" descr="ElizabethI"/>
          <p:cNvPicPr/>
          <p:nvPr/>
        </p:nvPicPr>
        <p:blipFill>
          <a:blip r:embed="rId9"/>
          <a:stretch/>
        </p:blipFill>
        <p:spPr>
          <a:xfrm>
            <a:off x="6248520" y="1143000"/>
            <a:ext cx="2784240" cy="41911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6265440" y="5334120"/>
            <a:ext cx="27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he Defeat of the Spanish Armada</a:t>
            </a:r>
            <a:br>
              <a:rPr sz="4400"/>
            </a:b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y Philippe-Jacques de Loutherbourg, 1796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8" name="Content Placeholder 3" descr="DefeatofSpanishArmada.jpg"/>
          <p:cNvPicPr/>
          <p:nvPr/>
        </p:nvPicPr>
        <p:blipFill>
          <a:blip r:embed="rId1"/>
          <a:stretch/>
        </p:blipFill>
        <p:spPr>
          <a:xfrm>
            <a:off x="1523880" y="2147760"/>
            <a:ext cx="5967360" cy="464364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Dutch Exploration &amp; Colonization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343040" y="1295280"/>
            <a:ext cx="4800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Ea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ir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nry Huds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609 to find northern passage around A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lf Mo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ced to turn back by ice, so sailed across Atlantic inst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vered Delaware Bay, then sailed up river named after him (Sept. 3 – Oct. 4, 160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d by English on return voyage &amp; sailed next year for them, but marooned in B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Picture 7" descr="HudsonVoyageMap"/>
          <p:cNvPicPr/>
          <p:nvPr/>
        </p:nvPicPr>
        <p:blipFill>
          <a:blip r:embed="rId5"/>
          <a:stretch/>
        </p:blipFill>
        <p:spPr>
          <a:xfrm>
            <a:off x="0" y="4114800"/>
            <a:ext cx="4267080" cy="2436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" descr=""/>
          <p:cNvPicPr/>
          <p:nvPr/>
        </p:nvPicPr>
        <p:blipFill>
          <a:blip r:embed="rId6"/>
          <a:stretch/>
        </p:blipFill>
        <p:spPr>
          <a:xfrm>
            <a:off x="1274760" y="1066680"/>
            <a:ext cx="2992320" cy="2057400"/>
          </a:xfrm>
          <a:prstGeom prst="rect">
            <a:avLst/>
          </a:prstGeom>
          <a:ln w="0">
            <a:noFill/>
          </a:ln>
        </p:spPr>
      </p:pic>
      <p:pic>
        <p:nvPicPr>
          <p:cNvPr id="354" name="ClipArt Placeholder 3" descr=""/>
          <p:cNvPicPr/>
          <p:nvPr/>
        </p:nvPicPr>
        <p:blipFill>
          <a:blip r:embed="rId7"/>
          <a:stretch/>
        </p:blipFill>
        <p:spPr>
          <a:xfrm>
            <a:off x="152280" y="2209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60440" y="15192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6600"/>
                </a:solidFill>
                <a:latin typeface="Times New Roman"/>
              </a:rPr>
              <a:t>The Last Voyage of Henry Hudson, by John Collier</a:t>
            </a:r>
            <a:endParaRPr b="0" i="1" lang="en-US" sz="2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7" name="Content Placeholder 6" descr=""/>
          <p:cNvPicPr/>
          <p:nvPr/>
        </p:nvPicPr>
        <p:blipFill>
          <a:blip r:embed="rId1"/>
          <a:stretch/>
        </p:blipFill>
        <p:spPr>
          <a:xfrm>
            <a:off x="1905120" y="777960"/>
            <a:ext cx="5181480" cy="608004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Netherlands Colony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638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tch merchants began to tap into fur tr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riaen Blo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Long Island Sound &amp; Conn. R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 Co. created in 1614 &amp; est. Ft. Nassa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We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med in 1621 &amp; took over col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Good Hope (Hartford, Con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Orange (Alban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Island (Trenton, N.J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 Amsterd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st. in 1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6" descr="NewNethMap"/>
          <p:cNvPicPr/>
          <p:nvPr/>
        </p:nvPicPr>
        <p:blipFill>
          <a:blip r:embed="rId9"/>
          <a:stretch/>
        </p:blipFill>
        <p:spPr>
          <a:xfrm>
            <a:off x="5757840" y="1371600"/>
            <a:ext cx="3386160" cy="525780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Amsterda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4" name="Picture 3" descr="NewAmsterdam"/>
          <p:cNvPicPr/>
          <p:nvPr/>
        </p:nvPicPr>
        <p:blipFill>
          <a:blip r:embed="rId1"/>
          <a:stretch/>
        </p:blipFill>
        <p:spPr>
          <a:xfrm>
            <a:off x="228600" y="1905120"/>
            <a:ext cx="4572000" cy="3073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NewAmsterdampic"/>
          <p:cNvPicPr/>
          <p:nvPr/>
        </p:nvPicPr>
        <p:blipFill>
          <a:blip r:embed="rId2"/>
          <a:stretch/>
        </p:blipFill>
        <p:spPr>
          <a:xfrm>
            <a:off x="4952880" y="1981080"/>
            <a:ext cx="3962520" cy="283068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w Netherland Socie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990720"/>
            <a:ext cx="6019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Charter of Privileges &amp; Exemption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(1629) allowed directors who planted 50 colonists in 4 years to govern large estates (</a:t>
            </a:r>
            <a:r>
              <a:rPr b="1" i="1" lang="en-US" sz="2600" spc="-1" strike="noStrike">
                <a:solidFill>
                  <a:srgbClr val="000000"/>
                </a:solidFill>
                <a:latin typeface="Tahoma"/>
              </a:rPr>
              <a:t>patroonship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 autonomousl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Renesselaerswyk was success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n’t recreate European social order &amp; manage estates long-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1639 - all people to participate in fur trad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d population from 1,000 to 2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lations with “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Wilde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” soured by daily provocations &amp; culture clash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9" name="Content Placeholder 4" descr="vanrensselaer-kiliaen-100.jpg"/>
          <p:cNvPicPr/>
          <p:nvPr/>
        </p:nvPicPr>
        <p:blipFill>
          <a:blip r:embed="rId7"/>
          <a:stretch/>
        </p:blipFill>
        <p:spPr>
          <a:xfrm>
            <a:off x="6019920" y="990720"/>
            <a:ext cx="2904840" cy="3841560"/>
          </a:xfrm>
          <a:prstGeom prst="rect">
            <a:avLst/>
          </a:prstGeom>
          <a:ln w="0">
            <a:noFill/>
          </a:ln>
        </p:spPr>
      </p:pic>
      <p:sp>
        <p:nvSpPr>
          <p:cNvPr id="370" name="TextBox 5"/>
          <p:cNvSpPr/>
          <p:nvPr/>
        </p:nvSpPr>
        <p:spPr>
          <a:xfrm>
            <a:off x="6401880" y="4876920"/>
            <a:ext cx="20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6" descr="VanRensselaerArms.jpg"/>
          <p:cNvPicPr/>
          <p:nvPr/>
        </p:nvPicPr>
        <p:blipFill>
          <a:blip r:embed="rId8"/>
          <a:stretch/>
        </p:blipFill>
        <p:spPr>
          <a:xfrm>
            <a:off x="6858000" y="5257800"/>
            <a:ext cx="1143000" cy="15717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9:21:39Z</dcterms:created>
  <dc:creator>Hans Vought</dc:creator>
  <dc:description/>
  <dc:language>en-US</dc:language>
  <cp:lastModifiedBy>Legion</cp:lastModifiedBy>
  <dcterms:modified xsi:type="dcterms:W3CDTF">2017-07-05T13:06:00Z</dcterms:modified>
  <cp:revision>16</cp:revision>
  <dc:subject/>
  <dc:title>The Dutch and French Colonies in the New World</dc:title>
</cp:coreProperties>
</file>