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9D46-BAE7-4248-8A5D-BB593F548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utch and French Colonies in the New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History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utch and French Colonies in the New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History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Con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Stuyvesant became governor in 16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led Conn. Boundary &amp; conquered Swedish colony to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ed with local el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arles II granted land to his brother James, Duke of York &amp;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yvesant forced to surrender to English in 1664 without a f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&amp; New Amsterdam became New York, and Ft. Orange became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Con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Stuyvesant became governor in 16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led Conn. Boundary &amp; conquered Swedish colony to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ed with local el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arles II granted land to his brother James, Duke of York &amp;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yvesant forced to surrender to English in 1664 without a f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&amp; New Amsterdam became New York, and Ft. Orange became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 explored America 1536-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ed cross on Gaspé Peninsula in 15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ed Stadacona (Quebec) &amp; Hochelaga (Montreal) in 1535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. short-lived colony of "Charlesbourg- Royal," near Stadacona, 1541-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moil in France prevented follow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 made several voyages beginning in 16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d est. settlements at Ste. Croix &amp; Port Roy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first permanent French settlement at Quebec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with Hurons against Iri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 explored America 1536-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ed cross on Gaspé Peninsula in 15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ed Stadacona (Quebec) &amp; Hochelaga (Montreal) in 1535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. short-lived colony of "Charlesbourg- Royal," near Stadacona, 1541-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moil in France prevented follow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 made several voyages beginning in 16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d est. settlements at Ste. Croix &amp; Port Roy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first permanent French settlement at Quebec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with Hurons against Iri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of New France (100 Associates) owned colony, 1627-16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royal colony in 1663, with Jean-Baptiste Talon as superin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 Jacques Marquette &amp; Louis Jolliet explored Great Lakes &amp; upper Mississippi valley in 16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é-Robert Cavalier, Sieur de La Salle, sailed down the Mississippi to the Gulf of Mexico in 1679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of New France (100 Associates) owned colony, 1627-16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royal colony in 1663, with Jean-Baptiste Talon as superin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 Jacques Marquette &amp; Louis Jolliet explored Great Lakes &amp; upper Mississippi valley in 16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é-Robert Cavalier, Sieur de La Salle, sailed down the Mississippi to the Gulf of Mexico in 1679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 &amp; Louis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rew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3: 3,050; 1700: 15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because King Louis XIV refused to allow Huguenots to settl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on Indian allies, so tended to treat them better than English &amp; Spanish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 &amp; Louis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rew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3: 3,050; 1700: 15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because King Louis XIV refused to allow Huguenots to settl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on Indian allies, so tended to treat them better than English &amp; Spanish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II &amp; the Netherlands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ist uprising in Aug. 1566 ruthlessly put down by Duke of Alva by 15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 provinces unite under William the Silent, Prince of Orange, in 1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Farnese, Duke of Parma, reconquered southern 10 provi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7 provinces form Union of Utrecht in 1579; declare independence as the United Provinces of the Netherlands in 15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0 Wadsworth / Thomson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II &amp; the Netherlands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ist uprising in Aug. 1566 ruthlessly put down by Duke of Alva by 15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 provinces unite under William the Silent, Prince of Orange, in 1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Farnese, Duke of Parma, reconquered southern 10 provi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7 provinces form Union of Utrecht in 1579; declare independence as the United Provinces of the Netherlands in 15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0 Wadsworth / Thomson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I &amp; English Interven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turned down offer of Dutch crown, but gave them money &amp; tr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plotted with Mary Queen of Sc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discovered &amp; Mary executed in Feb. 15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e Sixtus V offered Philip 1 million gold ducats to conquer England &amp; avenge 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rmada defeated in English Channel in 15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Spain’s dec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rise of Dutch &amp; English emp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the est. of North American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I &amp; English Interven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turned down offer of Dutch crown, but gave them money &amp; tr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plotted with Mary Queen of Sc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discovered &amp; Mary executed in Feb. 15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e Sixtus V offered Philip 1 million gold ducats to conquer England &amp; avenge 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rmada defeated in English Channel in 15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Spain’s dec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rise of Dutch &amp; English emp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the est. of North American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feat of the Spanish Armad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hilippe-Jacques de Loutherbourg, 17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feat of the Spanish Armad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hilippe-Jacques de Loutherbourg, 17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xploration &amp;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ast India Co. hired Henry Hudson in 1609 to find northern passage around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Moon forced to turn back by ice, so sailed across Atlantic inst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Delaware Bay, then sailed up river named after him (Sept. 3 – Oct. 4, 160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English on return voyage &amp; sailed next year for them, but marooned in 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xploration &amp;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ast India Co. hired Henry Hudson in 1609 to find northern passage around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Moon forced to turn back by ice, so sailed across Atlantic inst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Delaware Bay, then sailed up river named after him (Sept. 3 – Oct. 4, 160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English on return voyage &amp; sailed next year for them, but marooned in 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Voyage of Henry Hudson, by John Col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Voyage of Henry Hudson, by John Col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Col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merchants began to tap into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en Block explored Long Island Sound &amp; Conn.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Co. created in 1614 &amp; est. Ft. N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West India Co. formed in 1621 &amp; took over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Good Hope (Hartford, Con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Orange (Alb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sland (Trenton, N.J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 est. in 1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Col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merchants began to tap into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en Block explored Long Island Sound &amp; Conn.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Co. created in 1614 &amp; est. Ft. N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West India Co. formed in 1621 &amp; took over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Good Hope (Hartford, Con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Orange (Alb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sland (Trenton, N.J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 est. in 1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er of Privileges &amp; Exemptions (1629) allowed directors who planted 50 colonists in 4 years to govern large estates (patroonships) autonom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Renesselaerswyk was success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recreate European social order &amp; manage estates long-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9 - all people to participate in fur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d population from 1,000 to 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 with “Wilden” soured by daily provocations &amp; culture c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er of Privileges &amp; Exemptions (1629) allowed directors who planted 50 colonists in 4 years to govern large estates (patroonships) autonom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Renesselaerswyk was success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recreate European social order &amp; manage estates long-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9 - all people to participate in fur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d population from 1,000 to 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 with “Wilden” soured by daily provocations &amp; culture c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88E-F12C-47DB-98BC-A6ED6487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6202-2A40-4FBD-801F-05059E0F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4561-E0FA-40D7-A587-9400DC0F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72D9-CB01-467B-B191-5556FC64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88E7-BC21-41E9-93FA-E6CFC03D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2EB1-9383-4124-9A4D-B348153F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9501-830E-4EA5-934C-EAF92AA1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2527-F1BC-49E8-91A3-E245DD50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0E7E-543F-4AF9-B5AA-6B1F41DD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9CF1-EFC7-4319-B27E-0571BCA3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85F3-090D-46FD-B0F1-4A119A9A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4351-8FE4-4600-827A-E291C286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9CBE-7FA3-4942-87C8-E44EAC3B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21F2-0DE4-4B6A-AAC1-4DF98CB9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B513-B023-4DCA-83C8-9825390E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605A-1243-43D7-AEBC-FF3C5F92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6248-EBEC-4A73-A7E2-88393178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426C-5A45-4C1F-A262-A8A50028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74E-51D6-491D-9121-1C86B74D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EAB1-DB8A-4700-AB60-F968202D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9B25-5704-41EB-9E80-DD146FA8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B48F-CA2E-44E7-A3D2-26047A81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22CD-6605-41AE-B205-CA62733C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A897-A9B5-4719-80DB-6A5124B8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EE39-A320-4E57-9F80-776C60815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2E38-420A-4C96-9390-E2A2F0088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.png"/><Relationship Id="rId5" Type="http://schemas.openxmlformats.org/officeDocument/2006/relationships/image" Target="../media/image17.png"/><Relationship Id="rId6" Type="http://schemas.openxmlformats.org/officeDocument/2006/relationships/image" Target="../media/image1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he Dutch and French Colonies in the New Worl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.S. History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669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English Conquest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266720" y="914400"/>
            <a:ext cx="4876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ter Stuyves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came governor in 164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ttled Conn. Boundary &amp; conquered Swedish colony to the sou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hed with local elit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ing Charles I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ranted land to his broth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mes, Duke of York &amp; Alb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yvesant forced to surrender to English in 1664 without a f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Netherlands &amp; New Amsterdam became New York, and Ft. Orange became Alb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5" name="Picture 6" descr="Stuyvesant"/>
          <p:cNvPicPr/>
          <p:nvPr/>
        </p:nvPicPr>
        <p:blipFill>
          <a:blip r:embed="rId7"/>
          <a:stretch/>
        </p:blipFill>
        <p:spPr>
          <a:xfrm>
            <a:off x="304920" y="990720"/>
            <a:ext cx="2057400" cy="2701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StuyvesantSurrender.jpg"/>
          <p:cNvPicPr/>
          <p:nvPr/>
        </p:nvPicPr>
        <p:blipFill>
          <a:blip r:embed="rId8"/>
          <a:stretch/>
        </p:blipFill>
        <p:spPr>
          <a:xfrm>
            <a:off x="0" y="3782880"/>
            <a:ext cx="4343400" cy="307512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611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French Colonization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6019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cques Carti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America 1536-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ted cross on Gaspé Peninsula in 153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sited Stadacona (Quebec) &amp; Hochelaga (Montreal) in 1535-3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. short-lived colony of "Charlesbourg- Royal," near Stadacona, 1541-4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rmoil in France prevented follow-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muel de Champl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de several voyages beginning in 16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lped est. settlements at Ste. Croix &amp; Port Roy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nded first permanent French settlement at Quebec in 16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ied with Hurons against Iriquo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" name="Picture 6" descr="Cartier(color)"/>
          <p:cNvPicPr/>
          <p:nvPr/>
        </p:nvPicPr>
        <p:blipFill>
          <a:blip r:embed="rId10"/>
          <a:stretch/>
        </p:blipFill>
        <p:spPr>
          <a:xfrm>
            <a:off x="7010280" y="990720"/>
            <a:ext cx="1724040" cy="23619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Champlain(color)"/>
          <p:cNvPicPr/>
          <p:nvPr/>
        </p:nvPicPr>
        <p:blipFill>
          <a:blip r:embed="rId11"/>
          <a:stretch/>
        </p:blipFill>
        <p:spPr>
          <a:xfrm>
            <a:off x="7010280" y="3809880"/>
            <a:ext cx="1764000" cy="23623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8"/>
          <p:cNvSpPr/>
          <p:nvPr/>
        </p:nvSpPr>
        <p:spPr>
          <a:xfrm>
            <a:off x="7167240" y="3352680"/>
            <a:ext cx="142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6863040" y="624852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New Franc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6" name="Content Placeholder 7" descr=""/>
          <p:cNvPicPr/>
          <p:nvPr/>
        </p:nvPicPr>
        <p:blipFill>
          <a:blip r:embed="rId1"/>
          <a:stretch/>
        </p:blipFill>
        <p:spPr>
          <a:xfrm>
            <a:off x="0" y="1219320"/>
            <a:ext cx="4916520" cy="3276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876560" y="990720"/>
            <a:ext cx="419076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any of New Fra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00 Associates) owned colony, 1627-166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me royal colony in 1663, with Jean-Baptiste Talon as superintend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ther Jacques Marquette &amp; Louis Jolli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Great Lakes &amp; upper Mississippi valley in 167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né-Robert Cavalier, Sieur de La Salle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ailed down the Mississippi to the Gulf of Mexico in 1679-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79040" y="-36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New France &amp; Louisiana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190760" y="91440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ulation grew slow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63: 3,050; 1700: 15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ly because King Louis XIV refused to allow Huguenots to settle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Indian allies, so tended to treat them better than English &amp; Spanish d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1" name="Picture 6" descr="NorthAmerica1750map"/>
          <p:cNvPicPr/>
          <p:nvPr/>
        </p:nvPicPr>
        <p:blipFill>
          <a:blip r:embed="rId5"/>
          <a:stretch/>
        </p:blipFill>
        <p:spPr>
          <a:xfrm>
            <a:off x="152280" y="1066680"/>
            <a:ext cx="3810240" cy="348768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hilip II &amp; the Netherlands Revolt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0" y="1066320"/>
            <a:ext cx="4572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vinist uprising in Aug. 1566 ruthlessly put down by Duke of Alva by 15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 provinces unite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lliam the Silent, Prince of Orange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57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ander Farnese, Duke of Parma, reconquered southern 10 provi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thern 7 provinces form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on of Utrec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579; declare independence as the United Provinces of the Netherlands in 158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999000" y="5029200"/>
            <a:ext cx="397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© 2000 Wadsworth / Thomson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7" descr="PhilipIIMap"/>
          <p:cNvPicPr/>
          <p:nvPr/>
        </p:nvPicPr>
        <p:blipFill>
          <a:blip r:embed="rId5"/>
          <a:stretch/>
        </p:blipFill>
        <p:spPr>
          <a:xfrm>
            <a:off x="152280" y="3651120"/>
            <a:ext cx="4419720" cy="32068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" descr=""/>
          <p:cNvPicPr/>
          <p:nvPr/>
        </p:nvPicPr>
        <p:blipFill>
          <a:blip r:embed="rId6"/>
          <a:stretch/>
        </p:blipFill>
        <p:spPr>
          <a:xfrm>
            <a:off x="152280" y="830160"/>
            <a:ext cx="2057400" cy="2799000"/>
          </a:xfrm>
          <a:prstGeom prst="rect">
            <a:avLst/>
          </a:prstGeom>
          <a:ln w="0">
            <a:noFill/>
          </a:ln>
        </p:spPr>
      </p:pic>
      <p:sp>
        <p:nvSpPr>
          <p:cNvPr id="340" name="TextBox 2"/>
          <p:cNvSpPr/>
          <p:nvPr/>
        </p:nvSpPr>
        <p:spPr>
          <a:xfrm>
            <a:off x="2133720" y="2766960"/>
            <a:ext cx="250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Elizabeth I &amp; English Intervention 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6248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izabe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urned down offer of Dutch crown, but gave them money &amp; tr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ilip plotted wit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y Queen of Sc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ot discovered &amp; Mary executed in Feb. 158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pe Sixtus V offered Philip 1 million gold ducats to conquer England &amp; avenge Ma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anish Armad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feated in English Channel in 158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s beginning of Spain’s dec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s beginning of rise of Dutch &amp; English empi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ads to the est. of North American colon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Picture 6" descr="ElizabethI"/>
          <p:cNvPicPr/>
          <p:nvPr/>
        </p:nvPicPr>
        <p:blipFill>
          <a:blip r:embed="rId9"/>
          <a:stretch/>
        </p:blipFill>
        <p:spPr>
          <a:xfrm>
            <a:off x="6248520" y="1143000"/>
            <a:ext cx="2784240" cy="4191120"/>
          </a:xfrm>
          <a:prstGeom prst="rect">
            <a:avLst/>
          </a:prstGeom>
          <a:ln w="0">
            <a:noFill/>
          </a:ln>
        </p:spPr>
      </p:pic>
      <p:sp>
        <p:nvSpPr>
          <p:cNvPr id="345" name="TextBox 4"/>
          <p:cNvSpPr/>
          <p:nvPr/>
        </p:nvSpPr>
        <p:spPr>
          <a:xfrm>
            <a:off x="6265440" y="5334120"/>
            <a:ext cx="27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The Defeat of the Spanish Armada</a:t>
            </a:r>
            <a:br>
              <a:rPr sz="4400"/>
            </a:b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by Philippe-Jacques de Loutherbourg, 1796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8" name="Content Placeholder 3" descr="DefeatofSpanishArmada.jpg"/>
          <p:cNvPicPr/>
          <p:nvPr/>
        </p:nvPicPr>
        <p:blipFill>
          <a:blip r:embed="rId1"/>
          <a:stretch/>
        </p:blipFill>
        <p:spPr>
          <a:xfrm>
            <a:off x="1523880" y="2147760"/>
            <a:ext cx="5967360" cy="464364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Dutch Exploration &amp; Colonization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343040" y="1295280"/>
            <a:ext cx="4800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tch East India Co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ir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nry Huds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609 to find northern passage around As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alf Mo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ced to turn back by ice, so sailed across Atlantic inst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vered Delaware Bay, then sailed up river named after him (Sept. 3 – Oct. 4, 160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d by English on return voyage &amp; sailed next year for them, but marooned in B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2" name="Picture 7" descr="HudsonVoyageMap"/>
          <p:cNvPicPr/>
          <p:nvPr/>
        </p:nvPicPr>
        <p:blipFill>
          <a:blip r:embed="rId5"/>
          <a:stretch/>
        </p:blipFill>
        <p:spPr>
          <a:xfrm>
            <a:off x="0" y="4114800"/>
            <a:ext cx="4267080" cy="2436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" descr=""/>
          <p:cNvPicPr/>
          <p:nvPr/>
        </p:nvPicPr>
        <p:blipFill>
          <a:blip r:embed="rId6"/>
          <a:stretch/>
        </p:blipFill>
        <p:spPr>
          <a:xfrm>
            <a:off x="1274760" y="1066680"/>
            <a:ext cx="2992320" cy="2057400"/>
          </a:xfrm>
          <a:prstGeom prst="rect">
            <a:avLst/>
          </a:prstGeom>
          <a:ln w="0">
            <a:noFill/>
          </a:ln>
        </p:spPr>
      </p:pic>
      <p:pic>
        <p:nvPicPr>
          <p:cNvPr id="354" name="ClipArt Placeholder 3" descr=""/>
          <p:cNvPicPr/>
          <p:nvPr/>
        </p:nvPicPr>
        <p:blipFill>
          <a:blip r:embed="rId7"/>
          <a:stretch/>
        </p:blipFill>
        <p:spPr>
          <a:xfrm>
            <a:off x="152280" y="22096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5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60440" y="15192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6600"/>
                </a:solidFill>
                <a:latin typeface="Times New Roman"/>
              </a:rPr>
              <a:t>The Last Voyage of Henry Hudson, by John Collier</a:t>
            </a:r>
            <a:endParaRPr b="0" i="1" lang="en-US" sz="2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7" name="Content Placeholder 6" descr=""/>
          <p:cNvPicPr/>
          <p:nvPr/>
        </p:nvPicPr>
        <p:blipFill>
          <a:blip r:embed="rId1"/>
          <a:stretch/>
        </p:blipFill>
        <p:spPr>
          <a:xfrm>
            <a:off x="1905120" y="777960"/>
            <a:ext cx="5181480" cy="608004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New Netherlands Colony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638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tch merchants began to tap into fur tr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riaen Blo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Long Island Sound &amp; Conn. R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Netherland Co. created in 1614 &amp; est. Ft. Nassa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tch West India Co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med in 1621 &amp; took over col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t. Good Hope (Hartford, Conn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t. Orange (Alban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gh Island (Trenton, N.J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 Amsterd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st. in 16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Picture 6" descr="NewNethMap"/>
          <p:cNvPicPr/>
          <p:nvPr/>
        </p:nvPicPr>
        <p:blipFill>
          <a:blip r:embed="rId9"/>
          <a:stretch/>
        </p:blipFill>
        <p:spPr>
          <a:xfrm>
            <a:off x="5757840" y="1371600"/>
            <a:ext cx="3386160" cy="525780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New Amsterdam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64" name="Picture 3" descr="NewAmsterdam"/>
          <p:cNvPicPr/>
          <p:nvPr/>
        </p:nvPicPr>
        <p:blipFill>
          <a:blip r:embed="rId1"/>
          <a:stretch/>
        </p:blipFill>
        <p:spPr>
          <a:xfrm>
            <a:off x="228600" y="1905120"/>
            <a:ext cx="4572000" cy="3073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NewAmsterdampic"/>
          <p:cNvPicPr/>
          <p:nvPr/>
        </p:nvPicPr>
        <p:blipFill>
          <a:blip r:embed="rId2"/>
          <a:stretch/>
        </p:blipFill>
        <p:spPr>
          <a:xfrm>
            <a:off x="4952880" y="1981080"/>
            <a:ext cx="3962520" cy="2830680"/>
          </a:xfrm>
          <a:prstGeom prst="rect">
            <a:avLst/>
          </a:prstGeom>
          <a:ln w="0">
            <a:noFill/>
          </a:ln>
        </p:spPr>
      </p:pic>
      <p:sp>
        <p:nvSpPr>
          <p:cNvPr id="36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New Netherland Societ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990720"/>
            <a:ext cx="6019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Charter of Privileges &amp; Exemption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(1629) allowed directors who planted 50 colonists in 4 years to govern large estates (</a:t>
            </a:r>
            <a:r>
              <a:rPr b="1" i="1" lang="en-US" sz="2600" spc="-1" strike="noStrike">
                <a:solidFill>
                  <a:srgbClr val="000000"/>
                </a:solidFill>
                <a:latin typeface="Tahoma"/>
              </a:rPr>
              <a:t>patroonship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) autonomousl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Renesselaerswyk was success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n’t recreate European social order &amp; manage estates long-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1639 - all people to participate in fur trade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ubled population from 1,000 to 2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lations with “</a:t>
            </a:r>
            <a:r>
              <a:rPr b="0" i="1" lang="en-US" sz="2600" spc="-1" strike="noStrike">
                <a:solidFill>
                  <a:srgbClr val="000000"/>
                </a:solidFill>
                <a:latin typeface="Tahoma"/>
              </a:rPr>
              <a:t>Wilden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” soured by daily provocations &amp; culture clash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9" name="Content Placeholder 4" descr="vanrensselaer-kiliaen-100.jpg"/>
          <p:cNvPicPr/>
          <p:nvPr/>
        </p:nvPicPr>
        <p:blipFill>
          <a:blip r:embed="rId7"/>
          <a:stretch/>
        </p:blipFill>
        <p:spPr>
          <a:xfrm>
            <a:off x="6019920" y="990720"/>
            <a:ext cx="2904840" cy="3841560"/>
          </a:xfrm>
          <a:prstGeom prst="rect">
            <a:avLst/>
          </a:prstGeom>
          <a:ln w="0">
            <a:noFill/>
          </a:ln>
        </p:spPr>
      </p:pic>
      <p:sp>
        <p:nvSpPr>
          <p:cNvPr id="370" name="TextBox 5"/>
          <p:cNvSpPr/>
          <p:nvPr/>
        </p:nvSpPr>
        <p:spPr>
          <a:xfrm>
            <a:off x="6401880" y="4876920"/>
            <a:ext cx="209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6" descr="VanRensselaerArms.jpg"/>
          <p:cNvPicPr/>
          <p:nvPr/>
        </p:nvPicPr>
        <p:blipFill>
          <a:blip r:embed="rId8"/>
          <a:stretch/>
        </p:blipFill>
        <p:spPr>
          <a:xfrm>
            <a:off x="6858000" y="5257800"/>
            <a:ext cx="1143000" cy="15717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9:21:39Z</dcterms:created>
  <dc:creator>Hans Vought</dc:creator>
  <dc:description/>
  <dc:language>en-US</dc:language>
  <cp:lastModifiedBy>Legion</cp:lastModifiedBy>
  <dcterms:modified xsi:type="dcterms:W3CDTF">2017-07-05T13:06:00Z</dcterms:modified>
  <cp:revision>16</cp:revision>
  <dc:subject/>
  <dc:title>The Dutch and French Colonies in the New World</dc:title>
</cp:coreProperties>
</file>