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3789-32C9-43F7-B590-3E394C1AE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utch and French Colonies in the New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History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utch and French Colonies in the New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History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Con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Stuyvesant became governor in 16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led Conn. Boundary &amp; conquered Swedish colony to the s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ed with local eli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Charles II granted land to his brother James, Duke of York &amp; Al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yvesant forced to surrender to English in 1664 without a f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s &amp; New Amsterdam became New York, and Ft. Orange became Al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Con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er Stuyvesant became governor in 16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led Conn. Boundary &amp; conquered Swedish colony to the s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ed with local eli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Charles II granted land to his brother James, Duke of York &amp; Al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yvesant forced to surrender to English in 1664 without a f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s &amp; New Amsterdam became New York, and Ft. Orange became Alb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ques Cartier explored America 1536-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ed cross on Gaspé Peninsula in 15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ed Stadacona (Quebec) &amp; Hochelaga (Montreal) in 1535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. short-lived colony of "Charlesbourg- Royal," near Stadacona, 1541-4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moil in France prevented follow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de Champlain made several voyages beginning in 16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d est. settlements at Ste. Croix &amp; Port Roy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first permanent French settlement at Quebec in 16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ed with Hurons against Iriquo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ques Cart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de Cham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ques Cartier explored America 1536-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ed cross on Gaspé Peninsula in 15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ed Stadacona (Quebec) &amp; Hochelaga (Montreal) in 1535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. short-lived colony of "Charlesbourg- Royal," near Stadacona, 1541-4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moil in France prevented follow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de Champlain made several voyages beginning in 16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d est. settlements at Ste. Croix &amp; Port Roy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first permanent French settlement at Quebec in 16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ed with Hurons against Iriquo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ques Cart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de Cham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of New France (100 Associates) owned colony, 1627-16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me royal colony in 1663, with Jean-Baptiste Talon as superintend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 Jacques Marquette &amp; Louis Jolliet explored Great Lakes &amp; upper Mississippi valley in 16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né-Robert Cavalier, Sieur de La Salle, sailed down the Mississippi to the Gulf of Mexico in 1679-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 of New France (100 Associates) owned colony, 1627-16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me royal colony in 1663, with Jean-Baptiste Talon as superintend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 Jacques Marquette &amp; Louis Jolliet explored Great Lakes &amp; upper Mississippi valley in 16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né-Robert Cavalier, Sieur de La Salle, sailed down the Mississippi to the Gulf of Mexico in 1679-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rance &amp; Louisi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rew slow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3: 3,050; 1700: 15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ly because King Louis XIV refused to allow Huguenots to settl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on Indian allies, so tended to treat them better than English &amp; Spanish d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France &amp; Louisi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rew slow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3: 3,050; 1700: 15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ly because King Louis XIV refused to allow Huguenots to settl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on Indian allies, so tended to treat them better than English &amp; Spanish d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 II &amp; the Netherlands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ist uprising in Aug. 1566 ruthlessly put down by Duke of Alva by 15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 provinces unite under William the Silent, Prince of Orange, in 15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exander Farnese, Duke of Parma, reconquered southern 10 provi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ern 7 provinces form Union of Utrecht in 1579; declare independence as the United Provinces of the Netherlands in 15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0 Wadsworth / Thomson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Philip II of Spain berating William the Silent, Prince of Orange, by Cornelis Kruse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 II &amp; the Netherlands Rev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vinist uprising in Aug. 1566 ruthlessly put down by Duke of Alva by 15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 provinces unite under William the Silent, Prince of Orange, in 15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exander Farnese, Duke of Parma, reconquered southern 10 provi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ern 7 provinces form Union of Utrecht in 1579; declare independence as the United Provinces of the Netherlands in 15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0 Wadsworth / Thomson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Philip II of Spain berating William the Silent, Prince of Orange, by Cornelis Kruse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zabeth I &amp; English Interven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zabeth turned down offer of Dutch crown, but gave them money &amp; tr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 plotted with Mary Queen of Sc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 discovered &amp; Mary executed in Feb. 15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e Sixtus V offered Philip 1 million gold ducats to conquer England &amp; avenge 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rmada defeated in English Channel in 15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s beginning of Spain’s dec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s beginning of rise of Dutch &amp; English emp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the est. of North American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Elizabeth I (1558-16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zabeth I &amp; English Interven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zabeth turned down offer of Dutch crown, but gave them money &amp; tr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 plotted with Mary Queen of Sc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 discovered &amp; Mary executed in Feb. 15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e Sixtus V offered Philip 1 million gold ducats to conquer England &amp; avenge 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rmada defeated in English Channel in 15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s beginning of Spain’s dec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s beginning of rise of Dutch &amp; English emp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to the est. of North American col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Elizabeth I (1558-16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feat of the Spanish Armad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Philippe-Jacques de Loutherbourg, 17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feat of the Spanish Armad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Philippe-Jacques de Loutherbourg, 17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Exploration &amp;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East India Co. hired Henry Hudson in 1609 to find northern passage around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Moon forced to turn back by ice, so sailed across Atlantic inst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Delaware Bay, then sailed up river named after him (Sept. 3 – Oct. 4, 160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English on return voyage &amp; sailed next year for them, but marooned in 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Exploration &amp;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East India Co. hired Henry Hudson in 1609 to find northern passage around A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Moon forced to turn back by ice, so sailed across Atlantic inst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Delaware Bay, then sailed up river named after him (Sept. 3 – Oct. 4, 160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English on return voyage &amp; sailed next year for them, but marooned in 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Voyage of Henry Hudson, by John Coll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st Voyage of Henry Hudson, by John Coll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s Col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merchants began to tap into fur t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en Block explored Long Island Sound &amp; Conn.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 Co. created in 1614 &amp; est. Ft. Nass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West India Co. formed in 1621 &amp; took over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. Good Hope (Hartford, Conn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. Orange (Alban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Island (Trenton, N.J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msterdam est. in 1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s Col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merchants began to tap into fur t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en Block explored Long Island Sound &amp; Conn.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 Co. created in 1614 &amp; est. Ft. Nass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tch West India Co. formed in 1621 &amp; took over col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. Good Hope (Hartford, Conn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t. Orange (Alban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Island (Trenton, N.J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msterdam est. in 16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mster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ter of Privileges &amp; Exemptions (1629) allowed directors who planted 50 colonists in 4 years to govern large estates (patroonships) autonom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Renesselaerswyk was success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n’t recreate European social order &amp; manage estates long-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9 - all people to participate in fur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d population from 1,000 to 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 with “Wilden” soured by daily provocations &amp; culture cl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iaen Van Renssela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Netherland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ter of Privileges &amp; Exemptions (1629) allowed directors who planted 50 colonists in 4 years to govern large estates (patroonships) autonom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Renesselaerswyk was success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n’t recreate European social order &amp; manage estates long-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9 - all people to participate in fur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d population from 1,000 to 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 with “Wilden” soured by daily provocations &amp; culture cl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iaen Van Renssela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FCB9-6980-4B48-B05B-505DC275C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5516-C019-4FB6-B2F3-64AB700A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BEA0-B8C8-4A7B-B8F3-044D56A5E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DB77-AF33-4074-989A-C206B59DE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668C-3FF0-41D5-9019-E24698B2D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1320-B4F7-4040-AF93-E8776B46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5E33-41C4-4AC0-AC98-D288B9DE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D08A-AC6C-45A7-BB07-9B9271F2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D36B-8929-4FE3-A9C7-0647C6A4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E179-6E74-40E6-B254-D9BF09ED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9813-14C9-442C-B5C7-5E336E19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B4F4-5381-4893-9A7A-32F23D2A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62B4-5446-49A2-A648-FEE06710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F50A-F49F-4A28-A49F-A338F379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9FC5-8E7F-439D-B48A-5DFBB85A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F8B0-E765-40D0-BC80-4BC5AE65F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E803-BBA2-43A3-B278-A7B7FC6FD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39FB-36CC-4DF2-89D6-FB4EF503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1FB7-662A-42DA-86A5-530A2D62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C2CD-6D80-44BE-B136-D0A3726F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FBDC-5B0A-4205-8860-B1E1A90C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AD39-841B-41AF-AB49-06059056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E532-AEDC-4118-BFB0-C9BEFBB2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97F4-20E3-49B0-BFFD-9A485EDB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3D77-376C-4FEF-B08F-DD99C6A5F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8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10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20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1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3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4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6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7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9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30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2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3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5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6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8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9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1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2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4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5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8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50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1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4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6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7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9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60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2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3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5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6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1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2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4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5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7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8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80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1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2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3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5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6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8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9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1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4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5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7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8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100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1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3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4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6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7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9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10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1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2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3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4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5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6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7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8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9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20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1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2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3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4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5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6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7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8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9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30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1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2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3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4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5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6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7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8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9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40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1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2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3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4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5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6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7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8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9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50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1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2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3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4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5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6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7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8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59" descr="C:\My Documents\bits\earth.GIF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8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91" descr="C:\My Documents\bits\earth.GIF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22D4-B77F-4A7E-8855-D9B83C517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1.pn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.png"/><Relationship Id="rId5" Type="http://schemas.openxmlformats.org/officeDocument/2006/relationships/image" Target="../media/image17.png"/><Relationship Id="rId6" Type="http://schemas.openxmlformats.org/officeDocument/2006/relationships/image" Target="../media/image1.pn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The Dutch and French Colonies in the New World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.S. History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669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English Conquest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266720" y="914400"/>
            <a:ext cx="48769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ter Stuyves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came governor in 164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ttled Conn. Boundary &amp; conquered Swedish colony to the sou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hed with local elite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ing Charles I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ranted land to his broth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mes, Duke of York &amp; Alb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yvesant forced to surrender to English in 1664 without a f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Netherlands &amp; New Amsterdam became New York, and Ft. Orange became Alb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5" name="Picture 6" descr="Stuyvesant"/>
          <p:cNvPicPr/>
          <p:nvPr/>
        </p:nvPicPr>
        <p:blipFill>
          <a:blip r:embed="rId7"/>
          <a:stretch/>
        </p:blipFill>
        <p:spPr>
          <a:xfrm>
            <a:off x="304920" y="990720"/>
            <a:ext cx="2057400" cy="2701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StuyvesantSurrender.jpg"/>
          <p:cNvPicPr/>
          <p:nvPr/>
        </p:nvPicPr>
        <p:blipFill>
          <a:blip r:embed="rId8"/>
          <a:stretch/>
        </p:blipFill>
        <p:spPr>
          <a:xfrm>
            <a:off x="0" y="3782880"/>
            <a:ext cx="4343400" cy="3075120"/>
          </a:xfrm>
          <a:prstGeom prst="rect">
            <a:avLst/>
          </a:prstGeom>
          <a:ln w="0">
            <a:noFill/>
          </a:ln>
        </p:spPr>
      </p:pic>
      <p:sp>
        <p:nvSpPr>
          <p:cNvPr id="37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66117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French Colonization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60199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cques Carti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lored America 1536-4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nted cross on Gaspé Peninsula in 153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sited Stadacona (Quebec) &amp; Hochelaga (Montreal) in 1535-3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. short-lived colony of "Charlesbourg- Royal," near Stadacona, 1541-4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rmoil in France prevented follow-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muel de Champl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de several voyages beginning in 16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lped est. settlements at Ste. Croix &amp; Port Roy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nded first permanent French settlement at Quebec in 160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ied with Hurons against Iriquo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0" name="Picture 6" descr="Cartier(color)"/>
          <p:cNvPicPr/>
          <p:nvPr/>
        </p:nvPicPr>
        <p:blipFill>
          <a:blip r:embed="rId10"/>
          <a:stretch/>
        </p:blipFill>
        <p:spPr>
          <a:xfrm>
            <a:off x="7010280" y="990720"/>
            <a:ext cx="1724040" cy="23619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7" descr="Champlain(color)"/>
          <p:cNvPicPr/>
          <p:nvPr/>
        </p:nvPicPr>
        <p:blipFill>
          <a:blip r:embed="rId11"/>
          <a:stretch/>
        </p:blipFill>
        <p:spPr>
          <a:xfrm>
            <a:off x="7010280" y="3809880"/>
            <a:ext cx="1764000" cy="23623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8"/>
          <p:cNvSpPr/>
          <p:nvPr/>
        </p:nvSpPr>
        <p:spPr>
          <a:xfrm>
            <a:off x="7167240" y="3352680"/>
            <a:ext cx="142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cques Cart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9"/>
          <p:cNvSpPr/>
          <p:nvPr/>
        </p:nvSpPr>
        <p:spPr>
          <a:xfrm>
            <a:off x="6863040" y="6248520"/>
            <a:ext cx="197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muel de Champl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New Franc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86" name="Content Placeholder 7" descr=""/>
          <p:cNvPicPr/>
          <p:nvPr/>
        </p:nvPicPr>
        <p:blipFill>
          <a:blip r:embed="rId1"/>
          <a:stretch/>
        </p:blipFill>
        <p:spPr>
          <a:xfrm>
            <a:off x="0" y="1219320"/>
            <a:ext cx="4916520" cy="32763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876560" y="990720"/>
            <a:ext cx="419076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any of New Fran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00 Associates) owned colony, 1627-166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me royal colony in 1663, with Jean-Baptiste Talon as superintend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ther Jacques Marquette &amp; Louis Jolli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lored Great Lakes &amp; upper Mississippi valley in 167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né-Robert Cavalier, Sieur de La Salle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ailed down the Mississippi to the Gulf of Mexico in 1679-8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79040" y="-360"/>
            <a:ext cx="8364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New France &amp; Louisiana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190760" y="914400"/>
            <a:ext cx="4647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pulation grew slow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63: 3,050; 1700: 15,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ly because King Louis XIV refused to allow Huguenots to settle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Indian allies, so tended to treat them better than English &amp; Spanish d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1" name="Picture 6" descr="NorthAmerica1750map"/>
          <p:cNvPicPr/>
          <p:nvPr/>
        </p:nvPicPr>
        <p:blipFill>
          <a:blip r:embed="rId5"/>
          <a:stretch/>
        </p:blipFill>
        <p:spPr>
          <a:xfrm>
            <a:off x="152280" y="1066680"/>
            <a:ext cx="3810240" cy="3487680"/>
          </a:xfrm>
          <a:prstGeom prst="rect">
            <a:avLst/>
          </a:prstGeom>
          <a:ln w="0">
            <a:noFill/>
          </a:ln>
        </p:spPr>
      </p:pic>
      <p:sp>
        <p:nvSpPr>
          <p:cNvPr id="39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Philip II &amp; the Netherlands Revolt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0" y="1066320"/>
            <a:ext cx="4572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vinist uprising in Aug. 1566 ruthlessly put down by Duke of Alva by 15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7 provinces unite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lliam the Silent, Prince of Orange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157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ander Farnese, Duke of Parma, reconquered southern 10 provi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thern 7 provinces form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on of Utrec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1579; declare independence as the United Provinces of the Netherlands in 158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999000" y="5029200"/>
            <a:ext cx="397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© 2000 Wadsworth / Thomson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7" descr="PhilipIIMap"/>
          <p:cNvPicPr/>
          <p:nvPr/>
        </p:nvPicPr>
        <p:blipFill>
          <a:blip r:embed="rId5"/>
          <a:stretch/>
        </p:blipFill>
        <p:spPr>
          <a:xfrm>
            <a:off x="152280" y="3651120"/>
            <a:ext cx="4419720" cy="32068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" descr=""/>
          <p:cNvPicPr/>
          <p:nvPr/>
        </p:nvPicPr>
        <p:blipFill>
          <a:blip r:embed="rId6"/>
          <a:stretch/>
        </p:blipFill>
        <p:spPr>
          <a:xfrm>
            <a:off x="152280" y="830160"/>
            <a:ext cx="2057400" cy="2799000"/>
          </a:xfrm>
          <a:prstGeom prst="rect">
            <a:avLst/>
          </a:prstGeom>
          <a:ln w="0">
            <a:noFill/>
          </a:ln>
        </p:spPr>
      </p:pic>
      <p:sp>
        <p:nvSpPr>
          <p:cNvPr id="340" name="TextBox 2"/>
          <p:cNvSpPr/>
          <p:nvPr/>
        </p:nvSpPr>
        <p:spPr>
          <a:xfrm>
            <a:off x="2133720" y="2766960"/>
            <a:ext cx="250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ing Philip II of Spain berating William the Silent, Prince of Orange, by Cornelis Kruse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Elizabeth I &amp; English Intervention 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6248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izabe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urned down offer of Dutch crown, but gave them money &amp; tr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ilip plotted with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ry Queen of Sc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ot discovered &amp; Mary executed in Feb. 158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pe Sixtus V offered Philip 1 million gold ducats to conquer England &amp; avenge Ma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panish Armad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feated in English Channel in 158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ks beginning of Spain’s dec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ks beginning of rise of Dutch &amp; English empi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ads to the est. of North American colon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4" name="Picture 6" descr="ElizabethI"/>
          <p:cNvPicPr/>
          <p:nvPr/>
        </p:nvPicPr>
        <p:blipFill>
          <a:blip r:embed="rId9"/>
          <a:stretch/>
        </p:blipFill>
        <p:spPr>
          <a:xfrm>
            <a:off x="6248520" y="1143000"/>
            <a:ext cx="2784240" cy="4191120"/>
          </a:xfrm>
          <a:prstGeom prst="rect">
            <a:avLst/>
          </a:prstGeom>
          <a:ln w="0">
            <a:noFill/>
          </a:ln>
        </p:spPr>
      </p:pic>
      <p:sp>
        <p:nvSpPr>
          <p:cNvPr id="345" name="TextBox 4"/>
          <p:cNvSpPr/>
          <p:nvPr/>
        </p:nvSpPr>
        <p:spPr>
          <a:xfrm>
            <a:off x="6265440" y="5334120"/>
            <a:ext cx="27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een Elizabeth I (1558-16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The Defeat of the Spanish Armada</a:t>
            </a:r>
            <a:br>
              <a:rPr sz="4400"/>
            </a:b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by Philippe-Jacques de Loutherbourg, 1796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48" name="Content Placeholder 3" descr="DefeatofSpanishArmada.jpg"/>
          <p:cNvPicPr/>
          <p:nvPr/>
        </p:nvPicPr>
        <p:blipFill>
          <a:blip r:embed="rId1"/>
          <a:stretch/>
        </p:blipFill>
        <p:spPr>
          <a:xfrm>
            <a:off x="1523880" y="2147760"/>
            <a:ext cx="5967360" cy="4643640"/>
          </a:xfrm>
          <a:prstGeom prst="rect">
            <a:avLst/>
          </a:prstGeom>
          <a:ln w="0">
            <a:noFill/>
          </a:ln>
        </p:spPr>
      </p:pic>
      <p:sp>
        <p:nvSpPr>
          <p:cNvPr id="34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Dutch Exploration &amp; Colonization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343040" y="1295280"/>
            <a:ext cx="4800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tch East India Co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ir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nry Huds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1609 to find northern passage around As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alf Mo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ced to turn back by ice, so sailed across Atlantic inst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vered Delaware Bay, then sailed up river named after him (Sept. 3 – Oct. 4, 160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d by English on return voyage &amp; sailed next year for them, but marooned in B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2" name="Picture 7" descr="HudsonVoyageMap"/>
          <p:cNvPicPr/>
          <p:nvPr/>
        </p:nvPicPr>
        <p:blipFill>
          <a:blip r:embed="rId5"/>
          <a:stretch/>
        </p:blipFill>
        <p:spPr>
          <a:xfrm>
            <a:off x="0" y="4114800"/>
            <a:ext cx="4267080" cy="2436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" descr=""/>
          <p:cNvPicPr/>
          <p:nvPr/>
        </p:nvPicPr>
        <p:blipFill>
          <a:blip r:embed="rId6"/>
          <a:stretch/>
        </p:blipFill>
        <p:spPr>
          <a:xfrm>
            <a:off x="1274760" y="1066680"/>
            <a:ext cx="2992320" cy="2057400"/>
          </a:xfrm>
          <a:prstGeom prst="rect">
            <a:avLst/>
          </a:prstGeom>
          <a:ln w="0">
            <a:noFill/>
          </a:ln>
        </p:spPr>
      </p:pic>
      <p:pic>
        <p:nvPicPr>
          <p:cNvPr id="354" name="ClipArt Placeholder 3" descr=""/>
          <p:cNvPicPr/>
          <p:nvPr/>
        </p:nvPicPr>
        <p:blipFill>
          <a:blip r:embed="rId7"/>
          <a:stretch/>
        </p:blipFill>
        <p:spPr>
          <a:xfrm>
            <a:off x="152280" y="22096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5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60440" y="15192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c6600"/>
                </a:solidFill>
                <a:latin typeface="Times New Roman"/>
              </a:rPr>
              <a:t>The Last Voyage of Henry Hudson, by John Collier</a:t>
            </a:r>
            <a:endParaRPr b="0" i="1" lang="en-US" sz="26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7" name="Content Placeholder 6" descr=""/>
          <p:cNvPicPr/>
          <p:nvPr/>
        </p:nvPicPr>
        <p:blipFill>
          <a:blip r:embed="rId1"/>
          <a:stretch/>
        </p:blipFill>
        <p:spPr>
          <a:xfrm>
            <a:off x="1905120" y="777960"/>
            <a:ext cx="5181480" cy="608004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New Netherlands Colony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5638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tch merchants began to tap into fur tr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riaen Blo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lored Long Island Sound &amp; Conn. R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Netherland Co. created in 1614 &amp; est. Ft. Nassa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tch West India Co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med in 1621 &amp; took over col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t. Good Hope (Hartford, Conn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t. Orange (Alban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gh Island (Trenton, N.J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w Amsterd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st. in 16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1" name="Picture 6" descr="NewNethMap"/>
          <p:cNvPicPr/>
          <p:nvPr/>
        </p:nvPicPr>
        <p:blipFill>
          <a:blip r:embed="rId9"/>
          <a:stretch/>
        </p:blipFill>
        <p:spPr>
          <a:xfrm>
            <a:off x="5757840" y="1371600"/>
            <a:ext cx="3386160" cy="525780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New Amsterdam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64" name="Picture 3" descr="NewAmsterdam"/>
          <p:cNvPicPr/>
          <p:nvPr/>
        </p:nvPicPr>
        <p:blipFill>
          <a:blip r:embed="rId1"/>
          <a:stretch/>
        </p:blipFill>
        <p:spPr>
          <a:xfrm>
            <a:off x="228600" y="1905120"/>
            <a:ext cx="4572000" cy="30733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NewAmsterdampic"/>
          <p:cNvPicPr/>
          <p:nvPr/>
        </p:nvPicPr>
        <p:blipFill>
          <a:blip r:embed="rId2"/>
          <a:stretch/>
        </p:blipFill>
        <p:spPr>
          <a:xfrm>
            <a:off x="4952880" y="1981080"/>
            <a:ext cx="3962520" cy="2830680"/>
          </a:xfrm>
          <a:prstGeom prst="rect">
            <a:avLst/>
          </a:prstGeom>
          <a:ln w="0">
            <a:noFill/>
          </a:ln>
        </p:spPr>
      </p:pic>
      <p:sp>
        <p:nvSpPr>
          <p:cNvPr id="36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New Netherland Society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0" y="990720"/>
            <a:ext cx="60199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Charter of Privileges &amp; Exemptions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(1629) allowed directors who planted 50 colonists in 4 years to govern large estates (</a:t>
            </a:r>
            <a:r>
              <a:rPr b="1" i="1" lang="en-US" sz="2600" spc="-1" strike="noStrike">
                <a:solidFill>
                  <a:srgbClr val="000000"/>
                </a:solidFill>
                <a:latin typeface="Tahoma"/>
              </a:rPr>
              <a:t>patroonships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) autonomousl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Renesselaerswyk was success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n’t recreate European social order &amp; manage estates long-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1639 - all people to participate in fur trade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ubled population from 1,000 to 2,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SzPct val="1266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lations with “</a:t>
            </a:r>
            <a:r>
              <a:rPr b="0" i="1" lang="en-US" sz="2600" spc="-1" strike="noStrike">
                <a:solidFill>
                  <a:srgbClr val="000000"/>
                </a:solidFill>
                <a:latin typeface="Tahoma"/>
              </a:rPr>
              <a:t>Wilden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” soured by daily provocations &amp; culture clash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9" name="Content Placeholder 4" descr="vanrensselaer-kiliaen-100.jpg"/>
          <p:cNvPicPr/>
          <p:nvPr/>
        </p:nvPicPr>
        <p:blipFill>
          <a:blip r:embed="rId7"/>
          <a:stretch/>
        </p:blipFill>
        <p:spPr>
          <a:xfrm>
            <a:off x="6019920" y="990720"/>
            <a:ext cx="2904840" cy="3841560"/>
          </a:xfrm>
          <a:prstGeom prst="rect">
            <a:avLst/>
          </a:prstGeom>
          <a:ln w="0">
            <a:noFill/>
          </a:ln>
        </p:spPr>
      </p:pic>
      <p:sp>
        <p:nvSpPr>
          <p:cNvPr id="370" name="TextBox 5"/>
          <p:cNvSpPr/>
          <p:nvPr/>
        </p:nvSpPr>
        <p:spPr>
          <a:xfrm>
            <a:off x="6401880" y="4876920"/>
            <a:ext cx="209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iliaen Van Renssela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Picture 6" descr="VanRensselaerArms.jpg"/>
          <p:cNvPicPr/>
          <p:nvPr/>
        </p:nvPicPr>
        <p:blipFill>
          <a:blip r:embed="rId8"/>
          <a:stretch/>
        </p:blipFill>
        <p:spPr>
          <a:xfrm>
            <a:off x="6858000" y="5257800"/>
            <a:ext cx="1143000" cy="157176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19:21:39Z</dcterms:created>
  <dc:creator>Hans Vought</dc:creator>
  <dc:description/>
  <dc:language>en-US</dc:language>
  <cp:lastModifiedBy>Legion</cp:lastModifiedBy>
  <dcterms:modified xsi:type="dcterms:W3CDTF">2017-07-05T13:06:00Z</dcterms:modified>
  <cp:revision>16</cp:revision>
  <dc:subject/>
  <dc:title>The Dutch and French Colonies in the New World</dc:title>
</cp:coreProperties>
</file>