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404-5C27-45A6-AB86-8214BE33ADBF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ui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Inuit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from below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father mistreated 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was a human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ge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s traded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animals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uropea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ed 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tol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d for by everyone in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ildr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Agluk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a Song 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ts with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music blends with pop 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uit Singer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san Agluk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navut is a territory run by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the Inuit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da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http://nativeamericans.mrdonn.org/arctic/inuit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IBLIOGRAPHY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Gray-KanaTiosh, Barbara.  Inuit. ABDO Publishing Company, 2004.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www.ih.k12.oh.us/ps/Inuit/Maininuit.htm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~http://nativeamericans.mrdonn.org/arctic/inuit.html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made clothing out of polar bear,  fox and wolf 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goggles out of whale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loth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was very important to the In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ed living in harsh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lways built sl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mil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ceremony befor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shared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pooned seals for m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sing songs for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en would face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almost never happened near the Inuit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berries and small shru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days were very cold and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Greenland  and coast of 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lan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group had a whale c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settlements from 40 to 100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ciet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with knif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ved on soap 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rated clothes and weap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raf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snow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sod ho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in a hide 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m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EF4-D435-4EB1-98AD-35CF681F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8BD-8446-4EDD-BE2E-5109D61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BF8-17F9-40EE-85A5-385E21C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6A4-DCFC-43C6-A971-8CC8F5CA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3E93-15E5-4D17-81D7-78C73DD4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C0C-6C07-474A-849E-D33EA21C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FB5-628E-4C25-9598-C7794F9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91C3-7E3F-4AFD-A6C4-6691A7A2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40E3-CBC3-4A3F-809F-01F6435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391-FFAB-448C-8E00-66F0158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3DC7-AB70-4B63-A9B1-14A154C9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BAB-1E65-4E12-A158-3389630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D663-2D10-4C4C-9898-21C359D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812-EC4A-4E9E-8B5A-96A2776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BBA1-3AF3-4499-AACC-48D2128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5276-96F1-4E05-BC9B-99AA11B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438-319B-4B1C-BAB9-4B4AF0F7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DBA-4C48-4F3B-8339-B493C500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CA7-50C5-423A-BE33-C95F4F6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4BA-ACE0-4A65-B8ED-D9567B5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7D0-7499-4157-B961-9E5A2EC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454-A55A-4059-A000-761FD78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A77-29D0-4B76-A41A-05C689E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227-9464-4811-BB1B-AB2A610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4C2-3C74-4162-9330-2880E9FD6E82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93E-FCB7-4FB6-BA90-1D8027279C1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0E25-41DC-44E6-859A-BA047041AF9B}" type="datetime">
              <a:rPr b="0" lang="en-US" sz="1400" spc="-1" strike="noStrike">
                <a:solidFill>
                  <a:srgbClr val="ffcc00"/>
                </a:solidFill>
                <a:latin typeface="Arial Black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A59-5425-46BE-962F-C531BEFCA86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h.k12.oh.us/ps/Inuit/Maininuit.htm" TargetMode="External"/><Relationship Id="rId2" Type="http://schemas.openxmlformats.org/officeDocument/2006/relationships/hyperlink" Target="http://nativeamericans.mrdonn.org/arctic/inui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Inuit Trib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Picture 8" descr="dogs"/>
          <p:cNvPicPr/>
          <p:nvPr/>
        </p:nvPicPr>
        <p:blipFill>
          <a:blip r:embed="rId1"/>
          <a:stretch/>
        </p:blipFill>
        <p:spPr>
          <a:xfrm>
            <a:off x="1828800" y="3282840"/>
            <a:ext cx="5791320" cy="3194280"/>
          </a:xfrm>
          <a:prstGeom prst="rect">
            <a:avLst/>
          </a:prstGeom>
          <a:ln w="0">
            <a:noFill/>
          </a:ln>
        </p:spPr>
      </p:pic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87640" y="379080"/>
            <a:ext cx="54705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e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woman from below the oce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father mistreated 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 human be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6" descr="wolf"/>
          <p:cNvPicPr/>
          <p:nvPr/>
        </p:nvPicPr>
        <p:blipFill>
          <a:blip r:embed="rId1"/>
          <a:stretch/>
        </p:blipFill>
        <p:spPr>
          <a:xfrm>
            <a:off x="5105520" y="3581280"/>
            <a:ext cx="2997000" cy="22226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004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urope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18288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ers traded fu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ade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de animals endang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6" descr="qamutik"/>
          <p:cNvPicPr/>
          <p:nvPr/>
        </p:nvPicPr>
        <p:blipFill>
          <a:blip r:embed="rId1"/>
          <a:stretch/>
        </p:blipFill>
        <p:spPr>
          <a:xfrm>
            <a:off x="4343400" y="2743200"/>
            <a:ext cx="4495680" cy="36320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ldr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layed cats crad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re told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ed for by everyone in trib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Picture 6" descr="wolf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uit Sing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san Agluk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s a Song wri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ts with s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 music blends with pop mus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7" name="Picture 7" descr="MCj04414470000[1]"/>
          <p:cNvPicPr/>
          <p:nvPr/>
        </p:nvPicPr>
        <p:blipFill>
          <a:blip r:embed="rId1"/>
          <a:stretch/>
        </p:blipFill>
        <p:spPr>
          <a:xfrm>
            <a:off x="4114800" y="22096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navut is a territory run by the Inui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important to the Inuit cul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6" descr="work"/>
          <p:cNvPicPr/>
          <p:nvPr/>
        </p:nvPicPr>
        <p:blipFill>
          <a:blip r:embed="rId1"/>
          <a:stretch/>
        </p:blipFill>
        <p:spPr>
          <a:xfrm>
            <a:off x="4572000" y="2209680"/>
            <a:ext cx="2590920" cy="1997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hunt"/>
          <p:cNvPicPr/>
          <p:nvPr/>
        </p:nvPicPr>
        <p:blipFill>
          <a:blip r:embed="rId2"/>
          <a:stretch/>
        </p:blipFill>
        <p:spPr>
          <a:xfrm>
            <a:off x="3200400" y="487692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Gray-KanaTiosh, Barbara.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u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ABDO Publishing Company, 2004.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ih.k12.oh.us/ps/Inuit/Maininuit.htm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~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nativeamericans.mrdonn.org/arctic/inuit.htm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oth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Women made clothing out of polar bear,  fox and wolf fur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ade goggles out of whale bone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parkam2a"/>
          <p:cNvPicPr/>
          <p:nvPr/>
        </p:nvPicPr>
        <p:blipFill>
          <a:blip r:embed="rId1"/>
          <a:stretch/>
        </p:blipFill>
        <p:spPr>
          <a:xfrm>
            <a:off x="304920" y="4876920"/>
            <a:ext cx="1222200" cy="1981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clothes"/>
          <p:cNvPicPr/>
          <p:nvPr/>
        </p:nvPicPr>
        <p:blipFill>
          <a:blip r:embed="rId2"/>
          <a:stretch/>
        </p:blipFill>
        <p:spPr>
          <a:xfrm>
            <a:off x="7300800" y="4495680"/>
            <a:ext cx="1393920" cy="23623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amily was very important to the Inui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urvived living in harsh climate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en always built sled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6" descr="dogs"/>
          <p:cNvPicPr/>
          <p:nvPr/>
        </p:nvPicPr>
        <p:blipFill>
          <a:blip r:embed="rId1"/>
          <a:stretch/>
        </p:blipFill>
        <p:spPr>
          <a:xfrm rot="19991400">
            <a:off x="3580920" y="456840"/>
            <a:ext cx="2286000" cy="150984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4960" y="609480"/>
            <a:ext cx="51814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a ceremony before hunt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ways shared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rpooned seals for me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6" descr="caribui"/>
          <p:cNvPicPr/>
          <p:nvPr/>
        </p:nvPicPr>
        <p:blipFill>
          <a:blip r:embed="rId1"/>
          <a:stretch/>
        </p:blipFill>
        <p:spPr>
          <a:xfrm>
            <a:off x="5029200" y="3200400"/>
            <a:ext cx="3530520" cy="30621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97080" y="469800"/>
            <a:ext cx="44607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sing songs for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en would face of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r almost never happened near the Inuit trib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6" descr="knife"/>
          <p:cNvPicPr/>
          <p:nvPr/>
        </p:nvPicPr>
        <p:blipFill>
          <a:blip r:embed="rId1"/>
          <a:stretch/>
        </p:blipFill>
        <p:spPr>
          <a:xfrm>
            <a:off x="4572000" y="2576520"/>
            <a:ext cx="4572000" cy="214776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ts of berries and small shrub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days were very cold and da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Greenland  and coast of Ala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6" descr="inuits1"/>
          <p:cNvPicPr/>
          <p:nvPr/>
        </p:nvPicPr>
        <p:blipFill>
          <a:blip r:embed="rId1"/>
          <a:stretch/>
        </p:blipFill>
        <p:spPr>
          <a:xfrm>
            <a:off x="4705200" y="2133720"/>
            <a:ext cx="4438800" cy="472428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cie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lea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group had a whale cre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d settlements from 40 to 100 peo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attack2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af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with knif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ved on soap s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orated clothes and weap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jagged knife"/>
          <p:cNvPicPr/>
          <p:nvPr/>
        </p:nvPicPr>
        <p:blipFill>
          <a:blip r:embed="rId1"/>
          <a:stretch/>
        </p:blipFill>
        <p:spPr>
          <a:xfrm>
            <a:off x="5943600" y="3505320"/>
            <a:ext cx="1770120" cy="30477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400" y="68580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snow ho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sod hom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ved in a hide t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7" descr="igloo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144144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8:47Z</dcterms:created>
  <dc:creator>Mohawk School</dc:creator>
  <dc:description/>
  <dc:language>en-US</dc:language>
  <cp:lastModifiedBy>Legion</cp:lastModifiedBy>
  <dcterms:modified xsi:type="dcterms:W3CDTF">2017-07-05T13:16:09Z</dcterms:modified>
  <cp:revision>15</cp:revision>
  <dc:subject/>
  <dc:title>The Inuit Tribe</dc:title>
</cp:coreProperties>
</file>