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40AF-850C-47C1-BA23-630ABB2EA450}" type="slidenum">
              <a:rPr b="0" lang="uk-U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uit T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Inuit Trib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ge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man from below the oc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 father mistreated 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 was a human be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egend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woman from below the ocea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er father mistreated he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he was a human being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urop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orers traded f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ded weap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animals endang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uropean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xplorers traded fur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raded weapon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ade animals endangere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ld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yed cats crad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re told st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ed for by everyone in t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hildre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layed cats cradl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ere told storie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ared for by everyone in trib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uit Sing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san Agluk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 a Song wr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nts with s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 music blends with pop mus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nuit Singer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usan Aglukark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as a Song write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hants with sound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er music blends with pop music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navut is a territory run by the In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important to the Inuit cul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oday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unavut is a territory run by the Inui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t is important to the Inuit cultur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BLIOGRAPH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~Gray-KanaTiosh, Barbara.  Inuit. ABDO Publishing Company, 2004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~http://www.ih.k12.oh.us/ps/Inuit/Maininuit.ht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~http://nativeamericans.mrdonn.org/arctic/inuit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BIBLIOGRAPHY</a:t>
            </a: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~Gray-KanaTiosh, Barbara.  Inuit. ABDO Publishing Company, 2004. 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~http://www.ih.k12.oh.us/ps/Inuit/Maininuit.htm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~http://nativeamericans.mrdonn.org/arctic/inuit.html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men made clothing out of polar bear,  fox and wolf f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goggles out of whale b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lothing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omen made clothing out of polar bear,  fox and wolf fu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ade goggles out of whale bone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mily was very important to the In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vived living in harsh clim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always built sle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Family was very important to the Inui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urvived living in harsh climat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en always built sled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Family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d a ceremony before hun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ways shared m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pooned seals for m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Foo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ad a ceremony before hunting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lways shared mea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arpooned seals for mea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sing songs for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men would face o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almost never happened near the Inuit trib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a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ould sing songs for wa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wo men would face off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ar almost never happened near the Inuit tribe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ts of berries and small shru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days were very cold and d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 in Greenland  and coast of Alas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melan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ots of berries and small shrub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ome days were very cold and dark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ived in Greenland  and coast of Alaska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cie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group had a l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group had a whale cr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d settlements from 40 to 100 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ociety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ach group had a leade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ach group had a whale crew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ad settlements from 40 to 100 peopl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af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ved with knif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ved on soap 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orated clothes and weap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raft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arved with knife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arved on soap ston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Decorated clothes and weapon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 in a snow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 in sod hom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 in a hide t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me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ived in a snow hous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ived in sod homes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ived in a hide tent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9936-AD27-465C-920D-461AC9D9E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115F-3AA2-4295-A5E9-D7C35ABD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4DE3-0F69-4FB5-9A2C-5FD56904E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EBD9-B565-4550-A228-5F9362AD7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F6EE-E690-486B-B31B-4885A2C55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394C-791A-414C-AEB3-14A8E53A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475E-8EC6-4313-932F-2CB40C62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67C2-F06F-44E6-8020-BE058568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F6AF6-9662-4D99-80C3-A67C084A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C4549-A28F-4490-97D2-61DD2731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17E5-506C-4FF1-BC67-5DB5FD1A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BA7C-7A5F-47B4-8BFB-4D939A33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2C33-E7F6-409F-A1BD-A0DDC555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1355-C4B3-4D62-8A36-705F8874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CD90-3FC0-4186-B890-C837B6D5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3127D-8F6B-4433-BDA8-36721C781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B8CF-629A-4FEE-9FAE-6A6CB7481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D790-265B-4105-9DCB-0A34C63E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AB21-A233-462A-B59E-CB5EDA22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FCFB-D1C5-4A06-A742-8E2F1376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3A7B-80D6-4237-AFFE-AE708963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3106-4B24-4156-AC8C-1E390CB4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376F-B6FC-4CB8-8C46-A7C82A7F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C5A3-77FE-4615-A3EC-DAC5F81C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8AE0-191F-4088-85D0-7E3D4B3822F5}" type="datetime">
              <a:rPr b="0" lang="en-US" sz="1400" spc="-1" strike="noStrike">
                <a:solidFill>
                  <a:srgbClr val="000000"/>
                </a:solidFill>
                <a:latin typeface="Arial Black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F8FB-ED46-4C32-85A2-1EDA8CF40D1A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3B40-6CAB-4314-9DE0-C6C99178415A}" type="datetime">
              <a:rPr b="0" lang="en-US" sz="1400" spc="-1" strike="noStrike">
                <a:solidFill>
                  <a:srgbClr val="ffcc00"/>
                </a:solidFill>
                <a:latin typeface="Arial Black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D2DF-A114-4569-9D6B-1D5956A5F86C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ih.k12.oh.us/ps/Inuit/Maininuit.htm" TargetMode="External"/><Relationship Id="rId2" Type="http://schemas.openxmlformats.org/officeDocument/2006/relationships/hyperlink" Target="http://nativeamericans.mrdonn.org/arctic/inuit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Inuit Trib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8" name="Picture 8" descr="dogs"/>
          <p:cNvPicPr/>
          <p:nvPr/>
        </p:nvPicPr>
        <p:blipFill>
          <a:blip r:embed="rId1"/>
          <a:stretch/>
        </p:blipFill>
        <p:spPr>
          <a:xfrm>
            <a:off x="1828800" y="3282840"/>
            <a:ext cx="5791320" cy="3194280"/>
          </a:xfrm>
          <a:prstGeom prst="rect">
            <a:avLst/>
          </a:prstGeom>
          <a:ln w="0">
            <a:noFill/>
          </a:ln>
        </p:spPr>
      </p:pic>
      <p:sp>
        <p:nvSpPr>
          <p:cNvPr id="3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987640" y="379080"/>
            <a:ext cx="547056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egen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woman from below the ocea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er father mistreated h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he was a human be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5" name="Picture 6" descr="wolf"/>
          <p:cNvPicPr/>
          <p:nvPr/>
        </p:nvPicPr>
        <p:blipFill>
          <a:blip r:embed="rId1"/>
          <a:stretch/>
        </p:blipFill>
        <p:spPr>
          <a:xfrm>
            <a:off x="5105520" y="3581280"/>
            <a:ext cx="2997000" cy="2222640"/>
          </a:xfrm>
          <a:prstGeom prst="rect">
            <a:avLst/>
          </a:prstGeom>
          <a:ln w="0">
            <a:noFill/>
          </a:ln>
        </p:spPr>
      </p:pic>
      <p:sp>
        <p:nvSpPr>
          <p:cNvPr id="3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200400" y="7617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uropea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066320" y="182880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xplorers traded fu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raded weapo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ade animals endangere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9" name="Picture 6" descr="qamutik"/>
          <p:cNvPicPr/>
          <p:nvPr/>
        </p:nvPicPr>
        <p:blipFill>
          <a:blip r:embed="rId1"/>
          <a:stretch/>
        </p:blipFill>
        <p:spPr>
          <a:xfrm>
            <a:off x="4343400" y="2743200"/>
            <a:ext cx="4495680" cy="3632040"/>
          </a:xfrm>
          <a:prstGeom prst="rect">
            <a:avLst/>
          </a:prstGeom>
          <a:ln w="0">
            <a:noFill/>
          </a:ln>
        </p:spPr>
      </p:pic>
      <p:sp>
        <p:nvSpPr>
          <p:cNvPr id="4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ildre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layed cats crad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ere told stori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ared for by everyone in trib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3" name="Picture 6" descr="wolf"/>
          <p:cNvPicPr/>
          <p:nvPr/>
        </p:nvPicPr>
        <p:blipFill>
          <a:blip r:embed="rId1"/>
          <a:stretch/>
        </p:blipFill>
        <p:spPr>
          <a:xfrm>
            <a:off x="4419720" y="1828800"/>
            <a:ext cx="4724280" cy="4648320"/>
          </a:xfrm>
          <a:prstGeom prst="rect">
            <a:avLst/>
          </a:prstGeom>
          <a:ln w="0">
            <a:noFill/>
          </a:ln>
        </p:spPr>
      </p:pic>
      <p:sp>
        <p:nvSpPr>
          <p:cNvPr id="4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uit Singe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usan Aglukark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as a Song writ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hants with sound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er music blends with pop music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7" name="Picture 7" descr="MCj04414470000[1]"/>
          <p:cNvPicPr/>
          <p:nvPr/>
        </p:nvPicPr>
        <p:blipFill>
          <a:blip r:embed="rId1"/>
          <a:stretch/>
        </p:blipFill>
        <p:spPr>
          <a:xfrm>
            <a:off x="4114800" y="220968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4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oda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unavut is a territory run by the Inui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t is important to the Inuit cultur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11" name="Picture 6" descr="work"/>
          <p:cNvPicPr/>
          <p:nvPr/>
        </p:nvPicPr>
        <p:blipFill>
          <a:blip r:embed="rId1"/>
          <a:stretch/>
        </p:blipFill>
        <p:spPr>
          <a:xfrm>
            <a:off x="4572000" y="2209680"/>
            <a:ext cx="2590920" cy="19972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7" descr="hunt"/>
          <p:cNvPicPr/>
          <p:nvPr/>
        </p:nvPicPr>
        <p:blipFill>
          <a:blip r:embed="rId2"/>
          <a:stretch/>
        </p:blipFill>
        <p:spPr>
          <a:xfrm>
            <a:off x="3200400" y="4876920"/>
            <a:ext cx="5486400" cy="1981080"/>
          </a:xfrm>
          <a:prstGeom prst="rect">
            <a:avLst/>
          </a:prstGeom>
          <a:ln w="0">
            <a:noFill/>
          </a:ln>
        </p:spPr>
      </p:pic>
      <p:sp>
        <p:nvSpPr>
          <p:cNvPr id="4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IBLIOGRAPHY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~Gray-KanaTiosh, Barbara.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Inuit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 ABDO Publishing Company, 2004. 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~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http://www.ih.k12.oh.us/ps/Inuit/Maininuit.htm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~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http://nativeamericans.mrdonn.org/arctic/inuit.html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othin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Women made clothing out of polar bear,  fox and wolf fur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876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Made goggles out of whale bones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876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2" name="Picture 6" descr="parkam2a"/>
          <p:cNvPicPr/>
          <p:nvPr/>
        </p:nvPicPr>
        <p:blipFill>
          <a:blip r:embed="rId1"/>
          <a:stretch/>
        </p:blipFill>
        <p:spPr>
          <a:xfrm>
            <a:off x="304920" y="4876920"/>
            <a:ext cx="1222200" cy="19810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clothes"/>
          <p:cNvPicPr/>
          <p:nvPr/>
        </p:nvPicPr>
        <p:blipFill>
          <a:blip r:embed="rId2"/>
          <a:stretch/>
        </p:blipFill>
        <p:spPr>
          <a:xfrm>
            <a:off x="7300800" y="4495680"/>
            <a:ext cx="1393920" cy="2362320"/>
          </a:xfrm>
          <a:prstGeom prst="rect">
            <a:avLst/>
          </a:prstGeom>
          <a:ln w="0">
            <a:noFill/>
          </a:ln>
        </p:spPr>
      </p:pic>
      <p:sp>
        <p:nvSpPr>
          <p:cNvPr id="3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Family was very important to the Inuit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876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Survived living in harsh climate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876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Men always built sleds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876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Family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7" name="Picture 6" descr="dogs"/>
          <p:cNvPicPr/>
          <p:nvPr/>
        </p:nvPicPr>
        <p:blipFill>
          <a:blip r:embed="rId1"/>
          <a:stretch/>
        </p:blipFill>
        <p:spPr>
          <a:xfrm rot="19991400">
            <a:off x="3580920" y="456840"/>
            <a:ext cx="2286000" cy="1509840"/>
          </a:xfrm>
          <a:prstGeom prst="rect">
            <a:avLst/>
          </a:prstGeom>
          <a:ln w="0">
            <a:noFill/>
          </a:ln>
        </p:spPr>
      </p:pic>
      <p:sp>
        <p:nvSpPr>
          <p:cNvPr id="3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504960" y="609480"/>
            <a:ext cx="51814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oo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ad a ceremony before hunt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lways shared me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arpooned seals for me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1" name="Picture 6" descr="caribui"/>
          <p:cNvPicPr/>
          <p:nvPr/>
        </p:nvPicPr>
        <p:blipFill>
          <a:blip r:embed="rId1"/>
          <a:stretch/>
        </p:blipFill>
        <p:spPr>
          <a:xfrm>
            <a:off x="5029200" y="3200400"/>
            <a:ext cx="3530520" cy="3062160"/>
          </a:xfrm>
          <a:prstGeom prst="rect">
            <a:avLst/>
          </a:prstGeom>
          <a:ln w="0">
            <a:noFill/>
          </a:ln>
        </p:spPr>
      </p:pic>
      <p:sp>
        <p:nvSpPr>
          <p:cNvPr id="3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997080" y="469800"/>
            <a:ext cx="446076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a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ould sing songs for wa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wo men would face off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ar almost never happened near the Inuit trib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5" name="Picture 6" descr="knife"/>
          <p:cNvPicPr/>
          <p:nvPr/>
        </p:nvPicPr>
        <p:blipFill>
          <a:blip r:embed="rId1"/>
          <a:stretch/>
        </p:blipFill>
        <p:spPr>
          <a:xfrm>
            <a:off x="4572000" y="2576520"/>
            <a:ext cx="4572000" cy="2147760"/>
          </a:xfrm>
          <a:prstGeom prst="rect">
            <a:avLst/>
          </a:prstGeom>
          <a:ln w="0">
            <a:noFill/>
          </a:ln>
        </p:spPr>
      </p:pic>
      <p:sp>
        <p:nvSpPr>
          <p:cNvPr id="3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200400" y="53352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melan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ots of berries and small shrub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ome days were very cold and dark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ived in Greenland  and coast of Alask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9" name="Picture 6" descr="inuits1"/>
          <p:cNvPicPr/>
          <p:nvPr/>
        </p:nvPicPr>
        <p:blipFill>
          <a:blip r:embed="rId1"/>
          <a:stretch/>
        </p:blipFill>
        <p:spPr>
          <a:xfrm>
            <a:off x="4705200" y="2133720"/>
            <a:ext cx="4438800" cy="4724280"/>
          </a:xfrm>
          <a:prstGeom prst="rect">
            <a:avLst/>
          </a:prstGeom>
          <a:ln w="0">
            <a:noFill/>
          </a:ln>
        </p:spPr>
      </p:pic>
      <p:sp>
        <p:nvSpPr>
          <p:cNvPr id="3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200400" y="685800"/>
            <a:ext cx="5486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ociet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ach group had a lead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ach group had a whale crew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ad settlements from 40 to 100 peop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3" name="Picture 6" descr="attack2"/>
          <p:cNvPicPr/>
          <p:nvPr/>
        </p:nvPicPr>
        <p:blipFill>
          <a:blip r:embed="rId1"/>
          <a:stretch/>
        </p:blipFill>
        <p:spPr>
          <a:xfrm>
            <a:off x="4419720" y="1905120"/>
            <a:ext cx="4724280" cy="4724280"/>
          </a:xfrm>
          <a:prstGeom prst="rect">
            <a:avLst/>
          </a:prstGeom>
          <a:ln w="0">
            <a:noFill/>
          </a:ln>
        </p:spPr>
      </p:pic>
      <p:sp>
        <p:nvSpPr>
          <p:cNvPr id="3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971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raf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arved with knif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arved on soap ston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ecorated clothes and weapo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7" name="Picture 7" descr="jagged knife"/>
          <p:cNvPicPr/>
          <p:nvPr/>
        </p:nvPicPr>
        <p:blipFill>
          <a:blip r:embed="rId1"/>
          <a:stretch/>
        </p:blipFill>
        <p:spPr>
          <a:xfrm>
            <a:off x="5943600" y="3505320"/>
            <a:ext cx="1770120" cy="3047760"/>
          </a:xfrm>
          <a:prstGeom prst="rect">
            <a:avLst/>
          </a:prstGeom>
          <a:ln w="0">
            <a:noFill/>
          </a:ln>
        </p:spPr>
      </p:pic>
      <p:sp>
        <p:nvSpPr>
          <p:cNvPr id="3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200400" y="685800"/>
            <a:ext cx="5486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m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ived in a snow hous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ived in sod homes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ived in a hide tent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1" name="Picture 7" descr="igloo"/>
          <p:cNvPicPr/>
          <p:nvPr/>
        </p:nvPicPr>
        <p:blipFill>
          <a:blip r:embed="rId1"/>
          <a:stretch/>
        </p:blipFill>
        <p:spPr>
          <a:xfrm>
            <a:off x="4572000" y="3505320"/>
            <a:ext cx="2514600" cy="1441440"/>
          </a:xfrm>
          <a:prstGeom prst="rect">
            <a:avLst/>
          </a:prstGeom>
          <a:ln w="0">
            <a:noFill/>
          </a:ln>
        </p:spPr>
      </p:pic>
      <p:sp>
        <p:nvSpPr>
          <p:cNvPr id="3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12:38:47Z</dcterms:created>
  <dc:creator>Mohawk School</dc:creator>
  <dc:description/>
  <dc:language>en-US</dc:language>
  <cp:lastModifiedBy>Legion</cp:lastModifiedBy>
  <dcterms:modified xsi:type="dcterms:W3CDTF">2017-07-05T13:16:09Z</dcterms:modified>
  <cp:revision>15</cp:revision>
  <dc:subject/>
  <dc:title>The Inuit Tribe</dc:title>
</cp:coreProperties>
</file>