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4019-EE57-46AF-9F6A-9E94F8E686E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Native American 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sked her to take her seat in his tent and be his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assed, the chief’s youngest daughter gave birth to a strong son. Her hair grew long.  Her scars disappeared. Her life was full and hap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sked her to take her seat in his tent and be his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ime passed, the chief’s youngest daughter gave birth to a strong son. Her hair grew long.  Her scars disappeared. Her life was full and happ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r, the warrior was not invisible.  As anyone could see, if they simply looked, her warrior was the most wonderful man in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and his wife lived happily together for the rest of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her, the warrior was not invisible.  As anyone could see, if they simply looked, her warrior was the most wonderful man in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and his wife lived happily together for the rest of their li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the two ugly sisters, they lived together in a tent of their own making – unmarried, unloved, and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years went on, many stories were told of the ugly sis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idens heard the stories, they vowed never to be mea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the two ugly sisters, they lived together in a tent of their own making – unmarried, unloved, and igno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 years went on, many stories were told of the ugly sisters. </a:t>
            </a:r>
            <a:br>
              <a:rPr sz="1200"/>
            </a:b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maidens heard the stories, they vowed never to be mean ag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learn more about Native Americans - go here: Native Americ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free clipart, click 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 What fairy tale does this story remind you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d you answer “Cinderella”? We thought so, to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joy Cinderella Stories From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Native Americans - go here: Native Amer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ree clipart, click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fairy tale does this story remind you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 “Cinderella”? We thought so,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Cinderella Stories From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re lived a great warrior. The people told many stories about this strange and wondrous war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ory told of his great power of invisibility. That meant he could wander among the enemies of the tribe, and hear all of their war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re lived a great warrior. The people told many stories about this strange and wondrous warr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story told of his great power of invisibility. That meant he could wander among the enemies of the tribe, and hear all of their war pl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ory told of his great lonel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erson who could see the invisible warrior was his sister.  As much as he loved her, he longed for a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story told of his great loneli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only person who could see the invisible warrior was his sister.  As much as he loved her, he longed for a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trick to weed out the liars. He had his sister lead each maiden towards him as he headed home, pulling his s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used a trick to weed out the liars. He had his sister lead each maiden towards him as he headed home, pulling his sl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one of these answers was correct, the invisible warrior knew that each maiden had 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none of these answers was correct, the invisible warrior knew that each maiden had l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den after maiden attempted to marry the famous warrior, but none passed the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thought about talking to the chief.  The chief had three daughters.  Perhaps he could marry one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warrior had heard that the three sisters wer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den after maiden attempted to marry the famous warrior, but none passed the t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thought about talking to the chief.  The chief had three daughters.  Perhaps he could marry one of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the warrior had heard that the three sisters were me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fully, the two oldest sisters were as cruel as the warrior had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st, however, was kind and gen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uthfully, the two oldest sisters were as cruel as the warrior had hear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youngest, however, was kind and gent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oldest sisters c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oldest sisters ca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w he had found his maiden at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new he had found his maiden at l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C699F-144A-456D-837A-B53D4E03F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66D2F-3E10-44AE-BB5F-5B8EAA8AD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4ABB7-60C9-4FA2-A547-4E8345298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6FF30-A1A8-4FB3-89DA-EE0DE2099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A7CF1-47AA-497B-89C3-C90F93921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11C2E-1E6E-40AD-AFEA-7559AE5F5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61A8D-659F-49E8-8991-ED601E144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F2924-159A-4CF7-BF01-46AE63D12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EF044-038B-4822-843F-3D5E8531F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EDAE-BD1E-4167-8271-E943890BA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2A844-0E44-4D75-8DCF-736CC7EB5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D0F84-93FB-4274-8A02-C98B19C12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6F3F-675D-4954-A3CC-785D469A64AA}"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1"/>
          <a:stretch/>
        </p:blipFill>
        <p:spPr>
          <a:xfrm>
            <a:off x="6300720" y="1268280"/>
            <a:ext cx="1781280" cy="411480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warrior04"/>
          <p:cNvPicPr/>
          <p:nvPr/>
        </p:nvPicPr>
        <p:blipFill>
          <a:blip r:embed="rId1"/>
          <a:stretch/>
        </p:blipFill>
        <p:spPr>
          <a:xfrm>
            <a:off x="5148360" y="1197000"/>
            <a:ext cx="2819160" cy="4676760"/>
          </a:xfrm>
          <a:prstGeom prst="rect">
            <a:avLst/>
          </a:prstGeom>
          <a:ln w="0">
            <a:noFill/>
          </a:ln>
        </p:spPr>
      </p:pic>
      <p:sp>
        <p:nvSpPr>
          <p:cNvPr id="96"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5" descr="warrior12"/>
          <p:cNvPicPr/>
          <p:nvPr/>
        </p:nvPicPr>
        <p:blipFill>
          <a:blip r:embed="rId2"/>
          <a:stretch/>
        </p:blipFill>
        <p:spPr>
          <a:xfrm>
            <a:off x="6012000" y="2409840"/>
            <a:ext cx="3305160" cy="41148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warrior04"/>
          <p:cNvPicPr/>
          <p:nvPr/>
        </p:nvPicPr>
        <p:blipFill>
          <a:blip r:embed="rId1"/>
          <a:stretch/>
        </p:blipFill>
        <p:spPr>
          <a:xfrm>
            <a:off x="228600" y="1600200"/>
            <a:ext cx="2819520" cy="4676760"/>
          </a:xfrm>
          <a:prstGeom prst="rect">
            <a:avLst/>
          </a:prstGeom>
          <a:ln w="0">
            <a:noFill/>
          </a:ln>
        </p:spPr>
      </p:pic>
      <p:sp>
        <p:nvSpPr>
          <p:cNvPr id="101"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3" name="Picture 5" descr="warrior12"/>
          <p:cNvPicPr/>
          <p:nvPr/>
        </p:nvPicPr>
        <p:blipFill>
          <a:blip r:embed="rId2"/>
          <a:stretch/>
        </p:blipFill>
        <p:spPr>
          <a:xfrm>
            <a:off x="1295280" y="2743200"/>
            <a:ext cx="3305160" cy="4114800"/>
          </a:xfrm>
          <a:prstGeom prst="rect">
            <a:avLst/>
          </a:prstGeom>
          <a:ln w="0">
            <a:noFill/>
          </a:ln>
        </p:spPr>
      </p:pic>
      <p:sp>
        <p:nvSpPr>
          <p:cNvPr id="104"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8" name="Picture 4" descr="warrior13"/>
          <p:cNvPicPr/>
          <p:nvPr/>
        </p:nvPicPr>
        <p:blipFill>
          <a:blip r:embed="rId1"/>
          <a:stretch/>
        </p:blipFill>
        <p:spPr>
          <a:xfrm>
            <a:off x="3203640" y="2781360"/>
            <a:ext cx="5867280" cy="4010040"/>
          </a:xfrm>
          <a:prstGeom prst="rect">
            <a:avLst/>
          </a:prstGeom>
          <a:ln w="0">
            <a:noFill/>
          </a:ln>
        </p:spPr>
      </p:pic>
      <p:sp>
        <p:nvSpPr>
          <p:cNvPr id="10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Picture 6" descr="warrior07"/>
          <p:cNvPicPr/>
          <p:nvPr/>
        </p:nvPicPr>
        <p:blipFill>
          <a:blip r:embed="rId1"/>
          <a:stretch/>
        </p:blipFill>
        <p:spPr>
          <a:xfrm>
            <a:off x="714240" y="2857680"/>
            <a:ext cx="3500640" cy="3801960"/>
          </a:xfrm>
          <a:prstGeom prst="rect">
            <a:avLst/>
          </a:prstGeom>
          <a:ln w="0">
            <a:noFill/>
          </a:ln>
        </p:spPr>
      </p:pic>
      <p:sp>
        <p:nvSpPr>
          <p:cNvPr id="113"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14"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15"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1" dur="2000"/>
                                        <p:tgtEl>
                                          <p:spTgt spid="115">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64" dur="2000"/>
                                        <p:tgtEl>
                                          <p:spTgt spid="115">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2000"/>
                                        <p:tgtEl>
                                          <p:spTgt spid="111">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2"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28" descr="BANNER 2"/>
          <p:cNvPicPr/>
          <p:nvPr/>
        </p:nvPicPr>
        <p:blipFill>
          <a:blip r:embed="rId1"/>
          <a:stretch/>
        </p:blipFill>
        <p:spPr>
          <a:xfrm>
            <a:off x="1219320" y="380880"/>
            <a:ext cx="6476760" cy="3921120"/>
          </a:xfrm>
          <a:prstGeom prst="rect">
            <a:avLst/>
          </a:prstGeom>
          <a:ln w="0">
            <a:noFill/>
          </a:ln>
        </p:spPr>
      </p:pic>
      <p:sp>
        <p:nvSpPr>
          <p:cNvPr id="118"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19"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1"/>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9" name="Picture 4" descr="warrior05">
            <a:hlinkClick r:id="rId1"/>
          </p:cNvPr>
          <p:cNvPicPr/>
          <p:nvPr/>
        </p:nvPicPr>
        <p:blipFill>
          <a:blip r:embed="rId2"/>
          <a:stretch/>
        </p:blipFill>
        <p:spPr>
          <a:xfrm>
            <a:off x="60480" y="1844640"/>
            <a:ext cx="3143160" cy="4495680"/>
          </a:xfrm>
          <a:prstGeom prst="rect">
            <a:avLst/>
          </a:prstGeom>
          <a:ln w="0">
            <a:noFill/>
          </a:ln>
        </p:spPr>
      </p:pic>
      <p:sp>
        <p:nvSpPr>
          <p:cNvPr id="60"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4" name="Picture 4" descr="warrior06"/>
          <p:cNvPicPr/>
          <p:nvPr/>
        </p:nvPicPr>
        <p:blipFill>
          <a:blip r:embed="rId1"/>
          <a:stretch/>
        </p:blipFill>
        <p:spPr>
          <a:xfrm>
            <a:off x="6443640" y="1341360"/>
            <a:ext cx="1981080" cy="4800600"/>
          </a:xfrm>
          <a:prstGeom prst="rect">
            <a:avLst/>
          </a:prstGeom>
          <a:ln w="0">
            <a:noFill/>
          </a:ln>
        </p:spPr>
      </p:pic>
      <p:sp>
        <p:nvSpPr>
          <p:cNvPr id="65"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9" name="Picture 4" descr="warrior07">
            <a:hlinkClick r:id="rId1"/>
          </p:cNvPr>
          <p:cNvPicPr/>
          <p:nvPr/>
        </p:nvPicPr>
        <p:blipFill>
          <a:blip r:embed="rId2"/>
          <a:stretch/>
        </p:blipFill>
        <p:spPr>
          <a:xfrm>
            <a:off x="179280" y="1773360"/>
            <a:ext cx="4057920" cy="4800600"/>
          </a:xfrm>
          <a:prstGeom prst="rect">
            <a:avLst/>
          </a:prstGeom>
          <a:ln w="0">
            <a:noFill/>
          </a:ln>
        </p:spPr>
      </p:pic>
      <p:sp>
        <p:nvSpPr>
          <p:cNvPr id="70"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4" name="Picture 6" descr="warrior08"/>
          <p:cNvPicPr/>
          <p:nvPr/>
        </p:nvPicPr>
        <p:blipFill>
          <a:blip r:embed="rId1"/>
          <a:stretch/>
        </p:blipFill>
        <p:spPr>
          <a:xfrm>
            <a:off x="3995640" y="2576520"/>
            <a:ext cx="5148360" cy="4281480"/>
          </a:xfrm>
          <a:prstGeom prst="rect">
            <a:avLst/>
          </a:prstGeom>
          <a:ln w="0">
            <a:noFill/>
          </a:ln>
        </p:spPr>
      </p:pic>
      <p:sp>
        <p:nvSpPr>
          <p:cNvPr id="75"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6"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09">
            <a:hlinkClick r:id="rId1"/>
          </p:cNvPr>
          <p:cNvPicPr/>
          <p:nvPr/>
        </p:nvPicPr>
        <p:blipFill>
          <a:blip r:embed="rId2"/>
          <a:stretch/>
        </p:blipFill>
        <p:spPr>
          <a:xfrm>
            <a:off x="395280" y="2924280"/>
            <a:ext cx="2295360" cy="3276360"/>
          </a:xfrm>
          <a:prstGeom prst="rect">
            <a:avLst/>
          </a:prstGeom>
          <a:ln w="0">
            <a:noFill/>
          </a:ln>
        </p:spPr>
      </p:pic>
      <p:sp>
        <p:nvSpPr>
          <p:cNvPr id="81"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82"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6" name="Picture 4" descr="warrior10"/>
          <p:cNvPicPr/>
          <p:nvPr/>
        </p:nvPicPr>
        <p:blipFill>
          <a:blip r:embed="rId1"/>
          <a:stretch/>
        </p:blipFill>
        <p:spPr>
          <a:xfrm>
            <a:off x="4836960" y="907920"/>
            <a:ext cx="4102200" cy="4584960"/>
          </a:xfrm>
          <a:prstGeom prst="rect">
            <a:avLst/>
          </a:prstGeom>
          <a:ln w="0">
            <a:noFill/>
          </a:ln>
        </p:spPr>
      </p:pic>
      <p:sp>
        <p:nvSpPr>
          <p:cNvPr id="87"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1" name="Picture 4" descr="warrior11"/>
          <p:cNvPicPr/>
          <p:nvPr/>
        </p:nvPicPr>
        <p:blipFill>
          <a:blip r:embed="rId1"/>
          <a:stretch/>
        </p:blipFill>
        <p:spPr>
          <a:xfrm>
            <a:off x="179280" y="3925800"/>
            <a:ext cx="4276800" cy="2743200"/>
          </a:xfrm>
          <a:prstGeom prst="rect">
            <a:avLst/>
          </a:prstGeom>
          <a:ln w="0">
            <a:noFill/>
          </a:ln>
        </p:spPr>
      </p:pic>
      <p:sp>
        <p:nvSpPr>
          <p:cNvPr id="92"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Legion</cp:lastModifiedBy>
  <dcterms:modified xsi:type="dcterms:W3CDTF">2017-07-05T13:18:36Z</dcterms:modified>
  <cp:revision>44</cp:revision>
  <dc:subject/>
  <dc:title>The Invisible Warrior</dc:title>
</cp:coreProperties>
</file>