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9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795241"/>
                </a:solidFill>
                <a:latin typeface="Times New Roman"/>
              </a:rPr>
              <a:t>Click to move the slide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D2E25-8719-4640-ABE3-D2D9392364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The Iroquois</a:t>
            </a:r>
            <a:br>
              <a:rPr sz="1200"/>
            </a:b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July 5, 2017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roquoi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ly 5, 20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Work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Games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There were many team games with about 6-8 players on each team.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Running was also a sport and there were those who competed at festivals.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They also played games of chance.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The peach-stone game was often played on the Green Corn Harvest and New Year’s Festivals.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During winter, they would play the “snake” game, 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ere many team games with about 6-8 players on each te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nning was also a sport and there were those who competed at festiv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lso played games of cha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each-stone game was often played on the Green Corn Harvest and New Year’s Festiv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ring winter, they would play the “snake” game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More Information on the Iroquo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per do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oring p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ional Geograph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For More Information on the Iroquois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Paper dolls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Coloring pages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National Geographic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Standards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Location and Name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They were known as the Haudenosaunee, the people of the longhouses. 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They were part of the Great Iroquois League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Their location was from eastern New York to northeastern Ohio.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Sometimes they traveled as far as the Mississippi River, Tennessee and the Hudson Bay. 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cation and 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were known as the Haudenosaunee, the people of the longhous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were part of the Great Iroquois Le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ir location was from eastern New York to northeastern Ohi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times they traveled as far as the Mississippi River, Tennessee and the Hudson Ba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Longhouses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They lived in a village surrounded by a stockade.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Inside the stockade were longhouses.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It had a fire hole in the middle to let the cooking smoke out.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They were between 15-20 ft. high, 25ft. wide and between 50-150 ft. long.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Many families lived in a longhouse.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nghou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lived in a village surrounded by a stocka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ide the stockade were longhou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had a fire hole in the middle to let the cooking smoke ou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were between 15-20 ft. high, 25ft. wide and between 50-150 ft.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families lived in a longhou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Inside the Longhouse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Skins from animals or tree bark were used to make compartments for each family.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Some compartments were used for storage.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You lived with your “fireside family”-parents, brothers and sisters.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The oldest women of the longhouse, was the head of the family and everyone was related to her.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Inside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ide the Longho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kins from animals or tree bark were used to make compartments for each fami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compartments were used for stor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lived with your “fireside family”-parents, brothers and sist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ldest women of the longhouse, was the head of the family and everyone was related to 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S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G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S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Clothing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Men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Wore kilt like skirts almost to their knees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Leggings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Decorated deerskin blouses or vests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Women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Wore long skirts almost to their ankles, decorated with beads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Leggings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Deerskin vest or blouse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t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e kilt like skirts almost to their kne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gg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orated deerskin blouses or ve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e long skirts almost to their ankles, decorated with bea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gg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erskin vest or blo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Shoes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EVERYDAY</a:t>
            </a: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Everyone wore moccasins, made of one piece of deerskin.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The moccasin was sewn at the heel and the top for comfort.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They were comfortable and were sewn with sinew (thread) from the deer.</a:t>
            </a: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WINTER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During the winter they wore special shoes known as snowshoes.  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The snowshoe was worn along with the moccasin.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They were made of pieces of hickory wood.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They were used for hunting trips.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DA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one wore moccasins, made of one piece of deersk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ccasin was sewn at the heel and the top for comfor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were comfortable and were sewn with sinew (thread) from the deer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ring the winter they wore special shoes known as snowshoes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nowshoe was worn along with the moccas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were made of pieces of hickory woo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were used for hunting trip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Food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Food was attained by farming and hunting.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They ate a lot of vegetables, fruits, nuts and different kinds of meat and fish.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The main vegetables were known as the “Three Sister” and they were corn, squash and beans.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od was attained by farming and hun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te a lot of vegetables, fruits, nuts and different kinds of meat and fis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ain vegetables were known as the “Three Sister” and they were corn, squash and bea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Corn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6AA94-0963-49EE-93C4-3928EFFB9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01DAB-6F19-4DE0-BD8E-A8EC54C0C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71FEF-F3AE-47AB-A03C-CC61214A5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FF017-27E4-427C-BD0D-979CAD890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30A5E-9FE2-403D-A048-C6AAC714D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AABC5-35F6-4005-8811-1A5CEB164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4CF72-5894-48CE-B87B-8671C7198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68BFC-5C91-4C56-8C90-435333C47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E749E-7F08-48B2-9C6D-5D3A543A4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D2607-BA94-4B83-9F48-C14439123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432FE-34D5-4512-AD02-1945A2508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56EFD-82DE-4045-9F3A-ED9EBC73B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795241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46363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E832B-0874-4026-A79B-FA061758530E}" type="slidenum"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image" Target="../media/image12.png"/><Relationship Id="rId11" Type="http://schemas.openxmlformats.org/officeDocument/2006/relationships/image" Target="../media/image12.png"/><Relationship Id="rId12" Type="http://schemas.openxmlformats.org/officeDocument/2006/relationships/image" Target="../media/image12.pn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8.jpe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900" spc="-1" strike="noStrike">
                <a:solidFill>
                  <a:srgbClr val="463634"/>
                </a:solidFill>
                <a:latin typeface="Tempus Sans ITC"/>
              </a:rPr>
              <a:t>The Iroquois</a:t>
            </a:r>
            <a:br>
              <a:rPr sz="6900"/>
            </a:br>
            <a:endParaRPr b="0" i="1" lang="en-US" sz="69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19320" y="2209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5183F-1580-4CB6-9664-A2F7D864EC06}" type="datetime3">
              <a:rPr b="0" lang="en-US" sz="3600" spc="-1" strike="noStrike">
                <a:solidFill>
                  <a:srgbClr val="000000"/>
                </a:solidFill>
                <a:latin typeface="Tempus Sans ITC"/>
              </a:rPr>
              <a:t>July 31, 2026</a:t>
            </a:fld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463634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95241"/>
                </a:solidFill>
                <a:latin typeface="Tempus Sans ITC"/>
              </a:rPr>
              <a:t>Work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685800" y="1676520"/>
          <a:ext cx="7772400" cy="3992400"/>
        </p:xfrm>
        <a:graphic>
          <a:graphicData uri="http://schemas.openxmlformats.org/drawingml/2006/table">
            <a:tbl>
              <a:tblPr/>
              <a:tblGrid>
                <a:gridCol w="2590920"/>
                <a:gridCol w="2590560"/>
                <a:gridCol w="259092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463634"/>
                          </a:solidFill>
                          <a:uFillTx/>
                          <a:latin typeface="Tempus Sans ITC"/>
                        </a:rPr>
                        <a:t>Men</a:t>
                      </a:r>
                      <a:endParaRPr b="0" lang="en-US" sz="2800" spc="-1" strike="noStrike">
                        <a:solidFill>
                          <a:srgbClr val="4636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13680">
                      <a:solidFill>
                        <a:srgbClr val="463634"/>
                      </a:solidFill>
                    </a:lnT>
                    <a:lnB w="576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463634"/>
                          </a:solidFill>
                          <a:uFillTx/>
                          <a:latin typeface="Tempus Sans ITC"/>
                        </a:rPr>
                        <a:t>Women</a:t>
                      </a:r>
                      <a:endParaRPr b="0" lang="en-US" sz="2800" spc="-1" strike="noStrike">
                        <a:solidFill>
                          <a:srgbClr val="4636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13680">
                      <a:solidFill>
                        <a:srgbClr val="463634"/>
                      </a:solidFill>
                    </a:lnT>
                    <a:lnB w="576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463634"/>
                          </a:solidFill>
                          <a:uFillTx/>
                          <a:latin typeface="Tempus Sans ITC"/>
                        </a:rPr>
                        <a:t>Children</a:t>
                      </a:r>
                      <a:endParaRPr b="0" lang="en-US" sz="2800" spc="-1" strike="noStrike">
                        <a:solidFill>
                          <a:srgbClr val="4636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13680">
                      <a:solidFill>
                        <a:srgbClr val="463634"/>
                      </a:solidFill>
                    </a:lnR>
                    <a:lnT w="13680">
                      <a:solidFill>
                        <a:srgbClr val="463634"/>
                      </a:solidFill>
                    </a:lnT>
                    <a:lnB w="5760">
                      <a:solidFill>
                        <a:srgbClr val="463634"/>
                      </a:solidFill>
                    </a:lnB>
                    <a:noFill/>
                  </a:tcPr>
                </a:tc>
              </a:tr>
              <a:tr h="4131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SzPct val="100000"/>
                        <a:buBlip>
                          <a:blip r:embed="rId1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63634"/>
                          </a:solidFill>
                          <a:latin typeface="Tempus Sans ITC"/>
                        </a:rPr>
                        <a:t>Tools for hunting</a:t>
                      </a:r>
                      <a:endParaRPr b="0" lang="en-US" sz="2400" spc="-1" strike="noStrike">
                        <a:solidFill>
                          <a:srgbClr val="463634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SzPct val="100000"/>
                        <a:buBlip>
                          <a:blip r:embed="rId2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63634"/>
                          </a:solidFill>
                          <a:latin typeface="Tempus Sans ITC"/>
                        </a:rPr>
                        <a:t>Wampum</a:t>
                      </a:r>
                      <a:endParaRPr b="0" lang="en-US" sz="2400" spc="-1" strike="noStrike">
                        <a:solidFill>
                          <a:srgbClr val="463634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SzPct val="100000"/>
                        <a:buBlip>
                          <a:blip r:embed="rId3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63634"/>
                          </a:solidFill>
                          <a:latin typeface="Tempus Sans ITC"/>
                        </a:rPr>
                        <a:t>Carved bowls, cups and pipes</a:t>
                      </a:r>
                      <a:endParaRPr b="0" lang="en-US" sz="2400" spc="-1" strike="noStrike">
                        <a:solidFill>
                          <a:srgbClr val="463634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SzPct val="100000"/>
                        <a:buBlip>
                          <a:blip r:embed="rId4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63634"/>
                          </a:solidFill>
                          <a:latin typeface="Tempus Sans ITC"/>
                        </a:rPr>
                        <a:t>Sports equipment</a:t>
                      </a:r>
                      <a:endParaRPr b="0" lang="en-US" sz="2400" spc="-1" strike="noStrike">
                        <a:solidFill>
                          <a:srgbClr val="463634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SzPct val="100000"/>
                        <a:buBlip>
                          <a:blip r:embed="rId5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63634"/>
                          </a:solidFill>
                          <a:latin typeface="Tempus Sans ITC"/>
                        </a:rPr>
                        <a:t>Musical instruments.</a:t>
                      </a:r>
                      <a:endParaRPr b="0" lang="en-US" sz="2400" spc="-1" strike="noStrike">
                        <a:solidFill>
                          <a:srgbClr val="463634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636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5760">
                      <a:solidFill>
                        <a:srgbClr val="463634"/>
                      </a:solidFill>
                    </a:lnT>
                    <a:lnB w="1368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SzPct val="100000"/>
                        <a:buBlip>
                          <a:blip r:embed="rId6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63634"/>
                          </a:solidFill>
                          <a:latin typeface="Tempus Sans ITC"/>
                        </a:rPr>
                        <a:t>Clay pots</a:t>
                      </a:r>
                      <a:endParaRPr b="0" lang="en-US" sz="2400" spc="-1" strike="noStrike">
                        <a:solidFill>
                          <a:srgbClr val="463634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SzPct val="100000"/>
                        <a:buBlip>
                          <a:blip r:embed="rId7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63634"/>
                          </a:solidFill>
                          <a:latin typeface="Tempus Sans ITC"/>
                        </a:rPr>
                        <a:t>Baskets</a:t>
                      </a:r>
                      <a:endParaRPr b="0" lang="en-US" sz="2400" spc="-1" strike="noStrike">
                        <a:solidFill>
                          <a:srgbClr val="463634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SzPct val="100000"/>
                        <a:buBlip>
                          <a:blip r:embed="rId8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63634"/>
                          </a:solidFill>
                          <a:latin typeface="Tempus Sans ITC"/>
                        </a:rPr>
                        <a:t>Cradleboards</a:t>
                      </a:r>
                      <a:endParaRPr b="0" lang="en-US" sz="2400" spc="-1" strike="noStrike">
                        <a:solidFill>
                          <a:srgbClr val="463634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SzPct val="100000"/>
                        <a:buBlip>
                          <a:blip r:embed="rId9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63634"/>
                          </a:solidFill>
                          <a:latin typeface="Tempus Sans ITC"/>
                        </a:rPr>
                        <a:t>Clothing</a:t>
                      </a:r>
                      <a:endParaRPr b="0" lang="en-US" sz="2400" spc="-1" strike="noStrike">
                        <a:solidFill>
                          <a:srgbClr val="463634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SzPct val="100000"/>
                        <a:buBlip>
                          <a:blip r:embed="rId10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63634"/>
                          </a:solidFill>
                          <a:latin typeface="Tempus Sans ITC"/>
                        </a:rPr>
                        <a:t>Moccasins</a:t>
                      </a:r>
                      <a:endParaRPr b="0" lang="en-US" sz="2400" spc="-1" strike="noStrike">
                        <a:solidFill>
                          <a:srgbClr val="463634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SzPct val="100000"/>
                        <a:buBlip>
                          <a:blip r:embed="rId11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63634"/>
                          </a:solidFill>
                          <a:latin typeface="Tempus Sans ITC"/>
                        </a:rPr>
                        <a:t>Elaborate decorations</a:t>
                      </a:r>
                      <a:endParaRPr b="0" lang="en-US" sz="2400" spc="-1" strike="noStrike">
                        <a:solidFill>
                          <a:srgbClr val="4636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5760">
                      <a:solidFill>
                        <a:srgbClr val="463634"/>
                      </a:solidFill>
                    </a:lnT>
                    <a:lnB w="1368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SzPct val="100000"/>
                        <a:buBlip>
                          <a:blip r:embed="rId12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63634"/>
                          </a:solidFill>
                          <a:latin typeface="Tempus Sans ITC"/>
                        </a:rPr>
                        <a:t>Would help their mothers and fathers as much as they could with gathering of materials and other things.</a:t>
                      </a:r>
                      <a:endParaRPr b="0" lang="en-US" sz="2400" spc="-1" strike="noStrike">
                        <a:solidFill>
                          <a:srgbClr val="4636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13680">
                      <a:solidFill>
                        <a:srgbClr val="463634"/>
                      </a:solidFill>
                    </a:lnR>
                    <a:lnT w="5760">
                      <a:solidFill>
                        <a:srgbClr val="463634"/>
                      </a:solidFill>
                    </a:lnT>
                    <a:lnB w="13680">
                      <a:solidFill>
                        <a:srgbClr val="463634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463634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95241"/>
                </a:solidFill>
                <a:latin typeface="Tempus Sans ITC"/>
              </a:rPr>
              <a:t>Games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empus Sans ITC"/>
              </a:rPr>
              <a:t>There were many team games with about 6-8 players on each team.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empus Sans ITC"/>
              </a:rPr>
              <a:t>Running was also a sport and there were those who competed at festivals.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empus Sans ITC"/>
              </a:rPr>
              <a:t>They also played games of chance.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empus Sans ITC"/>
              </a:rPr>
              <a:t>The peach-stone game was often played on the Green Corn Harvest and New Year’s Festivals.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empus Sans ITC"/>
              </a:rPr>
              <a:t>During winter, they would play the “snake” game, 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463634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95241"/>
                </a:solidFill>
                <a:latin typeface="Times New Roman"/>
              </a:rPr>
              <a:t>For More Information on the Iroquois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Paper dolls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Coloring pages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National Geographic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tandards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463634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95241"/>
                </a:solidFill>
                <a:latin typeface="Tempus Sans ITC"/>
              </a:rPr>
              <a:t>Location and Name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empus Sans ITC"/>
              </a:rPr>
              <a:t>They were known as the Haudenosaunee, the people of the longhouses. 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empus Sans ITC"/>
              </a:rPr>
              <a:t>They were part of the Great Iroquois League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empus Sans ITC"/>
              </a:rPr>
              <a:t>Their location was from eastern New York to northeastern Ohio.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empus Sans ITC"/>
              </a:rPr>
              <a:t>Sometimes they traveled as far as the Mississippi River, Tennessee and the Hudson Bay. 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6172200" y="579132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Arial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463634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95241"/>
                </a:solidFill>
                <a:latin typeface="Tempus Sans ITC"/>
              </a:rPr>
              <a:t>Longhouses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empus Sans ITC"/>
              </a:rPr>
              <a:t>They lived in a village surrounded by a stockade.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empus Sans ITC"/>
              </a:rPr>
              <a:t>Inside the stockade were longhouses.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empus Sans ITC"/>
              </a:rPr>
              <a:t>It had a fire hole in the middle to let the cooking smoke out.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empus Sans ITC"/>
              </a:rPr>
              <a:t>They were between 15-20 ft. high, 25ft. wide and between 50-150 ft. long.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empus Sans ITC"/>
              </a:rPr>
              <a:t>Many families lived in a longhouse.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pic>
        <p:nvPicPr>
          <p:cNvPr id="57" name="Picture 7" descr="longhouse"/>
          <p:cNvPicPr/>
          <p:nvPr/>
        </p:nvPicPr>
        <p:blipFill>
          <a:blip r:embed="rId6"/>
          <a:stretch/>
        </p:blipFill>
        <p:spPr>
          <a:xfrm>
            <a:off x="2362320" y="5338800"/>
            <a:ext cx="4343400" cy="1519200"/>
          </a:xfrm>
          <a:prstGeom prst="rect">
            <a:avLst/>
          </a:prstGeom>
          <a:ln w="0">
            <a:noFill/>
          </a:ln>
        </p:spPr>
      </p:pic>
      <p:sp>
        <p:nvSpPr>
          <p:cNvPr id="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463634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95241"/>
                </a:solidFill>
                <a:latin typeface="Tempus Sans ITC"/>
              </a:rPr>
              <a:t>Inside the Longhouse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mpus Sans ITC"/>
              </a:rPr>
              <a:t>Skins from animals or tree bark were used to make compartments for each family.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mpus Sans ITC"/>
              </a:rPr>
              <a:t>Some compartments were used for storage.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mpus Sans ITC"/>
              </a:rPr>
              <a:t>You lived with your “fireside family”-parents, brothers and sisters.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mpus Sans ITC"/>
              </a:rPr>
              <a:t>The oldest women of the longhouse, was the head of the family and everyone was related to her.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1" name="Text Box 6"/>
          <p:cNvSpPr/>
          <p:nvPr/>
        </p:nvSpPr>
        <p:spPr>
          <a:xfrm>
            <a:off x="6707520" y="6019920"/>
            <a:ext cx="99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3634"/>
                </a:solidFill>
                <a:latin typeface="Arial"/>
              </a:rPr>
              <a:t>Inside</a:t>
            </a:r>
            <a:endParaRPr b="0" lang="en-US" sz="2400" spc="-1" strike="noStrike">
              <a:solidFill>
                <a:srgbClr val="463634"/>
              </a:solidFill>
              <a:latin typeface="Arial"/>
            </a:endParaRPr>
          </a:p>
        </p:txBody>
      </p:sp>
      <p:sp>
        <p:nvSpPr>
          <p:cNvPr id="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463634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4" descr="figure3interiorlg"/>
          <p:cNvPicPr/>
          <p:nvPr/>
        </p:nvPicPr>
        <p:blipFill>
          <a:blip r:embed="rId1"/>
          <a:stretch/>
        </p:blipFill>
        <p:spPr>
          <a:xfrm>
            <a:off x="380880" y="533520"/>
            <a:ext cx="6782040" cy="5722920"/>
          </a:xfrm>
          <a:prstGeom prst="rect">
            <a:avLst/>
          </a:prstGeom>
          <a:ln w="0">
            <a:noFill/>
          </a:ln>
        </p:spPr>
      </p:pic>
      <p:sp>
        <p:nvSpPr>
          <p:cNvPr id="64" name="Text Box 7"/>
          <p:cNvSpPr/>
          <p:nvPr/>
        </p:nvSpPr>
        <p:spPr>
          <a:xfrm>
            <a:off x="7241040" y="380880"/>
            <a:ext cx="400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46363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46363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46363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46363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46363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463634"/>
              </a:solidFill>
              <a:latin typeface="Arial"/>
            </a:endParaRPr>
          </a:p>
        </p:txBody>
      </p:sp>
      <p:sp>
        <p:nvSpPr>
          <p:cNvPr id="65" name="Text Box 8"/>
          <p:cNvSpPr/>
          <p:nvPr/>
        </p:nvSpPr>
        <p:spPr>
          <a:xfrm>
            <a:off x="7317360" y="3657600"/>
            <a:ext cx="40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46363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46363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463634"/>
              </a:solidFill>
              <a:latin typeface="Arial"/>
            </a:endParaRPr>
          </a:p>
        </p:txBody>
      </p:sp>
      <p:sp>
        <p:nvSpPr>
          <p:cNvPr id="66" name="Text Box 9"/>
          <p:cNvSpPr/>
          <p:nvPr/>
        </p:nvSpPr>
        <p:spPr>
          <a:xfrm>
            <a:off x="7849800" y="990720"/>
            <a:ext cx="4183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400" spc="-1" strike="noStrike">
              <a:solidFill>
                <a:srgbClr val="46363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46363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46363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46363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46363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46363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46363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46363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463634"/>
              </a:solidFill>
              <a:latin typeface="Arial"/>
            </a:endParaRPr>
          </a:p>
        </p:txBody>
      </p:sp>
      <p:sp>
        <p:nvSpPr>
          <p:cNvPr id="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463634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95241"/>
                </a:solidFill>
                <a:latin typeface="Tempus Sans ITC"/>
              </a:rPr>
              <a:t>Clothing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463634"/>
                </a:solidFill>
                <a:uFillTx/>
                <a:latin typeface="Tempus Sans ITC"/>
              </a:rPr>
              <a:t>Men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empus Sans ITC"/>
              </a:rPr>
              <a:t>Wore kilt like skirts almost to their knees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empus Sans ITC"/>
              </a:rPr>
              <a:t>Leggings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empus Sans ITC"/>
              </a:rPr>
              <a:t>Decorated deerskin blouses or vests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28840" y="14479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463634"/>
                </a:solidFill>
                <a:uFillTx/>
                <a:latin typeface="Tempus Sans ITC"/>
              </a:rPr>
              <a:t>Women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empus Sans ITC"/>
              </a:rPr>
              <a:t>Wore long skirts almost to their ankles, decorated with beads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empus Sans ITC"/>
              </a:rPr>
              <a:t>Leggings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empus Sans ITC"/>
              </a:rPr>
              <a:t>Deerskin vest or blouse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463634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95241"/>
                </a:solidFill>
                <a:latin typeface="Tempus Sans ITC"/>
              </a:rPr>
              <a:t>Shoes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63634"/>
                </a:solidFill>
                <a:latin typeface="Tempus Sans ITC"/>
              </a:rPr>
              <a:t>EVERYDAY</a:t>
            </a: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3634"/>
                </a:solidFill>
                <a:latin typeface="Tempus Sans ITC"/>
              </a:rPr>
              <a:t>Everyone wore moccasins, made of one piece of deerskin.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3634"/>
                </a:solidFill>
                <a:latin typeface="Tempus Sans ITC"/>
              </a:rPr>
              <a:t>The moccasin was sewn at the heel and the top for comfort.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3634"/>
                </a:solidFill>
                <a:latin typeface="Tempus Sans ITC"/>
              </a:rPr>
              <a:t>They were comfortable and were sewn with sinew (thread) from the deer.</a:t>
            </a:r>
            <a:r>
              <a:rPr b="0" lang="en-US" sz="2400" spc="-1" strike="noStrike">
                <a:solidFill>
                  <a:srgbClr val="463634"/>
                </a:solidFill>
                <a:latin typeface="Tempus Sans ITC"/>
              </a:rPr>
              <a:t>	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63634"/>
                </a:solidFill>
                <a:latin typeface="Tempus Sans ITC"/>
              </a:rPr>
              <a:t>WINTER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1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3634"/>
                </a:solidFill>
                <a:latin typeface="Tempus Sans ITC"/>
              </a:rPr>
              <a:t>During the winter they wore special shoes known as snowshoes. 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1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3634"/>
                </a:solidFill>
                <a:latin typeface="Tempus Sans ITC"/>
              </a:rPr>
              <a:t>The snowshoe was worn along with the moccasin.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1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3634"/>
                </a:solidFill>
                <a:latin typeface="Tempus Sans ITC"/>
              </a:rPr>
              <a:t>They were made of pieces of hickory wood.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1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3634"/>
                </a:solidFill>
                <a:latin typeface="Tempus Sans ITC"/>
              </a:rPr>
              <a:t>They were used for hunting trips.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pic>
        <p:nvPicPr>
          <p:cNvPr id="75" name="Picture 17" descr="moccasin"/>
          <p:cNvPicPr/>
          <p:nvPr/>
        </p:nvPicPr>
        <p:blipFill>
          <a:blip r:embed="rId1"/>
          <a:stretch/>
        </p:blipFill>
        <p:spPr>
          <a:xfrm>
            <a:off x="304920" y="152280"/>
            <a:ext cx="2993760" cy="18115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8" descr="moc"/>
          <p:cNvPicPr/>
          <p:nvPr/>
        </p:nvPicPr>
        <p:blipFill>
          <a:blip r:embed="rId2"/>
          <a:stretch/>
        </p:blipFill>
        <p:spPr>
          <a:xfrm>
            <a:off x="5562720" y="228600"/>
            <a:ext cx="3276360" cy="1811160"/>
          </a:xfrm>
          <a:prstGeom prst="rect">
            <a:avLst/>
          </a:prstGeom>
          <a:ln w="0">
            <a:noFill/>
          </a:ln>
        </p:spPr>
      </p:pic>
      <p:sp>
        <p:nvSpPr>
          <p:cNvPr id="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463634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95241"/>
                </a:solidFill>
                <a:latin typeface="Tempus Sans ITC"/>
              </a:rPr>
              <a:t>Food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empus Sans ITC"/>
              </a:rPr>
              <a:t>Food was attained by farming and hunting.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empus Sans ITC"/>
              </a:rPr>
              <a:t>They ate a lot of vegetables, fruits, nuts and different kinds of meat and fish.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empus Sans ITC"/>
              </a:rPr>
              <a:t>The main vegetables were known as the “Three Sister” and they were corn, squash and beans.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pic>
        <p:nvPicPr>
          <p:cNvPr id="80" name="Picture 4" descr="corn"/>
          <p:cNvPicPr/>
          <p:nvPr/>
        </p:nvPicPr>
        <p:blipFill>
          <a:blip r:embed="rId4"/>
          <a:stretch/>
        </p:blipFill>
        <p:spPr>
          <a:xfrm>
            <a:off x="685800" y="4343400"/>
            <a:ext cx="2057400" cy="18208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5" descr="beans"/>
          <p:cNvPicPr/>
          <p:nvPr/>
        </p:nvPicPr>
        <p:blipFill>
          <a:blip r:embed="rId5"/>
          <a:stretch/>
        </p:blipFill>
        <p:spPr>
          <a:xfrm>
            <a:off x="6400800" y="434340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squash"/>
          <p:cNvPicPr/>
          <p:nvPr/>
        </p:nvPicPr>
        <p:blipFill>
          <a:blip r:embed="rId6"/>
          <a:stretch/>
        </p:blipFill>
        <p:spPr>
          <a:xfrm>
            <a:off x="3657600" y="4724280"/>
            <a:ext cx="1792440" cy="1936800"/>
          </a:xfrm>
          <a:prstGeom prst="rect">
            <a:avLst/>
          </a:prstGeom>
          <a:ln w="0">
            <a:noFill/>
          </a:ln>
        </p:spPr>
      </p:pic>
      <p:sp>
        <p:nvSpPr>
          <p:cNvPr id="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463634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95241"/>
                </a:solidFill>
                <a:latin typeface="Tempus Sans ITC"/>
              </a:rPr>
              <a:t>Corn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685800" y="1676520"/>
          <a:ext cx="7772400" cy="470052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14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463634"/>
                          </a:solidFill>
                          <a:latin typeface="Tempus Sans ITC"/>
                        </a:rPr>
                        <a:t>Corn was shelled and cooked.</a:t>
                      </a:r>
                      <a:endParaRPr b="0" lang="en-US" sz="2800" spc="-1" strike="noStrike">
                        <a:solidFill>
                          <a:srgbClr val="4636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13680">
                      <a:solidFill>
                        <a:srgbClr val="463634"/>
                      </a:solidFill>
                    </a:lnT>
                    <a:lnB w="576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463634"/>
                          </a:solidFill>
                          <a:latin typeface="Tempus Sans ITC"/>
                        </a:rPr>
                        <a:t>Corn powder with syrup was carried by hunters.</a:t>
                      </a:r>
                      <a:endParaRPr b="0" lang="en-US" sz="2800" spc="-1" strike="noStrike">
                        <a:solidFill>
                          <a:srgbClr val="4636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13680">
                      <a:solidFill>
                        <a:srgbClr val="463634"/>
                      </a:solidFill>
                    </a:lnR>
                    <a:lnT w="13680">
                      <a:solidFill>
                        <a:srgbClr val="463634"/>
                      </a:solidFill>
                    </a:lnT>
                    <a:lnB w="5760">
                      <a:solidFill>
                        <a:srgbClr val="463634"/>
                      </a:solidFill>
                    </a:lnB>
                    <a:noFill/>
                  </a:tcPr>
                </a:tc>
              </a:tr>
              <a:tr h="121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463634"/>
                          </a:solidFill>
                          <a:latin typeface="Tempus Sans ITC"/>
                        </a:rPr>
                        <a:t>Dried kernels were used for decoration.</a:t>
                      </a:r>
                      <a:endParaRPr b="0" lang="en-US" sz="2800" spc="-1" strike="noStrike">
                        <a:solidFill>
                          <a:srgbClr val="4636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5760">
                      <a:solidFill>
                        <a:srgbClr val="463634"/>
                      </a:solidFill>
                    </a:lnT>
                    <a:lnB w="576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463634"/>
                          </a:solidFill>
                          <a:latin typeface="Tempus Sans ITC"/>
                        </a:rPr>
                        <a:t>Cornstalks were used to hold medicine.</a:t>
                      </a:r>
                      <a:endParaRPr b="0" lang="en-US" sz="2800" spc="-1" strike="noStrike">
                        <a:solidFill>
                          <a:srgbClr val="4636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13680">
                      <a:solidFill>
                        <a:srgbClr val="463634"/>
                      </a:solidFill>
                    </a:lnR>
                    <a:lnT w="5760">
                      <a:solidFill>
                        <a:srgbClr val="463634"/>
                      </a:solidFill>
                    </a:lnT>
                    <a:lnB w="5760">
                      <a:solidFill>
                        <a:srgbClr val="463634"/>
                      </a:solidFill>
                    </a:lnB>
                    <a:noFill/>
                  </a:tcPr>
                </a:tc>
              </a:tr>
              <a:tr h="205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463634"/>
                          </a:solidFill>
                          <a:latin typeface="Tempus Sans ITC"/>
                        </a:rPr>
                        <a:t>Husks were used to make mats, baskets, medicine masks and dolls.</a:t>
                      </a:r>
                      <a:endParaRPr b="0" lang="en-US" sz="2800" spc="-1" strike="noStrike">
                        <a:solidFill>
                          <a:srgbClr val="4636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5760">
                      <a:solidFill>
                        <a:srgbClr val="463634"/>
                      </a:solidFill>
                    </a:lnT>
                    <a:lnB w="1368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463634"/>
                          </a:solidFill>
                          <a:latin typeface="Tempus Sans ITC"/>
                        </a:rPr>
                        <a:t>Green corn leaves were sometimes used as bandages.</a:t>
                      </a:r>
                      <a:endParaRPr b="0" lang="en-US" sz="2800" spc="-1" strike="noStrike">
                        <a:solidFill>
                          <a:srgbClr val="4636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13680">
                      <a:solidFill>
                        <a:srgbClr val="463634"/>
                      </a:solidFill>
                    </a:lnR>
                    <a:lnT w="5760">
                      <a:solidFill>
                        <a:srgbClr val="463634"/>
                      </a:solidFill>
                    </a:lnT>
                    <a:lnB w="13680">
                      <a:solidFill>
                        <a:srgbClr val="463634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86" name="Picture 54" descr="corn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5486400" y="0"/>
            <a:ext cx="1344600" cy="16398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55" descr="corn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2666880" y="0"/>
            <a:ext cx="1344600" cy="1639800"/>
          </a:xfrm>
          <a:prstGeom prst="rect">
            <a:avLst/>
          </a:prstGeom>
          <a:ln w="0">
            <a:noFill/>
          </a:ln>
        </p:spPr>
      </p:pic>
      <p:sp>
        <p:nvSpPr>
          <p:cNvPr id="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463634"/>
              </a:solidFill>
              <a:latin typeface="Arial"/>
            </a:endParaRPr>
          </a:p>
        </p:txBody>
      </p:sp>
    </p:spTree>
  </p:cSld>
  <p:transition spd="med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31T02:51:49Z</dcterms:created>
  <dc:creator>college education</dc:creator>
  <dc:description/>
  <dc:language>en-US</dc:language>
  <cp:lastModifiedBy>Legion</cp:lastModifiedBy>
  <dcterms:modified xsi:type="dcterms:W3CDTF">2017-07-05T13:20:40Z</dcterms:modified>
  <cp:revision>51</cp:revision>
  <dc:subject/>
  <dc:title>PowerPoint Presentation</dc:title>
</cp:coreProperties>
</file>