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A2A17-40C1-4759-A4A3-1AD2D293B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 Iroquois</a:t>
            </a:r>
            <a:br>
              <a:rPr sz="1200"/>
            </a:b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July 5, 2017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roquoi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5,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ork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Game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re were many team games with about 6-8 players on each team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Running was also a sport and there were those who competed at festivals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y also played games of chance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 peach-stone game was often played on the Green Corn Harvest and New Year’s Festivals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During winter, they would play the “snake” game, 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ere many team games with about 6-8 players on each te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ning was also a sport and there were those who competed at festi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so played games of ch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ach-stone game was often played on the Green Corn Harvest and New Year’s Festi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winter, they would play the “snake” gam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re Information on the Iroquo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per do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ing p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Geograph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For More Information on the Iroquoi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Paper doll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Coloring page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National Geographic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Standard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Location and Name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y were known as the Haudenosaunee, the people of the longhouses. 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y were part of the Great Iroquois League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ir location was from eastern New York to northeastern Ohio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Sometimes they traveled as far as the Mississippi River, Tennessee and the Hudson Bay. 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and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known as the Haudenosaunee, the people of the longhou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part of the Great Iroquois Le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location was from eastern New York to northeastern Oh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 they traveled as far as the Mississippi River, Tennessee and the Hudson B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Longhouse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y lived in a village surrounded by a stockade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Inside the stockade were longhouses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It had a fire hole in the middle to let the cooking smoke out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y were between 15-20 ft. high, 25ft. wide and between 50-150 ft. long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Many families lived in a longhouse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ho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lived in a village surrounded by a stock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the stockade were longhou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d a fire hole in the middle to let the cooking smoke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between 15-20 ft. high, 25ft. wide and between 50-150 ft.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families lived in a longho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Inside the Longhouse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Skins from animals or tree bark were used to make compartments for each family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Some compartments were used for storage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You lived with your “fireside family”-parents, brothers and sisters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 oldest women of the longhouse, was the head of the family and everyone was related to her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Inside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the Long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s from animals or tree bark were used to make compartments for each fam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compartments were used for stor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lived with your “fireside family”-parents, brothers and sis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ldest women of the longhouse, was the head of the family and everyone was related to 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Clothing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Men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ore kilt like skirts almost to their knee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Legging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Decorated deerskin blouses or vest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omen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ore long skirts almost to their ankles, decorated with bead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Legging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Deerskin vest or blouse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e kilt like skirts almost to their kn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g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orated deerskin blouses or v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e long skirts almost to their ankles, decorated with be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g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erskin vest or bl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Shoe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EVERYDAY</a:t>
            </a: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Everyone wore moccasins, made of one piece of deerskin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 moccasin was sewn at the heel and the top for comfort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y were comfortable and were sewn with sinew (thread) from the deer.</a:t>
            </a: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INTER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During the winter they wore special shoes known as snowshoes.  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 snowshoe was worn along with the moccasin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y were made of pieces of hickory wood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y were used for hunting trips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DA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wore moccasins, made of one piece of deersk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ccasin was sewn at the heel and the top for comfo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comfortable and were sewn with sinew (thread) from the deer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the winter they wore special shoes known as snowsho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nowshoe was worn along with the moccas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made of pieces of hickory w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used for hunting tri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Food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Food was attained by farming and hunting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y ate a lot of vegetables, fruits, nuts and different kinds of meat and fish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 main vegetables were known as the “Three Sister” and they were corn, squash and beans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was attained by farming and hun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te a lot of vegetables, fruits, nuts and different kinds of meat and fis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in vegetables were known as the “Three Sister” and they were corn, squash and be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Corn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5A59-092D-4760-8B82-0DC9F2085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8A20-E165-42AF-9DF1-F67C3F2B3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E923-A2E5-4767-AD80-EFC6B6756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546D-A4E7-4BE7-98D1-0B5AF04F1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20EC-87C8-4E4F-ACCB-48D86747D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CB97-2E51-41C1-92FA-08F7CD296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5007-8438-49F5-B7E2-A49352FEF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F2DD-8FE0-40A3-8422-6A9B21F08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9B0F-F838-42ED-92D7-9658F043F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9C28-AACB-4A48-9332-DBB1363A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8FBC-4F98-4BB9-9512-E45F1871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1741-8429-4C91-8DFD-432D4984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429AD-F170-4FEB-A62D-EA79C377F4E6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463634"/>
                </a:solidFill>
                <a:latin typeface="Tempus Sans ITC"/>
              </a:rPr>
              <a:t>The Iroquois</a:t>
            </a:r>
            <a:br>
              <a:rPr sz="6900"/>
            </a:br>
            <a:endParaRPr b="0" i="1" lang="en-US" sz="69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2EF78-52B6-4F89-8028-1C0027B4E0D5}" type="datetime3"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July 28, 2026</a:t>
            </a:fld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5241"/>
                </a:solidFill>
                <a:latin typeface="Tempus Sans ITC"/>
              </a:rPr>
              <a:t>Work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85800" y="1676520"/>
          <a:ext cx="7772400" cy="39924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463634"/>
                          </a:solidFill>
                          <a:uFillTx/>
                          <a:latin typeface="Tempus Sans ITC"/>
                        </a:rPr>
                        <a:t>Men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463634"/>
                          </a:solidFill>
                          <a:uFillTx/>
                          <a:latin typeface="Tempus Sans ITC"/>
                        </a:rPr>
                        <a:t>Women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463634"/>
                          </a:solidFill>
                          <a:uFillTx/>
                          <a:latin typeface="Tempus Sans ITC"/>
                        </a:rPr>
                        <a:t>Children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131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Tools for hunting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Wampum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Carved bowls, cups and pipes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Sports equipment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Musical instruments.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Clay pots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Baskets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Cradleboards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Clothing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10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Moccasins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1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Elaborate decorations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1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Would help their mothers and fathers as much as they could with gathering of materials and other things.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5241"/>
                </a:solidFill>
                <a:latin typeface="Tempus Sans ITC"/>
              </a:rPr>
              <a:t>Games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re were many team games with about 6-8 players on each team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Running was also a sport and there were those who competed at festivals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y also played games of chance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 peach-stone game was often played on the Green Corn Harvest and New Year’s Festivals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During winter, they would play the “snake” game,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5241"/>
                </a:solidFill>
                <a:latin typeface="Times New Roman"/>
              </a:rPr>
              <a:t>For More Information on the Iroquois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Paper dolls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oloring pages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National Geographic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tandards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5241"/>
                </a:solidFill>
                <a:latin typeface="Tempus Sans ITC"/>
              </a:rPr>
              <a:t>Location and Name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y were known as the Haudenosaunee, the people of the longhouses.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y were part of the Great Iroquois League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ir location was from eastern New York to northeastern Ohio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Sometimes they traveled as far as the Mississippi River, Tennessee and the Hudson Bay.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6172200" y="57913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5241"/>
                </a:solidFill>
                <a:latin typeface="Tempus Sans ITC"/>
              </a:rPr>
              <a:t>Longhouses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y lived in a village surrounded by a stockade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Inside the stockade were longhouses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It had a fire hole in the middle to let the cooking smoke out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y were between 15-20 ft. high, 25ft. wide and between 50-150 ft. long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Many families lived in a longhouse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57" name="Picture 7" descr="longhouse"/>
          <p:cNvPicPr/>
          <p:nvPr/>
        </p:nvPicPr>
        <p:blipFill>
          <a:blip r:embed="rId6"/>
          <a:stretch/>
        </p:blipFill>
        <p:spPr>
          <a:xfrm>
            <a:off x="2362320" y="5338800"/>
            <a:ext cx="4343400" cy="151920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5241"/>
                </a:solidFill>
                <a:latin typeface="Tempus Sans ITC"/>
              </a:rPr>
              <a:t>Inside the Longhouse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Skins from animals or tree bark were used to make compartments for each family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Some compartments were used for storage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You lived with your “fireside family”-parents, brothers and sisters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The oldest women of the longhouse, was the head of the family and everyone was related to her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6707520" y="6019920"/>
            <a:ext cx="9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Arial"/>
              </a:rPr>
              <a:t>Inside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figure3interiorlg"/>
          <p:cNvPicPr/>
          <p:nvPr/>
        </p:nvPicPr>
        <p:blipFill>
          <a:blip r:embed="rId1"/>
          <a:stretch/>
        </p:blipFill>
        <p:spPr>
          <a:xfrm>
            <a:off x="380880" y="533520"/>
            <a:ext cx="6782040" cy="57229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7"/>
          <p:cNvSpPr/>
          <p:nvPr/>
        </p:nvSpPr>
        <p:spPr>
          <a:xfrm>
            <a:off x="7241040" y="380880"/>
            <a:ext cx="400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7317360" y="3657600"/>
            <a:ext cx="40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7849800" y="990720"/>
            <a:ext cx="418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5241"/>
                </a:solidFill>
                <a:latin typeface="Tempus Sans ITC"/>
              </a:rPr>
              <a:t>Clothing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63634"/>
                </a:solidFill>
                <a:uFillTx/>
                <a:latin typeface="Tempus Sans ITC"/>
              </a:rPr>
              <a:t>Men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Wore kilt like skirts almost to their knee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Legging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Decorated deerskin blouses or vest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28840" y="1447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63634"/>
                </a:solidFill>
                <a:uFillTx/>
                <a:latin typeface="Tempus Sans ITC"/>
              </a:rPr>
              <a:t>Women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Wore long skirts almost to their ankles, decorated with bead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Legging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Deerskin vest or blouse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5241"/>
                </a:solidFill>
                <a:latin typeface="Tempus Sans ITC"/>
              </a:rPr>
              <a:t>Shoes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3634"/>
                </a:solidFill>
                <a:latin typeface="Tempus Sans ITC"/>
              </a:rPr>
              <a:t>EVERYDAY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empus Sans ITC"/>
              </a:rPr>
              <a:t>Everyone wore moccasins, made of one piece of deerskin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empus Sans ITC"/>
              </a:rPr>
              <a:t>The moccasin was sewn at the heel and the top for comfort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empus Sans ITC"/>
              </a:rPr>
              <a:t>They were comfortable and were sewn with sinew (thread) from the deer.</a:t>
            </a:r>
            <a:r>
              <a:rPr b="0" lang="en-US" sz="2400" spc="-1" strike="noStrike">
                <a:solidFill>
                  <a:srgbClr val="463634"/>
                </a:solidFill>
                <a:latin typeface="Tempus Sans ITC"/>
              </a:rPr>
              <a:t>	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3634"/>
                </a:solidFill>
                <a:latin typeface="Tempus Sans ITC"/>
              </a:rPr>
              <a:t>WINTER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empus Sans ITC"/>
              </a:rPr>
              <a:t>During the winter they wore special shoes known as snowshoes.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empus Sans ITC"/>
              </a:rPr>
              <a:t>The snowshoe was worn along with the moccasin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empus Sans ITC"/>
              </a:rPr>
              <a:t>They were made of pieces of hickory wood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empus Sans ITC"/>
              </a:rPr>
              <a:t>They were used for hunting trips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75" name="Picture 17" descr="moccasin"/>
          <p:cNvPicPr/>
          <p:nvPr/>
        </p:nvPicPr>
        <p:blipFill>
          <a:blip r:embed="rId1"/>
          <a:stretch/>
        </p:blipFill>
        <p:spPr>
          <a:xfrm>
            <a:off x="304920" y="152280"/>
            <a:ext cx="2993760" cy="1811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8" descr="moc"/>
          <p:cNvPicPr/>
          <p:nvPr/>
        </p:nvPicPr>
        <p:blipFill>
          <a:blip r:embed="rId2"/>
          <a:stretch/>
        </p:blipFill>
        <p:spPr>
          <a:xfrm>
            <a:off x="5562720" y="228600"/>
            <a:ext cx="3276360" cy="181116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5241"/>
                </a:solidFill>
                <a:latin typeface="Tempus Sans ITC"/>
              </a:rPr>
              <a:t>Food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Food was attained by farming and hunting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y ate a lot of vegetables, fruits, nuts and different kinds of meat and fish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 main vegetables were known as the “Three Sister” and they were corn, squash and beans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80" name="Picture 4" descr="corn"/>
          <p:cNvPicPr/>
          <p:nvPr/>
        </p:nvPicPr>
        <p:blipFill>
          <a:blip r:embed="rId4"/>
          <a:stretch/>
        </p:blipFill>
        <p:spPr>
          <a:xfrm>
            <a:off x="685800" y="4343400"/>
            <a:ext cx="2057400" cy="1820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beans"/>
          <p:cNvPicPr/>
          <p:nvPr/>
        </p:nvPicPr>
        <p:blipFill>
          <a:blip r:embed="rId5"/>
          <a:stretch/>
        </p:blipFill>
        <p:spPr>
          <a:xfrm>
            <a:off x="6400800" y="43434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squash"/>
          <p:cNvPicPr/>
          <p:nvPr/>
        </p:nvPicPr>
        <p:blipFill>
          <a:blip r:embed="rId6"/>
          <a:stretch/>
        </p:blipFill>
        <p:spPr>
          <a:xfrm>
            <a:off x="3657600" y="4724280"/>
            <a:ext cx="1792440" cy="193680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5241"/>
                </a:solidFill>
                <a:latin typeface="Tempus Sans ITC"/>
              </a:rPr>
              <a:t>Corn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5800" y="1676520"/>
          <a:ext cx="7772400" cy="470052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4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Corn was shelled and cooked.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Corn powder with syrup was carried by hunters.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Dried kernels were used for decoration.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Cornstalks were used to hold medicine.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Husks were used to make mats, baskets, medicine masks and dolls.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Green corn leaves were sometimes used as bandages.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6" name="Picture 54" descr="corn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5486400" y="0"/>
            <a:ext cx="1344600" cy="1639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5" descr="corn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666880" y="0"/>
            <a:ext cx="1344600" cy="163980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31T02:51:49Z</dcterms:created>
  <dc:creator>college education</dc:creator>
  <dc:description/>
  <dc:language>en-US</dc:language>
  <cp:lastModifiedBy>Legion</cp:lastModifiedBy>
  <dcterms:modified xsi:type="dcterms:W3CDTF">2017-07-05T13:20:40Z</dcterms:modified>
  <cp:revision>51</cp:revision>
  <dc:subject/>
  <dc:title>PowerPoint Presentation</dc:title>
</cp:coreProperties>
</file>