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9582-9003-4301-B944-29875AA53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508-036F-4BD6-AB57-CB8F9E4C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5E2-434E-49DF-9F78-40A01C53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692-E087-4850-927E-4C71E202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801-9FA9-448E-A4F2-2F6B48ED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932-E82E-4A77-A303-79791F4C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8F4-F40C-4E2B-AD4B-BAAEAFD5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0CD-B50F-4603-8CF3-D5100FEC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F93-9CF7-4BCE-BE47-B1BD16F4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EE9-8A00-42F8-B91F-A885224B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E62-6186-4F45-B8FB-0A18BCAE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23D-D92D-4FAB-808F-37D9FB34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AF1-2D83-4BD1-9C6D-180F6279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1E42-D032-47C8-B3FE-10F1FB071785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463634"/>
                </a:solidFill>
                <a:latin typeface="Tempus Sans ITC"/>
              </a:rPr>
              <a:t>The Iroquois</a:t>
            </a:r>
            <a:br>
              <a:rPr sz="6900"/>
            </a:br>
            <a:endParaRPr b="0" i="1" lang="en-US" sz="69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79D3-7EC9-4984-BEDD-9FB40BAFF2D3}" type="datetime3"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July 28, 2026</a:t>
            </a:fld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676520"/>
          <a:ext cx="7772400" cy="399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1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Tools for hunt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ampum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arved bowls, cups and pipe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Sports equipment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usical instrument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ay po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Baske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radleboard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oth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occasi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Elaborate decoratio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ould help their mothers and fathers as much as they could with gathering of materials and other thing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Gam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re were many team games with about 6-8 players on each team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Running was also a sport and there were those who competed at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lso played games of chanc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peach-stone game was often played on the Green Corn Harvest and New Year’s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uring winter, they would play the “snake” game,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For More Information on the Iroquoi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per doll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loring pag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ational Geographic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cation and Nam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known as the Haudenosaunee, the people of the longhouses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part of the Great Iroquois Leagu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ir location was from eastern New York to northeastern Ohio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Sometimes they traveled as far as the Mississippi River, Tennessee and the Hudson Bay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7220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nghous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lived in a village surrounded by a stockad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nside the stockade were longhouse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t had a fire hole in the middle to let the cooking smoke out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between 15-20 ft. high, 25ft. wide and between 50-150 ft. lo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Many families lived in a longhous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longhouse"/>
          <p:cNvPicPr/>
          <p:nvPr/>
        </p:nvPicPr>
        <p:blipFill>
          <a:blip r:embed="rId6"/>
          <a:stretch/>
        </p:blipFill>
        <p:spPr>
          <a:xfrm>
            <a:off x="2362320" y="5338800"/>
            <a:ext cx="4343400" cy="1519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Inside the Longhous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kins from animals or tree bark were used to make compartments for each family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compartments were used for storag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You lived with your “fireside family”-parents, brothers and sister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oldest women of the longhouse, was the head of the family and everyone was related to her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07520" y="60199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igure3interiorlg"/>
          <p:cNvPicPr/>
          <p:nvPr/>
        </p:nvPicPr>
        <p:blipFill>
          <a:blip r:embed="rId1"/>
          <a:stretch/>
        </p:blipFill>
        <p:spPr>
          <a:xfrm>
            <a:off x="380880" y="533520"/>
            <a:ext cx="6782040" cy="572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7241040" y="380880"/>
            <a:ext cx="4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317360" y="365760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849800" y="990720"/>
            <a:ext cx="41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loth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kilt like skirts almost to their kne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corated deerskin blouses or ves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Wo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long skirts almost to their ankles, decorated with bead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erskin vest or blous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Sho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EVERYD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Everyone wore moccasins, made of one piece of deersk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moccasin was sewn at the heel and the top for comfort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comfortable and were sewn with sinew (thread) from the deer.</a:t>
            </a: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W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During the winter they wore special shoes known as snowshoes.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snowshoe was worn along with the moccas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made of pieces of hickory wood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used for hunting trip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17" descr="moccasin"/>
          <p:cNvPicPr/>
          <p:nvPr/>
        </p:nvPicPr>
        <p:blipFill>
          <a:blip r:embed="rId1"/>
          <a:stretch/>
        </p:blipFill>
        <p:spPr>
          <a:xfrm>
            <a:off x="304920" y="152280"/>
            <a:ext cx="2993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moc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18111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Foo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Food was attained by farming and hunti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te a lot of vegetables, fruits, nuts and different kinds of meat and fish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main vegetables were known as the “Three Sister” and they were corn, squash and bean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4" descr="corn"/>
          <p:cNvPicPr/>
          <p:nvPr/>
        </p:nvPicPr>
        <p:blipFill>
          <a:blip r:embed="rId4"/>
          <a:stretch/>
        </p:blipFill>
        <p:spPr>
          <a:xfrm>
            <a:off x="685800" y="434340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eans"/>
          <p:cNvPicPr/>
          <p:nvPr/>
        </p:nvPicPr>
        <p:blipFill>
          <a:blip r:embed="rId5"/>
          <a:stretch/>
        </p:blipFill>
        <p:spPr>
          <a:xfrm>
            <a:off x="6400800" y="4343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quash"/>
          <p:cNvPicPr/>
          <p:nvPr/>
        </p:nvPicPr>
        <p:blipFill>
          <a:blip r:embed="rId6"/>
          <a:stretch/>
        </p:blipFill>
        <p:spPr>
          <a:xfrm>
            <a:off x="3657600" y="4724280"/>
            <a:ext cx="1792440" cy="19368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or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76520"/>
          <a:ext cx="7772400" cy="4700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was shelled and cooked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powder with syrup was carried by hunter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Dried kernels were used for decoration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stalks were used to hold medicine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Husks were used to make mats, baskets, medicine masks and doll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Green corn leaves were sometimes used as bandage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54" descr="cor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86400" y="0"/>
            <a:ext cx="1344600" cy="163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cor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66880" y="0"/>
            <a:ext cx="1344600" cy="1639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51:49Z</dcterms:created>
  <dc:creator>college education</dc:creator>
  <dc:description/>
  <dc:language>en-US</dc:language>
  <cp:lastModifiedBy>Legion</cp:lastModifiedBy>
  <dcterms:modified xsi:type="dcterms:W3CDTF">2017-07-05T13:20:40Z</dcterms:modified>
  <cp:revision>51</cp:revision>
  <dc:subject/>
  <dc:title>PowerPoint Presentation</dc:title>
</cp:coreProperties>
</file>