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98FA-2D4B-4DD0-AFD2-87192A2ACA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 Westw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9er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to Californi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ove Westwar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are attacked by groups called “nativis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hood for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omes a state in 18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enters as a free state in the 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atehood for Califor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is discovered in 1848 on Sutter’s sawmi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easons for the Gold Rush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s believe in Manifest Desti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ypical miner locates gold flakes not gold nug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49er’s arrived to California they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 from criminals, Indian attacks and dangerou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work and exhau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omfortable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s have to contend with high prices, gamblers and cri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come are from South America, Mexico, Europe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D39-E383-4024-A242-AD2C8D32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C53-D1CF-4542-A30B-E523CFA0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625E-A0FE-436C-A758-D4922445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6EA-F787-4A0A-BE3A-135CCB83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B439-69DF-4350-83A6-ED998A89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379E-26DE-4461-841F-51B9989A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8455-AD67-4966-AD51-22BEE40C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6280-2048-4655-82D6-5A736B8A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3785-6EB0-4CA4-8871-AA1B7F24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57CE-1191-45B1-8EF6-9DEC6FEB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988B-7960-4A96-9124-98EF0FA6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A5F-ABC9-458B-8D07-7DEA6B3B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63CB-7955-49F9-A953-7A16CAD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CDD6-6D0E-4210-A928-D8FA8373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5344-8992-4B99-9F8A-A954F613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186E-0BDB-45CE-8B48-101D7348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B737-22A2-461C-9605-DD67EF1A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4F0-6E9A-45AC-85B1-BE2053EB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1C4-D9A4-478E-A8FA-FDDDD63F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097-288A-45BC-83CD-61ECF568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919-B1C1-459A-A4B7-D0A178C5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0CA-0155-4D09-A938-F60E528C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83B-9E41-47D7-849A-F42A4B29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595-34BE-48A6-84D8-82C9A03E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9A4D-0BB7-45FC-A294-8AAE33427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4B40-5F87-4997-8E1C-D973689F4905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ove Westwar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Picture 11" descr="http://www.pbs.org/weta/thewest/resources/archives/images/wimg630/oc52mnrs.gif"/>
          <p:cNvPicPr/>
          <p:nvPr/>
        </p:nvPicPr>
        <p:blipFill>
          <a:blip r:embed="rId1"/>
          <a:stretch/>
        </p:blipFill>
        <p:spPr>
          <a:xfrm>
            <a:off x="4876920" y="2057400"/>
            <a:ext cx="358128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438200" y="1166760"/>
            <a:ext cx="6269040" cy="4525920"/>
            <a:chOff x="1438200" y="1166760"/>
            <a:chExt cx="6269040" cy="4525920"/>
          </a:xfrm>
        </p:grpSpPr>
        <p:sp>
          <p:nvSpPr>
            <p:cNvPr id="206" name="Rectangle 5"/>
            <p:cNvSpPr/>
            <p:nvPr/>
          </p:nvSpPr>
          <p:spPr>
            <a:xfrm>
              <a:off x="1438200" y="116676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438200" y="116676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1436760" y="1165320"/>
            <a:ext cx="6269040" cy="4525920"/>
            <a:chOff x="1436760" y="1165320"/>
            <a:chExt cx="6269040" cy="4525920"/>
          </a:xfrm>
        </p:grpSpPr>
        <p:sp>
          <p:nvSpPr>
            <p:cNvPr id="209" name="Rectangle 9"/>
            <p:cNvSpPr/>
            <p:nvPr/>
          </p:nvSpPr>
          <p:spPr>
            <a:xfrm>
              <a:off x="1436760" y="116532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436760" y="116532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1" name="Picture 11" descr="http://immigrants.harpweek.com/ChineseAmericans/Illustrations/images/0219w500.jpg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2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352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9" descr="http://immigrants.harpweek.com/ChineseAmericans/Illustrations/images/1221w775.jpg"/>
          <p:cNvPicPr/>
          <p:nvPr/>
        </p:nvPicPr>
        <p:blipFill>
          <a:blip r:embed="rId1"/>
          <a:stretch/>
        </p:blipFill>
        <p:spPr>
          <a:xfrm>
            <a:off x="4952880" y="304920"/>
            <a:ext cx="3810240" cy="632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12" descr="http://immigrants.harpweek.com/ChineseAmericans/Illustrations/images/1600w500.jpg"/>
          <p:cNvPicPr/>
          <p:nvPr/>
        </p:nvPicPr>
        <p:blipFill>
          <a:blip r:embed="rId2"/>
          <a:stretch/>
        </p:blipFill>
        <p:spPr>
          <a:xfrm>
            <a:off x="457200" y="304920"/>
            <a:ext cx="4114800" cy="631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hood for Califor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http://rds.yahoo.com/S=96062883/K=california+flag/v=2/SID=e/l=IVS/SIG=122dnipd7/EXP=1112164871/*-http%3A//www.workmall.com/amazon/california3.jpg"/>
          <p:cNvPicPr/>
          <p:nvPr/>
        </p:nvPicPr>
        <p:blipFill>
          <a:blip r:embed="rId1"/>
          <a:srcRect l="0" t="0" r="0" b="6002"/>
          <a:stretch/>
        </p:blipFill>
        <p:spPr>
          <a:xfrm>
            <a:off x="4572000" y="20574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7" descr="http://rds.yahoo.com/S=96062883/K=sutter%27s+mill/v=2/SID=e/l=IVS/SIG=12spr2q3q/EXP=1112161566/*-http%3A//www.books-about-california.com/Images/California_Romantic/Sutter's_Mill.jpg"/>
          <p:cNvPicPr/>
          <p:nvPr/>
        </p:nvPicPr>
        <p:blipFill>
          <a:blip r:embed="rId1"/>
          <a:srcRect l="4000" t="1774" r="4000" b="13212"/>
          <a:stretch/>
        </p:blipFill>
        <p:spPr>
          <a:xfrm>
            <a:off x="4800600" y="2133720"/>
            <a:ext cx="373392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7" descr="California Gold Rush"/>
          <p:cNvPicPr/>
          <p:nvPr/>
        </p:nvPicPr>
        <p:blipFill>
          <a:blip r:embed="rId1"/>
          <a:stretch/>
        </p:blipFill>
        <p:spPr>
          <a:xfrm>
            <a:off x="4952880" y="2057400"/>
            <a:ext cx="36576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7" descr="http://www.goldrush.com/~joann/women1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http://rds.yahoo.com/S=96062883/K=california+gold+rush+pictures/v=2/SID=e/l=IVI/SIG=121f91lv7/EXP=1112163156/*-http%3A//www.quiknet.com/~class/sundaymines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8320" y="2133720"/>
            <a:ext cx="38098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7" descr="http://rds.yahoo.com/S=96062883/K=old+panning/v=2/SID=e/l=IVS/SIG=12g0rhktv/EXP=1112163584/*-http%3A//homepages.wmich.edu/~r6bigelo/old%20boy%20panning.jpg"/>
          <p:cNvPicPr/>
          <p:nvPr/>
        </p:nvPicPr>
        <p:blipFill>
          <a:blip r:embed="rId1"/>
          <a:stretch/>
        </p:blipFill>
        <p:spPr>
          <a:xfrm>
            <a:off x="5089680" y="1981080"/>
            <a:ext cx="2925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http://www.legendsofamerica.com/photos-oldwest/CaliforniaGambling1894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7" descr="Chinese Census"/>
          <p:cNvPicPr/>
          <p:nvPr/>
        </p:nvPicPr>
        <p:blipFill>
          <a:blip r:embed="rId1"/>
          <a:stretch/>
        </p:blipFill>
        <p:spPr>
          <a:xfrm>
            <a:off x="4876920" y="2133720"/>
            <a:ext cx="365760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11" descr="http://www.newton.mec.edu/Angier/DimSum/dimsumimages/newphotos/2chinese_panner400.jpg"/>
          <p:cNvPicPr/>
          <p:nvPr/>
        </p:nvPicPr>
        <p:blipFill>
          <a:blip r:embed="rId1"/>
          <a:srcRect l="8001" t="3963" r="3997" b="4953"/>
          <a:stretch/>
        </p:blipFill>
        <p:spPr>
          <a:xfrm>
            <a:off x="4952880" y="2209680"/>
            <a:ext cx="3657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3:08:41Z</dcterms:created>
  <dc:creator>Preferred Customer</dc:creator>
  <dc:description/>
  <dc:language>en-US</dc:language>
  <cp:lastModifiedBy>Legion</cp:lastModifiedBy>
  <dcterms:modified xsi:type="dcterms:W3CDTF">2017-07-05T13:22:14Z</dcterms:modified>
  <cp:revision>17</cp:revision>
  <dc:subject/>
  <dc:title>The Move Westward</dc:title>
</cp:coreProperties>
</file>