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6B41-2358-45DD-8304-343ED75B7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111-DD26-4E9F-A9C2-D530A549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2BF-8F82-42DD-AEA0-6B56B400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F12-AF7F-4E4F-A879-897C1BA5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A65-825E-4C98-878E-38DC8DF0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D86-50BF-43A9-872B-33B0ABAC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2DE-DF95-49F2-B616-62F76CFD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759-902C-40A4-912F-08526DDC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97F-9E3E-477F-9A5C-C0793A1C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C6C-2CA9-4009-ACBC-BF7C0D84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5FF-6931-4451-BBDF-0AFDBD55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704-7239-4434-8E06-00024145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7A2-4A8D-4CF7-95C9-E93B1866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F25D-609C-4FFE-9503-58E3B86F4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plosive exper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ggles, bench mat, tongs, bunsen, lighter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FULLY put magnesium in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kull-crossbones-646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114300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energy is being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hen magnesium is burned, energy is released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a new substance being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A new substance forms, it i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is new substance lighter or hea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aking a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A word which means ‘energy released’ is </a:t>
            </a: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exothermic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think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9810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213372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81480" y="205740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743200" y="2133720"/>
            <a:ext cx="68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24680" y="2057400"/>
            <a:ext cx="914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e.g. oxygen + oxyg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3520" y="2133720"/>
            <a:ext cx="8229600" cy="3351600"/>
            <a:chOff x="533520" y="2133720"/>
            <a:chExt cx="8229600" cy="3351600"/>
          </a:xfrm>
        </p:grpSpPr>
        <p:sp>
          <p:nvSpPr>
            <p:cNvPr id="67" name="Text Box 5"/>
            <p:cNvSpPr/>
            <p:nvPr/>
          </p:nvSpPr>
          <p:spPr>
            <a:xfrm>
              <a:off x="533520" y="2133720"/>
              <a:ext cx="8229600" cy="33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105520" y="320868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80880" y="4876920"/>
            <a:ext cx="7619760" cy="1677960"/>
            <a:chOff x="380880" y="4876920"/>
            <a:chExt cx="7619760" cy="1677960"/>
          </a:xfrm>
        </p:grpSpPr>
        <p:sp>
          <p:nvSpPr>
            <p:cNvPr id="70" name="Text Box 8"/>
            <p:cNvSpPr/>
            <p:nvPr/>
          </p:nvSpPr>
          <p:spPr>
            <a:xfrm>
              <a:off x="380880" y="4876920"/>
              <a:ext cx="4647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.  For example, hydrogen looks like this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5638680" y="5105520"/>
              <a:ext cx="2361960" cy="762120"/>
              <a:chOff x="5638680" y="5105520"/>
              <a:chExt cx="2361960" cy="76212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6019560" y="548640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56386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72388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380880" y="4191120"/>
            <a:ext cx="8229600" cy="2301120"/>
            <a:chOff x="380880" y="4191120"/>
            <a:chExt cx="8229600" cy="2301120"/>
          </a:xfrm>
        </p:grpSpPr>
        <p:sp>
          <p:nvSpPr>
            <p:cNvPr id="76" name="Text Box 7"/>
            <p:cNvSpPr/>
            <p:nvPr/>
          </p:nvSpPr>
          <p:spPr>
            <a:xfrm>
              <a:off x="380880" y="4191120"/>
              <a:ext cx="4191120" cy="23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095880" y="4191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685800" y="10666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two elements join the name ends with ____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.g. Magnesium + oxyg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838080"/>
            <a:ext cx="792504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533520" y="609480"/>
            <a:ext cx="8153280" cy="1937880"/>
            <a:chOff x="533520" y="609480"/>
            <a:chExt cx="8153280" cy="1937880"/>
          </a:xfrm>
        </p:grpSpPr>
        <p:sp>
          <p:nvSpPr>
            <p:cNvPr id="82" name="Text Box 4"/>
            <p:cNvSpPr/>
            <p:nvPr/>
          </p:nvSpPr>
          <p:spPr>
            <a:xfrm>
              <a:off x="533520" y="609480"/>
              <a:ext cx="8153280" cy="1937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ite or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________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5410080" y="22096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457200" y="3124080"/>
            <a:ext cx="8229600" cy="2785320"/>
            <a:chOff x="457200" y="3124080"/>
            <a:chExt cx="8229600" cy="2785320"/>
          </a:xfrm>
        </p:grpSpPr>
        <p:sp>
          <p:nvSpPr>
            <p:cNvPr id="85" name="Text Box 7"/>
            <p:cNvSpPr/>
            <p:nvPr/>
          </p:nvSpPr>
          <p:spPr>
            <a:xfrm>
              <a:off x="457200" y="3124080"/>
              <a:ext cx="533412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172200" y="312408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5:16Z</dcterms:modified>
  <cp:revision>15</cp:revision>
  <dc:subject/>
  <dc:title>Naming Compounds cations and anions</dc:title>
</cp:coreProperties>
</file>