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DC50-9CCC-4586-AF43-06DC1F8D2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Do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sive experi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ggles, bench mat, tongs, bunsen, lighter and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put magnesium in fl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nergy is being rel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agnesium is burned, energy is released as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new substance being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substance forms, it is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new substance lighter or heav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make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which means ‘energy released’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endothermic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identical elements combine then the name doesn’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.g. oxygen + oxygen 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elements join the name ends with ____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agnesium + oxyg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1D2-C4C1-4EE7-A8F3-57F6DA5E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23F-A8A0-4987-8700-C8194ACF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016-5B5F-4A08-B583-BBD704B8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EBE-8C6D-4DCC-9B61-91E8E9E8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B03-1897-4BE7-AE93-84BEDFFF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EAF-5A71-4890-94DD-50650785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A17-C56A-41E9-AC49-FA934742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F82-EC18-45A4-9AFB-31474F2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FF4-C42E-47A2-9425-13709333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AEE-3394-4D44-9DBA-41C56F41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E67-6F90-4D70-9B3F-97C31D0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D64-3891-4BB2-BC36-28AD0E5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B0A5-85BF-4602-9F9B-0EE45B8A8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plosive exper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ggles, bench mat, tongs, bunsen, lighter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EFULLY put magnesium in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skull-crossbones-646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09480" y="1143000"/>
            <a:ext cx="77724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energy is being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hen magnesium is burned, energy is released as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re a new substance being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A new substance forms, it i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is new substance lighter or heav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-This new substance is heavier as there are two different elements in the substance, they are magnesium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Making a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make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When elements join to make a compound, energy is released and a new substance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A word which means ‘energy released’ is </a:t>
            </a:r>
            <a:r>
              <a:rPr b="1" lang="en-GB" sz="3200" spc="-1" strike="noStrike">
                <a:solidFill>
                  <a:srgbClr val="99cc00"/>
                </a:solidFill>
                <a:latin typeface="Arial"/>
              </a:rPr>
              <a:t>exothermic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think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otherm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8080" y="19810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213372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81480" y="2057400"/>
            <a:ext cx="2743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743200" y="2133720"/>
            <a:ext cx="685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24680" y="2057400"/>
            <a:ext cx="914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e.g. oxygen + oxyg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3520" y="2133720"/>
            <a:ext cx="8229600" cy="3351600"/>
            <a:chOff x="533520" y="2133720"/>
            <a:chExt cx="8229600" cy="3351600"/>
          </a:xfrm>
        </p:grpSpPr>
        <p:sp>
          <p:nvSpPr>
            <p:cNvPr id="67" name="Text Box 5"/>
            <p:cNvSpPr/>
            <p:nvPr/>
          </p:nvSpPr>
          <p:spPr>
            <a:xfrm>
              <a:off x="533520" y="2133720"/>
              <a:ext cx="8229600" cy="33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5105520" y="320868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"/>
          <p:cNvGrpSpPr/>
          <p:nvPr/>
        </p:nvGrpSpPr>
        <p:grpSpPr>
          <a:xfrm>
            <a:off x="380880" y="4876920"/>
            <a:ext cx="7619760" cy="1677960"/>
            <a:chOff x="380880" y="4876920"/>
            <a:chExt cx="7619760" cy="1677960"/>
          </a:xfrm>
        </p:grpSpPr>
        <p:sp>
          <p:nvSpPr>
            <p:cNvPr id="70" name="Text Box 8"/>
            <p:cNvSpPr/>
            <p:nvPr/>
          </p:nvSpPr>
          <p:spPr>
            <a:xfrm>
              <a:off x="380880" y="4876920"/>
              <a:ext cx="4647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.  For example, hydrogen looks like this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5638680" y="5105520"/>
              <a:ext cx="2361960" cy="762120"/>
              <a:chOff x="5638680" y="5105520"/>
              <a:chExt cx="2361960" cy="762120"/>
            </a:xfrm>
          </p:grpSpPr>
          <p:sp>
            <p:nvSpPr>
              <p:cNvPr id="72" name="Line 10"/>
              <p:cNvSpPr/>
              <p:nvPr/>
            </p:nvSpPr>
            <p:spPr>
              <a:xfrm>
                <a:off x="6019560" y="548640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1"/>
              <p:cNvSpPr/>
              <p:nvPr/>
            </p:nvSpPr>
            <p:spPr>
              <a:xfrm>
                <a:off x="56386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7238880" y="510552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6"/>
          <p:cNvGrpSpPr/>
          <p:nvPr/>
        </p:nvGrpSpPr>
        <p:grpSpPr>
          <a:xfrm>
            <a:off x="380880" y="4191120"/>
            <a:ext cx="8229600" cy="2301120"/>
            <a:chOff x="380880" y="4191120"/>
            <a:chExt cx="8229600" cy="2301120"/>
          </a:xfrm>
        </p:grpSpPr>
        <p:sp>
          <p:nvSpPr>
            <p:cNvPr id="76" name="Text Box 7"/>
            <p:cNvSpPr/>
            <p:nvPr/>
          </p:nvSpPr>
          <p:spPr>
            <a:xfrm>
              <a:off x="380880" y="4191120"/>
              <a:ext cx="4191120" cy="23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6095880" y="41911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0"/>
          <p:cNvSpPr/>
          <p:nvPr/>
        </p:nvSpPr>
        <p:spPr>
          <a:xfrm>
            <a:off x="685800" y="10666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two elements join the name ends with ____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.g. Magnesium + oxyge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09480" y="838080"/>
            <a:ext cx="792504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"/>
          <p:cNvGrpSpPr/>
          <p:nvPr/>
        </p:nvGrpSpPr>
        <p:grpSpPr>
          <a:xfrm>
            <a:off x="533520" y="609480"/>
            <a:ext cx="8153280" cy="1937880"/>
            <a:chOff x="533520" y="609480"/>
            <a:chExt cx="8153280" cy="1937880"/>
          </a:xfrm>
        </p:grpSpPr>
        <p:sp>
          <p:nvSpPr>
            <p:cNvPr id="82" name="Text Box 4"/>
            <p:cNvSpPr/>
            <p:nvPr/>
          </p:nvSpPr>
          <p:spPr>
            <a:xfrm>
              <a:off x="533520" y="609480"/>
              <a:ext cx="8153280" cy="1937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ite or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________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5410080" y="22096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"/>
          <p:cNvGrpSpPr/>
          <p:nvPr/>
        </p:nvGrpSpPr>
        <p:grpSpPr>
          <a:xfrm>
            <a:off x="457200" y="3124080"/>
            <a:ext cx="8229600" cy="2785320"/>
            <a:chOff x="457200" y="3124080"/>
            <a:chExt cx="8229600" cy="2785320"/>
          </a:xfrm>
        </p:grpSpPr>
        <p:sp>
          <p:nvSpPr>
            <p:cNvPr id="85" name="Text Box 7"/>
            <p:cNvSpPr/>
            <p:nvPr/>
          </p:nvSpPr>
          <p:spPr>
            <a:xfrm>
              <a:off x="457200" y="3124080"/>
              <a:ext cx="533412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172200" y="312408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5:16Z</dcterms:modified>
  <cp:revision>15</cp:revision>
  <dc:subject/>
  <dc:title>Naming Compounds cations and anions</dc:title>
</cp:coreProperties>
</file>