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C61B-E432-41F0-A77F-2628CF335A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astern tribes mostly lived in long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would live in on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s lived near water for transportation purpo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ere their sole domesticated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bout travel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s in the clothes were closely tied to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land Fash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was very frequent between the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. Cristi -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 and Arrow, pipe are Naja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 head rattle and pipe are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came from the man’s rib and turned into wo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woman have say at meetings because they run th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rs. Cristi -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north into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south to the G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– warri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, Chocktaw, Chickasaw, Creek – Southeastern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– Florida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 were deer-hunters and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and used all of the deer they hu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was also a major part of their die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 -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 grew beans, corn, pumpkin, squash and tobacc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also harvested these crops and prepared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ried berries, corn, fish, meat and squash for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made the pots for cooking out of red or black cl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 - Wo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boy was 13 they went on a Vision 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K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live in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pular house was a wigw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either covered with bark, grasses or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t up in villages of 200-400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id they live in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7FD-600A-4703-8362-EDD0CAA7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ADD-9F2E-4BCF-BC9F-9E7BAA1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59D-2339-48E2-91EF-11358ACE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A98-9C25-499F-9E54-3407812C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6DD1-2960-4B7E-9BB6-938B8EDE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A5DD-A1DD-42EA-920A-864CD685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597A-27A2-4925-8992-747F8B1E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5DFB-57A4-4E33-BE04-F87C0ADD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09B4-8422-4ABD-9844-12D894E6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A56D-C219-4237-A57D-887953AD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6AC8-9BBE-4D63-B45B-F552078C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A4A-B3F6-42B3-8BF3-6B4A6AB0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2044-7EE1-46EF-93F2-E4F223CC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6542-650C-4FBF-8C85-6A72FE9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4199-FA96-45D3-902E-6F1D599C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2A81-D6ED-4D94-877E-2D47D55B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79DF-AA3C-4B43-A5CE-6A7553EE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744-C553-4789-AEA4-A3AEADF1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A30-029D-4399-87D0-8BF889DB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C9E-9017-4640-AD59-A218C382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32C-EB5C-4907-860B-FBBC1B27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2D4-A7E2-4164-AD4C-8EBE3A40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801-C1E3-471F-82F2-41931F57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0B8-32E4-4593-95C2-18B41FA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BF1B-3DD1-4E88-A2AB-78C3D4E35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CA9-5AB8-4422-B428-6B0E2ACAE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mK8dIyPwAcXOJzbkF;_ylu=X3oDMTByNDQwdDU1BHBvcwMxNQRzZWMDc3IEdnRpZANJMDg2XzEwOA--/SIG=1gk9bijb0/EXP=1221098854/**http%3A//images.search.yahoo.com/images/view%3Fback=http%253A%252F%252Fimages.search.yahoo.com%252Fsearch%252Fimages%253Fp%253Diroquois%252Bindians%2526fr%253Dyfp-t-100%2526ei%253Dutf-8%2526x%253Dwrt%26w=211%26h=151%26imgurl=www.aaanativearts.com%252Firoquois_longhouse.jpg%26rurl=http%253A%252F%252Fwww.aaanativearts.com%252Firoquois_nation.htm%26size=14.6kB%26name=iroquois_longhouse.jpg%26p=iroquois%2Bindians%26type=JPG%26oid=65b0f236275a393a%26no=15%26tt=885%26sigr=11g62un92%26sigi=11cj2c0hr%26sigb=12rmc393v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ds.yahoo.com/_ylt=A9G_bHMsLMdIeWQBQ.GJzbkF;_ylu=X3oDMTByNDQwdDU1BHBvcwMxNQRzZWMDc3IEdnRpZANJMDg2XzEwOA--/SIG=1hu6755st/EXP=1221098924/**http%3A//images.search.yahoo.com/images/view%3Fback=http%253A%252F%252Fimages.search.yahoo.com%252Fsearch%252Fimages%253Fp%253Diroquois%252Bindians%252Blonghouse%2526fr%253Dyfp-t-100%2526ei%253Dutf-8%2526x%253Dwrt%26w=500%26h=422%26imgurl=www.nysm.nysed.gov%252FIroquoisVillage%252Fimages%252Ffigure3interiorlg.gif%26rurl=http%253A%252F%252Fwww.bigorrin.org%252Firoquois_kids.htm%26size=80kB%26name=figure3interiorlg.gif%26p=iroquois%2Bindians%2Blonghouse%26type=gif%26oid=39ec2309ba4271be%26no=15%26tt=21%26sigr=119fcb6i2%26sigi=11vjhhvf4%26sigb=135m186h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CMsdImPsAgDKJzbkF;_ylu=X3oDMTBybWQwaXUxBHBvcwMxMQRzZWMDc3IEdnRpZANJMDg2XzEwOA--/SIG=1ihrrf254/EXP=1221100546/**http%3A//images.search.yahoo.com/images/view%3Fback=http%253A%252F%252Fimages.search.yahoo.com%252Fsearch%252Fimages%253F_adv_prop%253Dimage%2526fr%253Dyfp-t-100%2526va%253Dwoodland%252Bindian%252Bcanoe%2526sz%253Dall%26w=400%26h=300%26imgurl=www.virginiaplaces.org%252Fnativeamerican%252Fgraphics%252Fhenricuscanoe.jpg%26rurl=http%253A%252F%252Fwww.virginiaplaces.org%252Fnativeamerican%252F6_archai.html%26size=56.5kB%26name=henricuscanoe.jpg%26p=woodland%2Bindian%2Bcanoe%26type=JPG%26oid=fd8c1f90c793fad6%26no=11%26tt=33%26sigr=11qhr231j%26sigi=120fkmmcj%26sigb=139mmt49h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tLsdIM_EAY2mJzbkF;_ylu=X3oDMTBxNGFtOGxpBHBvcwMxBHNlYwNzcgR2dGlkA0kwODZfMTA4/SIG=1g44d0nvi/EXP=1221099629/**http%3A//images.search.yahoo.com/images/view%3Fback=http%253A%252F%252Fimages.search.yahoo.com%252Fsearch%252Fimages%253Fp%253Dcherokee%252Bindians%2526fr%253Dyfp-t-100%2526ei%253Dutf-8%2526x%253Dwrt%26w=1087%26h=1500%26imgurl=library.thinkquest.org%252FJ002188F%252Fchief2.jpg%26rurl=http%253A%252F%252Flibrary.thinkquest.org%252FJ002188F%26size=223.3kB%26name=chief2.jpg%26p=cherokee%2Bindians%26type=JPG%26oid=5096aacf1d105386%26no=1%26tt=5,421%26sigr=116kgmpcp%26sigi=11af8vm7i%26sigb=12rpl39o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PoL8dIeWQBPKKJzbkF;_ylu=X3oDMTBxOThsYTZ0BHBvcwMyBHNlYwNzcgR2dGlkA0kwODZfMTA4/SIG=1l8e83ma7/EXP=1221099880/**http%3A//images.search.yahoo.com/images/view%3Fback=http%253A%252F%252Fimages.search.yahoo.com%252Fsearch%252Fimages%253Fp%253Dindian%252Bbow%252Band%252Barrow%2526ni%253D20%2526ei%253DUTF-8%2526fr%253Dyfp-t-100%2526fr2%253Dtab-web%2526xargs%253D0%2526pstart%253D1%2526b%253D1%26w=150%26h=222%26imgurl=www.old-picture.com%252Findians%252Fthumbnails%252FIndian-Holding-Bow-Arrow-th.jpg%26rurl=http%253A%252F%252Fwww.old-picture.com%252Findians%252FIndian-in-Bear-Fur-Costume.htm%26size=10.6kB%26name=Indian-Holding-Bow-Arrow-th.jpg%26p=indian%2Bbow%2Band%2Barrow%26type=JPG%26oid=1626b876200b1b20%26no=2%26tt=563%26sigr=121sen44a%26sigi=126astrvt%26sigb=140bikae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9G_bF4YMMdIYCcBU5yJzbkF;_ylu=X3oDMTBxaW9zM2M4BHBvcwM0BHNlYwNzcgR2dGlkA0kwODZfMTA4/SIG=1igiaql6q/EXP=1221099928/**http%3A//images.search.yahoo.com/images/view%3Fback=http%253A%252F%252Fimages.search.yahoo.com%252Fsearch%252Fimages%253Fp%253Dindian%252Bspear%252Bfishing%2526fr%253Dyfp-t-100%2526ei%253Dutf-8%2526x%253Dwrt%26w=150%26h=232%26imgurl=www.old-picture.com%252Findians%252Fthumbnails%252FIndian-Fishing-with-Net-th.jpg%26rurl=http%253A%252F%252Fwww.old-picture.com%252Ffishing-boating-index-001.htm%26size=8.9kB%26name=Indian-Fishing-with-Net-th.jpg%26p=indian%2Bspear%2Bfishing%26type=JPG%26oid=66413400f34a12dc%26no=4%26tt=37%26sigr=11oeb3eu9%26sigi=125tqc39v%26sigb=12v0je8tj" TargetMode="External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0nM8dIQnQAcOCJzbkF;_ylu=X3oDMTBxOThsYTZ0BHBvcwMyBHNlYwNzcgR2dGlkA0kwODZfMTA4/SIG=1jvn2pl6b/EXP=1221100711/**http%3A//images.search.yahoo.com/images/view%3Fback=http%253A%252F%252Fimages.search.yahoo.com%252Fsearch%252Fimages%253F_adv_prop%253Dimage%2526fr%253Dyfp-t-100%2526va%253Dindian%252Blacrosse%252Bsticks%2526sz%253Dall%26w=450%26h=639%26imgurl=www.antiqueskis.com%252Fimage.php%253Ftable%253Dproducts%2526amp%253Bid%253D101%2526amp%253Bkey%253DIDnum%2526amp%253Bfield%253Dlargeimage%26rurl=http%253A%252F%252Fwww.antiqueskis.com%252Fitempop.php%253Fid%253D101%26size=39.9kB%26name=image.php%26p=indian%2Blacrosse%2Bsticks%26type=JPG%26oid=c80737309a995674%26no=2%26tt=16%26sigr=11d45osla%26sigi=12q68sc0i%26sigb=13asmgqo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JYLMdIl1UBhjGJzbkF;_ylu=X3oDMTBxNGFtOGxpBHBvcwMxBHNlYwNzcgR2dGlkA0kwODZfMTA4/SIG=1h3fo8c6k/EXP=1221098968/**http%3A//images.search.yahoo.com/images/view%3Fback=http%253A%252F%252Fimages.search.yahoo.com%252Fsearch%252Fimages%253Fp%253Dwigwam%2526fr%253Dyfp-t-100%2526ei%253Dutf-8%2526x%253Dwrt%26w=401%26h=272%26imgurl=www.turtletrack.org%252FIssues02%252FCo11302002%252FArt%252Fwigwam.jpg%26rurl=http%253A%252F%252Fwww.turtletrack.org%252FIssues02%252FCo11302002%252FCO_11302002_Museum.htm%26size=24.9kB%26name=wigwam.jpg%26p=wigwam%26type=JPG%26oid=5eba36528aa3ff88%26no=1%26tt=72,995%26sigr=125b5patp%26sigi=11mg8v21b%26sigb=12hpcshj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ds.yahoo.com/_ylt=A9G_bHJYLMdIl1UBijGJzbkF;_ylu=X3oDMTBxMjE4MGZiBHBvcwM1BHNlYwNzcgR2dGlkA0kwODZfMTA4/SIG=1fo983san/EXP=1221098968/**http%3A//images.search.yahoo.com/images/view%3Fback=http%253A%252F%252Fimages.search.yahoo.com%252Fsearch%252Fimages%253Fp%253Dwigwam%2526fr%253Dyfp-t-100%2526ei%253Dutf-8%2526x%253Dwrt%26w=450%26h=337%26imgurl=www.researchcasting.ca%252Fimages%252Fwigwam.jpg%26rurl=http%253A%252F%252Fwww.researchcasting.ca%252Finteractive%252520wigwam.htm%26size=42kB%26name=wigwam.jpg%26p=wigwam%26type=JPG%26oid=253551657a92d500%26no=5%26tt=72,995%26sigr=11m7nq7hr%26sigi=118j9ah6i%26sigb=12hpcshj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Woodland India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274320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429000"/>
            <a:ext cx="3581280" cy="301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bout travel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521240"/>
            <a:ext cx="3124080" cy="23367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odland Fash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962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Go to fullsize image"/>
          <p:cNvPicPr/>
          <p:nvPr/>
        </p:nvPicPr>
        <p:blipFill>
          <a:blip r:embed="rId3"/>
          <a:stretch/>
        </p:blipFill>
        <p:spPr>
          <a:xfrm>
            <a:off x="7091280" y="60948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wdlndshirtsmal"/>
          <p:cNvPicPr/>
          <p:nvPr/>
        </p:nvPicPr>
        <p:blipFill>
          <a:blip r:embed="rId4"/>
          <a:stretch/>
        </p:blipFill>
        <p:spPr>
          <a:xfrm>
            <a:off x="380880" y="0"/>
            <a:ext cx="381024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wdlndapronssmal"/>
          <p:cNvPicPr/>
          <p:nvPr/>
        </p:nvPicPr>
        <p:blipFill>
          <a:blip r:embed="rId5"/>
          <a:stretch/>
        </p:blipFill>
        <p:spPr>
          <a:xfrm>
            <a:off x="4191120" y="3200400"/>
            <a:ext cx="2749320" cy="34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wdlndvestsmal"/>
          <p:cNvPicPr/>
          <p:nvPr/>
        </p:nvPicPr>
        <p:blipFill>
          <a:blip r:embed="rId6"/>
          <a:stretch/>
        </p:blipFill>
        <p:spPr>
          <a:xfrm>
            <a:off x="228600" y="35053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roquois Five Nations c. 1650"/>
          <p:cNvPicPr/>
          <p:nvPr/>
        </p:nvPicPr>
        <p:blipFill>
          <a:blip r:embed="rId1"/>
          <a:stretch/>
        </p:blipFill>
        <p:spPr>
          <a:xfrm>
            <a:off x="1752480" y="609480"/>
            <a:ext cx="6629400" cy="57182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s. Cristi - Cherok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H="1">
            <a:off x="4495680" y="2514600"/>
            <a:ext cx="228600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 flipV="1">
            <a:off x="4419720" y="5486400"/>
            <a:ext cx="26668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918480" y="68580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537240" y="179064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1752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934320" y="5410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Woodland trib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219204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371600"/>
            <a:ext cx="2271960" cy="35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love the earth and she will provide...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1828800"/>
            <a:ext cx="2381400" cy="291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 - Wo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Ki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3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882800" cy="26762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did they live in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971800" cy="2206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1:33:20Z</dcterms:created>
  <dc:creator>Christine J. Goff</dc:creator>
  <dc:description/>
  <dc:language>en-US</dc:language>
  <cp:lastModifiedBy>Legion</cp:lastModifiedBy>
  <dcterms:modified xsi:type="dcterms:W3CDTF">2017-07-06T06:38:19Z</dcterms:modified>
  <cp:revision>9</cp:revision>
  <dc:subject/>
  <dc:title>The Woodland Indians</dc:title>
</cp:coreProperties>
</file>