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64F3-C014-4193-B58F-5BFC0663888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views on Government, Economics and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and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Women, Blacks and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to a family of weal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’s View on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supporter of state’s ri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had witnessed the abuses of European k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’s View on Governm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grarian Ec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believes that we should be a nation of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tied to the land and self su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An Agrarian Econom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 on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 on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ughts on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volution turns bloody but Republicans still support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ctions horrified the Washington Presi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ughts on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s on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ruggled with the pure thought of politically equ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white males participate in gover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s on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5863-B5EE-4A38-94DF-10873645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595A-5E6A-412B-89E3-5BAA0D49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3B9-23DA-49FA-A895-AF5A3D77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7B2-9A5C-4590-86CB-F324D4BD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988-E97B-47DA-A5C6-3A30C90E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594-C07B-486F-971F-078EDBC1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D6E-BFCE-4F93-B226-B7DF14BB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40F-33F8-4C63-82A1-5435E7B9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583-24D2-4A61-A8E9-D7060ABF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ED7E-A86C-4C68-B88C-6493D165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7FD-0798-4C2A-AC1A-E40D6F2B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0EF0-9E0E-4E82-9F31-4BB5D946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E1EA-58E1-435E-A820-B5F047C63205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etmuseum.org/works_of_art/viewOnezoom.asp?dep=2&amp;zoomFlag=1&amp;viewmode=0&amp;item=62%2E79%2E2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3" name="Picture 11" descr="http://www.gwu.edu/~ffcp/exhibit/p9/p9_2amed.jpg"/>
          <p:cNvPicPr/>
          <p:nvPr/>
        </p:nvPicPr>
        <p:blipFill>
          <a:blip r:embed="rId1"/>
          <a:stretch/>
        </p:blipFill>
        <p:spPr>
          <a:xfrm>
            <a:off x="5068800" y="1981080"/>
            <a:ext cx="32720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Jefferson’s View on Governmen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http://rds.yahoo.com/S=96062883/K=capital+hill/v=2/SID=e/l=IVS/SIG=12fjboh8t/EXP=1105578179/*-http%3A//www.rotary5520.org/eastelpaso/Capital%20Hill%20I.jpg"/>
          <p:cNvPicPr/>
          <p:nvPr/>
        </p:nvPicPr>
        <p:blipFill>
          <a:blip r:embed="rId1"/>
          <a:stretch/>
        </p:blipFill>
        <p:spPr>
          <a:xfrm>
            <a:off x="5072040" y="1981080"/>
            <a:ext cx="3309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An Agrarian Econom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1" name="Picture 7" descr="http://www.currierandives.info/Americana/American-farm.gif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 on Human Natur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5" name="Picture 7" descr="http://rds.yahoo.com/S=96062883/K=thomas+jefferson/v=2/SID=e/l=IVI/SIG=13ks8u0l2/EXP=1105584502/*-http%3A//oncampus.richmond.edu/academics/education/projects/webquests/patriot/images/jefferson.jpg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ughts on Foreign Relation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9" name="Picture 11" descr="http://rds.yahoo.com/S=96062883/K=louis+xvi/v=2/SID=e/l=IVS/SIG=121auhv1h/EXP=1105582607/*-http%3A//www.paulauger.com/images/Louis16LG.gif"/>
          <p:cNvPicPr/>
          <p:nvPr/>
        </p:nvPicPr>
        <p:blipFill>
          <a:blip r:embed="rId1"/>
          <a:stretch/>
        </p:blipFill>
        <p:spPr>
          <a:xfrm>
            <a:off x="5114880" y="1981080"/>
            <a:ext cx="32670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3" name="Picture 7" descr="http://rds.yahoo.com/S=96062883/K=french+revolution/v=2/SID=e/l=IVS/SIG=134qi84le/EXP=1105582948/*-http%3A//academic.brooklyn.cuny.edu/history/virtual/portrait/louis16-execution.jpg"/>
          <p:cNvPicPr/>
          <p:nvPr/>
        </p:nvPicPr>
        <p:blipFill>
          <a:blip r:embed="rId1"/>
          <a:stretch/>
        </p:blipFill>
        <p:spPr>
          <a:xfrm>
            <a:off x="609480" y="1981080"/>
            <a:ext cx="34783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4" name="Picture 11" descr="http://www.stormfront.org/whitehistory/hwr27_files/naphorse.jpg"/>
          <p:cNvPicPr/>
          <p:nvPr/>
        </p:nvPicPr>
        <p:blipFill>
          <a:blip r:embed="rId2"/>
          <a:stretch/>
        </p:blipFill>
        <p:spPr>
          <a:xfrm>
            <a:off x="4800600" y="2057400"/>
            <a:ext cx="36576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8" name="Picture 1033" descr="http://members.tripod.com/~Motomom/Guillotine.jpg"/>
          <p:cNvPicPr/>
          <p:nvPr/>
        </p:nvPicPr>
        <p:blipFill>
          <a:blip r:embed="rId1"/>
          <a:stretch/>
        </p:blipFill>
        <p:spPr>
          <a:xfrm>
            <a:off x="5181480" y="2057400"/>
            <a:ext cx="335304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9" name="Picture 1037" descr="http://fr.wikipedia.org/upload/3/3a/Dessin_prise_de_la_Bastille.jpg"/>
          <p:cNvPicPr/>
          <p:nvPr/>
        </p:nvPicPr>
        <p:blipFill>
          <a:blip r:embed="rId2"/>
          <a:stretch/>
        </p:blipFill>
        <p:spPr>
          <a:xfrm>
            <a:off x="685800" y="2057400"/>
            <a:ext cx="388620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s on Opportunit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3" name="Picture 11" descr="Click to zoom">
            <a:hlinkClick r:id="rId1"/>
          </p:cNvPr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00:11:38Z</dcterms:created>
  <dc:creator>Preferred Customer</dc:creator>
  <dc:description/>
  <dc:language>en-US</dc:language>
  <cp:lastModifiedBy>Legion</cp:lastModifiedBy>
  <dcterms:modified xsi:type="dcterms:W3CDTF">2017-07-06T06:44:26Z</dcterms:modified>
  <cp:revision>17</cp:revision>
  <dc:subject/>
  <dc:title>Thomas Jefferson</dc:title>
</cp:coreProperties>
</file>