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F7A8-AE54-44B0-B902-A2792A00F2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ative American N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herokees and Chickas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b. 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Native American N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herokees and Chickas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. 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Indians settled in East Tennessee and along the Appalachian Mountains into present day North Carol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nessee comes from the name of the Cherokee village of Tanas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were skilled farmers an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Indians settled in East Tennessee and along the Appalachian Mountains into present day North Carol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nessee comes from the name of the Cherokee village of Tana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were skilled farmers and hun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 was a Cherokee who invented the Cherokee alphab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Nation used his system of writing to publish books and newspap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oyah was a Cherokee who invented the Cherokee alphab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Nation used his system of writing to publish books and newsp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Hello in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-see-YOH (your name) dah-wah-D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lo, My name is 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Hello to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Words in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 in Chero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-see-YOH (your name) dah-wah-D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My name is 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 to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Words in Chero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ckasaw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ckasaw Indians settled in West Tennessee living along the Mississippi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killed farmers an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killed fishers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ckasaw language was one of the main languages used among all Native American groups along the lower Mississippi River when tra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asaw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ckasaw Indians settled in West Tennessee living along the Mississippi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killed farmers and hun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killed fishers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ckasaw language was one of the main languages used among all Native American groups along the lower Mississippi River when tra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332-EC0A-49FB-9F94-4D35239F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522A-C8D1-48C3-AC39-8FA78746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145-4C2F-4B4E-9AE7-66053214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096-1FE1-4629-85A4-30AF22E0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A3BC-A9A6-4E5C-88EE-C20FB9A1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AEE-B936-4F10-8890-30539D59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882-586C-49AD-BDA8-7D86BFEA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D88D-5D2A-4739-AAC9-C047B3EA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179-055E-4831-9EF0-C0170993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F257-69CF-4AEE-AC3F-9AC37291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ED81-2464-43E2-AA95-2A098055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EEB-8D55-41A5-AE9F-B49ED6F1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936B-5EF3-4269-88C8-D047BF01F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pl.org/div/hello/" TargetMode="External"/><Relationship Id="rId2" Type="http://schemas.openxmlformats.org/officeDocument/2006/relationships/hyperlink" Target="http://www.cherokee.org/home.aspx?section=culture&amp;culture=dldisplay&amp;ID=/aoDJcgHYwk=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Native American Natio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herokees and Chickasa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b.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lake-skilac"/>
          <p:cNvPicPr/>
          <p:nvPr/>
        </p:nvPicPr>
        <p:blipFill>
          <a:blip r:embed="rId1"/>
          <a:stretch/>
        </p:blipFill>
        <p:spPr>
          <a:xfrm>
            <a:off x="1066680" y="3505320"/>
            <a:ext cx="7086600" cy="2666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Indians settled in East Tennessee and along the Appalachian Mountains into present day North Carol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nessee comes from the name of the Cherokee villag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na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were skilled farmers and hu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quoy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quoya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 Cherokee who invented the Cherokee alphab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rokee Nation used his system of writing to publish books and newspap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sequoyah"/>
          <p:cNvPicPr/>
          <p:nvPr/>
        </p:nvPicPr>
        <p:blipFill>
          <a:blip r:embed="rId1"/>
          <a:stretch/>
        </p:blipFill>
        <p:spPr>
          <a:xfrm>
            <a:off x="5105520" y="1828800"/>
            <a:ext cx="3009960" cy="3733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cherokee ab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y Hello in Cherok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roke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h-see-YOH (your name) dah-wah-D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llo, My name is 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ay Hello to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asic Words in Cherok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ickasaw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ckasaw Indians settl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st Tenness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ving along the Mississippi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killed farmers and hu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killed fishers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ckasaw language was one of the main languages used among all Native American groups along the lower Mississippi River when tr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6:18Z</dcterms:created>
  <dc:creator>Mardena Collins</dc:creator>
  <dc:description/>
  <dc:language>en-US</dc:language>
  <cp:lastModifiedBy>Legion</cp:lastModifiedBy>
  <dcterms:modified xsi:type="dcterms:W3CDTF">2017-07-06T06:45:49Z</dcterms:modified>
  <cp:revision>14</cp:revision>
  <dc:subject/>
  <dc:title>Two Native American Nations  Cherokees and Chickasaws</dc:title>
</cp:coreProperties>
</file>