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9E54A-800C-431F-9789-8365C58F8F8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Native American Nati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Cherokees and Chickasaw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b. 3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Native American Nati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herokees and Chickas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b. 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rokee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rokee Indians settled in East Tennessee and along the Appalachian Mountains into present day North Carolin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nnessee comes from the name of the Cherokee village of Tanas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rokee were skilled farmers and hunt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rokee Ind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erokee Indians settled in East Tennessee and along the Appalachian Mountains into present day North Caroli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nessee comes from the name of the Cherokee village of Tanas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erokee were skilled farmers and hun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quoya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quoyah was a Cherokee who invented the Cherokee alphab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rokee Nation used his system of writing to publish books and newspap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quoy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quoyah was a Cherokee who invented the Cherokee alphab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erokee Nation used his system of writing to publish books and newspap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y Hello in Cherok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roke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h-see-YOH (your name) dah-wah-DO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gli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lo, My name is 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y Hello to the Wor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ic Words in Cherok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 in Cherok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roke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h-see-YOH (your name) dah-wah-D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My name is 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 to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 Words in Cherok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ickasaw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ickasaw Indians settled in West Tennessee living along the Mississippi Riv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ere skilled farmers and hunt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ere skilled fishers as we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ickasaw language was one of the main languages used among all Native American groups along the lower Mississippi River when trad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ckasaw Ind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ickasaw Indians settled in West Tennessee living along the Mississippi Ri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re skilled farmers and hun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re skilled fishers as w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ickasaw language was one of the main languages used among all Native American groups along the lower Mississippi River when tra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ADF0-CE22-45E6-8625-713720629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7B10-18DC-4741-8F32-52EBB9B7E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217D-8B4F-4ACA-908C-4E70D41FC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5188-6F61-429F-8DF2-EBF1090EF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6677-173B-40F4-BA16-3544334F3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F34D-FCE6-459F-9D69-5B7FCA6AE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0AC3-C259-494A-88CB-14FE849DA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BD34-74D0-4249-ACD5-A6C2C44BB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8056-70EE-4AEA-B505-898F63D7E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B67A-7F8D-4A02-B46F-634E57B79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98A0-1CCB-4B11-BC52-729E82AB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83B0-DCDB-47AD-B2E0-7463A3EF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66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289F0-14F7-4A2B-9B99-DFF7A0F0DB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pl.org/div/hello/" TargetMode="External"/><Relationship Id="rId2" Type="http://schemas.openxmlformats.org/officeDocument/2006/relationships/hyperlink" Target="http://www.cherokee.org/home.aspx?section=culture&amp;culture=dldisplay&amp;ID=/aoDJcgHYwk=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wo Native American Nation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Cherokees and Chickasaw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b. 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lake-skilac"/>
          <p:cNvPicPr/>
          <p:nvPr/>
        </p:nvPicPr>
        <p:blipFill>
          <a:blip r:embed="rId1"/>
          <a:stretch/>
        </p:blipFill>
        <p:spPr>
          <a:xfrm>
            <a:off x="1066680" y="3505320"/>
            <a:ext cx="7086600" cy="266688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erokee Indi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erokee Indians settled in East Tennessee and along the Appalachian Mountains into present day North Caroli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nessee comes from the name of the Cherokee village o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nas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erokee were skilled farmers and hun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quoya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quoya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a Cherokee who invented the Cherokee alphab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herokee Nation used his system of writing to publish books and newspap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sequoyah"/>
          <p:cNvPicPr/>
          <p:nvPr/>
        </p:nvPicPr>
        <p:blipFill>
          <a:blip r:embed="rId1"/>
          <a:stretch/>
        </p:blipFill>
        <p:spPr>
          <a:xfrm>
            <a:off x="5105520" y="1828800"/>
            <a:ext cx="3009960" cy="373392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cherokee ab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ay Hello in Cherok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roke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h-see-YOH (your name) dah-wah-DO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llo, My name is __________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ay Hello to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Basic Words in Cherok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ickasaw Indi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ickasaw Indians settled i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st Tennesse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iving along the Mississippi Ri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were skilled farmers and hun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were skilled fishers as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ickasaw language was one of the main languages used among all Native American groups along the lower Mississippi River when tra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2T00:26:18Z</dcterms:created>
  <dc:creator>Mardena Collins</dc:creator>
  <dc:description/>
  <dc:language>en-US</dc:language>
  <cp:lastModifiedBy>Legion</cp:lastModifiedBy>
  <dcterms:modified xsi:type="dcterms:W3CDTF">2017-07-06T06:45:49Z</dcterms:modified>
  <cp:revision>14</cp:revision>
  <dc:subject/>
  <dc:title>Two Native American Nations  Cherokees and Chickasaws</dc:title>
</cp:coreProperties>
</file>