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61EC-F70F-4CC7-BF19-F3513E48CE8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7C8EF-CD6B-489F-A24A-3292F20D7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0CCE-06F7-4879-BE3A-E1246E47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133B4-86D6-4E97-ACD8-856CDBEAA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595C3-049E-4A7D-97D5-3CA86B58E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CF4BC-BD28-47B0-BD16-6C4D3F620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7D16D-3CEE-48D8-AC5C-EBF2E7473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51199-848E-4814-8384-A312DE990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639B0-1A92-46AF-AF8B-DD88CB37C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FD99-CC90-4C88-B060-872D8A40E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907C-17EF-4A66-979A-BCC070CC9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424EB-449B-4091-BCA0-DCC80A376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EB2BA-0D10-4AD6-9A89-4B6AED02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646AD-E385-4AD3-B2C0-B809C9E8E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EE926-DA2E-43B8-AF8D-697B729D2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B9DE0-1283-4D8B-B54E-53A447C9D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5C85-A561-47EE-B411-52157A551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F43E5-017E-49F3-8D21-5EAE7065E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122E9F-8E31-46F2-AEDA-82EB9175BB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3C5A87-F23C-493F-A448-D6A947908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E7642D0-E06C-4D3C-AE2C-2259474FA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F2CB01-0300-4A5E-8EB4-E5ED2E5AB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10C2DD-37EA-43B3-A583-B3ED7643A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BE353-E47B-4661-B95C-851CB4D4C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AF47CE-CD01-4160-9E87-1BBB7FC9B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7A66CB-1B2F-4C4F-BE97-119A7851C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24A8AF-0539-424F-AD42-0A7FBF6D4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ABFD7F-B15D-4791-B768-2AB0CE22D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11D50AF-D0F4-4E5E-8310-59A6E659F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7B8EAF-771F-4C4F-BBCD-A0B71E748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FE1D6BD-47F7-44AF-B17D-5EC10DDEAE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368DA-5047-46B9-BA22-06F4775DC9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2BD094-8114-4A1A-9B28-0AD3BF15D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3661D-A317-4E71-A04B-047991665E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88CD-BC9B-4AF0-AE5C-31DAC9518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CD478-E9C5-4A72-B8FA-BE8ADF534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38E3F-C487-4CC1-9935-B83F416AA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228BE-B7F6-4594-A6BF-FCAB274AE6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886C1-CEA2-47AF-8C92-7F661C302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F746B-F2B4-4B3A-9797-6E77DF5C2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1CC5D-FD4C-4782-8407-3111EE2B7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D69B3-3ACF-48F1-8E3E-1C73739E0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263195-E7BF-4699-9A79-DA677482E6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9E474-4F7E-4F1E-830B-13F6B21840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7CB7-491F-483D-A937-E08286F3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0BB8-5F15-4DCA-B8CC-3A916EAF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E210-D895-4F28-99D9-D55964F67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09D8-E79E-4BA3-82FE-479A9B5FD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B2B31-4F47-4330-9A01-2A7483C52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918E-8C47-4BB8-97E9-2BD2B487688C}"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650A-19F4-4EB2-906B-35495A2A1C2A}"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712C-EDA4-441F-A3F3-4781C8553AC6}"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196B-1D59-40A0-AB03-8093D0962556}"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9A96-7FAF-4CEE-992B-FFB847267E80}"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D75D-7AED-4B66-BB6E-352860DE2301}"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3E7D-1832-483F-B1DD-E83CC6CE8597}" type="datetime">
              <a:rPr b="0" lang="ru-RU" sz="800" spc="-1" strike="noStrike">
                <a:solidFill>
                  <a:srgbClr val="438086"/>
                </a:solidFill>
                <a:latin typeface="Georgia"/>
              </a:rPr>
              <a:t>29.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F37B-31A2-4EDF-9188-A8AF986BE69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