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89C1-1AD4-41A9-ADCD-657C344B9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861-C383-4EE4-8075-0AC94DF0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6D7-23C2-4EFF-B89D-79680963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4F65-F8F2-4287-BE80-CA58578B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536-DCC0-4264-964B-ECBF7028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36D3-6C73-4569-81E7-B993A4D4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5E64-B8B9-41ED-971E-3C676043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E8BE-CDC8-4932-9911-A281C3C2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BA63-0A60-4152-B121-A26D755B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CDEA-D5CD-47A8-A4A4-0F11C1E6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EF9F-AE1D-4659-B17E-7CCF54C6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8701-FD11-490D-BBF4-FA2B4464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32D-1CED-4CD0-B8CF-4A2FA02B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B647-D528-47B0-A9D9-C8B1C2BF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B2A0-8B33-4145-AC15-179EC97A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0E9C-A004-413B-9B4A-54E1F74F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335A-FD0C-4F62-8371-03935427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E22D-29DB-4E20-BD26-5AE9CE79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2C7-29BE-43BE-BC8E-2F4795AB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0CA-E20C-49C3-A4CE-1706E969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755-82BF-4700-8655-F68C75AD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7D0-83F9-4892-BE36-BD84C698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A5C-2B8B-4F8E-9424-74BC49CA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43C-6C2D-45A4-99EB-7A65780C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BCA-C858-4087-A0E7-6B0F0CA5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2ABC-6027-4BA8-B8B3-E418090F39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DE7F-0614-414D-91C3-E08BC5B008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ilateral A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on of the laws or legisl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gning Stat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ly innocu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6, part of official legislative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fact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 item veto since Rea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 in an emergency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y debts to important groups without committing many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attract much att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ng statements prevent vetoes of complex/end of session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blem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deral Administrative Procedures Act (1946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s to all regulatory agencies (FAA, FDA, EPA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making procedures are to be transpa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can participate in the rulemaking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encies make rules binding on the public or quasi-judicial decisions resolving disputes about rules, they have to follow certai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for next administration to u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d policymaking proces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d poli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Memora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Proclam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Security Dir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und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ng stat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l in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Federal Register, numb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verage Executive Orders per year (Washington through Reagan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698400" y="1677960"/>
          <a:ext cx="774216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677960"/>
                    <a:ext cx="774216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Proclam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a condition, declares law and requires obedience, or recognizes an event. (Also pard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ding on the publ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Memoran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ouncement directed to executive branch offic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ublication i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ow the radar of MCs and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tional Security Dir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l declaration to an agency or department head of a presidential national security decision, requiring follow-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ed at the National Security Counc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publ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ly classifi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with small group dynamics, Congress’ exc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ound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sident refuses to spend funds appropriated by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ress has restricted this practice (1974, 198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def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pending i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“special contingenc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achieve savings through more efficient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 propose to permanentl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sci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unds, but Congress must approve within 45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7:29:23Z</dcterms:created>
  <dc:creator>Casey B. K.  Dominguez</dc:creator>
  <dc:description/>
  <dc:language>en-US</dc:language>
  <cp:lastModifiedBy>Legion</cp:lastModifiedBy>
  <dcterms:modified xsi:type="dcterms:W3CDTF">2017-07-06T06:51:10Z</dcterms:modified>
  <cp:revision>21</cp:revision>
  <dc:subject/>
  <dc:title>PowerPoint Presentation</dc:title>
</cp:coreProperties>
</file>