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8221-DA40-448E-8187-D8DACE47ED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lateral 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on of the laws or legis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raditionally innocuo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nce 1986, part of official legislative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sed as de facto line item veto since Reaga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Quick in an emergency situ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ay debts to important groups without committing many resourc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n’t attract much atten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 prevent vetoes of complex/end of session legisl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ederal Administrative Procedures Act (1946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pplies to all regulatory agencies (FAA, FDA, EPA, etc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ulemaking procedures are to be transpar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c can participate in the rulemaking proc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gencies make rules binding on the public or quasi-judicial decisions resolving disputes about rules, they have to follow certain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y not take unilateral ac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tribute to accumulation of power in executive hand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ake it more difficult for successors to gover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dermine existing administrative law proced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sy for next administration to und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losed policymaking processbad policy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yp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igning statemen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ive Or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ormal i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cess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Federal Register, numb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gal Author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erage Executive Orders per year (Washington through Reaga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Proclam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tes a condition, declares law and requires obedience, or recognizes an event. (Also pardon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inding on the public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ublished in the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esidential Memorand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nouncement directed to executive branch officia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 publication in Federal Regis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elow the radar of MCs and medi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ational Security Directiv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rmal declaration to an agency or department head of a presidential national security decision, requiring follow-up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signed at the National Security Counci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ot publish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stly classifi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blems with small group dynamics, Congress’ exclus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poundmen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president refuses to spend funds appropriated by Congres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gress has restricted this practice (1974, 1987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defer spending if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“special contingency”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achieve savings through more efficient oper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He can only propose to permanently rescind funds, but Congress must approve within 45 day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A4E-26B3-4844-BA46-ACC6CE4CD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F00-4EBD-4315-96DB-8AAD263F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2BD2-F10A-4154-B795-288C1C6AE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0F6-93FB-4311-A146-1124486BA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15E47-EF7A-442F-8122-41D249AC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54ED1-03ED-40D2-A6C8-C46CD9DB9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B096-DF4B-4068-AC81-5737275FA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D0B25-D869-414F-9A8F-03FB5B3FC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6E39-1391-4715-8D54-2809CD86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D5247-1B45-4695-B63B-7A905101F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7827-BF5D-4D4F-9CD6-97F7454DA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1582-DDFA-4BEB-B5C2-46454D2F1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5340-007E-40AA-8E0A-4B8A5DCE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D96F-02D4-4BE6-8B77-411E6965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1D4B-07EE-44E6-AFBF-6E1883629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2D92-5340-4B36-B305-29046824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A5CC-93E9-4778-9964-62F064B7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1A11-7916-40E7-827A-5DBA6BBA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07E-A2A5-436B-B036-141748F9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CB1A-2BA3-4FDC-8276-592257C6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3F93-DB96-482F-AA4D-CBC0B3162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CF73-80D3-416B-8EFC-6E05BB9F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97BB-F447-4C64-BA83-01ADF3B0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3930-A2A9-4394-ACC8-5773D92FE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09CEE-8694-4DBF-BFD8-A6D76BC1932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6C8A2-91C1-41DA-BDAA-8E25010247D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Unilateral Action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on of the laws or legisl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Signing Statemen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ditionally innocuo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0s, provide the president’s interpretation of a law, announce Constitutional limits on implementation of it, or indicate directions about how to administer 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nce 1986, part of official legislative hist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d as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e fac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ne item veto since Reag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ick in an emergency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y debts to important groups without committing many 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n’t attract much atten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gning statements prevent vetoes of complex/end of session legisl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320" y="2147760"/>
            <a:ext cx="7086600" cy="111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blems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066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Federal Administrative Procedures Act (1946)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plies to all regulatory agencies (FAA, FDA, EPA, etc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ulemaking procedures are to be transpar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ublic can participate in the rulemaking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en agencies make rules binding on the public or quasi-judicial decisions resolving disputes about rules, they have to follow certain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Why not take unilateral action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tribute to accumulation of power in executiv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ke it more difficult for successors to gover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mine existing administrative law procedu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 for next administration to un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osed policymaking process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ad polic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yp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ecutive Or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Memora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sidential Proclam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ational Security Direc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ound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gning stat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directive issued to officers of the executive branch, requiring them to take or stop taking an action, alter policy, change management practices, or accept a delegation of author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ecutive Order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l in his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cess tod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Federal Register, numbe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gal Author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Average Executive Orders per year (Washington through Reagan)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29" name="Object 4"/>
          <p:cNvGraphicFramePr/>
          <p:nvPr/>
        </p:nvGraphicFramePr>
        <p:xfrm>
          <a:off x="698400" y="1677960"/>
          <a:ext cx="7742160" cy="4406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1677960"/>
                    <a:ext cx="774216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Proclama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tes a condition, declares law and requires obedience, or recognizes an event. (Also pardon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nding on the publi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blished in the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esidential Memoranda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nouncement directed to executive branch offici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 publication in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Federal Regis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elow the radar of MCs and med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National Security Directiv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l declaration to an agency or department head of a presidential national security decision, requiring follow-up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signed at the National Security Counc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publish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stly classifi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blems with small group dynamics, Congress’ exclu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Impoundmen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resident refuses to spend funds appropriated by Congres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gress has restricted this practice (1974, 198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 def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pending if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“special contingency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chieve savings through more efficient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 can only propose to permanently 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rescin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funds, but Congress must approve within 45 d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2T17:29:23Z</dcterms:created>
  <dc:creator>Casey B. K.  Dominguez</dc:creator>
  <dc:description/>
  <dc:language>en-US</dc:language>
  <cp:lastModifiedBy>Legion</cp:lastModifiedBy>
  <dcterms:modified xsi:type="dcterms:W3CDTF">2017-07-06T06:51:10Z</dcterms:modified>
  <cp:revision>21</cp:revision>
  <dc:subject/>
  <dc:title>PowerPoint Presentation</dc:title>
</cp:coreProperties>
</file>