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BDCE-9AE6-4DC1-B3B8-F538048432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Gover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Govern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es of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isl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di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nches of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s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d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ional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islativ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h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se of Represent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slative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la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use of Represent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s the laws into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s the laws into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e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dicial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s the meaning of th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reme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hief Jus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Associate Ju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dicial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he meaning of the la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reme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hief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Associate Jus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F4F-D06D-4547-8013-F0C8CD9A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2968-54FA-49AA-9957-B8A63482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5E3-26A8-45FC-B98C-4AC5DFD5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9B3-B426-4BBD-B1F1-5905D0BF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DD7-FB7C-42B8-85E5-B26B83CF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5F6-DC40-4BED-A31B-79CA359E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C05-31AD-491C-9150-7811246F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9D6-2C32-49C7-91A3-F099F997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4E7-9FB0-4A95-BC00-6E0E2943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C96-B287-4D2D-AEE8-466F4626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01C-AEE5-45F1-8941-A7DEA43C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420-9807-413A-9D7B-109649D2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4330-B3E1-41A1-AD4E-44951953F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:\flag.bmp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71600" y="1828800"/>
            <a:ext cx="655308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What is Gover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Branches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BD06916_"/>
          <p:cNvPicPr/>
          <p:nvPr/>
        </p:nvPicPr>
        <p:blipFill>
          <a:blip r:embed="rId1"/>
          <a:stretch/>
        </p:blipFill>
        <p:spPr>
          <a:xfrm>
            <a:off x="2743200" y="2309760"/>
            <a:ext cx="3809880" cy="3610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838080" y="2057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Legisl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57200" y="4419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Execu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095880" y="3581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Jud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A:\flag nation.bmp"/>
          <p:cNvPicPr/>
          <p:nvPr/>
        </p:nvPicPr>
        <p:blipFill>
          <a:blip r:embed="rId1"/>
          <a:stretch/>
        </p:blipFill>
        <p:spPr>
          <a:xfrm>
            <a:off x="1905120" y="2438280"/>
            <a:ext cx="5181480" cy="345276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1066680" y="1143000"/>
            <a:ext cx="6943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ubway"/>
              </a:rPr>
              <a:t>The National Government</a:t>
            </a:r>
            <a:endParaRPr b="0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ubway"/>
              <a:ea typeface="Subway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Legislative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Make the la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Con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he House of Represent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he Se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A:\congress.bmp"/>
          <p:cNvPicPr/>
          <p:nvPr/>
        </p:nvPicPr>
        <p:blipFill>
          <a:blip r:embed="rId1"/>
          <a:stretch/>
        </p:blipFill>
        <p:spPr>
          <a:xfrm>
            <a:off x="4876920" y="228600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Executive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Puts the laws into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P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Vice P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Cabi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A:\president.bmp"/>
          <p:cNvPicPr/>
          <p:nvPr/>
        </p:nvPicPr>
        <p:blipFill>
          <a:blip r:embed="rId1"/>
          <a:stretch/>
        </p:blipFill>
        <p:spPr>
          <a:xfrm>
            <a:off x="5105520" y="3048120"/>
            <a:ext cx="2495520" cy="3151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Judicial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Decides the meaning of the la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Supreme 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1 Chief Jus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8 Associate Just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A:\SC.bmp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35193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0:36:25Z</dcterms:created>
  <dc:creator>Philip Williams</dc:creator>
  <dc:description/>
  <dc:language>en-US</dc:language>
  <cp:lastModifiedBy>Legion</cp:lastModifiedBy>
  <dcterms:modified xsi:type="dcterms:W3CDTF">2017-07-06T06:52:57Z</dcterms:modified>
  <cp:revision>7</cp:revision>
  <dc:subject/>
  <dc:title>What is Government?</dc:title>
</cp:coreProperties>
</file>