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B14-3E19-4185-BA6C-947780C298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Govern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nches of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ional 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sla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use of Represent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s the laws into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e Presi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dicial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he meaning of the la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Chief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Associate Jus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3D5-2459-49AE-BD13-B01DAE3D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A9A-4EA7-40E4-A4EF-E2FA281E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D41-16DE-4ACF-9145-66444726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72D-7370-4819-A1C6-2AE8CE84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BC92-93FB-47A2-BCBA-FF45AC1C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75E-5355-4F7D-B7FB-A58A3C08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83C-72A8-471D-89C2-64C52655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648-8416-46F5-A116-FFFA768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E542-6B62-4E8E-B65D-FA95A515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AB0-09C1-4424-8603-63F3FD95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DE6-145C-44C0-8E90-CA0E1339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518-D95C-4A65-9366-DD804E17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5252-3C6B-45A1-8BBD-56FA25F99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:\flag.bmp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71600" y="1828800"/>
            <a:ext cx="65530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What is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Branche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BD06916_"/>
          <p:cNvPicPr/>
          <p:nvPr/>
        </p:nvPicPr>
        <p:blipFill>
          <a:blip r:embed="rId1"/>
          <a:stretch/>
        </p:blipFill>
        <p:spPr>
          <a:xfrm>
            <a:off x="2743200" y="2309760"/>
            <a:ext cx="3809880" cy="3610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838080" y="2057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Legisl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57200" y="4419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5880" y="3581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Jud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A:\flag nation.bmp"/>
          <p:cNvPicPr/>
          <p:nvPr/>
        </p:nvPicPr>
        <p:blipFill>
          <a:blip r:embed="rId1"/>
          <a:stretch/>
        </p:blipFill>
        <p:spPr>
          <a:xfrm>
            <a:off x="1905120" y="2438280"/>
            <a:ext cx="5181480" cy="345276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1066680" y="1143000"/>
            <a:ext cx="6943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Subway"/>
              </a:rPr>
              <a:t>The National Government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Subway"/>
              <a:ea typeface="Subway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Legisla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Make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House of Represent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The Se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A:\congress.bmp"/>
          <p:cNvPicPr/>
          <p:nvPr/>
        </p:nvPicPr>
        <p:blipFill>
          <a:blip r:embed="rId1"/>
          <a:stretch/>
        </p:blipFill>
        <p:spPr>
          <a:xfrm>
            <a:off x="4876920" y="228600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ubway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uts the laws into a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Vice Presid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Jester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A:\president.bmp"/>
          <p:cNvPicPr/>
          <p:nvPr/>
        </p:nvPicPr>
        <p:blipFill>
          <a:blip r:embed="rId1"/>
          <a:stretch/>
        </p:blipFill>
        <p:spPr>
          <a:xfrm>
            <a:off x="5105520" y="3048120"/>
            <a:ext cx="2495520" cy="3151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ubway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Decides the meaning of the la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Supreme Cou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1 Chief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Jes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Jester"/>
              </a:rPr>
              <a:t>8 Associate Just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A:\SC.bmp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3519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30T00:36:25Z</dcterms:created>
  <dc:creator>Philip Williams</dc:creator>
  <dc:description/>
  <dc:language>en-US</dc:language>
  <cp:lastModifiedBy>Legion</cp:lastModifiedBy>
  <dcterms:modified xsi:type="dcterms:W3CDTF">2017-07-06T06:52:57Z</dcterms:modified>
  <cp:revision>7</cp:revision>
  <dc:subject/>
  <dc:title>What is Government?</dc:title>
</cp:coreProperties>
</file>