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2DAB-6423-4D7E-BCFA-0EA82AE691F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d West Paint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George Cat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West Pain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eorge Cat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y were decorated with hand prints it meant that they were good at hand-to-hand figh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were decorated with hand prints it meant that they were good at hand-to-hand figh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Catlin was born in Wilkes-Barre, Pennsylvania in 1796.  Following a brief career as a lawyer, he produced two major collections of paintings of American Indi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Catlin was born in Wilkes-Barre, Pennsylvania in 1796.  Following a brief career as a lawyer, he produced two major collections of paintings of American Ind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raveled with General William Clark on a diplomatic mission up the Mississippi River into Native American territory. St. Louis became Catlin's base of operations for five trips he took between 1830 and 1836, eventually visiting fifty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raveled with General William Clark on a diplomatic mission up the Mississippi River into Native American territory. St. Louis became Catlin's base of operations for five trips he took between 1830 and 1836, eventually visiting fifty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h-to-toh-pa, Four Bears, Second Chief in the Mandan Indian Trib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clues (costume, posture, headdress), what can you tell me about the person in the paint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h-to-toh-pa, Four Bears, Second Chief in the Mandan Indian Trib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clues (costume, posture, headdress), what can you tell me about the person in the pain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George Catlin would have painted Four Bears in a chair would that leave you with a different impression of this Chie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George Catlin would have painted Four Bears in a chair would that leave you with a different impression of this Chie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Cloud-Head Chief of Iow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he was painted with a big green hand on his 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ite Cloud-Head Chief of I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he was painted with a big green hand on his f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would decorate their faces to express themselves.What do you think the hand is telling us 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 would decorate their faces to express themselves.What do you think the hand is telling u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other example of the Native Americans using decoration on their 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other example of the Native Americans using decoration on their 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these marking repres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these marking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99E-9C16-40E9-A400-95029570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8B6-7163-4FA3-87B1-ADA5B20B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696F-5B61-4364-AD5C-EC501E68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34D-1275-46D6-865F-456DDD87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E516-F89D-4066-832F-2AA76004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6EDA-3D2D-4899-9341-D7DD9F3D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D1FF-9327-405C-87C9-B5E7E0B8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0628-7937-4669-8092-1FAEE30A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451E-8994-4A54-824D-AFF1BB6C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EF9D-5DE2-4859-A59E-424885EF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B069-1B96-4025-92DA-E75810B0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038-5E70-43F8-95A1-9835D324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472A-6365-497E-8FC6-13CC42CE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9D44-4B6C-4CFD-835B-F15B980D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6930-EC9B-47DF-9EBE-628EEB16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E78D-013A-4A0D-860D-53AC0892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66BB-DD4F-43E8-83A9-B4722914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773EE-F7B8-4FB0-A265-26BDC794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DE1E2-76DA-4EFE-AC9C-B6488AF9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8D352-388B-43B3-B893-D36CC241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954850-6FE1-4C34-A4B5-B87100A0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677E2-DF02-4A14-819D-8D1D7084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785-5A1F-4A4E-BF8B-F6F0FD8A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BC396-3065-4C92-BE68-5D440536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2170B-3772-486D-9CDB-832ED21D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AFD84E-A367-401C-B1FA-855DD843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2726B-3BB3-492E-A8CB-84FD8CE0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48511D-857E-4BDD-867C-900420C2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18F3A8-4692-451D-AC34-85E0AE06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7F308C-60AB-47A2-8380-E516C31C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EF98D-0346-481F-B33B-D40893D2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3F8456-BF5A-4B6A-9AD8-8DB2F35B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FDB5AE-3DD7-4B31-A970-242AA337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C583-0880-49F6-A240-F930F8BA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9CBDCA-4B1C-4412-9FAF-30C45795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7739CF-C8BD-45E0-820D-4D7F917F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5596FC-9023-4219-9AB0-128C6D93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7AC9CB-C172-4C8F-90F5-25D85503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D8ED3D-5DA1-4FD6-95D5-21384626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4E038E-A1C5-4AA7-9164-C095A5CC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E79C74-1157-4F18-A22A-947A820E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4D168E-745C-48F2-A0DF-09816996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D7248F-29EC-40F8-97FC-76B1A10A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F8EF75-9495-45C8-9039-C70A6D57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2A9-2077-4FEA-91C3-649FF786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F0C8D9-1536-4A72-BBFD-99A29C43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2AACA6-00E3-4D98-ABAA-0A5D71B5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A30E56-6605-4850-AC96-4833C63F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88467-71D2-417F-897B-9FADC51B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02DAED-A8CA-4061-9FB4-25EF45DA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F5E3C8-A1AA-46FD-AF2E-80036F4A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9404EC-8F3A-45F1-B653-4FA53A8A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62DCE3-7592-4B37-BC7A-17F2AA34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AD64D2-B9DC-4F46-B224-117FA91A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E0FE3-A932-4834-AF8B-7FB45779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216-CF80-43DF-B430-0D2A2477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12B69D-2655-4F41-A6D3-643B07D9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BDBF7-5C51-413B-82FF-CD4C6F01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599BF-9900-42CC-9DE9-23AA6828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5A220-3FD7-435D-AB61-7CFE6707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AE355-1A8E-4278-A28C-3A775C3D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6120E-2186-422E-A998-288E71E2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2745A-A828-4A24-9E94-C91C1D2F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08AD2-48B1-4567-80DE-9D3F714C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022BE-5603-4CA0-A006-633BED7E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AA803-79B1-4697-ACBA-7F59B078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96E-104B-4CF9-A8CF-7C0DE9B7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049D7-6939-451B-B0A9-D017D5D3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52FDF-F499-4B95-AFD4-4053E6D4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46DAF-49E4-4BF4-963A-81778D63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7FD233-3442-47F6-AE4C-9B589CA3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14858B-AAC5-41CD-8EC5-01CF98E0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35F168-F935-4D22-A2A6-22EB9D37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85D44A-CA2D-4C7A-A06C-10B583B5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5C33C7-8375-4911-B5BF-706B53AE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21AD65-7A68-4FEF-A467-3E6E589B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55FFC-35F4-4E7F-A53B-8769BBFF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2FE9-7BC9-4B25-AAB8-3782CA5C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318C48-9069-43E3-9F22-901F7101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EAF944-7CEF-4F42-A511-6916F60F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6AD3EF-3BC5-4CE2-8EA2-819C1F4C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03A0AF-DAB4-4669-BC3B-6D506C95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3F1CE6-6869-4576-BE88-CF2BF127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FF3F7-1261-437A-A276-997C3775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B54DF-7173-4334-BAD5-C319CC9D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C2F59-E88A-4FF8-8437-A747EFBD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AABF6-D9E3-449F-A89A-407DAC82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86787-731F-4A6D-8F2E-5F0281B7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092-4DC5-4E38-ABB0-F29B9FE9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ED367-E19A-4F65-99D9-C5A14D87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6FC3A-8B19-4F63-88DC-2A035B74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F3B93-0BA7-4FAF-8FBC-1354C2F3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061DA-04CD-4171-AE76-90BC4568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7F085-32E2-4464-ADC6-895E2F29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18E1F-DA49-45F3-824F-7CC82F0D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685B7-4A33-4314-8376-EF43238F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6B38-9885-4D4D-B25E-CD0CBD6DF31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8A56-3AE0-400F-98F3-BAE8A5C81C6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7068-9A4A-452A-9F79-0618774DC5E1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28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098B-158C-4BD1-955F-E04D135B76AD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E229-543E-47A0-A651-BD66CCEA907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7E55-17C7-464A-98D6-1AF426E99E61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FF3C-779B-47CD-A254-CE20BA00ECF4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A75F-E130-4A4F-80A9-DE907EF01A1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1200-3114-4CF0-A61E-41AA3688576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57DF-EE15-4DFE-9806-1BBFA172E96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663D-CD82-4989-B9A4-9C586376BCF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4CCB-D1DE-46B7-BDD5-9FC7F627A22B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DDDA-D886-4DD9-8BDC-171EB84207D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1DB5-6527-489E-9FBB-CA35D76277D6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A529-0669-4258-B07D-7933B360519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F3C7-452F-4CF2-9CEA-93B10483BB0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4038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775f55"/>
                </a:solidFill>
                <a:latin typeface="Tw Cen MT"/>
              </a:rPr>
              <a:t>WILD WEST PAINTINGS</a:t>
            </a:r>
            <a:endParaRPr b="0" lang="en-US" sz="6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Tw Cen MT"/>
              </a:rPr>
              <a:t>By George Catlin</a:t>
            </a:r>
            <a:endParaRPr b="0" lang="en-US" sz="4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William Fisk - George Catlin - Google Art Project.jpg"/>
          <p:cNvPicPr/>
          <p:nvPr/>
        </p:nvPicPr>
        <p:blipFill>
          <a:blip r:embed="rId1"/>
          <a:stretch/>
        </p:blipFill>
        <p:spPr>
          <a:xfrm>
            <a:off x="2590920" y="228600"/>
            <a:ext cx="3809880" cy="474516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3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Brave Chief, 1832 Giclee Print"/>
          <p:cNvPicPr/>
          <p:nvPr/>
        </p:nvPicPr>
        <p:blipFill>
          <a:blip r:embed="rId1"/>
          <a:stretch/>
        </p:blipFill>
        <p:spPr>
          <a:xfrm>
            <a:off x="380880" y="152280"/>
            <a:ext cx="5029200" cy="67057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5"/>
          <p:cNvSpPr/>
          <p:nvPr/>
        </p:nvSpPr>
        <p:spPr>
          <a:xfrm>
            <a:off x="5791320" y="1752480"/>
            <a:ext cx="3047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If they were decorated with hand prints it meant that they were good at hand-to-hand fight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ograph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George Catlin</a:t>
            </a: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 was born in Wilkes-Barre, Pennsylvania in 1796.  Following a brief career as a lawyer, he produced two major collections of paintings of American Indians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ravel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He traveled with General William Clark on a diplomatic mission up the Mississippi River into Native American territory. St. Louis became Catlin's base of operations for five trips he took between 1830 and 1836, eventually visiting fifty tribes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Mah-to-toh-pa, Four Bears, Second Chief in the Mandan Indian Tribe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8" name="Picture 2" descr="Mah-to-toh-pa, Four Bears, Second Chief, in Full Dress - George Catlin"/>
          <p:cNvPicPr/>
          <p:nvPr/>
        </p:nvPicPr>
        <p:blipFill>
          <a:blip r:embed="rId1"/>
          <a:stretch/>
        </p:blipFill>
        <p:spPr>
          <a:xfrm>
            <a:off x="228600" y="1219320"/>
            <a:ext cx="4419720" cy="5433840"/>
          </a:xfrm>
          <a:prstGeom prst="rect">
            <a:avLst/>
          </a:prstGeom>
          <a:ln w="0">
            <a:noFill/>
          </a:ln>
        </p:spPr>
      </p:pic>
      <p:sp>
        <p:nvSpPr>
          <p:cNvPr id="369" name="TextBox 4"/>
          <p:cNvSpPr/>
          <p:nvPr/>
        </p:nvSpPr>
        <p:spPr>
          <a:xfrm>
            <a:off x="4952880" y="1981080"/>
            <a:ext cx="3886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Based on clues (costume, posture, headdress), what can you tell me about the person in the pa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Mah-to-toh-pa, Four Bears, Second Chief, in Full Dress - George Catlin"/>
          <p:cNvPicPr/>
          <p:nvPr/>
        </p:nvPicPr>
        <p:blipFill>
          <a:blip r:embed="rId1"/>
          <a:stretch/>
        </p:blipFill>
        <p:spPr>
          <a:xfrm>
            <a:off x="228600" y="152280"/>
            <a:ext cx="5288040" cy="6500880"/>
          </a:xfrm>
          <a:prstGeom prst="rect">
            <a:avLst/>
          </a:prstGeom>
          <a:ln w="0">
            <a:noFill/>
          </a:ln>
        </p:spPr>
      </p:pic>
      <p:sp>
        <p:nvSpPr>
          <p:cNvPr id="372" name="TextBox 4"/>
          <p:cNvSpPr/>
          <p:nvPr/>
        </p:nvSpPr>
        <p:spPr>
          <a:xfrm>
            <a:off x="5638680" y="1447920"/>
            <a:ext cx="3353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f George Catlin would have painted Four Bears in a chair would that leave you with a different impression of this Ch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he White Cloud-Head Chief of Iowa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5" name="Picture 2" descr="http://upload.wikimedia.org/wikipedia/commons/thumb/3/38/George_Catlin_-_The_White_Cloud%2C_Head_Chief_of_the_Iowas_-_Google_Art_Project.jpg/170px-George_Catlin_-_The_White_Cloud%2C_Head_Chief_of_the_Iowas_-_Google_Art_Project.jpg"/>
          <p:cNvPicPr/>
          <p:nvPr/>
        </p:nvPicPr>
        <p:blipFill>
          <a:blip r:embed="rId1"/>
          <a:stretch/>
        </p:blipFill>
        <p:spPr>
          <a:xfrm>
            <a:off x="457200" y="1447920"/>
            <a:ext cx="4514760" cy="5195880"/>
          </a:xfrm>
          <a:prstGeom prst="rect">
            <a:avLst/>
          </a:prstGeom>
          <a:ln w="0">
            <a:noFill/>
          </a:ln>
        </p:spPr>
      </p:pic>
      <p:sp>
        <p:nvSpPr>
          <p:cNvPr id="376" name="TextBox 3"/>
          <p:cNvSpPr/>
          <p:nvPr/>
        </p:nvSpPr>
        <p:spPr>
          <a:xfrm>
            <a:off x="5410080" y="2286000"/>
            <a:ext cx="3048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Why do you think he was painted with a big green hand on his f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http://upload.wikimedia.org/wikipedia/commons/thumb/3/38/George_Catlin_-_The_White_Cloud%2C_Head_Chief_of_the_Iowas_-_Google_Art_Project.jpg/170px-George_Catlin_-_The_White_Cloud%2C_Head_Chief_of_the_Iowas_-_Google_Art_Project.jpg"/>
          <p:cNvPicPr/>
          <p:nvPr/>
        </p:nvPicPr>
        <p:blipFill>
          <a:blip r:embed="rId1"/>
          <a:stretch/>
        </p:blipFill>
        <p:spPr>
          <a:xfrm>
            <a:off x="228600" y="152280"/>
            <a:ext cx="5657760" cy="6512040"/>
          </a:xfrm>
          <a:prstGeom prst="rect">
            <a:avLst/>
          </a:prstGeom>
          <a:ln w="0">
            <a:noFill/>
          </a:ln>
        </p:spPr>
      </p:pic>
      <p:sp>
        <p:nvSpPr>
          <p:cNvPr id="379" name="TextBox 4"/>
          <p:cNvSpPr/>
          <p:nvPr/>
        </p:nvSpPr>
        <p:spPr>
          <a:xfrm>
            <a:off x="5867280" y="1752480"/>
            <a:ext cx="3124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Native Americans would decorate their faces to express themselves.What do you think the hand is telling 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El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Picture 2" descr="http://imgc.allpostersimages.com/images/P-473-488-90/29/2931/Y62RD00Z/posters/george-catlin-big-elk-1832.jpg"/>
          <p:cNvPicPr/>
          <p:nvPr/>
        </p:nvPicPr>
        <p:blipFill>
          <a:blip r:embed="rId1"/>
          <a:stretch/>
        </p:blipFill>
        <p:spPr>
          <a:xfrm>
            <a:off x="3352680" y="0"/>
            <a:ext cx="5105520" cy="680724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228600" y="2209680"/>
            <a:ext cx="3200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ere is another example of the Native Americans using decoration on their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http://artunframed.com/Gallery/wp-content/uploads/2013/06/Buffalo-Bull-A-Grand-Pawnee-Warrior-George-Catlin-288x355.jpg"/>
          <p:cNvPicPr/>
          <p:nvPr/>
        </p:nvPicPr>
        <p:blipFill>
          <a:blip r:embed="rId1"/>
          <a:stretch/>
        </p:blipFill>
        <p:spPr>
          <a:xfrm>
            <a:off x="3581280" y="187200"/>
            <a:ext cx="5181840" cy="6388200"/>
          </a:xfrm>
          <a:prstGeom prst="rect">
            <a:avLst/>
          </a:prstGeom>
          <a:ln w="0">
            <a:noFill/>
          </a:ln>
        </p:spPr>
      </p:pic>
      <p:sp>
        <p:nvSpPr>
          <p:cNvPr id="386" name="TextBox 4"/>
          <p:cNvSpPr/>
          <p:nvPr/>
        </p:nvSpPr>
        <p:spPr>
          <a:xfrm>
            <a:off x="228600" y="2209680"/>
            <a:ext cx="320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What do you think these marking repres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19:33:54Z</dcterms:created>
  <dc:creator>Glenda</dc:creator>
  <dc:description/>
  <dc:language>en-US</dc:language>
  <cp:lastModifiedBy>Legion</cp:lastModifiedBy>
  <dcterms:modified xsi:type="dcterms:W3CDTF">2017-07-06T06:55:20Z</dcterms:modified>
  <cp:revision>14</cp:revision>
  <dc:subject/>
  <dc:title>Wild West Paintings</dc:title>
</cp:coreProperties>
</file>