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6120-F9A2-4782-A3A1-D3CDCEEA0C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EDC-E1E5-43F2-B990-79F37522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74C-FCDB-4A57-AE53-E83F9AEC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40E-90DB-4909-BB11-C0E43477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45E-B860-448F-8EE7-68085F6B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4453-2690-4D42-A588-DB045713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DFEF-3816-414C-A4E6-7FD0ED77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73BA-DBE2-48EC-A9A1-D4008ABC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406D-5E2F-4FD4-9845-912D378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9234-085B-46C5-8B42-008E0C6E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8454-71FB-48C9-BE08-691B9D37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B03A-B416-4F9A-A4CE-78B28ED4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D0D-0DC6-4288-ACA9-D9073348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694A-4495-4455-891C-2BB75B81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2636-BD2E-4181-A363-3BF5F4EE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E32F-4FA2-4DEA-8D73-358C5C3B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75E7-86A7-4C5E-BFEF-64BD23AC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2DE5-3885-4905-A120-2DBC3994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F1666-B7DE-4320-8052-40C187D4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53BDC-E97E-45D9-AD93-5F7F9D0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3B769-EFFD-4A60-8090-EBDF3B71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7F04B-BD67-44C7-8658-55AC1849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E5748-93AD-4E0A-85A9-6AE1597B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F4F-21AC-4714-A34C-395221C4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D780D-E69E-40AB-961B-7204E60C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A399C-BA34-4E88-9378-AC1866DC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21E33-EB59-47F7-9855-886DB91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D3482-6EDB-407D-A371-6BEA4283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7A8F3-5294-4DDF-83D7-EEF4623B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6136A-0912-4C52-9A8C-58F7E888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D5541-CFE2-4C6A-A92A-2EBFAECE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FCB4F-EB74-4BF0-9909-8899A3DC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6DBC3-56DA-4DF3-AA1F-E8F7B823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9D024-E986-4484-B941-092144A1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4F3-C993-41B3-A3FB-F7441DB1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7C899-507D-41BB-9A51-EB38BECB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AFE54-40AC-4CF3-86A8-BAC551BE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76C55-9F9B-4A7A-9395-626FA6A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3D1F6-DDAE-461C-B666-79758437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974B6-6074-49CD-8094-FB518B74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58666-FFA0-4645-AB31-2564ED38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45F80-27AF-4FC9-B7D7-374A336C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CB144-9DF9-4C9A-941B-A8559D4E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BF77B-6243-4993-AFD2-8E562164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01BC4-931B-4C41-BAFF-42D2F2F3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D3A-8960-4169-875D-609C2AE3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1F42B-9011-4834-8B41-36D0A132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3F5DC-EF39-47A3-9A32-0278D3F2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C425B-0477-4A43-BA46-180056BD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2E5A9-C39F-4205-8B62-84EE8020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60F59-1A88-4920-A5AD-84330774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0B700-B812-42A0-8EAD-68E293D6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1221D-836E-47DA-8AA4-24EA7EBB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0BDEB-5331-4BA3-8B0D-14BBF9CE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78F9E-717A-4DE3-B762-6CA639D5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90176-7B58-4A7A-B773-7D14F615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CA5-99AB-40C9-9E6E-667D6C42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9FEDB-001A-44DB-B37F-EF64C68A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E7148-7B36-46DC-B132-2E9ECC6D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D14AC-5CC4-4589-AD92-00B3A929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B888F-9B92-48CB-83BD-11E06D62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64C3-8FC6-4DB4-8C72-0B48303E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A0094-6B57-4DCA-B7AF-57468B5A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036A2-5D41-4D62-B07E-D1ECFC06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772EC-2E38-4A53-B9F5-497738E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87D07-D6C9-46F6-AA45-275D169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91764-A8DB-4ADA-B384-1FAD55D4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DA5-C5D7-481A-B96E-012682EB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DFCF-47AB-45BC-8CC8-5B719AC6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B61CF-247E-4F4A-A933-DAAE1D0C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1E3A-BFCB-44C6-90BA-B379CF67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CF8B3-1D60-4952-AFDB-0CE389BE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CBBB87-4CD6-40FD-BFC3-772A2972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D6819-7C2B-470D-B480-B4A1E079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46DA9F-2115-4CAC-8516-53B2D64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9BC39-B2FD-43FB-A983-A8F8401B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5E7FE-EF6F-4043-AE0D-1A3F7FDA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CAB69-C415-4DC5-A983-E8BD0AF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CC0-10D4-48E0-9E13-5BB8E071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53CFA-9CA2-4BE0-9E75-D9810C85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60337-3316-4345-A423-9590CB3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73A6E-89F4-44DB-9434-A4E70787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B5FC4-6BA5-4285-B0B9-AF29B4B8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AC814-8135-4615-9F0C-BF0A8B9F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399A9-36C5-49EB-9F18-14B1CF8F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7456F-0FC0-4B1C-9B4B-69D0CB71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1F663-DBEB-485E-BF2B-9D5406F4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E40C2-1238-44F3-A1F8-0BE07044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7EF07-D43D-4AFB-A537-BEC249D4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0DA-A6EE-47AD-98FA-26C74458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C5464-FB85-409B-8779-7CA16BA7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629E5-F069-4380-A78E-CA98D01D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75EBB-3172-41BB-B367-22834131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4B15F-7180-4A67-ADC0-F76DE084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1C902-4EAD-4B63-87AD-A0433058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73D85-7B78-40F5-BDC2-DA0B614F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854C5-98E9-4A85-85F2-FCCC544D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BCDC-2198-4642-9848-44C9A7E419D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6BCF-067E-4DA9-B852-C4A0756023F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42F4-5517-4C9E-B397-90F7A7D2B9D7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8931-D0CD-411C-9E6A-9163855C25A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2831-FC20-4568-B3CD-3EB3EB0B61A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284C-8789-4838-A1F4-5191A2BCCAB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87AF-A79E-4F37-A316-A5B68BD2406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A2F4-C4CE-4AC6-B0A5-81530D8BB91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AB55-A9AF-4714-9463-7500AE6B265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1F45-B2DD-4682-904E-22EAC1A2C4D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BD7C-010A-48BA-B629-3239E6DF642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EB08-5B9D-4257-97CB-F8EED17ADC9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8933-D469-4BAD-AC2B-AE1950B40E3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359E-0CA8-4821-B219-07EE124AC23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78AF-9945-4E81-9DC9-BC15DE322A6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561A-13EA-4229-AF4B-B789B818F1F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775f55"/>
                </a:solidFill>
                <a:latin typeface="Tw Cen MT"/>
              </a:rPr>
              <a:t>WILD WEST PAINTINGS</a:t>
            </a:r>
            <a:endParaRPr b="0" lang="en-US" sz="6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Tw Cen MT"/>
              </a:rPr>
              <a:t>By George Catlin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William Fisk - George Catlin - Google Art Project.jpg"/>
          <p:cNvPicPr/>
          <p:nvPr/>
        </p:nvPicPr>
        <p:blipFill>
          <a:blip r:embed="rId1"/>
          <a:stretch/>
        </p:blipFill>
        <p:spPr>
          <a:xfrm>
            <a:off x="2590920" y="228600"/>
            <a:ext cx="3809880" cy="47451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Brave Chief, 1832 Giclee Print"/>
          <p:cNvPicPr/>
          <p:nvPr/>
        </p:nvPicPr>
        <p:blipFill>
          <a:blip r:embed="rId1"/>
          <a:stretch/>
        </p:blipFill>
        <p:spPr>
          <a:xfrm>
            <a:off x="380880" y="152280"/>
            <a:ext cx="5029200" cy="6705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"/>
          <p:cNvSpPr/>
          <p:nvPr/>
        </p:nvSpPr>
        <p:spPr>
          <a:xfrm>
            <a:off x="5791320" y="1752480"/>
            <a:ext cx="3047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f they were decorated with hand prints it meant that they were good at hand-to-hand fight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ograp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George Catlin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 was born in Wilkes-Barre, Pennsylvania in 1796.  Following a brief career as a lawyer, he produced two major collections of paintings of American Indians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ve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Mah-to-toh-pa, Four Bears, Second Chief in the Mandan Indian Tribe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219320"/>
            <a:ext cx="4419720" cy="5433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4952880" y="1981080"/>
            <a:ext cx="3886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Based on clues (costume, posture, headdress), what can you tell me about the person in the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52280"/>
            <a:ext cx="5288040" cy="65008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/>
          <p:cNvSpPr/>
          <p:nvPr/>
        </p:nvSpPr>
        <p:spPr>
          <a:xfrm>
            <a:off x="5638680" y="1447920"/>
            <a:ext cx="3353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f George Catlin would have painted Four Bears in a chair would that leave you with a different impression of this Ch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White Cloud-Head Chief of Iow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457200" y="1447920"/>
            <a:ext cx="4514760" cy="5195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3"/>
          <p:cNvSpPr/>
          <p:nvPr/>
        </p:nvSpPr>
        <p:spPr>
          <a:xfrm>
            <a:off x="5410080" y="2286000"/>
            <a:ext cx="304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y do you think he was painted with a big green hand on his f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228600" y="152280"/>
            <a:ext cx="5657760" cy="65120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5867280" y="1752480"/>
            <a:ext cx="3124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ative Americans would decorate their faces to express themselves.What do you think the hand is telling 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El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2" descr="http://imgc.allpostersimages.com/images/P-473-488-90/29/2931/Y62RD00Z/posters/george-catlin-big-elk-1832.jpg"/>
          <p:cNvPicPr/>
          <p:nvPr/>
        </p:nvPicPr>
        <p:blipFill>
          <a:blip r:embed="rId1"/>
          <a:stretch/>
        </p:blipFill>
        <p:spPr>
          <a:xfrm>
            <a:off x="3352680" y="0"/>
            <a:ext cx="5105520" cy="68072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228600" y="2209680"/>
            <a:ext cx="3200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re is another example of the Native Americans using decoration on thei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artunframed.com/Gallery/wp-content/uploads/2013/06/Buffalo-Bull-A-Grand-Pawnee-Warrior-George-Catlin-288x355.jpg"/>
          <p:cNvPicPr/>
          <p:nvPr/>
        </p:nvPicPr>
        <p:blipFill>
          <a:blip r:embed="rId1"/>
          <a:stretch/>
        </p:blipFill>
        <p:spPr>
          <a:xfrm>
            <a:off x="3581280" y="187200"/>
            <a:ext cx="5181840" cy="63882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228600" y="2209680"/>
            <a:ext cx="320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at do you think these marking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9:33:54Z</dcterms:created>
  <dc:creator>Glenda</dc:creator>
  <dc:description/>
  <dc:language>en-US</dc:language>
  <cp:lastModifiedBy>Legion</cp:lastModifiedBy>
  <dcterms:modified xsi:type="dcterms:W3CDTF">2017-07-06T06:55:20Z</dcterms:modified>
  <cp:revision>14</cp:revision>
  <dc:subject/>
  <dc:title>Wild West Paintings</dc:title>
</cp:coreProperties>
</file>