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On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ciological Persp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dition vs. Sci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erged mid-1800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w Out of Social Uphea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hinking of Social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ccess of Natural Sc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gins of Soc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ying the Scientific Method to Social 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ined the Term “Sociology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mchair Philosophy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guste Comte and Positiv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Founder of Soc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er and Higher Forms of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ined Phrase “Survival of the Fittes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bert Spencer - Social Darwin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ine of Human History is Class Confli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urgeoisie vs. The Proletari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xism Not the Same as Commun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rl Marx and Class Confli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t Sociology Recognized as Separate Discip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ied How Social Forces Affect Behav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ied “Social Integration” - Degree to Which People are Tied to Soci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le Durkheim and Social 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gion and the Origin of Capita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gion is Central Force in Social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stant Ethic and Spirit of Capita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 Weber and the Protestant Eth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ology Should be Value-F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ology Should be Obj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earch Should Involve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als and Uses of Soc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lues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ological Re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stehen - “To Grasp by Insigh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ce of Subjective Mean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khe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ssed Social F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Social Facts with Other Social F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Social Facts and Verstehen Fit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stehen and Social F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Groups Influence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People are Influenced by Their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Who Share a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Who Share a Terr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ing the Broader Social Con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itudes of the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00s Sex Roles Rigidly Def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 People Educated Beyond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riet Martine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shed Society in America Before Durkheim and Weber Were Bo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 Work was Igno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ism in Early Soc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History: Tension Between Social Reform and Sociological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ne Addams and Social Re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. E. B. Du Bois and Race Re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cott Parsons and C. Wright Mills: Theory vs. Re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ing Tension and Rise of Applied Soc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ology in North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ic Interactionism - How People Use Symbols in Everyday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ying Symbolic Interactionism -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the Meaning of Symbols Affects Expec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 Persp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otional Satisf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ve 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aning of Child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aning of Parenth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ying Symbolic Interaction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ital R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ception of Alterna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aning of Divo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ying Symbolic Interaction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ital R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ception of Alterna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aning of Divo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in the L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ying Symbolic Interaction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ety is a Whole Unit Made Up of Interrelated Parts that Work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alism, Structural Functiona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bert Merton - Functions and Dys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al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onomic 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ization of Child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e of the Sick and Elder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ying Functional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 Location - Corners in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re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ying Functional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rl Marx and Conflict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lict Theory To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inists and Conflict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ying Conflict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lict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alists and Conflict Theorists -  Macro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ic Interactionists - Micro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ls of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ology Full Circle: Reform vs. Re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c Soc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ersity of Orien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a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ends Shaping the Fu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—Location in Broad Stream of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graphy—Individual’s  Specific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Wright Mill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 Betwe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 and Bi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lobal Vill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ant Commun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ology Studies both the Global Network and Our Unique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ow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al Con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atural Sciences—Explain and Predict Events in Natural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cial Sciences—Examine Human Relation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ology and the Other Sc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hropology - Studies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onomics - Studies the Production and Distribution of Goods and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itical Science - Studies How People Govern Themselv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ology and the Other Sc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sychology - The Study of Processes Within Individu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ology - Similarities to Other Discip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ology and the Other Sc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Why Something Happ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General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ict What will Happ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oal of Sci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F01E5-2812-4446-9BF6-7D505800D9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A08FB-2053-4B41-8ECE-05355AF976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22B1E-182F-4D30-901C-1E8C7E37BA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77C99-0E1F-42D2-ABE6-08982B1D38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DA6F14-DF26-448F-A16A-A52BB84BB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C09B9B-357D-4940-8569-5B1480CE6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1A722B-CCA6-4D1E-8F2C-C70956729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DFF18E-0B46-4898-870B-14E7D3952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FC84CD-D1A7-45A4-B1AA-60F999E2E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25E600-CE9F-4791-8A93-E8B21755A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C5C392-D8E3-479C-9A40-43EA958D0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2522B-90B1-4C7F-92A6-461E2B5DEB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B5B632-18FC-4977-AA12-924D025CF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3CF9BE-A8CD-4432-9BC1-FDB5D370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94B002-A669-4E37-982C-E85DFB94E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7B8BC5-3C24-4C7B-84C3-5B014EA32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FBE40A-16F3-429C-A528-032E73DA8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AA35E-2DC6-492B-988E-F854B881BE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E545E-68E2-41AB-922F-99F6FABF9F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E4AD5-5352-450F-8671-E3782B3E5C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E6746-680D-4BAC-BAD2-20E5054723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35C63-F9D4-4381-BFE2-AD7A28A384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828AF-D71F-43E2-95B7-BC8AEF73FA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41762-78F5-47A2-9C3C-25AE467E4D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-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9DD76-4F70-468E-8B64-675BED6D50AD}" type="slidenum"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Rectangle 39"/>
          <p:cNvSpPr/>
          <p:nvPr/>
        </p:nvSpPr>
        <p:spPr>
          <a:xfrm>
            <a:off x="2895480" y="0"/>
            <a:ext cx="624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Times New Roman"/>
              </a:rPr>
              <a:t>Chapter 1: The Sociological Perspective</a:t>
            </a:r>
            <a:endParaRPr b="1" lang="en-US" sz="1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1085760" cy="6854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15B98-257D-43DB-A247-0E7C0375E6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2743200" y="3886200"/>
            <a:ext cx="6019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hapter One: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The Sociological Perspectiv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radition vs. Scien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merged mid-1800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rew Out of Social Upheava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thinking of Social Lif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Success of Natural Scienc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1066680" y="609480"/>
            <a:ext cx="7010640" cy="14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Origins of Sociolog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4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0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6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2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6" dur="1" fill="hold"/>
                                  <p:tgtEl>
                                    <p:spTgt spid="11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61722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pplying the Scientific Method to Social Worl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ined the Term “Sociology”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rmchair Philosophy”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1066680" y="457200"/>
            <a:ext cx="579132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Auguste Comte and Positivism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8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4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8" dur="1" fill="hold"/>
                                  <p:tgtEl>
                                    <p:spTgt spid="11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Founder of Soci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ower and Higher Forms of Socie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ined Phrase “Survival of the Fittest”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1066680" y="457200"/>
            <a:ext cx="701064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Herbert Spencer - Social Darwinism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5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0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6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0" dur="1" fill="hold"/>
                                  <p:tgtEl>
                                    <p:spTgt spid="11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ngine of Human History is Class Conflic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Bourgeoisie vs. The Proletari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rxism Not the Same as Commun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1066680" y="380880"/>
            <a:ext cx="594360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Karl Marx and Class Conflict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2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8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2" dur="1" fill="hold"/>
                                  <p:tgtEl>
                                    <p:spTgt spid="12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6400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ot Sociology Recognized as Separate Disciplin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tudied How Social Forces Affect Behavi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dentified “Social Integration” - Degree to Which People are Tied to Social Group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1066680" y="457200"/>
            <a:ext cx="731520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Emile Durkheim and Social Integration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9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4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0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4" dur="1" fill="hold"/>
                                  <p:tgtEl>
                                    <p:spTgt spid="12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28" name="Picture 5" descr="C:\PowerPoint Work\Allyn &amp; Bacon\2005 Work\Henslin 8ed\Artwork\01-01.jpg"/>
          <p:cNvPicPr/>
          <p:nvPr/>
        </p:nvPicPr>
        <p:blipFill>
          <a:blip r:embed="rId1"/>
          <a:stretch/>
        </p:blipFill>
        <p:spPr>
          <a:xfrm>
            <a:off x="533520" y="1295280"/>
            <a:ext cx="8153280" cy="4243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ligion and the Origin of Capital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ligion is Central Force in Social Chan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otestant Ethic and Spirit of Capital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066680" y="457200"/>
            <a:ext cx="762012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Max Weber and the Protestant Ethic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1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6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2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6" dur="1" fill="hold"/>
                                  <p:tgtEl>
                                    <p:spTgt spid="13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ology Should be Value-Fre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ology Should be Objectiv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search Should Involve Replic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oals and Uses of Soci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1066680" y="457200"/>
            <a:ext cx="693432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Values in 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ociological Research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3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8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4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0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4" dur="1" fill="hold"/>
                                  <p:tgtEl>
                                    <p:spTgt spid="13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36" name="Picture 3" descr="01-02"/>
          <p:cNvPicPr/>
          <p:nvPr/>
        </p:nvPicPr>
        <p:blipFill>
          <a:blip r:embed="rId1"/>
          <a:stretch/>
        </p:blipFill>
        <p:spPr>
          <a:xfrm>
            <a:off x="1228680" y="457200"/>
            <a:ext cx="5970600" cy="60958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eb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Verstehen - “To Grasp by Insight”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Importance of Subjective Meaning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urkhei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Stressed Social Fact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Explain Social Facts with Other Social Fact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How Social Facts and Verstehen Fit Togeth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1066680" y="380880"/>
            <a:ext cx="609624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66"/>
                </a:solidFill>
                <a:latin typeface="Arial"/>
              </a:rPr>
              <a:t>Verstehen</a:t>
            </a: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 and Social Fact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1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6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2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8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4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0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6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00" dur="1" fill="hold"/>
                                  <p:tgtEl>
                                    <p:spTgt spid="13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67057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How Groups Influence Peopl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How People are Influenced by Their Socie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6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People Who Share a Cultur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6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People Who Share a Territor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1066680" y="457200"/>
            <a:ext cx="579132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eeing the Broader Social Context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" dur="1" fill="hold"/>
                                  <p:tgtEl>
                                    <p:spTgt spid="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ttitudes of the Tim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1800s Sex Roles Rigidly Defined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Few People Educated Beyond Basic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Harriet Martineau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Published Society in America Before Durkheim and Weber Were Born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Her Work was Ignored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1066680" y="380880"/>
            <a:ext cx="754380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exism in Early Sociolog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2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8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4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0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6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40" dur="1" fill="hold"/>
                                  <p:tgtEl>
                                    <p:spTgt spid="14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arly History: Tension Between Social Reform and Sociological Analysi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Jane Addams and Social Refor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. E. B. Du Bois and Race Rel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alcott Parsons and C. Wright Mills: Theory vs. Refor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tinuing Tension and Rise of Applied Soci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1066680" y="380880"/>
            <a:ext cx="548640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ociology in North America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7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2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8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4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74" dur="1" fill="hold"/>
                                  <p:tgtEl>
                                    <p:spTgt spid="14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47" name="Picture 3" descr="C:\PowerPoint Work\Allyn &amp; Bacon\2005 Work\Henslin 8ed\Artwork\01-03.jpg"/>
          <p:cNvPicPr/>
          <p:nvPr/>
        </p:nvPicPr>
        <p:blipFill>
          <a:blip r:embed="rId1"/>
          <a:stretch/>
        </p:blipFill>
        <p:spPr>
          <a:xfrm>
            <a:off x="380880" y="1828800"/>
            <a:ext cx="8382240" cy="3352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143000" y="2057040"/>
            <a:ext cx="7238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ymbolic Interactionism - How People Use Symbols in Everyday Lif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pplying Symbolic Interactionism - </a:t>
            </a:r>
            <a:br>
              <a:rPr sz="3200"/>
            </a:b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hanging the Meaning of Symbols Affects Expect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1066680" y="654120"/>
            <a:ext cx="6553440" cy="1403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Theoretical Perspective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1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6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0" dur="1" fill="hold"/>
                                  <p:tgtEl>
                                    <p:spTgt spid="1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440280" indent="-44028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motional Satisfac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Love Symbo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Meaning of Childre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Meaning of Parenthoo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1066680" y="228600"/>
            <a:ext cx="784872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Applying Symbolic Interactionism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Examples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7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2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8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4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18" dur="1" fill="hold"/>
                                  <p:tgtEl>
                                    <p:spTgt spid="15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rital Rol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erception of Alternativ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Meaning of Divor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1066680" y="228600"/>
            <a:ext cx="800100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Applying Symbolic Interactionism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Examples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5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0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6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40" dur="1" fill="hold"/>
                                  <p:tgtEl>
                                    <p:spTgt spid="15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58" name="Picture 3" descr="C:\PowerPoint Work\Allyn &amp; Bacon\2005 Work\Henslin 8ed\Artwork\01-04.jpg"/>
          <p:cNvPicPr/>
          <p:nvPr/>
        </p:nvPicPr>
        <p:blipFill>
          <a:blip r:embed="rId1"/>
          <a:stretch/>
        </p:blipFill>
        <p:spPr>
          <a:xfrm>
            <a:off x="914400" y="685800"/>
            <a:ext cx="7010280" cy="53150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-449280">
              <a:lnSpc>
                <a:spcPct val="2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Marital Rol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2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Perception of Alternativ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2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The Meaning of Divor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hanges in the Law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1066680" y="228600"/>
            <a:ext cx="800100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Applying Symbolic Interactionism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Examples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426600" indent="-42660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ety is a Whole Unit Made Up of Interrelated Parts that Work Togeth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26600" indent="-42660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unctionalism, Structural Functional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26600" indent="-42660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obert Merton - Functions and Dysfunc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1066680" y="533520"/>
            <a:ext cx="777240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Functional Analysi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7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2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8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62" dur="1" fill="hold"/>
                                  <p:tgtEl>
                                    <p:spTgt spid="16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conomic Produc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ization of Childre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are of the Sick and Elderl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066680" y="533520"/>
            <a:ext cx="792504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Applying Functional Analysi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9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4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0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84" dur="1" fill="hold"/>
                                  <p:tgtEl>
                                    <p:spTgt spid="16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Job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com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duc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a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1066680" y="457200"/>
            <a:ext cx="678204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ocial Location - Corners in Lif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8" dur="1" fill="hold"/>
                                  <p:tgtEl>
                                    <p:spTgt spid="9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cre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xual Contro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produc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1066680" y="349200"/>
            <a:ext cx="7315200" cy="1708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Applying Functional Analysi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1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6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2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06" dur="1" fill="hold"/>
                                  <p:tgtEl>
                                    <p:spTgt spid="16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143000" y="2057040"/>
            <a:ext cx="72388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Karl Marx and Conflict Theor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flict Theory Toda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eminists and Conflict Theor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pplying Conflict Theor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1066680" y="106668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onflict Theor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3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8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4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0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34" dur="1" fill="hold"/>
                                  <p:tgtEl>
                                    <p:spTgt spid="17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60962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unctionalists and Conflict Theorists -  Macro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ymbolic Interactionists - Micro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1066680" y="654120"/>
            <a:ext cx="6477120" cy="1403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Levels of Analysi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1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6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50" dur="1" fill="hold"/>
                                  <p:tgtEl>
                                    <p:spTgt spid="17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5486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ology Full Circle: Reform vs. Researc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ublic Soci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iversity of Orient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lobaliz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1066680" y="577800"/>
            <a:ext cx="5486400" cy="14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Trends Shaping the Futur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7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2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8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4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78" dur="1" fill="hold"/>
                                  <p:tgtEl>
                                    <p:spTgt spid="17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81" name="Picture 3" descr="C:\PowerPoint Work\Allyn &amp; Bacon\2005 Work\Henslin 8ed\Artwork\01-05.jpg"/>
          <p:cNvPicPr/>
          <p:nvPr/>
        </p:nvPicPr>
        <p:blipFill>
          <a:blip r:embed="rId1"/>
          <a:stretch/>
        </p:blipFill>
        <p:spPr>
          <a:xfrm>
            <a:off x="2057400" y="457200"/>
            <a:ext cx="4162320" cy="6019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0" descr="Henslin final"/>
          <p:cNvPicPr/>
          <p:nvPr/>
        </p:nvPicPr>
        <p:blipFill>
          <a:blip r:embed="rId1"/>
          <a:stretch/>
        </p:blipFill>
        <p:spPr>
          <a:xfrm>
            <a:off x="2362320" y="228600"/>
            <a:ext cx="4703760" cy="6400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History—Location in Broad Stream of Event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Biography—Individual’s  Specific Experienc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1066680" y="228600"/>
            <a:ext cx="762012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. Wright Mills: 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onnection Between </a:t>
            </a:r>
            <a:endParaRPr b="1" lang="en-US" sz="40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History and Biography</a:t>
            </a:r>
            <a:endParaRPr b="1" lang="en-US" sz="40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4" dur="1" fill="hold"/>
                                  <p:tgtEl>
                                    <p:spTgt spid="9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4678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Global Villa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stant Communic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ology Studies both the Global Network and Our Unique Experienc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066680" y="380880"/>
            <a:ext cx="777240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The Growing 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lobal Context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6" dur="1" fill="hold"/>
                                  <p:tgtEl>
                                    <p:spTgt spid="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Natural Sciences—Explain and Predict Events in Natural Environm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Social Sciences—Examine Human Relationship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066680" y="380880"/>
            <a:ext cx="640080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ociology and the Other Science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2" dur="1" fill="hold"/>
                                  <p:tgtEl>
                                    <p:spTgt spid="10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430920" indent="-43092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nthropology - Studies Cultu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0920" indent="-43092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conomics - Studies the Production and Distribution of Goods and Servic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0920" indent="-43092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olitical Science - Studies How People Govern Themselves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1066680" y="380880"/>
            <a:ext cx="662940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ociology and the Other Science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4" dur="1" fill="hold"/>
                                  <p:tgtEl>
                                    <p:spTgt spid="1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61722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sychology - The Study of Processes Within Individual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ology - Similarities to Other Disciplin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1066680" y="380880"/>
            <a:ext cx="647712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ociology and the Other Science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6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0" dur="1" fill="hold"/>
                                  <p:tgtEl>
                                    <p:spTgt spid="10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xplain Why Something Happe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ke Generaliz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edict What will Happe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1066680" y="577800"/>
            <a:ext cx="7391520" cy="14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The Goal of Scienc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2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8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2" dur="1" fill="hold"/>
                                  <p:tgtEl>
                                    <p:spTgt spid="1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18:08:30Z</dcterms:created>
  <dc:creator>James Henslin</dc:creator>
  <dc:description/>
  <dc:language>en-US</dc:language>
  <cp:lastModifiedBy>Legion</cp:lastModifiedBy>
  <dcterms:modified xsi:type="dcterms:W3CDTF">2017-07-04T13:05:01Z</dcterms:modified>
  <cp:revision>174</cp:revision>
  <dc:subject>Chapter One: The Sociological Perspective</dc:subject>
  <dc:title>Sociology: A Down-to-Earth Approach, 8/e</dc:title>
</cp:coreProperties>
</file>