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11E-DDC2-4F44-B912-CD5BB0E788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ts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use for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mest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limestone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ho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also used to make cement and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ising excess acid in lakes or so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formula is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limes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decomposi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ll calcium oxide quick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      he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ng quicklime wi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hydroxide is also known as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ord equation for this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781-D1C2-4E97-A8E8-DD080818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9F7-A51B-4B01-B74B-EDABBC67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07C-13AF-4BE5-8854-3D7BEE54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A15-550B-43C6-ACEC-FF0AAF84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FFA-A335-4A09-B896-51725E3F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303-39FD-4DDF-B613-E8C2EC9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3A5-101F-4D88-81A0-1FBE0C5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C081-EC2B-4999-9B88-5ECD2AA0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3A8-A658-4763-B7E6-B860C63E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1C3-40C4-439B-9105-06EE574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755-6BDB-417E-855D-A43A6E47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A4C-4B81-49B7-9097-1DC5A548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85E8-086D-4D2D-8398-494B7769EB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cc3300"/>
                </a:solidFill>
                <a:latin typeface="Times New Roman"/>
              </a:rPr>
              <a:t>and its 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1219320" y="1447920"/>
            <a:ext cx="6019560" cy="18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imestone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ff00"/>
                </a:solidFill>
                <a:latin typeface="Times New Roman"/>
              </a:rPr>
              <a:t>Another use for calcium hydrox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called lime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water is used to test for the presence of carbon dioxide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breathe out a lot of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we blow through a straw into limewater it will change from clear to milky-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substance formed in this reaction is insoluble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+   carbon          calcium    + 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ydroxide     dioxide        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114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Times New Roman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3440" y="2133360"/>
            <a:ext cx="719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reactions all make up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657600" y="114300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33920" y="48769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laked 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324480" y="2819520"/>
            <a:ext cx="18288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ickl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14400" y="2895480"/>
            <a:ext cx="20574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e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1752480" y="1600200"/>
            <a:ext cx="17528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5638680" y="1600200"/>
            <a:ext cx="13716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5715000" y="3581280"/>
            <a:ext cx="13716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209680" y="36576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385320" y="1641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385680" y="423216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1965960" y="41562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1432080" y="126036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974880" y="228600"/>
            <a:ext cx="641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The limestone cy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66"/>
                </a:solidFill>
                <a:latin typeface="Times New Roman"/>
              </a:rPr>
              <a:t>Task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worksheet called ‘The Limest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ycle’ to fill in the gaps and complet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quations for the reactions of limest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out The Limestone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questions 1-5 on the next worksh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ing the information given and your 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nowledge. Afterwards copy ou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lete the workshee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Questions on Limest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 next less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99"/>
                </a:solidFill>
                <a:latin typeface="Arial Black"/>
              </a:rPr>
              <a:t>What is limest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sedimentary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as formed mainly from sea sh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he compound called calcium carb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a useful raw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Rocks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99"/>
                </a:solidFill>
                <a:latin typeface="Arial Black"/>
              </a:rPr>
              <a:t>What can limestone be used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uilding hou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imestone is also used to make cement and 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eutralising excess acid in lakes or s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PH02921J"/>
          <p:cNvPicPr/>
          <p:nvPr/>
        </p:nvPicPr>
        <p:blipFill>
          <a:blip r:embed="rId1"/>
          <a:stretch/>
        </p:blipFill>
        <p:spPr>
          <a:xfrm>
            <a:off x="685800" y="2762280"/>
            <a:ext cx="3809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Times New Roman"/>
              </a:rPr>
              <a:t>More about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dug up out of the ground in quar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Britain about 150 million tonnes of limestone are quarried each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is the compound calcium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’s formula i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CaCO</a:t>
            </a:r>
            <a:r>
              <a:rPr b="1" lang="en-GB" sz="32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mestone can be chemically changed into other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66"/>
                </a:solidFill>
                <a:latin typeface="Times New Roman"/>
              </a:rPr>
              <a:t>Heating limesto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limestone (calcium carbonate) is heated, it will break down (decomp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something breaks down with heat we call this reaction 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Times New Roman"/>
              </a:rPr>
              <a:t>Thermal decompos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carbonate will have broken down into calcium oxide and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call calcium oxide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quick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calcium              carb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bon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"/>
          <p:cNvSpPr/>
          <p:nvPr/>
        </p:nvSpPr>
        <p:spPr>
          <a:xfrm>
            <a:off x="5943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60958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Reacting quicklime with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oxide (quicklime) is a strong alk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reacts with water to form calcium hydr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 hydroxide is also known as </a:t>
            </a:r>
            <a:r>
              <a:rPr b="1" lang="en-GB" sz="3200" spc="-1" strike="noStrike">
                <a:solidFill>
                  <a:srgbClr val="00cc99"/>
                </a:solidFill>
                <a:latin typeface="Times New Roman"/>
              </a:rPr>
              <a:t>slaked l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8000"/>
                </a:solidFill>
                <a:latin typeface="Times New Roman"/>
              </a:rPr>
              <a:t>A word equation for this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+   water                calcium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xide                                   hydroxid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49568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Uses for slaked l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acidic soils, and to break up the soil so that plants can gr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neutralise lakes which have been polluted by acid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N01118_"/>
          <p:cNvPicPr/>
          <p:nvPr/>
        </p:nvPicPr>
        <p:blipFill>
          <a:blip r:embed="rId1"/>
          <a:stretch/>
        </p:blipFill>
        <p:spPr>
          <a:xfrm>
            <a:off x="1447920" y="3886200"/>
            <a:ext cx="2057400" cy="21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j0145267"/>
          <p:cNvPicPr/>
          <p:nvPr/>
        </p:nvPicPr>
        <p:blipFill>
          <a:blip r:embed="rId2"/>
          <a:stretch/>
        </p:blipFill>
        <p:spPr>
          <a:xfrm>
            <a:off x="4876920" y="3807000"/>
            <a:ext cx="320040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6:14:32Z</dcterms:created>
  <dc:creator>Waverley School</dc:creator>
  <dc:description/>
  <dc:language>en-US</dc:language>
  <cp:lastModifiedBy>RomaK</cp:lastModifiedBy>
  <dcterms:modified xsi:type="dcterms:W3CDTF">2015-09-02T05:54:56Z</dcterms:modified>
  <cp:revision>6</cp:revision>
  <dc:subject/>
  <dc:title>Limestone and its uses</dc:title>
</cp:coreProperties>
</file>