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te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the Meaning of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ve and Courtship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hannels of Love and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birth and 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ed Couples and Single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n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Transitions in Late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olescents and the Not-So-Empty 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ow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.S. - One Woman, Man, an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ultures Polygamy and Polya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Group into which a Child is Bo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Fam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y and Lesb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nded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parents as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ndwich Generation and Elder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ent Fathers and Serial Fathe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-Sp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and Grandchildren of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rk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use is Best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Spouse as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Marriage is Long-Term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Marriage is Sac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Spouse Aims and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Spouse Grown More 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Relationship to Suc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gh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Pro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a Lot of Time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Quick to Express Ap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 to Promoting Mutual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and Listen a L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Relig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 with Crises Posi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anger of Becoming a Re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, Single Mothers, Age at Marriage, Grandparents as Parents will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Distorted Images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ture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Establish Patterns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Cultural T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of Sick and 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of Incest and Tab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 and Emotional Over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truggle over Hous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23C7-49E0-4A8A-9342-FCED15019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2CDC7-B0BB-442B-910A-F457F8104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543AC-C70F-4063-82B7-461189CEEC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EAA2A-7AC1-4E21-8430-AEEFD0966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7193B-0D54-44AD-B4CC-2375AC57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49315-8AC9-4B4E-B5F5-418590B8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3B5F6-F128-4EF2-93FE-A87EDEF8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99F6A-C631-4FC1-955F-C6234ECE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88774-BFA6-42ED-BAE5-29F4BC9D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EFC71-5E21-4B1B-854F-4F890399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62065-BB0A-42A9-9A83-2151A5CD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22F4-E55F-4817-A87F-42CED0E0C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48E82-27FC-4DAF-9EE6-81ADE8E2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121CD-EAD5-4506-AC81-614DF31E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1FB3C-6ECA-4EBA-B15D-D474D0BF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EAED1-5F4E-4D9B-9725-1C91D2D5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A4101-69A0-46AD-BA06-9B6CDF11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FA21E-0216-4122-AA88-281512BDB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65A11-BB6F-4545-B4DA-FBF0F8FE2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1F11-3ACE-4FC1-B9DC-F08496212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89F97-19A6-47C0-A31B-988944821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653C6-D5B8-4E59-876B-9BF83F1E0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47EF-315E-4426-9B74-19EDD2E8E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2FC9F-7DC8-4463-A8CD-50D7592E2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0977-2A9C-4F32-AE24-E3E1791C0EF3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6: The Famil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C50B-14F9-425C-B814-13F0CD88A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65760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te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The Famil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5" descr="C:\PowerPoint Work\Allyn &amp; Bacon\2005 Work\Henslin 8ed\Artwork\16-01.jpg"/>
          <p:cNvPicPr/>
          <p:nvPr/>
        </p:nvPicPr>
        <p:blipFill>
          <a:blip r:embed="rId1"/>
          <a:stretch/>
        </p:blipFill>
        <p:spPr>
          <a:xfrm>
            <a:off x="1447920" y="533520"/>
            <a:ext cx="578160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the Meaning of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Ro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139680"/>
            <a:ext cx="7696440" cy="191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1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ve and Courtship in Glob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36640" indent="-2797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hannels of Love and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1" name="Picture 3" descr="C:\PowerPoint Work\Allyn &amp; Bacon\2005 Work\Henslin 8ed\Artwork\16-02.jpg"/>
          <p:cNvPicPr/>
          <p:nvPr/>
        </p:nvPicPr>
        <p:blipFill>
          <a:blip r:embed="rId1"/>
          <a:stretch/>
        </p:blipFill>
        <p:spPr>
          <a:xfrm>
            <a:off x="2133720" y="457200"/>
            <a:ext cx="436068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birth and Child Rea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ed Couples and Single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nn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6" name="Picture 3" descr="C:\PowerPoint Work\Allyn &amp; Bacon\2005 Work\Henslin 8ed\Artwork\16-03.jpg"/>
          <p:cNvPicPr/>
          <p:nvPr/>
        </p:nvPicPr>
        <p:blipFill>
          <a:blip r:embed="rId1"/>
          <a:stretch/>
        </p:blipFill>
        <p:spPr>
          <a:xfrm>
            <a:off x="2209680" y="304920"/>
            <a:ext cx="45435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Transitions in Later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ultolescents and the Not-So-Empty N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idow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rican-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ino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ve 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3" descr="C:\PowerPoint Work\Allyn &amp; Bacon\2005 Work\Henslin 8ed\Artwork\16-04.jpg"/>
          <p:cNvPicPr/>
          <p:nvPr/>
        </p:nvPicPr>
        <p:blipFill>
          <a:blip r:embed="rId1"/>
          <a:stretch/>
        </p:blipFill>
        <p:spPr>
          <a:xfrm>
            <a:off x="1066680" y="685800"/>
            <a:ext cx="6782040" cy="5410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 U.S. - One Woman, Man, an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Cultures Polygamy and Polyand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ved Group into which a Child is Born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882720"/>
            <a:ext cx="55627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Family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3" descr="C:\PowerPoint Work\Allyn &amp; Bacon\2005 Work\Henslin 8ed\Artwork\16-05.jpg"/>
          <p:cNvPicPr/>
          <p:nvPr/>
        </p:nvPicPr>
        <p:blipFill>
          <a:blip r:embed="rId1"/>
          <a:stretch/>
        </p:blipFill>
        <p:spPr>
          <a:xfrm>
            <a:off x="2971800" y="304920"/>
            <a:ext cx="316404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Without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9" dur="1" fill="hold"/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C:\PowerPoint Work\Allyn &amp; Bacon\2005 Work\Henslin 8ed\Artwork\16-06.jpg"/>
          <p:cNvPicPr/>
          <p:nvPr/>
        </p:nvPicPr>
        <p:blipFill>
          <a:blip r:embed="rId1"/>
          <a:stretch/>
        </p:blipFill>
        <p:spPr>
          <a:xfrm>
            <a:off x="3124080" y="152280"/>
            <a:ext cx="2940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y and Lesb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Families Without Childre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lended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1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3" name="Picture 3" descr="C:\PowerPoint Work\Allyn &amp; Bacon\2005 Work\Henslin 8ed\Artwork\16-07.jpg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24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9" name="Picture 3" descr="C:\PowerPoint Work\Allyn &amp; Bacon\2005 Work\Henslin 8ed\Artwork\16-08.jpg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49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3" descr="C:\PowerPoint Work\Allyn &amp; Bacon\2005 Work\Henslin 8ed\Artwork\16-09.jpg"/>
          <p:cNvPicPr/>
          <p:nvPr/>
        </p:nvPicPr>
        <p:blipFill>
          <a:blip r:embed="rId1"/>
          <a:stretch/>
        </p:blipFill>
        <p:spPr>
          <a:xfrm>
            <a:off x="3174840" y="152280"/>
            <a:ext cx="26924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6812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Define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7" name="Picture 3" descr="C:\PowerPoint Work\Allyn &amp; Bacon\2005 Work\Henslin 8ed\Artwork\16-10.jpg"/>
          <p:cNvPicPr/>
          <p:nvPr/>
        </p:nvPicPr>
        <p:blipFill>
          <a:blip r:embed="rId1"/>
          <a:stretch/>
        </p:blipFill>
        <p:spPr>
          <a:xfrm>
            <a:off x="2057400" y="380880"/>
            <a:ext cx="497196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andparents as Par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3808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andwich Generation and Elder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6" name="Picture 3" descr="C:\PowerPoint Work\Allyn &amp; Bacon\2005 Work\Henslin 8ed\Artwork\16-11.jpg"/>
          <p:cNvPicPr/>
          <p:nvPr/>
        </p:nvPicPr>
        <p:blipFill>
          <a:blip r:embed="rId1"/>
          <a:stretch/>
        </p:blipFill>
        <p:spPr>
          <a:xfrm>
            <a:off x="1066680" y="609480"/>
            <a:ext cx="6934320" cy="5700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8" name="Picture 3" descr="C:\PowerPoint Work\Allyn &amp; Bacon\2005 Work\Henslin 8ed\Artwork\16-12.jpg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4756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sent Fathers and Serial Fathe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-Spo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and Grandchildren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8" dur="1" fill="hold"/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4" name="Picture 3" descr="C:\PowerPoint Work\Allyn &amp; Bacon\2005 Work\Henslin 8ed\Artwork\16-13.jpg"/>
          <p:cNvPicPr/>
          <p:nvPr/>
        </p:nvPicPr>
        <p:blipFill>
          <a:blip r:embed="rId1"/>
          <a:stretch/>
        </p:blipFill>
        <p:spPr>
          <a:xfrm>
            <a:off x="1066680" y="152280"/>
            <a:ext cx="27590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185" name="Picture 4" descr="C:\PowerPoint Work\Allyn &amp; Bacon\2005 Work\Henslin 8ed\Artwork\16-14.jpg"/>
          <p:cNvPicPr/>
          <p:nvPr/>
        </p:nvPicPr>
        <p:blipFill>
          <a:blip r:embed="rId2"/>
          <a:stretch/>
        </p:blipFill>
        <p:spPr>
          <a:xfrm>
            <a:off x="5105520" y="304920"/>
            <a:ext cx="27730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ark S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tt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 Abu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66680" y="1166760"/>
            <a:ext cx="7772400" cy="8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7" dur="1" fill="hold"/>
                                  <p:tgtEl>
                                    <p:spTgt spid="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use is Best Frien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ike Spouse as Pers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nk Marriage is Long-Term Commi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Marriage is Sac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ee with Spouse Aims and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Spouse Grown More Interes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ant Relationship to Succe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ugh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5" dur="1" fill="hold"/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cle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ten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Orien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Pro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Can Be..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nd a Lot of Time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Quick to Express Appre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ted to Promoting Mutual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k and Listen a Lot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Religi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al with Crises Positive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ppy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9" dur="1" fill="hold"/>
                                  <p:tgtEl>
                                    <p:spTgt spid="1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Danger of Becoming a Relic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, Single Mothers, Age at Marriage, Grandparents as Parents will In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Distorted Images of Marriage and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66680" y="304920"/>
            <a:ext cx="6782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uture of Marriage and Famil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8" dur="1" fill="hold"/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Establish Patterns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sc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herit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uth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992160"/>
            <a:ext cx="7925040" cy="106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mmon Cultural Them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Sick and Ag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s of Incest and Tabo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ion and Emotional Overloa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228600"/>
            <a:ext cx="76964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Struggle over House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291960"/>
            <a:ext cx="7772400" cy="17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6:27Z</dcterms:modified>
  <cp:revision>174</cp:revision>
  <dc:subject>Chapter 16: The Family</dc:subject>
  <dc:title>Sociology: A Down-to-Earth Approach, 8/e</dc:title>
</cp:coreProperties>
</file>