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Sixte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the Meaning of 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R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bolic Inter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ve and Courtship in Glob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hannels of Love and 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birth and Child Re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ed Couples and Single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ital Satis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n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Transitions in Later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ultolescents and the Not-So-Empty N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ow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y Life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rican-Americ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ino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ve Americ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Parent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U.S. - One Woman, Man, and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Cultures Polygamy and Polyan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ved Group into which a Child is Bor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 Fami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Parent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 Without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y and Lesbian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ersity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Parent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 Without Childr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nded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ried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ried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amily consists of people who consider themselves related by blood, marriage, or adoption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D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poning Marriage and Childbi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married M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ndparents as 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s in U.S.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andwich Generation and Elder C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in Measuring 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 and Re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ent Fathers and Serial Fatherh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-Spo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s in Measuring 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and Grandchildren of 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 and Re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ark 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tt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Ab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ital R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ght Side—Successful Marri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ouse is Best Fri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Spouse as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nk Marriage is Long-Term Commi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ve Marriage is Sac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right Side—Successful Marri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ree with Spouse Aims and 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lieve Spouse Grown More Intere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Relationship to Suc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gh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Sides of 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cl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of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of Pro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Can B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nd a Lot of Time Toge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Quick to Express Appre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itted to Promoting Mutual 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lk and Listen a Lo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Relig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l with Crises Posit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ppy Fami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anger of Becoming a Re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habitation, Single Mothers, Age at Marriage, Grandparents as Parents will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ed Distorted Images of Marriage and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uture of Marriage and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ies Establish Patterns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e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 Cultural T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onomic 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ization of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 of Sick and Ag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re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xual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s of Incest and Tabo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olation and Emotional Over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der and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Struggle over Hous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riage and Family in Theoretical Persp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C61E3-FDC7-478F-90F1-92E13293D6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E3F6A-5CB2-491B-BB52-EBBB8ACC7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4BA83-ADDE-4648-96C3-D662EF7AC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EC7E5-22D2-4D3A-8655-1C5C08CF7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45C1F0-2487-4D3F-8B4E-19C2C1FBF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AC1341-C6DB-4545-94C8-063483A8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EA30D-E27D-4085-B272-D737D7F9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A14634-07F7-46C8-9A3D-7A4EAEC0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6CE01A-BBCE-49DA-8C9C-878E90E03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A10BE-E984-44D5-8607-42E0B929D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67431A-211A-48A9-A173-F00AFBDC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F4C54-84C9-41F9-BB92-44B92D9D92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A472A-142A-4DD1-BB9F-DAE727C3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0C1BEC-5249-45DF-AB79-A23408D5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C4447-442A-489B-8D70-62F6D49C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31AA94-8CFD-4AEC-AFA4-707AFAEB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3D476-ED5E-48DF-824D-CE964478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7082E-76B6-406D-8746-CA074E900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E739F-A63D-4034-9792-2B0275350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8A1E7-6438-485A-873A-30EBE59648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03632-7DDB-41E7-AA15-32ADBDE68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CBDC85-387A-41D1-BEC9-1E1A7A5EB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9121E-E6F7-4CD2-99A6-FA50430DA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82B2E-0C74-4890-9496-0EA252B6F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F7D3-4E89-4C93-B419-4562395E9AE5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6: The Family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BE47-B54E-45D3-B2D9-FE87348523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3352680" y="3657600"/>
            <a:ext cx="4800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Sixte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The Family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3" name="Picture 5" descr="C:\PowerPoint Work\Allyn &amp; Bacon\2005 Work\Henslin 8ed\Artwork\16-01.jpg"/>
          <p:cNvPicPr/>
          <p:nvPr/>
        </p:nvPicPr>
        <p:blipFill>
          <a:blip r:embed="rId1"/>
          <a:stretch/>
        </p:blipFill>
        <p:spPr>
          <a:xfrm>
            <a:off x="1447920" y="533520"/>
            <a:ext cx="578160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the Meaning of 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Ro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066680" y="139680"/>
            <a:ext cx="7696440" cy="191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Symbolic Inter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1" dur="1" fill="hold"/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ove and Courtship in Global Perspectiv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836640" indent="-27972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hannels of Love and 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amily Life Cycl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0" dur="1" fill="hold"/>
                                  <p:tgtEl>
                                    <p:spTgt spid="11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1" name="Picture 3" descr="C:\PowerPoint Work\Allyn &amp; Bacon\2005 Work\Henslin 8ed\Artwork\16-02.jpg"/>
          <p:cNvPicPr/>
          <p:nvPr/>
        </p:nvPicPr>
        <p:blipFill>
          <a:blip r:embed="rId1"/>
          <a:stretch/>
        </p:blipFill>
        <p:spPr>
          <a:xfrm>
            <a:off x="2133720" y="457200"/>
            <a:ext cx="436068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birth and Child Rear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ried Couples and Single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ay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ital Satisfa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nn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amily Life Cycl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14" dur="1" fill="hold"/>
                                  <p:tgtEl>
                                    <p:spTgt spid="12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26" name="Picture 3" descr="C:\PowerPoint Work\Allyn &amp; Bacon\2005 Work\Henslin 8ed\Artwork\16-03.jpg"/>
          <p:cNvPicPr/>
          <p:nvPr/>
        </p:nvPicPr>
        <p:blipFill>
          <a:blip r:embed="rId1"/>
          <a:stretch/>
        </p:blipFill>
        <p:spPr>
          <a:xfrm>
            <a:off x="2209680" y="304920"/>
            <a:ext cx="454356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5867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Transitions in Later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dultolescents and the Not-So-Empty Ne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idow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amily Life Cycl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33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frican-Americ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tino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si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ative Americ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7" dur="1" fill="hold"/>
                                  <p:tgtEl>
                                    <p:spTgt spid="13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4" name="Picture 3" descr="C:\PowerPoint Work\Allyn &amp; Bacon\2005 Work\Henslin 8ed\Artwork\16-04.jpg"/>
          <p:cNvPicPr/>
          <p:nvPr/>
        </p:nvPicPr>
        <p:blipFill>
          <a:blip r:embed="rId1"/>
          <a:stretch/>
        </p:blipFill>
        <p:spPr>
          <a:xfrm>
            <a:off x="1066680" y="685800"/>
            <a:ext cx="6782040" cy="54100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ne-Parent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66" dur="1" fill="hold"/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8377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0280" indent="-440280"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 U.S. - One Woman, Man, and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ther Cultures Polygamy and Polyandr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0280" indent="-440280"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roved Group into which a Child is Born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143000" y="882720"/>
            <a:ext cx="55627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a Family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39" name="Picture 3" descr="C:\PowerPoint Work\Allyn &amp; Bacon\2005 Work\Henslin 8ed\Artwork\16-05.jpg"/>
          <p:cNvPicPr/>
          <p:nvPr/>
        </p:nvPicPr>
        <p:blipFill>
          <a:blip r:embed="rId1"/>
          <a:stretch/>
        </p:blipFill>
        <p:spPr>
          <a:xfrm>
            <a:off x="2971800" y="304920"/>
            <a:ext cx="3164040" cy="62481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066680" y="2057400"/>
            <a:ext cx="8001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One-Parent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ies Without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9" dur="1" fill="hold"/>
                                  <p:tgtEl>
                                    <p:spTgt spid="1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4" name="Picture 3" descr="C:\PowerPoint Work\Allyn &amp; Bacon\2005 Work\Henslin 8ed\Artwork\16-06.jpg"/>
          <p:cNvPicPr/>
          <p:nvPr/>
        </p:nvPicPr>
        <p:blipFill>
          <a:blip r:embed="rId1"/>
          <a:stretch/>
        </p:blipFill>
        <p:spPr>
          <a:xfrm>
            <a:off x="3124080" y="152280"/>
            <a:ext cx="294012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2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ay and Lesbian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066680" y="938160"/>
            <a:ext cx="792504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ersity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066680" y="2057400"/>
            <a:ext cx="80010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One-Parent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Families Without Children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lended Famili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1" dur="1" fill="hold"/>
                                  <p:tgtEl>
                                    <p:spTgt spid="14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0" dur="1" fill="hold"/>
                                  <p:tgtEl>
                                    <p:spTgt spid="15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3" name="Picture 3" descr="C:\PowerPoint Work\Allyn &amp; Bacon\2005 Work\Henslin 8ed\Artwork\16-07.jpg"/>
          <p:cNvPicPr/>
          <p:nvPr/>
        </p:nvPicPr>
        <p:blipFill>
          <a:blip r:embed="rId1"/>
          <a:stretch/>
        </p:blipFill>
        <p:spPr>
          <a:xfrm>
            <a:off x="1066680" y="838080"/>
            <a:ext cx="6934320" cy="5241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married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06668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hab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8" dur="1" fill="hold"/>
                                  <p:tgtEl>
                                    <p:spTgt spid="15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9" name="Picture 3" descr="C:\PowerPoint Work\Allyn &amp; Bacon\2005 Work\Henslin 8ed\Artwork\16-08.jpg"/>
          <p:cNvPicPr/>
          <p:nvPr/>
        </p:nvPicPr>
        <p:blipFill>
          <a:blip r:embed="rId1"/>
          <a:stretch/>
        </p:blipFill>
        <p:spPr>
          <a:xfrm>
            <a:off x="1066680" y="838080"/>
            <a:ext cx="7239240" cy="4970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1" name="Picture 3" descr="C:\PowerPoint Work\Allyn &amp; Bacon\2005 Work\Henslin 8ed\Artwork\16-09.jpg"/>
          <p:cNvPicPr/>
          <p:nvPr/>
        </p:nvPicPr>
        <p:blipFill>
          <a:blip r:embed="rId1"/>
          <a:stretch/>
        </p:blipFill>
        <p:spPr>
          <a:xfrm>
            <a:off x="3174840" y="152280"/>
            <a:ext cx="269244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nmarried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06668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Cohab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45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68120" indent="0">
              <a:lnSpc>
                <a:spcPct val="2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“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 family consists of people who consider themselves related by blood, marriage, or adoption.”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1143000" y="882720"/>
            <a:ext cx="62485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amily Defined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8" dur="1" fill="hold"/>
                                  <p:tgtEl>
                                    <p:spTgt spid="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7" name="Picture 3" descr="C:\PowerPoint Work\Allyn &amp; Bacon\2005 Work\Henslin 8ed\Artwork\16-10.jpg"/>
          <p:cNvPicPr/>
          <p:nvPr/>
        </p:nvPicPr>
        <p:blipFill>
          <a:blip r:embed="rId1"/>
          <a:stretch/>
        </p:blipFill>
        <p:spPr>
          <a:xfrm>
            <a:off x="2057400" y="380880"/>
            <a:ext cx="4971960" cy="6096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ostponing Marriage and Childbir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Cohabi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Unmarried Moth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randparents as Paren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66680" y="838080"/>
            <a:ext cx="792504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rends in U.S.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83808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Sandwich Generation and Elder C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1" dur="1" fill="hold"/>
                                  <p:tgtEl>
                                    <p:spTgt spid="17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roblems in Measuring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1143000" y="938160"/>
            <a:ext cx="769608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orce and Remarriag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1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6" name="Picture 3" descr="C:\PowerPoint Work\Allyn &amp; Bacon\2005 Work\Henslin 8ed\Artwork\16-11.jpg"/>
          <p:cNvPicPr/>
          <p:nvPr/>
        </p:nvPicPr>
        <p:blipFill>
          <a:blip r:embed="rId1"/>
          <a:stretch/>
        </p:blipFill>
        <p:spPr>
          <a:xfrm>
            <a:off x="1066680" y="609480"/>
            <a:ext cx="6934320" cy="5700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8" name="Picture 3" descr="C:\PowerPoint Work\Allyn &amp; Bacon\2005 Work\Henslin 8ed\Artwork\16-12.jpg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4756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106668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bsent Fathers and Serial Fatherhoo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-Spous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marri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990360" y="18288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Problems in Measuring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ren and Grandchildren of Divor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143000" y="938160"/>
            <a:ext cx="769608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ivorce and Remarriag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0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8" dur="1" fill="hold"/>
                                  <p:tgtEl>
                                    <p:spTgt spid="18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84" name="Picture 3" descr="C:\PowerPoint Work\Allyn &amp; Bacon\2005 Work\Henslin 8ed\Artwork\16-13.jpg"/>
          <p:cNvPicPr/>
          <p:nvPr/>
        </p:nvPicPr>
        <p:blipFill>
          <a:blip r:embed="rId1"/>
          <a:stretch/>
        </p:blipFill>
        <p:spPr>
          <a:xfrm>
            <a:off x="1066680" y="152280"/>
            <a:ext cx="275904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185" name="Picture 4" descr="C:\PowerPoint Work\Allyn &amp; Bacon\2005 Work\Henslin 8ed\Artwork\16-14.jpg"/>
          <p:cNvPicPr/>
          <p:nvPr/>
        </p:nvPicPr>
        <p:blipFill>
          <a:blip r:embed="rId2"/>
          <a:stretch/>
        </p:blipFill>
        <p:spPr>
          <a:xfrm>
            <a:off x="5105520" y="304920"/>
            <a:ext cx="2773080" cy="6172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43092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Dark Sid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atter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 Abu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rital Rap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0920" indent="-43092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ce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066680" y="1166760"/>
            <a:ext cx="7772400" cy="890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wo Sides of Family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37" dur="1" fill="hold"/>
                                  <p:tgtEl>
                                    <p:spTgt spid="18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1142640" y="20570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Bright Side—Successful Marriag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ouse is Best Frien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ike Spouse as Pers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nk Marriage is Long-Term Commitm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elieve Marriage is Sacr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066680" y="938160"/>
            <a:ext cx="784872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wo Sides of Family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66" dur="1" fill="hold"/>
                                  <p:tgtEl>
                                    <p:spTgt spid="19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560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Bright Side—Successful Marriag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gree with Spouse Aims and Go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Believe Spouse Grown More Interesting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ant Relationship to Succe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35600" indent="-435600"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Laugh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066680" y="938160"/>
            <a:ext cx="784872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wo Sides of Family Lif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5" dur="1" fill="hold"/>
                                  <p:tgtEl>
                                    <p:spTgt spid="19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clea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tend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of Orient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169920" indent="-169920">
              <a:lnSpc>
                <a:spcPct val="1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of Procre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143000" y="882720"/>
            <a:ext cx="6248520" cy="1174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Family Can Be...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" dur="1" fill="hold"/>
                                  <p:tgtEl>
                                    <p:spTgt spid="9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pend a Lot of Time Togeth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e Quick to Express Appreci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mmitted to Promoting Mutual Welf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alk and Listen a Lot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re Religiou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al with Crises Positive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066680" y="938160"/>
            <a:ext cx="7848720" cy="111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Happy Famili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29" dur="1" fill="hold"/>
                                  <p:tgtEl>
                                    <p:spTgt spid="19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o Danger of Becoming a Relic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habitation, Single Mothers, Age at Marriage, Grandparents as Parents will Increas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1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ontinued Distorted Images of Marriage and Famil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1066680" y="304920"/>
            <a:ext cx="678204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The Future of Marriage and Famil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8" dur="1" fill="hold"/>
                                  <p:tgtEl>
                                    <p:spTgt spid="19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0" descr="Henslin final"/>
          <p:cNvPicPr/>
          <p:nvPr/>
        </p:nvPicPr>
        <p:blipFill>
          <a:blip r:embed="rId1"/>
          <a:stretch/>
        </p:blipFill>
        <p:spPr>
          <a:xfrm>
            <a:off x="1981080" y="152280"/>
            <a:ext cx="4759560" cy="6477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4600"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ies Establish Patterns of…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te Sele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scen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heritanc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44600" indent="-444600"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uthor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066680" y="992160"/>
            <a:ext cx="7925040" cy="1065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mmon Cultural Theme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98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conomic 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ization of Childre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e of Sick and Ag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228600"/>
            <a:ext cx="78487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ali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0" dur="1" fill="hold"/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142640" y="20574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cre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xual Contro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produc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228600"/>
            <a:ext cx="762012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ali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9" dur="1" fill="hold"/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unctions of Incest and Taboo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solation and Emotional Overloa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228600"/>
            <a:ext cx="769644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Functionalis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3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nder and 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3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 Struggle over Housework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291960"/>
            <a:ext cx="7772400" cy="176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arriage and Family in Theoretical Perspectiv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onflic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7" dur="1" fill="hold"/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69696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7:16:27Z</dcterms:modified>
  <cp:revision>174</cp:revision>
  <dc:subject>Chapter 16: The Family</dc:subject>
  <dc:title>Sociology: A Down-to-Earth Approach, 8/e</dc:title>
</cp:coreProperties>
</file>