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ies to Social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 to In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sm Towards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 Produ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of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al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Yards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 Us to Contradicto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World Phenom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mall World Phenomenon a My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Connect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Chat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et Definition o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Size Affects Stability and 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So Does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Intensity and   Intimac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Group Size on Attitudes an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the Gro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Diffusion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in F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 into Small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Becomes a Lea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ho interact with one another and think of themselves as belonging togeth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Gro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issez-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 in Changing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Authority—Milgram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ering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ving Janis Coined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think - Global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ation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ting and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oral and Hor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industrial (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economic—New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o be Confused with Group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-to-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 Mirror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, More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Interact Based on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 to Satisfy Need for Intimat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E7D99-A712-4E74-B45B-8BD214C87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2958-8C29-4D02-BA4B-A59BA4C62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8D4A-7C11-450E-A542-CAF4B829C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54D8-2839-45F3-AE6E-E43CCF925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AABC4-DC4A-4EBC-BD52-84354CDE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4A458-418F-4477-8006-EDD9A2AD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E27C7-E8E2-4DF2-8C52-CEDAC402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1ED55-1A88-496B-A399-E59A13F8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DEA5E-05E0-4FD5-815E-D87CC985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A0A66-981C-448D-AD9C-6FA9CDDD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661E5-886E-45A5-8CEE-73FC701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8C71-CC27-4B4F-8C4A-CAE0E9F3E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F4071-17AB-42F8-9758-428A12E8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11C04-2FA2-40D4-98A0-1D45DDF7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D409A-3147-4A49-AEE0-A3DFB03E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FD99C-CA14-4E09-AD08-331923B8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69B27-1AE2-40DB-B45C-EE401A72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4B9C8-7BE8-4D8B-96A3-DDAF7F13D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3324-9659-41A9-9DD2-E2E780006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F090-28D8-4FD5-A197-629C924AB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51F8-548B-494A-8405-0AAC10E68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DD78-F120-4A35-A1CC-5EB95C135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3EAB-E6EB-46BC-846D-081CD7D2F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4879-62BE-4147-B877-A39F394E6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7FAE-0D1E-445B-9A5B-86191D5CAD96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6: Societies to Social Network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8C87-DA4F-4671-B51C-18E7D7296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971800" y="3733920"/>
            <a:ext cx="51814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eties to Social Network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yalty to In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agonism Towards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882720"/>
            <a:ext cx="72392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 Produce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oyal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ense of Superio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Rivalri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882720"/>
            <a:ext cx="74678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ference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 a Yardsti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ose Us to Contradictory Standa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806400"/>
            <a:ext cx="7467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Networ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mall World Phenomen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 the Small World Phenomenon a Myth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730080"/>
            <a:ext cx="75438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958680"/>
            <a:ext cx="739152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lectronic Commun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Connect Onlin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ws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Online Chat Roo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Meet Definition of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806400"/>
            <a:ext cx="77724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 Size Affects Stability and Intim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y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ri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alition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So Does Sta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Intensity and   Intimacy De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914400"/>
            <a:ext cx="6781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ects of Group Size on Attitudes an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rger the Group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eater Diffusion of Responsibi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crease in Forma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ision into Smaller 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609480"/>
            <a:ext cx="5867640" cy="94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8" name="Picture 5" descr="C:\PowerPoint Work\Allyn &amp; Bacon\2005 Work\Henslin 8ed\Artwork\06-03.jpg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705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Becomes a Lead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ypes of Lea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strumenta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ressiv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1295280"/>
            <a:ext cx="58672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ople who interact with one another and think of themselves as belonging together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6705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Group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uthoritaria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emocratic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issez-Fai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 in Changing Situ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90720" y="838080"/>
            <a:ext cx="62481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08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3" descr="C:\PowerPoint Work\Allyn &amp; Bacon\2005 Work\Henslin 8ed\Artwork\06-04.jpg"/>
          <p:cNvPicPr/>
          <p:nvPr/>
        </p:nvPicPr>
        <p:blipFill>
          <a:blip r:embed="rId1"/>
          <a:stretch/>
        </p:blipFill>
        <p:spPr>
          <a:xfrm>
            <a:off x="2819520" y="152280"/>
            <a:ext cx="304956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Authority—Milgram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ministering Shock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rving Janis Coined the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ples of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venting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762120"/>
            <a:ext cx="8001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think - Global Consequ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Henslin final"/>
          <p:cNvPicPr/>
          <p:nvPr/>
        </p:nvPicPr>
        <p:blipFill>
          <a:blip r:embed="rId1"/>
          <a:stretch/>
        </p:blipFill>
        <p:spPr>
          <a:xfrm>
            <a:off x="2286000" y="304920"/>
            <a:ext cx="46483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estication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nting and Gath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toral and Hort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709560"/>
            <a:ext cx="7778880" cy="13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 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industrial (Information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economic—New Typ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762120"/>
            <a:ext cx="7855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8" name="Picture 4" descr="C:\PowerPoint Work\Allyn &amp; Bacon\2005 Work\Henslin 8ed\Artwork\06-01.jpg"/>
          <p:cNvPicPr/>
          <p:nvPr/>
        </p:nvPicPr>
        <p:blipFill>
          <a:blip r:embed="rId1"/>
          <a:stretch/>
        </p:blipFill>
        <p:spPr>
          <a:xfrm>
            <a:off x="2031840" y="304920"/>
            <a:ext cx="497844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0" name="Picture 3" descr="C:\PowerPoint Work\Allyn &amp; Bacon\2005 Work\Henslin 8ed\Artwork\06-02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066680" y="76320"/>
            <a:ext cx="2949840" cy="5713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</p:pic>
      <p:grpSp>
        <p:nvGrpSpPr>
          <p:cNvPr id="101" name="Group 9"/>
          <p:cNvGrpSpPr/>
          <p:nvPr/>
        </p:nvGrpSpPr>
        <p:grpSpPr>
          <a:xfrm>
            <a:off x="4343400" y="76320"/>
            <a:ext cx="2949480" cy="6705360"/>
            <a:chOff x="4343400" y="76320"/>
            <a:chExt cx="2949480" cy="6705360"/>
          </a:xfrm>
        </p:grpSpPr>
        <p:pic>
          <p:nvPicPr>
            <p:cNvPr id="102" name="Picture 5" descr="C:\PowerPoint Work\Allyn &amp; Bacon\2005 Work\Henslin 8ed\Artwork\06-02.jpg"/>
            <p:cNvPicPr/>
            <p:nvPr/>
          </p:nvPicPr>
          <p:blipFill>
            <a:blip r:embed="rId2"/>
            <a:srcRect l="0" t="0" r="0" b="91116"/>
            <a:stretch/>
          </p:blipFill>
          <p:spPr>
            <a:xfrm>
              <a:off x="4343400" y="76320"/>
              <a:ext cx="2949480" cy="101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03" name="Picture 6" descr="C:\PowerPoint Work\Allyn &amp; Bacon\2005 Work\Henslin 8ed\Artwork\06-02.jpg"/>
            <p:cNvPicPr/>
            <p:nvPr/>
          </p:nvPicPr>
          <p:blipFill>
            <a:blip r:embed="rId3"/>
            <a:srcRect l="0" t="50004" r="0" b="0"/>
            <a:stretch/>
          </p:blipFill>
          <p:spPr>
            <a:xfrm>
              <a:off x="4343400" y="1066680"/>
              <a:ext cx="2949480" cy="5715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t to be Confused with Groups...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greg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teg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111320"/>
            <a:ext cx="76201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ace-to-Fa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riend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 Mirror With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958680"/>
            <a:ext cx="754380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rger, More Anonym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mbers Interact Based on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il to Satisfy Need for Intimate Asso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1035000"/>
            <a:ext cx="70106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0:17Z</dcterms:modified>
  <cp:revision>175</cp:revision>
  <dc:subject>Chapter 6: Societies to Social Networks</dc:subject>
  <dc:title>Sociology: A Down-to-Earth Approach, 8/e</dc:title>
</cp:coreProperties>
</file>