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ies to Social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 to In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agonism Towards Out-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Groups and Out-Groups Produ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of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al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Yards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se Us to Contradicto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mall World Phenom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mall World Phenomenon a My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ocially Divers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fo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mm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Connect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Chat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et Definition o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Size Affects Stability and 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So Does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ize Increases, Intensity and   Intimac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of Group Size on Attitudes an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the Gro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Diffusion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in F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 into Small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Becomes a Lea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ho interact with one another and think of themselves as belonging togeth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Gro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issez-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Styles in Changing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Peer Pressure—Asch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of Authority—Milgram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ering Sh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ving Janis Coined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Group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think - Global Con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estication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ting and 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oral and Hort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 R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industrial (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economic—New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ies and Their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o be Confused with Group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-to-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 Mirror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, More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Interact Based on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 to Satisfy Need for Intimate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Withi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481A-0690-43D3-878C-26BD08824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4C20-6EB8-4F6D-8981-4EEB910D8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FA27-D707-49C3-8C5C-709FCED2D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6692-B998-4B94-A6FE-397163AB3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33B68-2170-4D42-8708-B6BEA538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50554-A0E8-498B-891C-524DD1A2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AB329-E912-420F-B3AC-ABB893CB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C4BDB-B2BE-48D6-8BD6-688F04BC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57350-7D31-4086-863C-FA03698F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37A9C-78AB-49B9-B14F-B6F6DF7C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36AAD-9746-41EB-9562-2D45EE58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9134-081D-45F4-B486-3303B5863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D30A5-3D0A-4A41-914B-6B9C60AE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464CD-1515-4BA3-8CF1-7E6147C7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125B5-2075-4841-8F1D-E54D810D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2DC7F-B263-4E5B-8D82-35A0B8E4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3AC1C-E53B-4D4B-91C3-AA09827D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BF42-49BA-49AA-AF27-C4233D4B3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D10F-AF08-409A-8342-90F34D38A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8C74-974E-4785-8CAB-BECAD1F2B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EAF5-0A1E-43AD-9435-5871E35F9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33FE-DC70-4201-820C-CB5254AC3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3E2E-23D0-4637-84E2-D5546C055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2094-35A7-4835-B3BD-2CD834731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58B3-31F2-46D2-B10E-163059187FEC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6: Societies to Social Network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2800-096B-4265-95BA-74CB7C745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971800" y="3733920"/>
            <a:ext cx="51814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eties to Social Network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yalty to In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agonism Towards Out-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882720"/>
            <a:ext cx="72392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-Groups and Out-Groups Produce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oyal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ense of Superio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Rivalri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882720"/>
            <a:ext cx="74678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1" dur="1" fill="hold"/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ference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 a Yardsti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ose Us to Contradictory Standa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806400"/>
            <a:ext cx="7467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Networ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mall World Phenomen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 the Small World Phenomenon a Myth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730080"/>
            <a:ext cx="75438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ocially Diverse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lications for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958680"/>
            <a:ext cx="739152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lectronic Commun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Connect Onlin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ws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Online Chat Roo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Meet Definition of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806400"/>
            <a:ext cx="77724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 Size Affects Stability and Intim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y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ria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alition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So Does Sta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 Size Increases, Intensity and   Intimacy De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914400"/>
            <a:ext cx="6781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426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ects of Group Size on Attitudes an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rger the Group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eater Diffusion of Responsibi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crease in Formal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ision into Smaller Group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609480"/>
            <a:ext cx="5867640" cy="94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8" name="Picture 5" descr="C:\PowerPoint Work\Allyn &amp; Bacon\2005 Work\Henslin 8ed\Artwork\06-03.jpg"/>
          <p:cNvPicPr/>
          <p:nvPr/>
        </p:nvPicPr>
        <p:blipFill>
          <a:blip r:embed="rId1"/>
          <a:stretch/>
        </p:blipFill>
        <p:spPr>
          <a:xfrm>
            <a:off x="1295280" y="609480"/>
            <a:ext cx="5943600" cy="5705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Becomes a Lead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ypes of Lea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strumenta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ressiv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1295280"/>
            <a:ext cx="58672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7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ople who interact with one another and think of themselves as belonging together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6705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Group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uthoritaria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emocratic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issez-Fai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Styles in Changing Situ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90720" y="838080"/>
            <a:ext cx="62481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dership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408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3" descr="C:\PowerPoint Work\Allyn &amp; Bacon\2005 Work\Henslin 8ed\Artwork\06-04.jpg"/>
          <p:cNvPicPr/>
          <p:nvPr/>
        </p:nvPicPr>
        <p:blipFill>
          <a:blip r:embed="rId1"/>
          <a:stretch/>
        </p:blipFill>
        <p:spPr>
          <a:xfrm>
            <a:off x="2819520" y="152280"/>
            <a:ext cx="304956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wer of Peer Pressure—Asch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tudy on Conform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of Authority—Milgram Experi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ministering Shock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066680"/>
            <a:ext cx="6858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 Dynam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rving Janis Coined the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ples of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venting Groupthin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762120"/>
            <a:ext cx="8001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think - Global Consequ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0" descr="Henslin final"/>
          <p:cNvPicPr/>
          <p:nvPr/>
        </p:nvPicPr>
        <p:blipFill>
          <a:blip r:embed="rId1"/>
          <a:stretch/>
        </p:blipFill>
        <p:spPr>
          <a:xfrm>
            <a:off x="2286000" y="304920"/>
            <a:ext cx="46483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estication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nting and Gath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toral and Hort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icul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709560"/>
            <a:ext cx="7778880" cy="13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  Revol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industrial (Information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economic—New Typ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762120"/>
            <a:ext cx="7855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eties and Their Transform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8" name="Picture 4" descr="C:\PowerPoint Work\Allyn &amp; Bacon\2005 Work\Henslin 8ed\Artwork\06-01.jpg"/>
          <p:cNvPicPr/>
          <p:nvPr/>
        </p:nvPicPr>
        <p:blipFill>
          <a:blip r:embed="rId1"/>
          <a:stretch/>
        </p:blipFill>
        <p:spPr>
          <a:xfrm>
            <a:off x="2031840" y="304920"/>
            <a:ext cx="497844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0" name="Picture 3" descr="C:\PowerPoint Work\Allyn &amp; Bacon\2005 Work\Henslin 8ed\Artwork\06-02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1066680" y="76320"/>
            <a:ext cx="2949840" cy="571320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</p:pic>
      <p:grpSp>
        <p:nvGrpSpPr>
          <p:cNvPr id="101" name="Group 9"/>
          <p:cNvGrpSpPr/>
          <p:nvPr/>
        </p:nvGrpSpPr>
        <p:grpSpPr>
          <a:xfrm>
            <a:off x="4343400" y="76320"/>
            <a:ext cx="2949480" cy="6705360"/>
            <a:chOff x="4343400" y="76320"/>
            <a:chExt cx="2949480" cy="6705360"/>
          </a:xfrm>
        </p:grpSpPr>
        <p:pic>
          <p:nvPicPr>
            <p:cNvPr id="102" name="Picture 5" descr="C:\PowerPoint Work\Allyn &amp; Bacon\2005 Work\Henslin 8ed\Artwork\06-02.jpg"/>
            <p:cNvPicPr/>
            <p:nvPr/>
          </p:nvPicPr>
          <p:blipFill>
            <a:blip r:embed="rId2"/>
            <a:srcRect l="0" t="0" r="0" b="91116"/>
            <a:stretch/>
          </p:blipFill>
          <p:spPr>
            <a:xfrm>
              <a:off x="4343400" y="76320"/>
              <a:ext cx="2949480" cy="101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03" name="Picture 6" descr="C:\PowerPoint Work\Allyn &amp; Bacon\2005 Work\Henslin 8ed\Artwork\06-02.jpg"/>
            <p:cNvPicPr/>
            <p:nvPr/>
          </p:nvPicPr>
          <p:blipFill>
            <a:blip r:embed="rId3"/>
            <a:srcRect l="0" t="50004" r="0" b="0"/>
            <a:stretch/>
          </p:blipFill>
          <p:spPr>
            <a:xfrm>
              <a:off x="4343400" y="1066680"/>
              <a:ext cx="2949480" cy="5715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t to be Confused with Groups...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greg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teg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111320"/>
            <a:ext cx="762012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ace-to-Fa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riend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 Mirror With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958680"/>
            <a:ext cx="7543800" cy="109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ary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rger, More Anonym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mbers Interact Based on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il to Satisfy Need for Intimate Asso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1035000"/>
            <a:ext cx="70106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roups Within Socie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0:17Z</dcterms:modified>
  <cp:revision>175</cp:revision>
  <dc:subject>Chapter 6: Societies to Social Networks</dc:subject>
  <dc:title>Sociology: A Down-to-Earth Approach, 8/e</dc:title>
</cp:coreProperties>
</file>