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ies to Social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Groups and Out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yalty to In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agonism Towards Out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Groups and Out-Groups Produ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e of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al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ocially Divers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a Yardst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se Us to Contradictor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mall World Phenome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mall World Phenomenon a My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ocially Divers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Connect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 Chat 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eet Definition o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Size Affects Stability and Inti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l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ze Increases, So Does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ze Increases, Intensity and   Intimacy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Group Size on Attitudes an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r the Group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 Diffusion of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in Form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 into Small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Becomes a Lea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ho interact with one another and think of themselves as belonging togeth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Gro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issez-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Styles in Changing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Peer Pressure—Asch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Peer Pressure—Asch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Authority—Milgram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ering Sh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ving Janis Coined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Group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ing Group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think - Global Con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estication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ting and G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oral and Horti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i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ies and Their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 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industrial (Infor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economic—New Ty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ies and Their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o be Confused with Group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-to-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ing a Mirror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ar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, More 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s Interact Based on Stat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 to Satisfy Need for Intimate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B2728-E6DB-4502-9631-17741A135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53C20-A59B-4AAA-88E6-A52ACE86E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F1277-EC96-4F7C-9B9E-2FDB30937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674C2-C9FE-413A-8AAA-E1EF29B12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6C523-D8D8-4645-BC74-BD2B2EF6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302F4-448B-48ED-BC68-CE9DCA74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94B5A-D2E7-4421-8EB9-CC05B38E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23969-5950-4F75-B5DD-396F6726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7BDCD-2774-4030-B52E-A0D30350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6D514-F36F-4BB4-AA03-325A63D3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484F6-FFA4-455D-B8C5-EF6F7E8A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9C703-4C92-415B-BA5D-E6E72C643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34AB3-6CEE-4337-9B03-AEB9B0F6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C31BB-E61D-40A1-AD17-277E81E6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4C850-37EC-4CC9-85D6-BD798971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39807-EDAE-4CCD-960C-30CF8FE1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8F659-9F27-43FD-BE9B-F8D9BE8D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A9B7C-FF15-472C-88D0-4BD336DA9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CA382-29DF-4C3A-813E-D30839A95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11946-7907-4311-A095-C61C5207C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2668A-7E1C-4E83-BBF9-B77DB1652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3106F-4977-4D0A-8D0C-44B77E650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1493C-F670-44FE-82E0-FD7013088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EDD87-ED1C-4A70-8FAE-D4888C97A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919B-0AC8-4736-A024-F9DDA6B30FD2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6: Societies to Social Networks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BB8C-2043-41D3-B547-BA973832A3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971800" y="3733920"/>
            <a:ext cx="51814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Six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eties to Social Network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-Groups and Out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yalty to In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ntagonism Towards Out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882720"/>
            <a:ext cx="72392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-Groups and Out-Groups Produce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oyal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ense of Superior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Rivalri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ocially Diverse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66680" y="882720"/>
            <a:ext cx="74678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1" dur="1" fill="hold"/>
                                  <p:tgtEl>
                                    <p:spTgt spid="11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ference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 a Yardsti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ose Us to Contradictory Standar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806400"/>
            <a:ext cx="74678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0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Network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mall World Phenomen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 the Small World Phenomenon a Myth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730080"/>
            <a:ext cx="75438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9" dur="1" fill="hold"/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ocially Diverse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958680"/>
            <a:ext cx="7391520" cy="109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3" dur="1" fill="hold"/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lectronic Communi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Connect Onlin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ewsgroup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Online Chat Roo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Meet Definition of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806400"/>
            <a:ext cx="77724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2" dur="1" fill="hold"/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oup Size Affects Stability and Intim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ya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ria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oalition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 Size Increases, So Does Sta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 Size Increases, Intensity and   Intimacy Decrea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43000" y="914400"/>
            <a:ext cx="6781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6" dur="1" fill="hold"/>
                                  <p:tgtEl>
                                    <p:spTgt spid="1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426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ffects of Group Size on Attitudes and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arger the Group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eater Diffusion of Responsibil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crease in Formal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vision into Smaller Group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066680" y="609480"/>
            <a:ext cx="5867640" cy="94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3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8" name="Picture 5" descr="C:\PowerPoint Work\Allyn &amp; Bacon\2005 Work\Henslin 8ed\Artwork\06-03.jpg"/>
          <p:cNvPicPr/>
          <p:nvPr/>
        </p:nvPicPr>
        <p:blipFill>
          <a:blip r:embed="rId1"/>
          <a:stretch/>
        </p:blipFill>
        <p:spPr>
          <a:xfrm>
            <a:off x="1295280" y="609480"/>
            <a:ext cx="5943600" cy="5705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Becomes a Lead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ypes of Lea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strumental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Expressiv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43000" y="1295280"/>
            <a:ext cx="58672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adership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7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286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ople who interact with one another and think of themselves as belonging together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143000"/>
            <a:ext cx="6705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a Group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Sty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uthoritaria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emocratic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aissez-Fai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Styles in Changing Situ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90720" y="838080"/>
            <a:ext cx="62481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adership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1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of Peer Pressure—Asch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udy on Conform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1027"/>
          <p:cNvSpPr/>
          <p:nvPr/>
        </p:nvSpPr>
        <p:spPr>
          <a:xfrm>
            <a:off x="1066680" y="1066680"/>
            <a:ext cx="6858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408" dur="1" fill="hold"/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9" name="Picture 3" descr="C:\PowerPoint Work\Allyn &amp; Bacon\2005 Work\Henslin 8ed\Artwork\06-04.jpg"/>
          <p:cNvPicPr/>
          <p:nvPr/>
        </p:nvPicPr>
        <p:blipFill>
          <a:blip r:embed="rId1"/>
          <a:stretch/>
        </p:blipFill>
        <p:spPr>
          <a:xfrm>
            <a:off x="2819520" y="152280"/>
            <a:ext cx="3049560" cy="6553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wer of Peer Pressure—Asch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Study on Conform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of Authority—Milgram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dministering Shock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66680" y="1066680"/>
            <a:ext cx="6858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rving Janis Coined the Te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amples of Groupthin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venting Groupthin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143000" y="762120"/>
            <a:ext cx="8001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think - Global Consequ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0" descr="Henslin final"/>
          <p:cNvPicPr/>
          <p:nvPr/>
        </p:nvPicPr>
        <p:blipFill>
          <a:blip r:embed="rId1"/>
          <a:stretch/>
        </p:blipFill>
        <p:spPr>
          <a:xfrm>
            <a:off x="2286000" y="304920"/>
            <a:ext cx="464832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estication Revol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nting and Gathe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astoral and Horticul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ricul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709560"/>
            <a:ext cx="7778880" cy="13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eties and Their Transform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  Revol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tindustrial (Information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economic—New Typ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762120"/>
            <a:ext cx="78552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eties and Their Transform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8" name="Picture 4" descr="C:\PowerPoint Work\Allyn &amp; Bacon\2005 Work\Henslin 8ed\Artwork\06-01.jpg"/>
          <p:cNvPicPr/>
          <p:nvPr/>
        </p:nvPicPr>
        <p:blipFill>
          <a:blip r:embed="rId1"/>
          <a:stretch/>
        </p:blipFill>
        <p:spPr>
          <a:xfrm>
            <a:off x="2031840" y="304920"/>
            <a:ext cx="497844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0" name="Picture 3" descr="C:\PowerPoint Work\Allyn &amp; Bacon\2005 Work\Henslin 8ed\Artwork\06-02.jpg"/>
          <p:cNvPicPr/>
          <p:nvPr/>
        </p:nvPicPr>
        <p:blipFill>
          <a:blip r:embed="rId1"/>
          <a:srcRect l="0" t="0" r="0" b="50004"/>
          <a:stretch/>
        </p:blipFill>
        <p:spPr>
          <a:xfrm>
            <a:off x="1066680" y="76320"/>
            <a:ext cx="2949840" cy="57132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</p:pic>
      <p:grpSp>
        <p:nvGrpSpPr>
          <p:cNvPr id="101" name="Group 9"/>
          <p:cNvGrpSpPr/>
          <p:nvPr/>
        </p:nvGrpSpPr>
        <p:grpSpPr>
          <a:xfrm>
            <a:off x="4343400" y="76320"/>
            <a:ext cx="2949480" cy="6705360"/>
            <a:chOff x="4343400" y="76320"/>
            <a:chExt cx="2949480" cy="6705360"/>
          </a:xfrm>
        </p:grpSpPr>
        <p:pic>
          <p:nvPicPr>
            <p:cNvPr id="102" name="Picture 5" descr="C:\PowerPoint Work\Allyn &amp; Bacon\2005 Work\Henslin 8ed\Artwork\06-02.jpg"/>
            <p:cNvPicPr/>
            <p:nvPr/>
          </p:nvPicPr>
          <p:blipFill>
            <a:blip r:embed="rId2"/>
            <a:srcRect l="0" t="0" r="0" b="91116"/>
            <a:stretch/>
          </p:blipFill>
          <p:spPr>
            <a:xfrm>
              <a:off x="4343400" y="76320"/>
              <a:ext cx="2949480" cy="101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03" name="Picture 6" descr="C:\PowerPoint Work\Allyn &amp; Bacon\2005 Work\Henslin 8ed\Artwork\06-02.jpg"/>
            <p:cNvPicPr/>
            <p:nvPr/>
          </p:nvPicPr>
          <p:blipFill>
            <a:blip r:embed="rId3"/>
            <a:srcRect l="0" t="50004" r="0" b="0"/>
            <a:stretch/>
          </p:blipFill>
          <p:spPr>
            <a:xfrm>
              <a:off x="4343400" y="1066680"/>
              <a:ext cx="2949480" cy="5715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3000" y="20574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t to be Confused with Groups...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greg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teg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1111320"/>
            <a:ext cx="762012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mary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ace-to-Fa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he Famil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riend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ducing a Mirror Withi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958680"/>
            <a:ext cx="7543800" cy="109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ary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rger, More Anonymo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mbers Interact Based on Stat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il to Satisfy Need for Intimate Assoc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66680" y="1035000"/>
            <a:ext cx="70106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3" dur="1" fill="hold"/>
                                  <p:tgtEl>
                                    <p:spTgt spid="1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10:17Z</dcterms:modified>
  <cp:revision>175</cp:revision>
  <dc:subject>Chapter 6: Societies to Social Networks</dc:subject>
  <dc:title>Sociology: A Down-to-Earth Approach, 8/e</dc:title>
</cp:coreProperties>
</file>