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hre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 - 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in Turnbull and the 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onless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ishness, Numbness, Lack of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Good is Pursuit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hool, No Church, No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-to-Earth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F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s of Family an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from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le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and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s and Competitiv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- New B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e - Alcoholics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nstitutions - Boot C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hood - Birth to ~12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lescence - 13 to 17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al Adulthood - 18 to 29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dle Years - 3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iddle Years - 30 to 4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Middle Years - 5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 - Oscar and 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a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iz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ived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uman N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der Years ~65 yr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Older Yea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Older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Merely Represent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Influenc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ocation Ver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th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Do Not Think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Are Actively Involved in the Construction of the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Prisoners of Soci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akes Us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ey and the Looking Glass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magine How We Appear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nterpret Others’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 a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get and the Development of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spects of Self and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ud and the Development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lber and the Development of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ligan and Gender Differences in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ersonality, Morality, and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51CD-A05B-449D-A76F-40AA5DAA8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A1231-05B5-4A87-B1B3-5C7B26721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46F8-4A2E-44BC-A670-29B35239E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65413-92E2-430C-A6DB-2A115972A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B3B99-EBA1-49A7-8A81-E0F396A9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43FA5-3745-442E-B667-1F3258BA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00BEF-D576-4729-9F41-3B4C369F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2597F-DA12-4EB7-8161-A075D2DC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8C152-767C-4CF0-825B-10A6B5EB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91D3D-8503-45A3-8CAC-D9725C68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0DAA4-06DD-4497-97CF-2278149E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B591-A346-410A-8766-D4E5F2D5D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57032-579D-4EC7-836B-4FB20C97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E8509-27AE-408F-873A-4633C835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651A1-B626-4AD0-AEBC-5EE1385A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8A0B0-FDCC-40CB-B1B0-E5E1799D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3A281-B8ED-4BA7-8F1D-1C04CFC3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0188-FA99-458F-86C7-D283CB91A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D9D1-974F-4FBA-AA41-1FE64BADE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5006-F7F2-428C-8B21-F1AB8F0E1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6F86-BC0C-4E93-B342-6EC442847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069D-F293-41AE-99A9-0007D844C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3A47-689C-45E1-B135-14CA4DFDE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055E-4E18-48C5-886A-54462D7CC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C580-E6EC-4284-8F37-EAC3A4957FBD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3:Socializ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581F-4022-49E5-A670-ACC798A14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862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hre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iz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ressing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We Fe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Nee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 - Society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in Turnbull and the I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sionless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ishness, Numbness, Lack of Concer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ly Good is Pursuit of F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chool, No Church, No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own-to-Earth 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We Fre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ectations of Family and Frien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Mirr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882720"/>
            <a:ext cx="71629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ety Within U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from P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Mass Medi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vertis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elevis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deo Gam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09480"/>
            <a:ext cx="7162920" cy="11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Gen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3" dur="1" fill="hold"/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4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5" dur="1" fill="hold"/>
                                  <p:tgtEl>
                                    <p:spTgt spid="1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ubtle Socializ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 and Social Cla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ighbo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1027"/>
          <p:cNvSpPr/>
          <p:nvPr/>
        </p:nvSpPr>
        <p:spPr>
          <a:xfrm>
            <a:off x="1066680" y="577800"/>
            <a:ext cx="69343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cho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er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rts and Competitive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pl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oci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ild - New Bo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nse - Alcoholics Anonymo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otal Institutions - Boot Cam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533520"/>
            <a:ext cx="7239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4" dur="1" fill="hold"/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5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6" dur="1" fill="hold"/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hood - Birth to ~12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olescence - 13 to 17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nsitional Adulthood - 18 to 29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882720"/>
            <a:ext cx="7696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03-02.jpg"/>
          <p:cNvPicPr/>
          <p:nvPr/>
        </p:nvPicPr>
        <p:blipFill>
          <a:blip r:embed="rId1"/>
          <a:stretch/>
        </p:blipFill>
        <p:spPr>
          <a:xfrm>
            <a:off x="1523880" y="380880"/>
            <a:ext cx="556272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iddle Years - 3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Middle Years - 30 to 4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Middle Years - 5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9144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 - Oscar and Ja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ral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iz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prived Anim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Human Na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lder Years ~65 yrs 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Older Years 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Older Year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806400"/>
            <a:ext cx="76201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es Not Merely Represent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Influence Life Cou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Location Very Significa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380880"/>
            <a:ext cx="70106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logical Significance of the Life Cours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Do Not Think S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s Are Actively Involved in the Construction of the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76212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re We Prisoners of Socializ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4798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 Sum…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Society Makes Us Huma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oley and the Looking Glass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magine How We Appear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nterpret Others’ Re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Develop a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762120"/>
            <a:ext cx="5639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1028" descr="C:\PowerPoint Work\Allyn &amp; Bacon\2005 Work\Henslin 8ed\Artwork\03-01.jpg"/>
          <p:cNvPicPr/>
          <p:nvPr/>
        </p:nvPicPr>
        <p:blipFill>
          <a:blip r:embed="rId1"/>
          <a:srcRect l="0" t="0" r="0" b="48653"/>
          <a:stretch/>
        </p:blipFill>
        <p:spPr>
          <a:xfrm>
            <a:off x="5943600" y="914400"/>
            <a:ext cx="29084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3" name="Picture 4" descr="C:\PowerPoint Work\Allyn &amp; Bacon\2005 Work\Henslin 8ed\Artwork\03-01.jpg"/>
          <p:cNvPicPr/>
          <p:nvPr/>
        </p:nvPicPr>
        <p:blipFill>
          <a:blip r:embed="rId1"/>
          <a:srcRect l="0" t="0" r="0" b="25678"/>
          <a:stretch/>
        </p:blipFill>
        <p:spPr>
          <a:xfrm>
            <a:off x="5943600" y="914400"/>
            <a:ext cx="290844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4" descr="C:\PowerPoint Work\Allyn &amp; Bacon\2005 Work\Henslin 8ed\Artwork\03-01.jpg"/>
          <p:cNvPicPr/>
          <p:nvPr/>
        </p:nvPicPr>
        <p:blipFill>
          <a:blip r:embed="rId1"/>
          <a:stretch/>
        </p:blipFill>
        <p:spPr>
          <a:xfrm>
            <a:off x="5943600" y="914400"/>
            <a:ext cx="290844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19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iaget and the Development of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nsorimotor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rete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mal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Aspects of Self and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380880"/>
            <a:ext cx="5334120" cy="1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ud and the Development of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ohlber and the Development of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illigan and Gender Differences in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457200"/>
            <a:ext cx="74678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arning Personality, Morality, and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" dur="1" fill="hold"/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04:17Z</dcterms:modified>
  <cp:revision>175</cp:revision>
  <dc:subject>Chapter 3:Socialization</dc:subject>
  <dc:title>Sociology: A Down-to-Earth Approach, 8/e</dc:title>
</cp:coreProperties>
</file>