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Thre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Emo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ing Emo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We F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earch 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elf and Emotions as Social Control - Society Within 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ization into Emo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in Turnbull and the 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ionless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fishness, Numbness, Lack of Conc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Good is Pursuit of 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chool, No Church, No Fa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wn-to-Earth Soc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elf and Emotions as Social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We Fre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ctations of Family and Fri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Mi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ety Within 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Messages in the Fa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Messages from Pe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Messages in the Mass 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le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eo G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ization into G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a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tle Soc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amily and Social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eighborh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 of Soc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 C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er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 of Soc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orts and Competitive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ork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c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ld - New Bo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nse - Alcoholics Anonym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Institutions - Boot C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 of Soc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hood - Birth to ~12 y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olescence - 13 to 17 y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al Adulthood - 18 to 29 y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ization Through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iddle Years - 30 to 65 y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ly Middle Years - 30 to 45 y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r Middle Years - 50 to 65 y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ization Through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vs. Nurture - Oscar and J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ral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olated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itutionalized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rived Anim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Human Nat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lder Years ~65 yrs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ly Older Year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r Older Yea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ization Through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Merely Represent B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Factors Influence Life 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Location Very Signific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ological Significance of the Life 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ologists Do Not Think 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viduals Are Actively Involved in the Construction of the S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We Prisoners of Socializ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um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ety Makes Us Hu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ley and the Looking Glass S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Imagine How We Appear to 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Interpret Others’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Develop a Self-Con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ization into the Self and M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d and Role-Ta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i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ization into the Self and M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d and Role-Ta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i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ization into the Self and M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d and Role-Ta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i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ization into the Self and M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aget and the Development of Reas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sorimotor S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operational S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rete Operational S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l Operational S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Aspects of Self and Reas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ization into the Self and M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ud and the Development of Person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hlber and the Development of Mor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lligan and Gender Differences in Mor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Personality, Morality, and Emo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1A3DB-1B12-4727-95C8-0BF8F4FB1A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B0E60-6C1F-490C-87B4-CBB73EA230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D44E5-AE1C-49DF-82E8-0D629A0A37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468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160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812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468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160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C6AF7-EA5F-4BED-B7DB-5201A332A1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8AD948-914B-425D-A4EE-AB08274AC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DD40A2-5614-4530-AAC1-3573CC721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8B0226-6597-4E23-AD7C-49DB86956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E11C1E-47C0-4775-8C73-A56EA70D8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E1F41B-7DEA-4640-8FDB-2A401957A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019CF5-AA8E-464F-A9D5-FB8CF3049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E36148-4BA3-4E73-B36D-FCE279200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C245B-6047-4A1F-9D6C-935F4C3916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17DFC0-41EF-4AC1-9F9C-066B24E5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E42D4A-5B40-4CFB-A1E6-05AB2365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421FBD-64AA-4320-9896-E540EFF61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9AF4DD-598D-4188-8539-4D7FAE39E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468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2160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812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468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2160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FA0B0D-DBAF-499F-BCBC-DA0F1FA8A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3C6D6-15AD-4E5C-8065-2531B86B54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AC416-AB9A-491E-B423-5B498AD86C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D1971-6A05-4B25-B6B4-62346C19D1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7C6D6-3176-4D54-90BE-39F02615B9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BB8FA-3100-474C-B080-60AC70C248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A9069-BF28-4680-96FF-D3B5E22DA3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9C881-744D-43C0-8175-57828DA44C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-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05FEF-165A-489B-AEF5-DC52B893D167}" type="slidenum"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Rectangle 39"/>
          <p:cNvSpPr/>
          <p:nvPr/>
        </p:nvSpPr>
        <p:spPr>
          <a:xfrm>
            <a:off x="2895480" y="0"/>
            <a:ext cx="624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Times New Roman"/>
              </a:rPr>
              <a:t>Chapter 3:Socialization</a:t>
            </a:r>
            <a:endParaRPr b="1" lang="en-US" sz="1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1085760" cy="6854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D2999-A8D1-4C93-9EC9-6721A43252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3352680" y="3886200"/>
            <a:ext cx="4800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hapter Three: 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Socialization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63248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lobal Emo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xpressing Emo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hat We Fe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search Neede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Self and Emotions as Social Control - Society Within U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1066680" y="806400"/>
            <a:ext cx="754380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alization into Emotion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4" dur="1" fill="hold"/>
                                  <p:tgtEl>
                                    <p:spTgt spid="11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lin Turnbull and the Ik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assionless Socie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lfishness, Numbness, Lack of Concer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Only Good is Pursuit of Foo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o School, No Church, No Famil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1066680" y="806400"/>
            <a:ext cx="754380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Down-to-Earth Sociolog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3" dur="1" fill="hold"/>
                                  <p:tgtEl>
                                    <p:spTgt spid="11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Self and Emotions as Social Contro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re We Free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xpectations of Family and Friend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Mirr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1066680" y="882720"/>
            <a:ext cx="7162920" cy="11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ety Within U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7" dur="1" fill="hold"/>
                                  <p:tgtEl>
                                    <p:spTgt spid="12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06668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426600" indent="-42660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 Messages in the Famil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26600" indent="-42660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 Messages from Pe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26600" indent="-42660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 Messages in the Mass Media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02440" indent="-26820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Advertising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02440" indent="-26820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Television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02440" indent="-26820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Video Game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1066680" y="609480"/>
            <a:ext cx="7162920" cy="1175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alization into Gender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2" dur="1" fill="hold"/>
                                  <p:tgtEl>
                                    <p:spTgt spid="12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43" dur="1" fill="hold"/>
                                  <p:tgtEl>
                                    <p:spTgt spid="12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44" dur="1" fill="hold"/>
                                  <p:tgtEl>
                                    <p:spTgt spid="12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45" dur="1" fill="hold"/>
                                  <p:tgtEl>
                                    <p:spTgt spid="12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Famil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6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Subtle Socialization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6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The Family and Social Clas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Neighborhoo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8" name="Text Box 1027"/>
          <p:cNvSpPr/>
          <p:nvPr/>
        </p:nvSpPr>
        <p:spPr>
          <a:xfrm>
            <a:off x="1066680" y="577800"/>
            <a:ext cx="6934320" cy="14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Agents of Socialization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5" dur="1" fill="hold"/>
                                  <p:tgtEl>
                                    <p:spTgt spid="12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lig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ay Ca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Schoo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eer Group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1066680" y="806400"/>
            <a:ext cx="693432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Agents of Socialization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9" dur="1" fill="hold"/>
                                  <p:tgtEl>
                                    <p:spTgt spid="13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ports and Competitive Succe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Workpla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socializ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Mild - New Bos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Intense - Alcoholics Anonymou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Total Institutions - Boot Camp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1066680" y="533520"/>
            <a:ext cx="723924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Agents of Socialization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4" dur="1" fill="hold"/>
                                  <p:tgtEl>
                                    <p:spTgt spid="13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315" dur="1" fill="hold"/>
                                  <p:tgtEl>
                                    <p:spTgt spid="13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316" dur="1" fill="hold"/>
                                  <p:tgtEl>
                                    <p:spTgt spid="13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317" dur="1" fill="hold"/>
                                  <p:tgtEl>
                                    <p:spTgt spid="13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hildhood - Birth to ~12 y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dolescence - 13 to 17 y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ransitional Adulthood - 18 to 29 y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1066680" y="882720"/>
            <a:ext cx="7696440" cy="11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alization Through Lif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6" dur="1" fill="hold"/>
                                  <p:tgtEl>
                                    <p:spTgt spid="13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39" name="Picture 5" descr="C:\PowerPoint Work\Allyn &amp; Bacon\2005 Work\Henslin 8ed\Artwork\03-02.jpg"/>
          <p:cNvPicPr/>
          <p:nvPr/>
        </p:nvPicPr>
        <p:blipFill>
          <a:blip r:embed="rId1"/>
          <a:stretch/>
        </p:blipFill>
        <p:spPr>
          <a:xfrm>
            <a:off x="1523880" y="380880"/>
            <a:ext cx="5562720" cy="60962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Middle Years - 30 to 65 y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arly Middle Years - 30 to 45 y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ater Middle Years - 50 to 65 y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1066680" y="914400"/>
            <a:ext cx="76964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alization Through Lif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5" dur="1" fill="hold"/>
                                  <p:tgtEl>
                                    <p:spTgt spid="14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14264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ature vs. Nurture - Oscar and Jack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eral Childre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solated Childre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stitutionalized Childre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eprived Animal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066680" y="730080"/>
            <a:ext cx="7086600" cy="132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What is Human Nature?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" dur="1" fill="hold"/>
                                  <p:tgtEl>
                                    <p:spTgt spid="8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Older Years ~65 yrs 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arly Older Years 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ater Older Years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066680" y="806400"/>
            <a:ext cx="762012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alization Through Lif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4" dur="1" fill="hold"/>
                                  <p:tgtEl>
                                    <p:spTgt spid="14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oes Not Merely Represent Bi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Factors Influence Life Cours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Location Very Significa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1066680" y="380880"/>
            <a:ext cx="701064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ological Significance of the Life Cours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3" dur="1" fill="hold"/>
                                  <p:tgtEl>
                                    <p:spTgt spid="14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ologists Do Not Think So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dividuals Are Actively Involved in the Construction of the Self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1066680" y="762120"/>
            <a:ext cx="784872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Are We Prisoners of Socialization?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07" dur="1" fill="hold"/>
                                  <p:tgtEl>
                                    <p:spTgt spid="15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7" descr="Henslin final"/>
          <p:cNvPicPr/>
          <p:nvPr/>
        </p:nvPicPr>
        <p:blipFill>
          <a:blip r:embed="rId1"/>
          <a:stretch/>
        </p:blipFill>
        <p:spPr>
          <a:xfrm>
            <a:off x="2362320" y="304920"/>
            <a:ext cx="4479840" cy="60958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066320" y="12952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In Sum…</a:t>
            </a:r>
            <a:endParaRPr b="1" lang="en-US" sz="4000" spc="-1" strike="noStrike">
              <a:solidFill>
                <a:srgbClr val="8663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indent="0">
              <a:lnSpc>
                <a:spcPct val="1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663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866300"/>
                </a:solidFill>
                <a:latin typeface="Times New Roman"/>
              </a:rPr>
              <a:t>Society Makes Us Human</a:t>
            </a:r>
            <a:endParaRPr b="1" lang="en-US" sz="40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3" dur="1" fill="hold"/>
                                  <p:tgtEl>
                                    <p:spTgt spid="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143000" y="205704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oley and the Looking Glass Self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e Imagine How We Appear to Oth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e Interpret Others’ Reac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e Develop a Self-Concep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066680" y="762120"/>
            <a:ext cx="563904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alization into the Self and Mind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7" dur="1" fill="hold"/>
                                  <p:tgtEl>
                                    <p:spTgt spid="9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142640" y="20574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ead and Role-Taking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mit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8" name="Text Box 1027"/>
          <p:cNvSpPr/>
          <p:nvPr/>
        </p:nvSpPr>
        <p:spPr>
          <a:xfrm>
            <a:off x="1066680" y="730080"/>
            <a:ext cx="5715000" cy="132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alization into the Self and Mind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99" name="Picture 1028" descr="C:\PowerPoint Work\Allyn &amp; Bacon\2005 Work\Henslin 8ed\Artwork\03-01.jpg"/>
          <p:cNvPicPr/>
          <p:nvPr/>
        </p:nvPicPr>
        <p:blipFill>
          <a:blip r:embed="rId1"/>
          <a:srcRect l="0" t="0" r="0" b="48653"/>
          <a:stretch/>
        </p:blipFill>
        <p:spPr>
          <a:xfrm>
            <a:off x="5943600" y="914400"/>
            <a:ext cx="2908440" cy="2895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142640" y="20574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Mead and Role-Taking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Imit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la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066680" y="730080"/>
            <a:ext cx="5715000" cy="132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alization into the Self and Mind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03" name="Picture 4" descr="C:\PowerPoint Work\Allyn &amp; Bacon\2005 Work\Henslin 8ed\Artwork\03-01.jpg"/>
          <p:cNvPicPr/>
          <p:nvPr/>
        </p:nvPicPr>
        <p:blipFill>
          <a:blip r:embed="rId1"/>
          <a:srcRect l="0" t="0" r="0" b="25678"/>
          <a:stretch/>
        </p:blipFill>
        <p:spPr>
          <a:xfrm>
            <a:off x="5943600" y="914400"/>
            <a:ext cx="2908440" cy="41911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142640" y="20574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Mead and Role-Taking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Imit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Pla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am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1066680" y="730080"/>
            <a:ext cx="5715000" cy="132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alization into the Self and Mind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07" name="Picture 4" descr="C:\PowerPoint Work\Allyn &amp; Bacon\2005 Work\Henslin 8ed\Artwork\03-01.jpg"/>
          <p:cNvPicPr/>
          <p:nvPr/>
        </p:nvPicPr>
        <p:blipFill>
          <a:blip r:embed="rId1"/>
          <a:stretch/>
        </p:blipFill>
        <p:spPr>
          <a:xfrm>
            <a:off x="5943600" y="914400"/>
            <a:ext cx="2908440" cy="5638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142640" y="17521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4219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iaget and the Development of Reasoning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21920" indent="-42192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nsorimotor Sta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21920" indent="-42192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eoperational Sta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21920" indent="-42192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crete Operational Sta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21920" indent="-42192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rmal Operational Sta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21920" indent="-42192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lobal Aspects of Self and Reasoning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066680" y="380880"/>
            <a:ext cx="5334120" cy="140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alization into the Self and Mind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6" dur="1" fill="hold"/>
                                  <p:tgtEl>
                                    <p:spTgt spid="10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142640" y="1905120"/>
            <a:ext cx="57913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reud and the Development of Persona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Kohlber and the Development of Mora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illigan and Gender Differences in Mora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1066680" y="457200"/>
            <a:ext cx="7467840" cy="134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Learning Personality, Morality, and Emotion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5" dur="1" fill="hold"/>
                                  <p:tgtEl>
                                    <p:spTgt spid="11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18:08:30Z</dcterms:created>
  <dc:creator>James Henslin</dc:creator>
  <dc:description/>
  <dc:language>en-US</dc:language>
  <cp:lastModifiedBy>Legion</cp:lastModifiedBy>
  <dcterms:modified xsi:type="dcterms:W3CDTF">2017-07-05T07:04:17Z</dcterms:modified>
  <cp:revision>175</cp:revision>
  <dc:subject>Chapter 3:Socialization</dc:subject>
  <dc:title>Sociology: A Down-to-Earth Approach, 8/e</dc:title>
</cp:coreProperties>
</file>