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Fou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Structur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Inte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Media as an Emerging Social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ng Functionalist and Conflict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-Scale Features of Social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on Social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s of Sociolog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ing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ing New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ing and Distributing Good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rving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ing a Sense of Pur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ful Groups Contro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Groups Garner Lion’s Share of 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stitutions Affect Gender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Purpose is to Preserve Social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olds Society Toge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and Organic Solid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einschaft and 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Relevant Tod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in Social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e Face-to-Face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 People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People Look at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it Affects Behavior and Orientations to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ical Perspecti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teraction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reo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s About What People Are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Others By Visible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s About Characteristics Guide Ou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ical Perspecti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teraction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imate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ye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ciological Perspecti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teraction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ving Goff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atu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essio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 and Back 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 Strain Between and Within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atur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entation of Self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Become the Roles we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-Veh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e Saving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atur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entation of Self in Everyda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udy of How People Do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old Garfinkle’s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omethod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overing Background Assum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 of the Situation -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mas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 Reality vs. Subjective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ynecological Exam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onstruction of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Incomplete Without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Example of Groups Studied by William Chambl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Macrosociology and Micro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Significance of Soci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des Ou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 Decided by Location in Soci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 Divides People b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ational 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cri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Stat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crosociolog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Significance of Socia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 Social Institutions in Industrialized 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E653E-8C1F-4138-A0B4-DD82D1664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B058D-4EFE-45C6-9E95-72A9C68468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9F5C1-EEBF-47CD-AA8C-250B125668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CA1B7-5405-4AB2-923B-63BF475C0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8CEFD-9D14-4E89-8F0C-8EE42044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E20D3-CD5F-4A39-9E45-42D19D56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F9C88-2006-45D7-900F-F7BE2D80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49E31-4E89-4DD9-A335-49E136D4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5C38F-F32B-40D1-A710-7583C52E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9712E-6D4C-42DF-845F-B9E74C0A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C06BC-B63D-44E0-A844-4DDF0C1C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0FB05-0EEB-4B48-9B5C-6613FA19E8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9DB05-1D11-4255-8B89-2427FB61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C150F-DFC7-42B5-B6F0-AF14BCFB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17B0C-7317-407C-9B4C-2BAAC515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94759-1E75-4345-B991-9DBCA32B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D70C2-E6EB-4F58-87E8-B2A9701B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A6D58-FA2B-4D11-AAD7-F1CFC1D714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2C066-190A-453E-8C8E-01431101C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C00D4-877E-4B6A-87E8-CE1BF2759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48070-4F38-4452-846C-8CCF48156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C5346-B848-4DEB-BA4C-159B43281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D7BEE-DBB9-407C-9328-F3AF8A122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1AC3C-71F3-4EBD-A068-B966A23B3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4A69-AA94-454B-A566-8AE1F58CE52A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4: Social Structure and Social Interaction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DE02-6E6D-4C96-9A66-D89661210A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743200" y="3733920"/>
            <a:ext cx="6019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Four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 Structure and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 Interaction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3" name="Picture 3" descr="C:\PowerPoint Work\Allyn &amp; Bacon\2005 Work\Henslin 8ed\Artwork\04-02.jpg"/>
          <p:cNvPicPr/>
          <p:nvPr/>
        </p:nvPicPr>
        <p:blipFill>
          <a:blip r:embed="rId1"/>
          <a:srcRect l="0" t="0" r="0" b="68110"/>
          <a:stretch/>
        </p:blipFill>
        <p:spPr>
          <a:xfrm>
            <a:off x="914400" y="2057400"/>
            <a:ext cx="731520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6" name="Picture 3" descr="C:\PowerPoint Work\Allyn &amp; Bacon\2005 Work\Henslin 8ed\Artwork\04-02.jpg"/>
          <p:cNvPicPr/>
          <p:nvPr/>
        </p:nvPicPr>
        <p:blipFill>
          <a:blip r:embed="rId1"/>
          <a:srcRect l="0" t="0" r="0" b="60820"/>
          <a:stretch/>
        </p:blipFill>
        <p:spPr>
          <a:xfrm>
            <a:off x="914400" y="2057400"/>
            <a:ext cx="731520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9" name="Picture 3" descr="C:\PowerPoint Work\Allyn &amp; Bacon\2005 Work\Henslin 8ed\Artwork\04-02.jpg"/>
          <p:cNvPicPr/>
          <p:nvPr/>
        </p:nvPicPr>
        <p:blipFill>
          <a:blip r:embed="rId1"/>
          <a:srcRect l="0" t="0" r="0" b="53529"/>
          <a:stretch/>
        </p:blipFill>
        <p:spPr>
          <a:xfrm>
            <a:off x="914400" y="2057400"/>
            <a:ext cx="731520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2" name="Picture 3" descr="C:\PowerPoint Work\Allyn &amp; Bacon\2005 Work\Henslin 8ed\Artwork\04-02.jpg"/>
          <p:cNvPicPr/>
          <p:nvPr/>
        </p:nvPicPr>
        <p:blipFill>
          <a:blip r:embed="rId1"/>
          <a:srcRect l="0" t="0" r="0" b="44797"/>
          <a:stretch/>
        </p:blipFill>
        <p:spPr>
          <a:xfrm>
            <a:off x="914400" y="2057400"/>
            <a:ext cx="7315200" cy="4616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25" name="Group 10"/>
          <p:cNvGrpSpPr/>
          <p:nvPr/>
        </p:nvGrpSpPr>
        <p:grpSpPr>
          <a:xfrm>
            <a:off x="1066680" y="2057400"/>
            <a:ext cx="7010640" cy="1600200"/>
            <a:chOff x="1066680" y="2057400"/>
            <a:chExt cx="7010640" cy="1600200"/>
          </a:xfrm>
        </p:grpSpPr>
        <p:pic>
          <p:nvPicPr>
            <p:cNvPr id="126" name="Picture 6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27" name="Picture 4" descr="C:\PowerPoint Work\Allyn &amp; Bacon\2005 Work\Henslin 8ed\Artwork\04-02.jpg"/>
            <p:cNvPicPr/>
            <p:nvPr/>
          </p:nvPicPr>
          <p:blipFill>
            <a:blip r:embed="rId2"/>
            <a:srcRect l="0" t="55208" r="1139" b="36998"/>
            <a:stretch/>
          </p:blipFill>
          <p:spPr>
            <a:xfrm>
              <a:off x="1066680" y="2995560"/>
              <a:ext cx="7010640" cy="66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1066680" y="2057400"/>
            <a:ext cx="7010640" cy="2209680"/>
            <a:chOff x="1066680" y="2057400"/>
            <a:chExt cx="7010640" cy="2209680"/>
          </a:xfrm>
        </p:grpSpPr>
        <p:pic>
          <p:nvPicPr>
            <p:cNvPr id="131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32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29817"/>
            <a:stretch/>
          </p:blipFill>
          <p:spPr>
            <a:xfrm>
              <a:off x="1066680" y="2995560"/>
              <a:ext cx="7010640" cy="1271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35" name="Group 6"/>
          <p:cNvGrpSpPr/>
          <p:nvPr/>
        </p:nvGrpSpPr>
        <p:grpSpPr>
          <a:xfrm>
            <a:off x="1066680" y="2057400"/>
            <a:ext cx="7010640" cy="2971800"/>
            <a:chOff x="1066680" y="2057400"/>
            <a:chExt cx="7010640" cy="2971800"/>
          </a:xfrm>
        </p:grpSpPr>
        <p:pic>
          <p:nvPicPr>
            <p:cNvPr id="136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37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20842"/>
            <a:stretch/>
          </p:blipFill>
          <p:spPr>
            <a:xfrm>
              <a:off x="1066680" y="2995560"/>
              <a:ext cx="7010640" cy="2033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40" name="Group 6"/>
          <p:cNvGrpSpPr/>
          <p:nvPr/>
        </p:nvGrpSpPr>
        <p:grpSpPr>
          <a:xfrm>
            <a:off x="1066680" y="2057400"/>
            <a:ext cx="7010640" cy="3733920"/>
            <a:chOff x="1066680" y="2057400"/>
            <a:chExt cx="7010640" cy="3733920"/>
          </a:xfrm>
        </p:grpSpPr>
        <p:pic>
          <p:nvPicPr>
            <p:cNvPr id="141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64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42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11868"/>
            <a:stretch/>
          </p:blipFill>
          <p:spPr>
            <a:xfrm>
              <a:off x="1066680" y="2995560"/>
              <a:ext cx="7010640" cy="2795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066680" y="2057400"/>
            <a:ext cx="7010280" cy="4571640"/>
            <a:chOff x="1066680" y="2057400"/>
            <a:chExt cx="7010280" cy="4571640"/>
          </a:xfrm>
        </p:grpSpPr>
        <p:pic>
          <p:nvPicPr>
            <p:cNvPr id="146" name="Picture 4" descr="C:\PowerPoint Work\Allyn &amp; Bacon\2005 Work\Henslin 8ed\Artwork\04-02.jpg"/>
            <p:cNvPicPr/>
            <p:nvPr/>
          </p:nvPicPr>
          <p:blipFill>
            <a:blip r:embed="rId1"/>
            <a:srcRect l="0" t="0" r="1139" b="88962"/>
            <a:stretch/>
          </p:blipFill>
          <p:spPr>
            <a:xfrm>
              <a:off x="1066680" y="2057400"/>
              <a:ext cx="7010280" cy="93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47" name="Picture 5" descr="C:\PowerPoint Work\Allyn &amp; Bacon\2005 Work\Henslin 8ed\Artwork\04-02.jpg"/>
            <p:cNvPicPr/>
            <p:nvPr/>
          </p:nvPicPr>
          <p:blipFill>
            <a:blip r:embed="rId2"/>
            <a:srcRect l="0" t="55208" r="1139" b="1992"/>
            <a:stretch/>
          </p:blipFill>
          <p:spPr>
            <a:xfrm>
              <a:off x="1066680" y="2995560"/>
              <a:ext cx="7010280" cy="3633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680" y="2133360"/>
            <a:ext cx="65534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ss Media as an Emerging Social Institu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paring Functionalist and Conflict Perspec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066680" y="1035000"/>
            <a:ext cx="79250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 Institu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6" dur="1" fill="hold"/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cro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arge-Scale Features of Social Lif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cro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ocus on Social Interac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685800"/>
            <a:ext cx="72392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evels of Sociological Analysi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0" dur="1" fill="hold"/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65534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placing Memb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izing New Memb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ducing and Distributing Goods and Servi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serving Ord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ing a Sense of Purpo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66680" y="609480"/>
            <a:ext cx="762012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5" dur="1" fill="hold"/>
                                  <p:tgtEl>
                                    <p:spTgt spid="1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ful Groups Control Institu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mall Groups Garner Lion’s Share of W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Institutions Affect Gender Rel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in Purpose is to Preserve Social Ord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066680" y="1035000"/>
            <a:ext cx="807732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nflic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9" dur="1" fill="hold"/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6782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Holds Society Togethe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echanical and Organic Solidar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emeinschaft and Gesellschaft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Relevant Today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990720"/>
            <a:ext cx="792504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hanges in Social Order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9" dur="1" fill="hold"/>
                                  <p:tgtEl>
                                    <p:spTgt spid="1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amine Face-to-Face Intera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ymbols People Us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ow People Look at Thing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ow it Affects Behavior and Orientations to Lif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66680" y="243000"/>
            <a:ext cx="8077320" cy="18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crosociological Perspective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cial Interaction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9" dur="1" fill="hold"/>
                                  <p:tgtEl>
                                    <p:spTgt spid="1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0" dur="1" fill="hold"/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1" dur="1" fill="hold"/>
                                  <p:tgtEl>
                                    <p:spTgt spid="1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2" dur="1" fill="hold"/>
                                  <p:tgtEl>
                                    <p:spTgt spid="1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248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ereotyp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sumptions About What People Are Lik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ify Others By Visible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as About Characteristics Guide Our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066680" y="243000"/>
            <a:ext cx="8077320" cy="18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crosociological Perspective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cial Interaction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6" dur="1" fill="hold"/>
                                  <p:tgtEl>
                                    <p:spTgt spid="1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rsonal Spa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timate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rsonal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ocial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ublic Dist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ouch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ye Contac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66680" y="395280"/>
            <a:ext cx="7772400" cy="16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crosociological Perspective: 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cial Interaction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7" dur="1" fill="hold"/>
                                  <p:tgtEl>
                                    <p:spTgt spid="1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0" name="Picture 5" descr="C:\PowerPoint Work\Allyn &amp; Bacon\2005 Work\Henslin 8ed\Artwork\04-03.jpg"/>
          <p:cNvPicPr/>
          <p:nvPr/>
        </p:nvPicPr>
        <p:blipFill>
          <a:blip r:embed="rId1"/>
          <a:stretch/>
        </p:blipFill>
        <p:spPr>
          <a:xfrm>
            <a:off x="3124080" y="152280"/>
            <a:ext cx="2514600" cy="6553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rving Goffma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ramatur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pression Manage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ont and Back Stag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 Perform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 Strain Between and Within 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066680" y="685800"/>
            <a:ext cx="76964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ramaturgy: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Presentation of Self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1" dur="1" fill="hold"/>
                                  <p:tgtEl>
                                    <p:spTgt spid="1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5" name="Picture 3" descr="C:\PowerPoint Work\Allyn &amp; Bacon\2005 Work\Henslin 8ed\Artwork\04-04.jpg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4859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Become the Roles we Pl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gn-Vehic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ocial Setting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ppearan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ann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ce Saving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66680" y="685800"/>
            <a:ext cx="76964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ramaturgy: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Presentation of Self in Everyday Lif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4" dur="1" fill="hold"/>
                                  <p:tgtEl>
                                    <p:spTgt spid="17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2" name="Picture 1029" descr="C:\PowerPoint Work\Allyn &amp; Bacon\2005 Work\Henslin 8ed\Artwork\04-01.jpg"/>
          <p:cNvPicPr/>
          <p:nvPr/>
        </p:nvPicPr>
        <p:blipFill>
          <a:blip r:embed="rId1"/>
          <a:stretch/>
        </p:blipFill>
        <p:spPr>
          <a:xfrm>
            <a:off x="1066680" y="533520"/>
            <a:ext cx="6629400" cy="5870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tudy of How People Do Thing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arold Garfinkle’s Experi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66680" y="762120"/>
            <a:ext cx="76201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thnomethodology: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Uncovering Background Assump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8" dur="1" fill="hold"/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5791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finition of the Situation - </a:t>
            </a:r>
            <a:br>
              <a:rPr sz="3200"/>
            </a:b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omas Theor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bjective Reality vs. Subjective Interpre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ynecological Exami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4" name="Text Box 1027"/>
          <p:cNvSpPr/>
          <p:nvPr/>
        </p:nvSpPr>
        <p:spPr>
          <a:xfrm>
            <a:off x="1066680" y="730080"/>
            <a:ext cx="601992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 Construction of Reali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7" dur="1" fill="hold"/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derstanding Incomplete Without Bo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sider the Example of Groups Studied by William Chambli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066680" y="638280"/>
            <a:ext cx="769644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Need for Macrosociology and Microsoci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1" dur="1" fill="hold"/>
                                  <p:tgtEl>
                                    <p:spTgt spid="1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7" descr="Henslin final"/>
          <p:cNvPicPr/>
          <p:nvPr/>
        </p:nvPicPr>
        <p:blipFill>
          <a:blip r:embed="rId1"/>
          <a:stretch/>
        </p:blipFill>
        <p:spPr>
          <a:xfrm>
            <a:off x="2209680" y="228600"/>
            <a:ext cx="47055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6248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cal Significance of Social Struc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uides Our Behavio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Behavior Decided by Location in Social Structur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66680" y="806400"/>
            <a:ext cx="76964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" dur="1" fill="hold"/>
                                  <p:tgtEl>
                                    <p:spTgt spid="9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 Divides People by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co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ccupational Presti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066680" y="609480"/>
            <a:ext cx="75438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at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crib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hiev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atus Symb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ster Stat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066680" y="730080"/>
            <a:ext cx="769644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" dur="1" fill="hold"/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806400"/>
            <a:ext cx="72392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Macrosociological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2" dur="1" fill="hold"/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6096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cal Significance of Social Institu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en Social Institutions in Industrialized Socie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1263600"/>
            <a:ext cx="777240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 Institu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6" dur="1" fill="hold"/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066680" y="638280"/>
            <a:ext cx="7848720" cy="14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n Social Institutions in Industrialized Societ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0" name="Picture 6" descr="C:\PowerPoint Work\Allyn &amp; Bacon\2005 Work\Henslin 8ed\Artwork\04-02.jpg"/>
          <p:cNvPicPr/>
          <p:nvPr/>
        </p:nvPicPr>
        <p:blipFill>
          <a:blip r:embed="rId1"/>
          <a:srcRect l="0" t="0" r="0" b="79044"/>
          <a:stretch/>
        </p:blipFill>
        <p:spPr>
          <a:xfrm>
            <a:off x="914400" y="2057400"/>
            <a:ext cx="731520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58:02Z</dcterms:modified>
  <cp:revision>182</cp:revision>
  <dc:subject>Chapter 4: Social Structure and Social Interaction</dc:subject>
  <dc:title>Sociology: A Down-to-Earth Approach, 8/e</dc:title>
</cp:coreProperties>
</file>