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Fou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tructu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Inte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Media as an Emerging Social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ng Functionalist and Conflict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-Scale Features of Social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Social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s of Sociolog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ing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ing New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ing and Distributing Good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rving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a Sense of 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ful Groups Contro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Groups Garner Lion’s Share of 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 Affect Gender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Purpose is to Preserve Socia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olds Society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and Organic Solid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einschaft and 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Relevant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in Socia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Face-to-Face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 People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People Look at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t Affects Behavior and Orientations to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e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 About What People Are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Others By Visible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s About Characteristics Guide Ou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imate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ving Goff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ss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and Back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Strain Between and Within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ation of Self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Become the Roles we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-Veh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 Saving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ation of Self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y of How People Do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old Garfinkle’s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method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overing Background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 the Situation -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as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Reality vs. Subjective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necological Exam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onstruction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Incomplete Without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Example of Groups Studied by William Chambl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Macrosociology and Mi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es Ou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 Decided by Location in 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Divides People b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al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ri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Stat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5D540-01B2-485A-BB70-F20C77733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3E3EC-4B43-4C95-999E-632A0AD1C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87F18-3644-4E0A-A122-D2609D1E5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37268-15E7-4112-9E9D-B0EC2E5CC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B694D-0520-4B61-8E29-E275D2C1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DEECB-C039-4C5C-ACD4-501EB768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5B339-7BAF-45B9-823E-CA3DDEAB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A5E4E-4363-45EC-9412-69740204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352C1-69B9-4D9F-8F29-D3DB9062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F0ED1-F0F9-4EA8-92C4-DC24A903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E0D2C-D285-43AF-A1F9-82FDA17E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9E16-A98A-4C3D-A41C-B3C5F5230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07DBE-B732-474C-9CCE-AA5688C3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FDD00-35BC-428A-97EF-C70C518B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3EC47-F963-48DC-8E62-B71DC007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3F95E-C7A3-43AE-9E38-006F85C0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8FA39-5DEE-4540-B2B1-27ADF4EE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FAA2F-CF28-4A84-BCFD-2E7E05C96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C457-B06A-4B2C-9E58-23315E4A3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1CFD6-D7AB-4806-8A9E-697B68579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8576-E25F-4755-83E4-E008AF986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B1CB3-390C-40DF-A1EC-94BF64D2F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AC7D-DAD6-4A02-92FE-8C90412A6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4040C-CF65-4610-BC8D-814DFADCE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2650-8EF4-429A-A590-4A8BF10FA9BA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4: Social Structure and Social Interac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F1DE-DFDF-40DF-95FA-F91CA66660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743200" y="3733920"/>
            <a:ext cx="6019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Four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Structure and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Interac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3" name="Picture 3" descr="C:\PowerPoint Work\Allyn &amp; Bacon\2005 Work\Henslin 8ed\Artwork\04-02.jpg"/>
          <p:cNvPicPr/>
          <p:nvPr/>
        </p:nvPicPr>
        <p:blipFill>
          <a:blip r:embed="rId1"/>
          <a:srcRect l="0" t="0" r="0" b="68110"/>
          <a:stretch/>
        </p:blipFill>
        <p:spPr>
          <a:xfrm>
            <a:off x="914400" y="2057400"/>
            <a:ext cx="73152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6" name="Picture 3" descr="C:\PowerPoint Work\Allyn &amp; Bacon\2005 Work\Henslin 8ed\Artwork\04-02.jpg"/>
          <p:cNvPicPr/>
          <p:nvPr/>
        </p:nvPicPr>
        <p:blipFill>
          <a:blip r:embed="rId1"/>
          <a:srcRect l="0" t="0" r="0" b="60820"/>
          <a:stretch/>
        </p:blipFill>
        <p:spPr>
          <a:xfrm>
            <a:off x="914400" y="2057400"/>
            <a:ext cx="731520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9" name="Picture 3" descr="C:\PowerPoint Work\Allyn &amp; Bacon\2005 Work\Henslin 8ed\Artwork\04-02.jpg"/>
          <p:cNvPicPr/>
          <p:nvPr/>
        </p:nvPicPr>
        <p:blipFill>
          <a:blip r:embed="rId1"/>
          <a:srcRect l="0" t="0" r="0" b="53529"/>
          <a:stretch/>
        </p:blipFill>
        <p:spPr>
          <a:xfrm>
            <a:off x="914400" y="2057400"/>
            <a:ext cx="731520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2" name="Picture 3" descr="C:\PowerPoint Work\Allyn &amp; Bacon\2005 Work\Henslin 8ed\Artwork\04-02.jpg"/>
          <p:cNvPicPr/>
          <p:nvPr/>
        </p:nvPicPr>
        <p:blipFill>
          <a:blip r:embed="rId1"/>
          <a:srcRect l="0" t="0" r="0" b="44797"/>
          <a:stretch/>
        </p:blipFill>
        <p:spPr>
          <a:xfrm>
            <a:off x="914400" y="2057400"/>
            <a:ext cx="7315200" cy="4616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25" name="Group 10"/>
          <p:cNvGrpSpPr/>
          <p:nvPr/>
        </p:nvGrpSpPr>
        <p:grpSpPr>
          <a:xfrm>
            <a:off x="1066680" y="2057400"/>
            <a:ext cx="7010640" cy="1600200"/>
            <a:chOff x="1066680" y="2057400"/>
            <a:chExt cx="7010640" cy="1600200"/>
          </a:xfrm>
        </p:grpSpPr>
        <p:pic>
          <p:nvPicPr>
            <p:cNvPr id="126" name="Picture 6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27" name="Picture 4" descr="C:\PowerPoint Work\Allyn &amp; Bacon\2005 Work\Henslin 8ed\Artwork\04-02.jpg"/>
            <p:cNvPicPr/>
            <p:nvPr/>
          </p:nvPicPr>
          <p:blipFill>
            <a:blip r:embed="rId2"/>
            <a:srcRect l="0" t="55208" r="1139" b="36998"/>
            <a:stretch/>
          </p:blipFill>
          <p:spPr>
            <a:xfrm>
              <a:off x="1066680" y="2995560"/>
              <a:ext cx="7010640" cy="6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1066680" y="2057400"/>
            <a:ext cx="7010640" cy="2209680"/>
            <a:chOff x="1066680" y="2057400"/>
            <a:chExt cx="7010640" cy="2209680"/>
          </a:xfrm>
        </p:grpSpPr>
        <p:pic>
          <p:nvPicPr>
            <p:cNvPr id="131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32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29817"/>
            <a:stretch/>
          </p:blipFill>
          <p:spPr>
            <a:xfrm>
              <a:off x="1066680" y="2995560"/>
              <a:ext cx="7010640" cy="1271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1066680" y="2057400"/>
            <a:ext cx="7010640" cy="2971800"/>
            <a:chOff x="1066680" y="2057400"/>
            <a:chExt cx="7010640" cy="2971800"/>
          </a:xfrm>
        </p:grpSpPr>
        <p:pic>
          <p:nvPicPr>
            <p:cNvPr id="136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37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20842"/>
            <a:stretch/>
          </p:blipFill>
          <p:spPr>
            <a:xfrm>
              <a:off x="1066680" y="2995560"/>
              <a:ext cx="7010640" cy="2033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1066680" y="2057400"/>
            <a:ext cx="7010640" cy="3733920"/>
            <a:chOff x="1066680" y="2057400"/>
            <a:chExt cx="7010640" cy="3733920"/>
          </a:xfrm>
        </p:grpSpPr>
        <p:pic>
          <p:nvPicPr>
            <p:cNvPr id="141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42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11868"/>
            <a:stretch/>
          </p:blipFill>
          <p:spPr>
            <a:xfrm>
              <a:off x="1066680" y="2995560"/>
              <a:ext cx="7010640" cy="2795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066680" y="2057400"/>
            <a:ext cx="7010280" cy="4571640"/>
            <a:chOff x="1066680" y="2057400"/>
            <a:chExt cx="7010280" cy="4571640"/>
          </a:xfrm>
        </p:grpSpPr>
        <p:pic>
          <p:nvPicPr>
            <p:cNvPr id="146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28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47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1992"/>
            <a:stretch/>
          </p:blipFill>
          <p:spPr>
            <a:xfrm>
              <a:off x="1066680" y="2995560"/>
              <a:ext cx="7010280" cy="3633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1333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s Media as an Emerging Social Instit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paring Functionalist and Conflict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035000"/>
            <a:ext cx="79250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Institu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cro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arge-Scale Features of Social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cro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ocus on Social Interac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685800"/>
            <a:ext cx="72392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evels of Sociological Analysi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0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6553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lacing Memb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ing New Memb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ducing and Distributing Goods and Servi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serving Or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ing a Sense of Purpo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609480"/>
            <a:ext cx="76201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5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ful Groups Control Instit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mall Groups Garner Lion’s Share of 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Institutions Affect Gender Rel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in Purpose is to Preserve Social Or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9" dur="1" fill="hold"/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6782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Holds Society Togeth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echanical and Organic Solidar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emeinschaft and Gesellschaft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Relevant Today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990720"/>
            <a:ext cx="79250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hanges in Social Ord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9" dur="1" fill="hold"/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amine Face-to-Face Intera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ymbols People Us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w People Look at Thing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w it Affects Behavior and Orientations to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243000"/>
            <a:ext cx="8077320" cy="18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9" dur="1" fill="hold"/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1" dur="1" fill="hold"/>
                                  <p:tgtEl>
                                    <p:spTgt spid="1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2" dur="1" fill="hold"/>
                                  <p:tgtEl>
                                    <p:spTgt spid="1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ereo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sumptions About What People Are Lik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ify Others By Visible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s About Characteristics Guide Our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243000"/>
            <a:ext cx="8077320" cy="18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1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sonal Sp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imate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rsonal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ocial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ublic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uch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ye Conta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395280"/>
            <a:ext cx="7772400" cy="16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 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7" dur="1" fill="hold"/>
                                  <p:tgtEl>
                                    <p:spTgt spid="1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0" name="Picture 5" descr="C:\PowerPoint Work\Allyn &amp; Bacon\2005 Work\Henslin 8ed\Artwork\04-03.jpg"/>
          <p:cNvPicPr/>
          <p:nvPr/>
        </p:nvPicPr>
        <p:blipFill>
          <a:blip r:embed="rId1"/>
          <a:stretch/>
        </p:blipFill>
        <p:spPr>
          <a:xfrm>
            <a:off x="3124080" y="152280"/>
            <a:ext cx="2514600" cy="6553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rving Goffma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ramatur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ression Manage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ont and Back St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 Perform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 Strain Between and Within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66680" y="685800"/>
            <a:ext cx="76964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ramatur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Presentation of Self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1" dur="1" fill="hold"/>
                                  <p:tgtEl>
                                    <p:spTgt spid="1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5" name="Picture 3" descr="C:\PowerPoint Work\Allyn &amp; Bacon\2005 Work\Henslin 8ed\Artwork\04-04.jpg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485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Become the Roles we 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gn-Vehic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ocial Sett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ppear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ann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ce Saving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685800"/>
            <a:ext cx="76964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ramatur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Presentation of Self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4" dur="1" fill="hold"/>
                                  <p:tgtEl>
                                    <p:spTgt spid="1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2" name="Picture 1029" descr="C:\PowerPoint Work\Allyn &amp; Bacon\2005 Work\Henslin 8ed\Artwork\04-01.jpg"/>
          <p:cNvPicPr/>
          <p:nvPr/>
        </p:nvPicPr>
        <p:blipFill>
          <a:blip r:embed="rId1"/>
          <a:stretch/>
        </p:blipFill>
        <p:spPr>
          <a:xfrm>
            <a:off x="1066680" y="533520"/>
            <a:ext cx="6629400" cy="587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tudy of How People Do Th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arold Garfinkle’s Experi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762120"/>
            <a:ext cx="76201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thnomethodolo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ncovering Background Assump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791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finition of the Situation - </a:t>
            </a:r>
            <a:br>
              <a:rPr sz="3200"/>
            </a:b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omas Theor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bjective Reality vs. Subjective Interpre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ynecological Exami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4" name="Text Box 1027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Construction of Real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Incomplete Without Bo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sider the Example of Groups Studied by William Chambli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066680" y="638280"/>
            <a:ext cx="769644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eed for Macrosociology and Microsoc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1" dur="1" fill="hold"/>
                                  <p:tgtEl>
                                    <p:spTgt spid="1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Henslin final"/>
          <p:cNvPicPr/>
          <p:nvPr/>
        </p:nvPicPr>
        <p:blipFill>
          <a:blip r:embed="rId1"/>
          <a:stretch/>
        </p:blipFill>
        <p:spPr>
          <a:xfrm>
            <a:off x="22096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Significance of Social Struc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uides Ou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Behavior Decided by Location in Social Structu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806400"/>
            <a:ext cx="76964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 Divides People by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o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ccupational Presti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609480"/>
            <a:ext cx="75438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at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crib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atus Symb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ter Stat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066680" y="730080"/>
            <a:ext cx="769644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806400"/>
            <a:ext cx="72392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6096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Significance of Social Instit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n Social Institutions in Industrialized Socie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1263600"/>
            <a:ext cx="777240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Institu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0" name="Picture 6" descr="C:\PowerPoint Work\Allyn &amp; Bacon\2005 Work\Henslin 8ed\Artwork\04-02.jpg"/>
          <p:cNvPicPr/>
          <p:nvPr/>
        </p:nvPicPr>
        <p:blipFill>
          <a:blip r:embed="rId1"/>
          <a:srcRect l="0" t="0" r="0" b="79044"/>
          <a:stretch/>
        </p:blipFill>
        <p:spPr>
          <a:xfrm>
            <a:off x="914400" y="2057400"/>
            <a:ext cx="73152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8:02Z</dcterms:modified>
  <cp:revision>182</cp:revision>
  <dc:subject>Chapter 4: Social Structure and Social Interaction</dc:subject>
  <dc:title>Sociology: A Down-to-Earth Approach, 8/e</dc:title>
</cp:coreProperties>
</file>