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lass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We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pp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ds -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Executives - Lower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 Ford Dealership - Upper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Salesperson -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Mechanics -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Detailer -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 Lot Cleaner -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in the Auto Industry - 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s of Husbands and W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R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and the Judic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and the Changing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gen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ies of B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ecent Studies with 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 Doesn’t Fall Far From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n of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ing Statistics on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zatio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are Trapped and Few E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tino and African-Ame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Single Mothers and K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ive in Inner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on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oor Relatively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of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 of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re Peopl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structured in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rred G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s Horatio Alg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unctions of a My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s and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Pa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Require More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Entail More Abstract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Offer Greater Au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inarily Wealth, Power, and Prestige are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y Don’t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In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Ma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ty Bourgeoi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FB5D-AF26-4036-95A7-AB1ABFAE1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822BE-21B5-4763-91BC-733ADCCAE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0DFE4-9E20-4BE3-A32D-E72B22CDD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9167-1B57-4D15-A007-BA20D8A78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366FF-2B17-4E85-82B0-83DC58A4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5E72F-EB9D-42C5-B051-45064A58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267FE-E1CD-481E-8C54-4D3C5E79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11474-FCEC-4BBD-8C9B-3E59773C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F044F-4DBB-4F7B-BDB0-49024134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48E36-EB0B-422B-8956-8928E451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F2101-1552-4A7D-BD51-961139B4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3410F-2A86-4032-BCD9-ED0D1128B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739FC-855D-4DAE-9275-DF66F8A7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CFACA-D43C-4FA1-894B-92F08984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3764E-0CC4-4E1C-881D-F0CB3E57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A6D90-4143-4794-84AD-4FA4B59E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F50A9-B7EA-4601-BAA8-1CDE0DF4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A86D-9BA8-428E-9726-D7FE4282A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685D-3769-4AA7-8BC2-BE0B0E884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E4AF9-F3F7-4383-B8BB-3CC253041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7871F-B264-4F13-845F-2F39EE381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D069A-B3B7-4307-AA54-5AAB1014D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AEB2A-69EC-40D0-8B1F-C98B43A6D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944D8-D473-4A0E-9FF2-AB4CBBDAA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A5D9-EF81-4FA7-9FF6-AF222E287247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0: Social Class in the United State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C62D-8503-4F72-AB11-99F5E27DE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819520" y="3657600"/>
            <a:ext cx="5638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Class in th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pp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11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7" name="Picture 4" descr="C:\PowerPoint Work\Allyn &amp; Bacon\2005 Work\Henslin 8ed\Artwork\10-05.jpg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9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ords -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Executives - Lower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wner Ford Dealership - Upper Midd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Salesperson -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Mechanics -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Detailer -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 Lot Cleaner -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Class in the Auto Industry - Ford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1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nt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533520"/>
            <a:ext cx="5181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3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oices of Husbands and Wiv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or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ild Rear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577800"/>
            <a:ext cx="49532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6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and the Judicial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and the Changing Ec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ree 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generation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Up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own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uc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and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ies of Bo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e Recent Studies with Gir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e Doesn’t Fall Far From T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in of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561960"/>
            <a:ext cx="670572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nterpreting Statistics on 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6" name="Picture 4" descr="C:\PowerPoint Work\Allyn &amp; Bacon\2005 Work\Henslin 8ed\Artwork\10-07.jpg"/>
          <p:cNvPicPr/>
          <p:nvPr/>
        </p:nvPicPr>
        <p:blipFill>
          <a:blip r:embed="rId1"/>
          <a:stretch/>
        </p:blipFill>
        <p:spPr>
          <a:xfrm>
            <a:off x="838080" y="609480"/>
            <a:ext cx="7315200" cy="593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1" name="Picture 2" descr="C:\PowerPoint Work\Allyn &amp; Bacon\2005 Work\Henslin 8ed\Artwork\10-06.jpg"/>
          <p:cNvPicPr/>
          <p:nvPr/>
        </p:nvPicPr>
        <p:blipFill>
          <a:blip r:embed="rId1"/>
          <a:stretch/>
        </p:blipFill>
        <p:spPr>
          <a:xfrm>
            <a:off x="533520" y="685800"/>
            <a:ext cx="7772400" cy="5442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6" name="Picture 3" descr="C:\PowerPoint Work\Allyn &amp; Bacon\2005 Work\Henslin 8ed\Artwork\10-08.jpg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54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zatio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66680" y="205740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ld 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re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1" name="Picture 5" descr="C:\PowerPoint Work\Allyn &amp; Bacon\2005 Work\Henslin 8ed\Artwork\10-09.jpg"/>
          <p:cNvPicPr/>
          <p:nvPr/>
        </p:nvPicPr>
        <p:blipFill>
          <a:blip r:embed="rId1"/>
          <a:stretch/>
        </p:blipFill>
        <p:spPr>
          <a:xfrm>
            <a:off x="6400800" y="304920"/>
            <a:ext cx="24271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z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or are Trapped and Few Escap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tino and African-Americ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Single Mothers and Ki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Live in Inner 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on Welf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066680" y="11430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5" descr="C:\PowerPoint Work\Allyn &amp; Bacon\2005 Work\Henslin 8ed\Artwork\10-01.jpg"/>
          <p:cNvPicPr/>
          <p:nvPr/>
        </p:nvPicPr>
        <p:blipFill>
          <a:blip r:embed="rId1"/>
          <a:srcRect l="0" t="0" r="0" b="46896"/>
          <a:stretch/>
        </p:blipFill>
        <p:spPr>
          <a:xfrm>
            <a:off x="1752480" y="152280"/>
            <a:ext cx="2792520" cy="5178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3" name="Picture 6" descr="C:\PowerPoint Work\Allyn &amp; Bacon\2005 Work\Henslin 8ed\Artwork\10-01.jpg"/>
          <p:cNvPicPr/>
          <p:nvPr/>
        </p:nvPicPr>
        <p:blipFill>
          <a:blip r:embed="rId2"/>
          <a:srcRect l="0" t="53108" r="0" b="0"/>
          <a:stretch/>
        </p:blipFill>
        <p:spPr>
          <a:xfrm>
            <a:off x="4114800" y="2057400"/>
            <a:ext cx="279252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2" name="Picture 3" descr="C:\PowerPoint Work\Allyn &amp; Bacon\2005 Work\Henslin 8ed\Artwork\10-10.jpg"/>
          <p:cNvPicPr/>
          <p:nvPr/>
        </p:nvPicPr>
        <p:blipFill>
          <a:blip r:embed="rId1"/>
          <a:stretch/>
        </p:blipFill>
        <p:spPr>
          <a:xfrm>
            <a:off x="2514600" y="457200"/>
            <a:ext cx="41324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 of Poor Relatively Stab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ature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acteristics of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1295280"/>
            <a:ext cx="76201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y are People Poor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6" dur="1" fill="hold"/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lfare Reform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Welfare Restructured in 1996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erred Gratif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5" dur="1" fill="hold"/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re is Horatio Alg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unctions of a My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9" dur="1" fill="hold"/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5" name="Picture 4" descr="C:\PowerPoint Work\Allyn &amp; Bacon\2005 Work\Henslin 8ed\Artwork\10-02.jpg"/>
          <p:cNvPicPr/>
          <p:nvPr/>
        </p:nvPicPr>
        <p:blipFill>
          <a:blip r:embed="rId1"/>
          <a:srcRect l="0" t="0" r="0" b="20766"/>
          <a:stretch/>
        </p:blipFill>
        <p:spPr>
          <a:xfrm>
            <a:off x="1752480" y="57240"/>
            <a:ext cx="2514600" cy="672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6" name="Picture 5" descr="C:\PowerPoint Work\Allyn &amp; Bacon\2005 Work\Henslin 8ed\Artwork\10-02.jpg"/>
          <p:cNvPicPr/>
          <p:nvPr/>
        </p:nvPicPr>
        <p:blipFill>
          <a:blip r:embed="rId2"/>
          <a:srcRect l="0" t="76469" r="0" b="0"/>
          <a:stretch/>
        </p:blipFill>
        <p:spPr>
          <a:xfrm>
            <a:off x="4419720" y="2819520"/>
            <a:ext cx="3047760" cy="2420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97" name="Rectangle 6"/>
          <p:cNvSpPr/>
          <p:nvPr/>
        </p:nvSpPr>
        <p:spPr>
          <a:xfrm>
            <a:off x="4792680" y="2819520"/>
            <a:ext cx="214164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5" descr="C:\PowerPoint Work\Allyn &amp; Bacon\2005 Work\Henslin 8ed\Artwork\10-03.jpg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414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s and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Pay M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Require More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Entail More Abstract Though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Offer Greater Aut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resti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rdinarily Wealth, Power, and Prestige are Simila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n they Don’t Mat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tatus Inconsistenc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Marx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tty Bourgeois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nag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577800"/>
            <a:ext cx="63248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2" name="Picture 4" descr="C:\PowerPoint Work\Allyn &amp; Bacon\2005 Work\Henslin 8ed\Artwork\10-04.jpg"/>
          <p:cNvPicPr/>
          <p:nvPr/>
        </p:nvPicPr>
        <p:blipFill>
          <a:blip r:embed="rId1"/>
          <a:stretch/>
        </p:blipFill>
        <p:spPr>
          <a:xfrm>
            <a:off x="5638680" y="2057400"/>
            <a:ext cx="3017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4:23Z</dcterms:modified>
  <cp:revision>174</cp:revision>
  <dc:subject>Chapter 10: Social Class in the United States</dc:subject>
  <dc:title>Sociology: A Down-to-Earth Approach, 8/e</dc:title>
</cp:coreProperties>
</file>