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Eleve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 and Ge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hting Back: The Rise of Femi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Wave—Early 190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Wave Began 196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Wave Emerging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Inequality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Inequality in Health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Inequality in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Inequality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Inequality in Everyday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aluation of the Femi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and Conver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Inequality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y G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Inequality in the Work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lass Esca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Inequality in the Work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y G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cking the Glass Cei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equal Access to Power, Prestige, and Property on the Basis of Sex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Gender Stratific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and Control of Wor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xual Harassment and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Inequality in the Work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olence Against W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cible R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(Acquaintance) R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olence in the 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en and Criminal Justic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and Viol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minism and Gendered Viol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c Interaction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ion of Strength, Virility, and Viol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lict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 Losing Power, Reassert Through Viol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and Viol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en Majority in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en Underrepresented in Gover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en Underrepresented in Law and Business Care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Face of Poli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rriers Coming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andoning Stereo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Conscious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impsing the Future - With H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x - Biological 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male and M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and Secondary Sexual 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sues of Sex and G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- Social 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culinity and Femini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priate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sues of Sex and G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minant Position in Soc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Factors Primary, Not Bio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Biological Should Be Less Var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Differences In Behavior - Biology or Cul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ing the Door to B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vs. Nur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edical Acci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tnam Veteran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Differences In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logy or Cul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Females became a Minority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rigins of Patriarc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x Typing of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and Prestige of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and Inequality in Glob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Areas of Global Discr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Gap in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Gap in Poli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Gap in P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olence Against W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and Inequality in Glob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EADF1-64F7-4F07-92E4-9640185966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EE11C-7243-4B86-9A30-281ADC3F54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34E0A-9809-49D1-9B19-0A3636443D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384E5-A40B-4D1F-A74C-77639E4740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751140-28B6-479C-9718-21AD8C85A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99831C-5F41-44A1-AB9C-6AC3AFB3B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081C94-2285-4CA3-99B8-5251A40FD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6B6B1F-7149-49DE-AFEB-4C80078E4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E27AB0-B802-4631-9744-F25197B5D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D646C5-B04E-4EBE-9E74-5F6889832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E74E4F-BF20-4F53-A6B9-BC4EC650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09182-EECD-41C2-B808-F9BDDEF741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9B14FB-9D27-428A-8A99-B36075AA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0C97B1-3DFB-400C-A9B9-AB535D50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89F8E0-DCFA-4BA7-97B9-3ABAF1677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39471C-B0C9-4537-B6EE-35A399796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8DF82D-0C7B-4875-B304-C12129F68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B4335-EEFE-4961-A86B-A005E2D354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FD481-B9D0-44CA-A349-0E1CB19F86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9BB12-6FC6-4E08-8786-AE5BDFB918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4B137-BAB1-48D8-8136-7D67F95D0D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9BEBD-D6DE-4D7A-9433-B5239D0F8B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09485-5106-49BF-94D0-EA162D9328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9E0DE-EB86-43A7-9F1E-7EFCFDFCD4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B0204-1864-4CE8-A2A2-BCD482002ADE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11: Sex and Gender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F8C46-66A1-403F-B877-B959B07C3A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3124080" y="3657600"/>
            <a:ext cx="50292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apter Eleven: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Sex and Gender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066320" y="18284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435600" indent="0">
              <a:lnSpc>
                <a:spcPct val="2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ghting Back: The Rise of Femin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5600" indent="-435600">
              <a:lnSpc>
                <a:spcPct val="2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rst Wave—Early 1900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5600" indent="-435600">
              <a:lnSpc>
                <a:spcPct val="2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Wave Began 1960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5600" indent="-435600">
              <a:lnSpc>
                <a:spcPct val="2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Wave Emerging Now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1066680" y="349200"/>
            <a:ext cx="5715000" cy="170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Inequality in the U.S.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4" dur="1" fill="hold"/>
                                  <p:tgtEl>
                                    <p:spTgt spid="11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Inequality in Health Ca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Inequality in Edu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066680" y="425520"/>
            <a:ext cx="5943600" cy="16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Inequality in the U.S.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8" dur="1" fill="hold"/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18" name="Picture 3" descr="11-02"/>
          <p:cNvPicPr/>
          <p:nvPr/>
        </p:nvPicPr>
        <p:blipFill>
          <a:blip r:embed="rId1"/>
          <a:stretch/>
        </p:blipFill>
        <p:spPr>
          <a:xfrm>
            <a:off x="533520" y="685800"/>
            <a:ext cx="8076960" cy="55641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20" name="Picture 3" descr="11-03"/>
          <p:cNvPicPr/>
          <p:nvPr/>
        </p:nvPicPr>
        <p:blipFill>
          <a:blip r:embed="rId1"/>
          <a:stretch/>
        </p:blipFill>
        <p:spPr>
          <a:xfrm>
            <a:off x="914400" y="533520"/>
            <a:ext cx="7391520" cy="5827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22" name="Picture 4" descr="11-04"/>
          <p:cNvPicPr/>
          <p:nvPr/>
        </p:nvPicPr>
        <p:blipFill>
          <a:blip r:embed="rId1"/>
          <a:stretch/>
        </p:blipFill>
        <p:spPr>
          <a:xfrm>
            <a:off x="533520" y="380880"/>
            <a:ext cx="7696080" cy="60883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Inequality in Everyday Lif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valuation of the Feminin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and Convers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1066680" y="654120"/>
            <a:ext cx="5715000" cy="140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Inequality in the U.S.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8" dur="1" fill="hold"/>
                                  <p:tgtEl>
                                    <p:spTgt spid="12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Pay Gap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1066680" y="609480"/>
            <a:ext cx="579132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Inequality in the Workplac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7" dur="1" fill="hold"/>
                                  <p:tgtEl>
                                    <p:spTgt spid="12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30" name="Picture 3" descr="11-07"/>
          <p:cNvPicPr/>
          <p:nvPr/>
        </p:nvPicPr>
        <p:blipFill>
          <a:blip r:embed="rId1"/>
          <a:stretch/>
        </p:blipFill>
        <p:spPr>
          <a:xfrm>
            <a:off x="380880" y="990720"/>
            <a:ext cx="8305920" cy="4846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32" name="Picture 3" descr="11-08"/>
          <p:cNvPicPr/>
          <p:nvPr/>
        </p:nvPicPr>
        <p:blipFill>
          <a:blip r:embed="rId1"/>
          <a:stretch/>
        </p:blipFill>
        <p:spPr>
          <a:xfrm>
            <a:off x="1447920" y="380880"/>
            <a:ext cx="6248160" cy="6208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0">
              <a:lnSpc>
                <a:spcPct val="2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Glass Escalat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1066680" y="609480"/>
            <a:ext cx="579132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Inequality in the Workplac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066680" y="2057400"/>
            <a:ext cx="80773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The Pay Gap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racking the Glass Ceil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1" dur="1" fill="hold"/>
                                  <p:tgtEl>
                                    <p:spTgt spid="13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066320" y="251424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Unequal Access to Power, Prestige, and Property on the Basis of Sex.”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066680" y="806400"/>
            <a:ext cx="792504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What is Gender Stratification?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" dur="1" fill="hold"/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3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and Control of Work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3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xual Harassment and Wors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1066680" y="730080"/>
            <a:ext cx="601992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Inequality in the Workplac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5" dur="1" fill="hold"/>
                                  <p:tgtEl>
                                    <p:spTgt spid="13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Violence Against Wom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Forcible Rap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Date (Acquaintance) Rap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Murder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Violence in the Hom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Women and Criminal Justice System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1066680" y="1035000"/>
            <a:ext cx="807732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and Violenc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9" dur="1" fill="hold"/>
                                  <p:tgtEl>
                                    <p:spTgt spid="14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44" name="Picture 3" descr="11-09"/>
          <p:cNvPicPr/>
          <p:nvPr/>
        </p:nvPicPr>
        <p:blipFill>
          <a:blip r:embed="rId1"/>
          <a:stretch/>
        </p:blipFill>
        <p:spPr>
          <a:xfrm>
            <a:off x="838080" y="457200"/>
            <a:ext cx="7086600" cy="5992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430920" indent="-43092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eminism and Gendered Violen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11080" indent="-271080">
              <a:lnSpc>
                <a:spcPct val="16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Symbolic Interactionist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2" marL="1136880" indent="-217080">
              <a:lnSpc>
                <a:spcPct val="16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Association of Strength, Virility, and Violence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 lvl="1" marL="811080" indent="-271080">
              <a:lnSpc>
                <a:spcPct val="16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Conflict Theor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2" marL="1136880" indent="-217080">
              <a:lnSpc>
                <a:spcPct val="16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Men Losing Power, Reassert Through Violence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lu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066680" y="1035000"/>
            <a:ext cx="807732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and Violenc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6" dur="1" fill="hold"/>
                                  <p:tgtEl>
                                    <p:spTgt spid="14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6858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omen Majority in Popul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omen Underrepresented in Govern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omen Underrepresented in Law and Business Care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1066680" y="1035000"/>
            <a:ext cx="807732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hanging Face of Politic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5" dur="1" fill="hold"/>
                                  <p:tgtEl>
                                    <p:spTgt spid="1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6858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Barriers Coming Dow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bandoning Stereotyp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ew Consciousne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1066680" y="533520"/>
            <a:ext cx="746784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limpsing the Future - With Hop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4" dur="1" fill="hold"/>
                                  <p:tgtEl>
                                    <p:spTgt spid="1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0" descr="Henslin final"/>
          <p:cNvPicPr/>
          <p:nvPr/>
        </p:nvPicPr>
        <p:blipFill>
          <a:blip r:embed="rId1"/>
          <a:stretch/>
        </p:blipFill>
        <p:spPr>
          <a:xfrm>
            <a:off x="2362320" y="304920"/>
            <a:ext cx="4647960" cy="6324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5943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x - Biological Characteristic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emale and Mal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imary and Secondary Sexual Characteristic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066680" y="1187280"/>
            <a:ext cx="8077320" cy="87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Issues of Sex and Gender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" dur="1" fill="hold"/>
                                  <p:tgtEl>
                                    <p:spTgt spid="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- Social Characteristic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sculinity and Feminin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ppropriate Behavi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066680" y="1339920"/>
            <a:ext cx="8077320" cy="71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Issues of Sex and Gender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7" dur="1" fill="hold"/>
                                  <p:tgtEl>
                                    <p:spTgt spid="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ominant Position in Soci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Factors Primary, Not Biologica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f Biological Should Be Less Vari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066680" y="457200"/>
            <a:ext cx="8001000" cy="157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Differences In Behavior -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Biology or Culture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6" dur="1" fill="hold"/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0">
              <a:lnSpc>
                <a:spcPct val="2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pening the Door to Bi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ature vs. Nur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 Medical Accid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Vietnam Veteran Stud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066680" y="104760"/>
            <a:ext cx="6172200" cy="195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Differences In Behavior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Biology or Culture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0" dur="1" fill="hold"/>
                                  <p:tgtEl>
                                    <p:spTgt spid="10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76964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444600" indent="-44460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ow Females became a Minority Group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4600" indent="-44460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Origins of Patriarch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4600" indent="-44460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x Typing of Wor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4600" indent="-44460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and Prestige of Wor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066680" y="533520"/>
            <a:ext cx="693432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and Inequality in Global Perspectiv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4" dur="1" fill="hold"/>
                                  <p:tgtEl>
                                    <p:spTgt spid="1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07" name="Picture 5" descr="11-01"/>
          <p:cNvPicPr/>
          <p:nvPr/>
        </p:nvPicPr>
        <p:blipFill>
          <a:blip r:embed="rId1"/>
          <a:stretch/>
        </p:blipFill>
        <p:spPr>
          <a:xfrm>
            <a:off x="609480" y="533520"/>
            <a:ext cx="7772400" cy="5605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44460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ther Areas of Global Discrimin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4600" indent="-44460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lobal Gap in Edu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4600" indent="-44460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lobal Gap in Politic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4600" indent="-44460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lobal Gap in Pay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4600" indent="-44460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Violence Against Wom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066680" y="609480"/>
            <a:ext cx="6934320" cy="141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and Inequality in Global Perspectiv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0" dur="1" fill="hold"/>
                                  <p:tgtEl>
                                    <p:spTgt spid="10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5T06:50:01Z</dcterms:modified>
  <cp:revision>174</cp:revision>
  <dc:subject>Chapter 11: Sex and Gender</dc:subject>
  <dc:title>Sociology: A Down-to-Earth Approach, 8/e</dc:title>
</cp:coreProperties>
</file>