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welv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e and Ethn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-Reaching Nature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izing Dominant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nd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Mortgage and Car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and Institutional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ical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ustration and Scapego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uthoritarian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ies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s Create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Fulfilling Prophe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ies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o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tion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Patterns of Intergroup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m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ultur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Patterns of Intergroup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 1 - Idea That Any Race is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aces Have Geniuses and Idi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 2 - Idea that Any Race is P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Characteristics Flow Endlessly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: Myth and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’s Founders Included Only Those from England (WAS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“White” Europeans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s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Origins,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nish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nos (Hispan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ggle for Civil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ing Expectations and Civil Str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G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or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 as an Everyday B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 of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of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reaties to Genocide and Population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visible Minority and Self-De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migration Deb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s a True Multicultural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Towards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Refers to Biolog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ity Refers to Cultur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Ance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Heri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s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- People Singled Out for Unequal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Not Necessarily Numerical Min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and Domina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Group - Group with Mo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Soci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Group Does the Discrimin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and Domina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Occur Because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sion of Political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e of Minorit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ing Racial-Ethnic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vs.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imination is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from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izing Dominant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gainst Ow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nd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BDF21-18C7-49EC-80E0-8DFF7EBB7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3957-BC90-474A-B226-D474F6553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8D364-30CA-4BB6-9CFD-503D0D840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4BF0D-2C1C-4DBD-BCCE-F7266332D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736E6-6AC4-4E80-9DB7-F8339078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41908-B84F-46EF-9743-1F87A5BA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CE72F-6CB7-4114-8E49-7B9F865C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C07E6-1BAB-4D43-8F35-4FFE7A40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70EAC-48D7-4C99-BC1E-227A22D1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4771C-294B-462A-9561-1DC3FBB1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12E9D-78B6-4C8B-95FB-4986C6B6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6DAEC-D98C-44DA-A774-5F0C77691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EF483-D140-45AA-AD11-EB9AB712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B64B9-A534-44BC-994E-27836480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A386B-E026-4C8F-95DA-46FB2E61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47864-38DC-490D-ACB1-54D6AC53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0E082-8688-45F3-8F2F-A41E8020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F7888-C9AA-4B00-B940-61109DCF3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BA879-9C86-48B9-8054-74127E1BC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B94C3-E526-4FE1-9CD1-37272BB20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0871D-47B3-4330-B6AE-E65003F41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CAB41-0F90-4973-A7FE-90ECE44B5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6D9CC-9779-41ED-B29D-C57CAE13F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6774E-AA49-4965-A549-1D193AB1D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B9F9-596D-457E-A83F-C2ECF264511D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2: Race and Ethnicity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19FA-FBE8-40A2-81CC-61A1F2801C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124080" y="3809880"/>
            <a:ext cx="5105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welv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Race and Ethnicity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r-Reaching Nature of Prejudi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nalizing Dominant No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edia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oup Membershi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080" y="914400"/>
            <a:ext cx="800100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ejudice and Discrimin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3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6300"/>
                </a:solidFill>
                <a:latin typeface="Times New Roman"/>
              </a:rPr>
              <a:t>Health Care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6300"/>
                </a:solidFill>
                <a:latin typeface="Times New Roman"/>
              </a:rPr>
              <a:t>Home Mortgage and Car Loan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409680"/>
            <a:ext cx="7696440" cy="16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ndividual and Institutional Discrimin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8" name="Picture 3" descr="C:\PowerPoint Work\Allyn &amp; Bacon\2005 Work\Henslin 8ed\Artwork\12-02.jpg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984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ical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ustration and Scapegoa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Authoritarian Person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1111320"/>
            <a:ext cx="640080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ories of Prejudi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5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Labels Create Prejudi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Self-Fulfilling Prophesy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685800"/>
            <a:ext cx="640080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ories of Prejudi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5" dur="1" fill="hold"/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ocid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pulation Transf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nal 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561960"/>
            <a:ext cx="64008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Patterns of Intergroup Rel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0" dur="1" fill="hold"/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greg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simil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ulticultur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561960"/>
            <a:ext cx="632484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Patterns of Intergroup Rel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5" dur="1" fill="hold"/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2" name="Picture 3" descr="C:\PowerPoint Work\Allyn &amp; Bacon\2005 Work\Henslin 8ed\Artwork\12-03.jpg"/>
          <p:cNvPicPr/>
          <p:nvPr/>
        </p:nvPicPr>
        <p:blipFill>
          <a:blip r:embed="rId1"/>
          <a:stretch/>
        </p:blipFill>
        <p:spPr>
          <a:xfrm>
            <a:off x="457200" y="1676520"/>
            <a:ext cx="8381880" cy="3139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4" name="Picture 5" descr="C:\PowerPoint Work\Allyn &amp; Bacon\2005 Work\Henslin 8ed\Artwork\12-05.jpg"/>
          <p:cNvPicPr/>
          <p:nvPr/>
        </p:nvPicPr>
        <p:blipFill>
          <a:blip r:embed="rId1"/>
          <a:stretch/>
        </p:blipFill>
        <p:spPr>
          <a:xfrm>
            <a:off x="1676520" y="380880"/>
            <a:ext cx="6932520" cy="616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135" name="Text Box 3"/>
          <p:cNvSpPr/>
          <p:nvPr/>
        </p:nvSpPr>
        <p:spPr>
          <a:xfrm rot="16200000">
            <a:off x="-1956960" y="2414520"/>
            <a:ext cx="586728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6" name="Picture 6" descr="C:\PowerPoint Work\Allyn &amp; Bacon\2005 Work\Henslin 8ed\Artwork\12-04.jpg"/>
          <p:cNvPicPr/>
          <p:nvPr/>
        </p:nvPicPr>
        <p:blipFill>
          <a:blip r:embed="rId2"/>
          <a:stretch/>
        </p:blipFill>
        <p:spPr>
          <a:xfrm>
            <a:off x="6324480" y="380880"/>
            <a:ext cx="228600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 rot="16200000">
            <a:off x="-1956960" y="2414520"/>
            <a:ext cx="586728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5" descr="C:\PowerPoint Work\Allyn &amp; Bacon\2005 Work\Henslin 8ed\Artwork\12-06.jpg"/>
          <p:cNvPicPr/>
          <p:nvPr/>
        </p:nvPicPr>
        <p:blipFill>
          <a:blip r:embed="rId1"/>
          <a:stretch/>
        </p:blipFill>
        <p:spPr>
          <a:xfrm>
            <a:off x="1676520" y="685800"/>
            <a:ext cx="6858000" cy="545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yth 1 - Idea That Any Race is Super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ll Races Have Geniuses and Idio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yth 2 - Idea that Any Race is P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uman Characteristics Flow Endlessly Togeth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263600"/>
            <a:ext cx="784872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: Myth and Real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ion’s Founders Included Only Those from England (WASPs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“White” Europeans Infer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104760"/>
            <a:ext cx="762012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uropeans 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1" dur="1" fill="hold"/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mbers Origins, Lo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anish Langu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parative Cond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228600"/>
            <a:ext cx="73152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atinos (Hispanics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3" dur="1" fill="hold"/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7" name="Picture 3" descr="C:\PowerPoint Work\Allyn &amp; Bacon\2005 Work\Henslin 8ed\Artwork\12-08.jpg"/>
          <p:cNvPicPr/>
          <p:nvPr/>
        </p:nvPicPr>
        <p:blipFill>
          <a:blip r:embed="rId1"/>
          <a:stretch/>
        </p:blipFill>
        <p:spPr>
          <a:xfrm>
            <a:off x="1828800" y="762120"/>
            <a:ext cx="5051520" cy="5333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truggle for Civil Righ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ising Expectations and Civil Str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ed Gai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8440"/>
            <a:ext cx="7467840" cy="20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fric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5" dur="1" fill="hold"/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rrent Los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 or Social Class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ism as an Everyday Burd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28440"/>
            <a:ext cx="7467840" cy="20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fric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0" dur="1" fill="hold"/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5" name="Picture 4" descr="C:\PowerPoint Work\Allyn &amp; Bacon\2005 Work\Henslin 8ed\Artwork\12-09.jpg"/>
          <p:cNvPicPr/>
          <p:nvPr/>
        </p:nvPicPr>
        <p:blipFill>
          <a:blip r:embed="rId1"/>
          <a:stretch/>
        </p:blipFill>
        <p:spPr>
          <a:xfrm>
            <a:off x="2438280" y="228600"/>
            <a:ext cx="383076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ckground of 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asons for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066680" y="104760"/>
            <a:ext cx="769644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i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5" dur="1" fill="hold"/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0" name="Picture 3" descr="C:\PowerPoint Work\Allyn &amp; Bacon\2005 Work\Henslin 8ed\Artwork\12-10.jpg"/>
          <p:cNvPicPr/>
          <p:nvPr/>
        </p:nvPicPr>
        <p:blipFill>
          <a:blip r:embed="rId1"/>
          <a:stretch/>
        </p:blipFill>
        <p:spPr>
          <a:xfrm>
            <a:off x="1523880" y="685800"/>
            <a:ext cx="5715000" cy="5292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 of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om Treaties to Genocide and Population Transf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Invisible Minority and Self-Deter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066680" y="257040"/>
            <a:ext cx="75438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ative 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7" dur="1" fill="hold"/>
                                  <p:tgtEl>
                                    <p:spTgt spid="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Immigration Deb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ffirmative 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wards a True Multicultural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143000" y="1187280"/>
            <a:ext cx="800100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ooking Towards the Fu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2" dur="1" fill="hold"/>
                                  <p:tgtEl>
                                    <p:spTgt spid="1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26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 Refers to Biologic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icity Refers to Cultur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Common Ancestry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Cultural Heritag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Nations of Origin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1035000"/>
            <a:ext cx="49532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thnic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8" name="Picture 3" descr="C:\PowerPoint Work\Allyn &amp; Bacon\2005 Work\Henslin 8ed\Artwork\12-11.jpg"/>
          <p:cNvPicPr/>
          <p:nvPr/>
        </p:nvPicPr>
        <p:blipFill>
          <a:blip r:embed="rId1"/>
          <a:stretch/>
        </p:blipFill>
        <p:spPr>
          <a:xfrm>
            <a:off x="380880" y="1523880"/>
            <a:ext cx="830592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Henslin final"/>
          <p:cNvPicPr/>
          <p:nvPr/>
        </p:nvPicPr>
        <p:blipFill>
          <a:blip r:embed="rId1"/>
          <a:stretch/>
        </p:blipFill>
        <p:spPr>
          <a:xfrm>
            <a:off x="1981080" y="152280"/>
            <a:ext cx="47595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- People Singled Out for Unequal Treat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Not Necessarily Numerical Min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577800"/>
            <a:ext cx="61722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nority and Dominant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142640" y="2133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Group - Group with Most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rivileg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ighest Social Statu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Group Does the Discriminat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nority and Dominant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Occur Because of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ansion of Political Boundar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gr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143000" y="685800"/>
            <a:ext cx="6095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mergence of Minority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ative Siz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ear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ic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806400"/>
            <a:ext cx="69343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nstructing Racial-Ethnic Ident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7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5" descr="C:\PowerPoint Work\Allyn &amp; Bacon\2005 Work\Henslin 8ed\Artwork\12-01.jpg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803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9907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earning Prejudi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Prejudice vs. Discrimination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crimination is </a:t>
            </a:r>
            <a:r>
              <a:rPr b="1" i="1" lang="en-US" sz="2800" spc="-1" strike="noStrike">
                <a:solidFill>
                  <a:srgbClr val="866300"/>
                </a:solidFill>
                <a:latin typeface="Times New Roman"/>
              </a:rPr>
              <a:t>Ac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earning from Associa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ernalizing Dominant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Media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Group Membership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rejudice Against Own Grou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0"/>
            <a:ext cx="769608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rejudice and Discrimination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10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45:50Z</dcterms:modified>
  <cp:revision>179</cp:revision>
  <dc:subject>Chapter 12: Race and Ethnicity</dc:subject>
  <dc:title>Sociology: A Down-to-Earth Approach, 8/e</dc:title>
</cp:coreProperties>
</file>