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elv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 and Eth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-Reaching Nature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Mortgage and Car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and Institution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ustration and Scapego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uthoritarian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Create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ing Proph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o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ultur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1 - Idea That Any Race is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aces Have Geniuses and Idi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2 - Idea that Any Race is P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Characteristics Flow Endlessly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: Myth and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’s Founders Included Only Those from England (WAS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“White” Europeans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s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Origins,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ish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s (Hispan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ggle for Civil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ing Expectations and Civil Str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G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or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s an Everyday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of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of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reaties to Genocide and 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visible Minority and Self-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migration Deb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a True Multicultural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Towards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Refers to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ity Refers to Cultur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Ance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Heri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s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- People Singled Out for Unequal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Not Necessarily Numerical Min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- Group with Mo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Does the Discrimi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Occur Because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sion of Political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e of Minorit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ng Racial-Ethnic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vs.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 is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from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gainst Ow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2D859-17B7-45A1-A020-D7A04D96C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E242-DF46-4995-8430-8065BB809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96EC1-E282-4889-9B1A-C582AD435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1DAE3-BCDA-4A0B-AB06-B1E4B7E65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FA964-4681-4BB1-92F4-953A5463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2B3F2-335E-4049-9D30-EECDEE35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2027A-D351-417A-BC4D-ED239801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DBB0A-EEB6-4FE3-9074-30FA67FC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24E0F-D2E3-47D5-98AA-DF625CE6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702CA-2CE2-467B-8822-B850C59F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D5927-6ECF-4E84-8FEE-7AA0965D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8FEAB-FF8B-4133-AC70-DB082CF9D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52E3A-C73D-4F00-AAA2-509403CC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BD974-4788-4A76-82D6-A822B3D5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4E803-3078-4FE6-8778-D2E3C05C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D9349-F2FE-4C59-96CD-AFF1C839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06C57-D56B-4D68-B2C2-5204723F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7C3A7-F876-4304-9348-503B0F4A7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45105-63DD-44EE-8E50-E28EDC889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7F59-22A2-4674-8404-658DB051D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FB5A-E62B-4F9E-A9F4-1197829F1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C020-CCD0-48CF-A26A-A07C06921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2F115-DF27-45F0-904D-007C18408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8B4E8-714C-4025-AF31-CFD1D132A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DCE9-BA14-4BDA-8985-D8E2AD89C643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2: Race and Ethnicity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FEC6-2EBC-4F8A-8A39-C1EFD65C7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809880"/>
            <a:ext cx="5105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elv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Race and Ethnicity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r-Reaching Nature of Prejudi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080" y="914400"/>
            <a:ext cx="80010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ealth Car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ome Mortgage and Car Loan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09680"/>
            <a:ext cx="7696440" cy="16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dividual and Institutional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C:\PowerPoint Work\Allyn &amp; Bacon\2005 Work\Henslin 8ed\Artwork\12-02.jpg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984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ustration and Scapegoa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Authoritarian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1111320"/>
            <a:ext cx="64008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5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Labels Create Prejudi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Self-Fulfilling Prophes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85800"/>
            <a:ext cx="64008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ocid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 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561960"/>
            <a:ext cx="64008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0" dur="1" fill="hold"/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greg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imi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cultur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561960"/>
            <a:ext cx="63248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5" dur="1" fill="hold"/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C:\PowerPoint Work\Allyn &amp; Bacon\2005 Work\Henslin 8ed\Artwork\12-03.jpg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313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4" name="Picture 5" descr="C:\PowerPoint Work\Allyn &amp; Bacon\2005 Work\Henslin 8ed\Artwork\12-05.jpg"/>
          <p:cNvPicPr/>
          <p:nvPr/>
        </p:nvPicPr>
        <p:blipFill>
          <a:blip r:embed="rId1"/>
          <a:stretch/>
        </p:blipFill>
        <p:spPr>
          <a:xfrm>
            <a:off x="1676520" y="380880"/>
            <a:ext cx="6932520" cy="616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135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6" descr="C:\PowerPoint Work\Allyn &amp; Bacon\2005 Work\Henslin 8ed\Artwork\12-04.jpg"/>
          <p:cNvPicPr/>
          <p:nvPr/>
        </p:nvPicPr>
        <p:blipFill>
          <a:blip r:embed="rId2"/>
          <a:stretch/>
        </p:blipFill>
        <p:spPr>
          <a:xfrm>
            <a:off x="6324480" y="380880"/>
            <a:ext cx="228600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12-06.jpg"/>
          <p:cNvPicPr/>
          <p:nvPr/>
        </p:nvPicPr>
        <p:blipFill>
          <a:blip r:embed="rId1"/>
          <a:stretch/>
        </p:blipFill>
        <p:spPr>
          <a:xfrm>
            <a:off x="1676520" y="685800"/>
            <a:ext cx="6858000" cy="545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1 - Idea That Any Race is Sup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ll Races Have Geniuses and Idio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2 - Idea that Any Race is P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uman Characteristics Flow Endlessly Togeth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263600"/>
            <a:ext cx="784872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: Myth and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ion’s Founders Included Only Those from England (WASP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“White” Europeans Inf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4760"/>
            <a:ext cx="762012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uropeans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1" dur="1" fill="hold"/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s Origins, Lo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anish 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ative 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228600"/>
            <a:ext cx="73152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tinos (Hispanic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3" dur="1" fill="hold"/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12-08.jpg"/>
          <p:cNvPicPr/>
          <p:nvPr/>
        </p:nvPicPr>
        <p:blipFill>
          <a:blip r:embed="rId1"/>
          <a:stretch/>
        </p:blipFill>
        <p:spPr>
          <a:xfrm>
            <a:off x="1828800" y="762120"/>
            <a:ext cx="505152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ruggle for Civil Righ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sing Expectations and Civil Str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ed Gai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Los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or Social Class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s an Everyday Burd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0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5" name="Picture 4" descr="C:\PowerPoint Work\Allyn &amp; Bacon\2005 Work\Henslin 8ed\Artwork\12-09.jpg"/>
          <p:cNvPicPr/>
          <p:nvPr/>
        </p:nvPicPr>
        <p:blipFill>
          <a:blip r:embed="rId1"/>
          <a:stretch/>
        </p:blipFill>
        <p:spPr>
          <a:xfrm>
            <a:off x="2438280" y="228600"/>
            <a:ext cx="38307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ckground of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asons for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066680" y="104760"/>
            <a:ext cx="769644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i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5" dur="1" fill="hold"/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0" name="Picture 3" descr="C:\PowerPoint Work\Allyn &amp; Bacon\2005 Work\Henslin 8ed\Artwork\12-10.jpg"/>
          <p:cNvPicPr/>
          <p:nvPr/>
        </p:nvPicPr>
        <p:blipFill>
          <a:blip r:embed="rId1"/>
          <a:stretch/>
        </p:blipFill>
        <p:spPr>
          <a:xfrm>
            <a:off x="1523880" y="685800"/>
            <a:ext cx="5715000" cy="529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m Treaties to Genocide and 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nvisible Minority and Self-Deter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66680" y="257040"/>
            <a:ext cx="75438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ative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7" dur="1" fill="hold"/>
                                  <p:tgtEl>
                                    <p:spTgt spid="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mmigration Deb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ffirmative 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wards a True Multicultural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43000" y="1187280"/>
            <a:ext cx="80010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ooking Towards the Fu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2" dur="1" fill="hold"/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26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Refers to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ity Refers to Cultur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ommon Ancestr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ultural Heritag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ations of Origi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035000"/>
            <a:ext cx="4953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ic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8" name="Picture 3" descr="C:\PowerPoint Work\Allyn &amp; Bacon\2005 Work\Henslin 8ed\Artwork\12-11.jpg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Henslin final"/>
          <p:cNvPicPr/>
          <p:nvPr/>
        </p:nvPicPr>
        <p:blipFill>
          <a:blip r:embed="rId1"/>
          <a:stretch/>
        </p:blipFill>
        <p:spPr>
          <a:xfrm>
            <a:off x="1981080" y="152280"/>
            <a:ext cx="4759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- People Singled Out for Unequal Treat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Not Necessarily Numerical Min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77800"/>
            <a:ext cx="61722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4264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- Group with Most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ivileg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ighest Social Stat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Does the Discriminat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Occur Because of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ansion of Political Bounda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gr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43000" y="685800"/>
            <a:ext cx="6095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ence of Minority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Siz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structing Racial-Ethnic Ident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C:\PowerPoint Work\Allyn &amp; Bacon\2005 Work\Henslin 8ed\Artwork\12-01.jpg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803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Prejudi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rejudice vs. Discriminatio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crimination is </a:t>
            </a:r>
            <a:r>
              <a:rPr b="1" i="1" lang="en-US" sz="2800" spc="-1" strike="noStrike">
                <a:solidFill>
                  <a:srgbClr val="866300"/>
                </a:solidFill>
                <a:latin typeface="Times New Roman"/>
              </a:rPr>
              <a:t>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from Associ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ejudice Against Own Grou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0"/>
            <a:ext cx="769608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45:50Z</dcterms:modified>
  <cp:revision>179</cp:revision>
  <dc:subject>Chapter 12: Race and Ethnicity</dc:subject>
  <dc:title>Sociology: A Down-to-Earth Approach, 8/e</dc:title>
</cp:coreProperties>
</file>