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Stra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in’s Critique of Davis and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Know Positions Most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cation Should = Merit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Ought to Benefit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ca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ciety Can Exist Unless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Means Inequalities of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Nature is Self-C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x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Explanation is Ideology of the E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onsciousness Will Overcome Blinding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pplications of 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ki’s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ology vs.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nformation and Us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Elites Maintain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Former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Soci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orld—Industrialized Capital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orld—Commun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orld—Nations that Don’t Fit  in First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(Old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-Rich, Non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System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th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World’s Nations Become Strat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y of relative privilege based on power, property, and presti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Global Do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Glob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in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’s Religious C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Racial 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 and Status of Fe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l Marx: The Means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eber: Property, Prestige,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nt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ust Make Sure all Positions are F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sitions are More Important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tivate Qualified People, They Must Be Re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ortant Positions Filled by More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EA74-032A-4FDE-8CF6-3DED47D01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2BE0-6C23-490A-A5C1-871D79787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53A5-29B9-48EC-A67F-BDF092873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77757-1654-4D35-A8E8-50A91DBD1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9F451-4E96-4E3D-B827-306CCB66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106F7-4C7F-406D-96FC-B4B47C6F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25139-0CA5-4F9B-9A3B-035A1F66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FD076-05C3-4F9A-89BA-28B9A59A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F5447-978C-4EF0-AD61-50FEA2D2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52235-D803-4106-A35B-51F78497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305FC-6273-440A-84C4-8C0F121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DEB3-CAF4-4D1B-AC4D-CE389424F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55C81-EA05-43B9-AE28-E61054EE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EF0D5-8A87-4D0F-A159-58F9E8BE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0BB83-83B2-4D1E-B652-EF76340C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70018-4801-4842-AF9F-7D30B92E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14DC4-E93B-4F2E-A48C-1FF5904D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16A2-5BCD-4409-8B2E-2E4F8ACA6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C6D9C-457A-4B34-AD28-0D0F407CC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9970A-B76C-4199-B80F-7CA7B5982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CB13-1B33-4E97-B512-63100609F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2508-D3E8-4936-B003-83EE13A64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FBF2-DD29-4C24-826E-73B730061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7FE6-B6E7-4187-8FCE-66936D06D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644A-012F-41D4-9D70-1217A913C59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9: Global Stratific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50FB-0D03-4335-AA54-F2C27E3E7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28960"/>
            <a:ext cx="480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Nin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lobal Stratific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10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umin’s Critique of Davis and Mo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do We Know Positions Most Important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tification Should = Merit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Ought to Benefit Everyo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ca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ociety Can Exist Unless Organiz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Means Inequalities of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 Nature is Self-Cente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333360"/>
            <a:ext cx="807732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21337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 Explanation is Ideology of the Eli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 Consciousness Will Overcome Blinding Ide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Applications of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nski’s Synthe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790560"/>
            <a:ext cx="784872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ology vs. F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de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nformation and Using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714240"/>
            <a:ext cx="777240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o Elites Maintain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Great Brita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Former Soviet Un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762120"/>
            <a:ext cx="7086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arative Soci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orld—Industrialized Capital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orld—Commun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orld—Nations that Don’t Fit  in First Tw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762120"/>
            <a:ext cx="6782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Old Model)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762120"/>
            <a:ext cx="6705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il-Rich, Non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304920"/>
            <a:ext cx="7315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ying the Mod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ld System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valuating the Theo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714240"/>
            <a:ext cx="79250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id World’s Nations Become Stratified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hierarchy of relative privilege based on power, property, and prestige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1447920"/>
            <a:ext cx="648324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Social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o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national Corpor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Global Do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7621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aintaining Glob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Henslin final"/>
          <p:cNvPicPr/>
          <p:nvPr/>
        </p:nvPicPr>
        <p:blipFill>
          <a:blip r:embed="rId1"/>
          <a:stretch/>
        </p:blipFill>
        <p:spPr>
          <a:xfrm>
            <a:off x="24382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in the New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Slaver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a’s Religious Cas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uth Afric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.S. Racial Cast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23880"/>
            <a:ext cx="7848720" cy="14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Cast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st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Stratification and Status of Fema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62120"/>
            <a:ext cx="7010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Oth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: The Means of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x Weber: Property, Prestige,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263600"/>
            <a:ext cx="80010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ants of Social Clas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4" name="Picture 5" descr="C:\PowerPoint Work\Allyn &amp; Bacon\2005 Work\Henslin 8ed\Artwork\09-01.jpg"/>
          <p:cNvPicPr/>
          <p:nvPr/>
        </p:nvPicPr>
        <p:blipFill>
          <a:blip r:embed="rId1"/>
          <a:srcRect l="0" t="0" r="0" b="17076"/>
          <a:stretch/>
        </p:blipFill>
        <p:spPr>
          <a:xfrm>
            <a:off x="3352680" y="152280"/>
            <a:ext cx="24544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vis and Moore’s Expla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Must Make Sure all Positions are Fill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Positions are More Important than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 Motivate Qualified People, They Must Be Rewar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66680" y="2057400"/>
            <a:ext cx="63248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avis and Moore’s Explanatio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 Important Positions Filled by More Qualified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22:36Z</dcterms:modified>
  <cp:revision>183</cp:revision>
  <dc:subject>Chapter 9: Global Stratification</dc:subject>
  <dc:title>Sociology: A Down-to-Earth Approach, 8/e</dc:title>
</cp:coreProperties>
</file>