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Ni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Stra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min’s Critique of Davis and Mo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Know Positions Most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cation Should = Merit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Ought to Benefit Every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ca’s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ociety Can Exist Unless 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Means Inequalities of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Nature is Self-C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x’s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Explanation is Ideology of the E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onsciousness Will Overcome Blinding Ide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Applications of 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ski’s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ology vs.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 Information and Using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Elites Maintain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atification in 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atification in Former Soviet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Social St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orld—Industrialized Capitalist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World—Communist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World—Nations that Don’t Fit  in First 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 (Old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-Rich, Non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ing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 System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th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World’s Nations Become Stratifi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ierarchy of relative privilege based on power, property, and prestig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national 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Global Do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ing Global St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ry in the New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ry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Sl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a’s Religious Ca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Racial Cas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C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 and Status of Fe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l Marx: The Means of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eber: Property, Prestige,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nt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s and Moore’s Expla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Must Make Sure all Positions are F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ositions are More Important than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otivate Qualified People, They Must Be Rew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s and Moore’s Expla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Important Positions Filled by More Qualified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70D61-4A2F-477C-B30D-90DA42897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6B737-017C-418F-BA4F-3D25D423D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921D0-C4CC-47D3-827A-8D7E5755B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A14D8-A422-4D2C-97E7-671F30FA0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2DEA3-3025-4E89-92F5-B683AB97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45915-AD94-49C0-BD22-B8A2E3DF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8B533-73FE-4F61-8A17-5DB884E8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2E2F2-D216-49FC-8AEF-FFE969F0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DE68B-4919-430A-800F-F57071F5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BA616-9872-4E44-8491-BC08BB47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D9112-F63F-4A0A-955D-F626D729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DACB0-982D-45A2-81BF-6E7DC373C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C6BB6-970D-49CF-B5AC-AA962C9C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9FB5B-AB70-4B37-A49A-38AFC48B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63C1E-7B5A-48C7-A913-8CBFBAB0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EE80D-9A52-465B-981D-38BE5816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313F6-2CF9-4C71-BAB7-81B33528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DB351-A68D-451D-94B5-016F3F1D5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E1CA8-680D-4A1C-9C20-38FCEED77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944F9-BEE1-43D0-8D64-72416D6CD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34845-7DE7-4BD1-B8FE-ED76CAED7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CEB54-AE85-4E65-8176-BACD6CDB5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6C40-F644-49DD-8D0E-A5F2A3839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2671B-33D3-457E-AD87-664AB4DC4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B78E-9971-4064-B88B-9DF6977DA401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9: Global Stratifica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FDF7-D015-4CC7-8033-59E264A81F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828960"/>
            <a:ext cx="48006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Nin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Global Stratifica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104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umin’s Critique of Davis and Moo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do We Know Positions Most Important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atification Should = Meritocr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Ought to Benefit Everyo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ca’s Argu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Society Can Exist Unless Organiz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Means Inequalities of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man Nature is Self-Center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66680" y="333360"/>
            <a:ext cx="8077320" cy="17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8" dur="1" fill="hold"/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2640" y="213372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x’s Argu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t Explanation is Ideology of the Eli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 Consciousness Will Overcome Blinding Ide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714240"/>
            <a:ext cx="784872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rrent Applications of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nski’s Synthesi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790560"/>
            <a:ext cx="7848720" cy="12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ology vs. F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lling Idea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lling Information and Using Techn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714240"/>
            <a:ext cx="777240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w Do Elites Maintain Stratific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8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atification in Great Britai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atification in Former Soviet Un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762120"/>
            <a:ext cx="70866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arative Social Stratific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62485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rst World—Industrialized Capitalist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World—Communist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World—Nations that Don’t Fit  in First Tw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762120"/>
            <a:ext cx="67820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Old Model)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6" dur="1" fill="hold"/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762120"/>
            <a:ext cx="67057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8" dur="1" fill="hold"/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il-Rich, Non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304920"/>
            <a:ext cx="7315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 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ying the Mod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6" dur="1" fill="hold"/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05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rld System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valuating the Theor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714240"/>
            <a:ext cx="79250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w Did World’s Nations Become Stratified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266652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hierarchy of relative privilege based on power, property, and prestige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43000" y="1447920"/>
            <a:ext cx="648324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Social Stratific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o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ultinational Corpor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chnology and Global Do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7621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aintaining Global Stratific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6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Henslin final"/>
          <p:cNvPicPr/>
          <p:nvPr/>
        </p:nvPicPr>
        <p:blipFill>
          <a:blip r:embed="rId1"/>
          <a:stretch/>
        </p:blipFill>
        <p:spPr>
          <a:xfrm>
            <a:off x="24382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d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lavery in the New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lavery Tod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685800"/>
            <a:ext cx="8001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Slaver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a’s Religious Cas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uth Africa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.S. Racial Caste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623880"/>
            <a:ext cx="7848720" cy="14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Cast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st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Stratification and Status of Fema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762120"/>
            <a:ext cx="70106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Oth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28560" indent="-6285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arl Marx: The Means of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628560" indent="-6285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x Weber: Property, Prestige, and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263600"/>
            <a:ext cx="800100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terminants of Social Clas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4" name="Picture 5" descr="C:\PowerPoint Work\Allyn &amp; Bacon\2005 Work\Henslin 8ed\Artwork\09-01.jpg"/>
          <p:cNvPicPr/>
          <p:nvPr/>
        </p:nvPicPr>
        <p:blipFill>
          <a:blip r:embed="rId1"/>
          <a:srcRect l="0" t="0" r="0" b="17076"/>
          <a:stretch/>
        </p:blipFill>
        <p:spPr>
          <a:xfrm>
            <a:off x="3352680" y="152280"/>
            <a:ext cx="245448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vis and Moore’s Expla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ety Must Make Sure all Positions are Fill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Positions are More Important than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22856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58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 Motivate Qualified People, They Must Be Rewar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066680" y="2057400"/>
            <a:ext cx="632484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avis and Moore’s Explanation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e Important Positions Filled by More Qualified Peop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" dur="1" fill="hold"/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22:36Z</dcterms:modified>
  <cp:revision>183</cp:revision>
  <dc:subject>Chapter 9: Global Stratification</dc:subject>
  <dc:title>Sociology: A Down-to-Earth Approach, 8/e</dc:title>
</cp:coreProperties>
</file>