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Stra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in’s Critique of Davis and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Know Positions Most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cation Should = Merit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Ought to Benefit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ca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ciety Can Exist Unless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Means Inequalities of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Nature is Self-C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x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Explanation is Ideology of the E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onsciousness Will Overcome Blinding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pplications of 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ki’s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ology vs.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nformation and Us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Elites Maintain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Former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Soci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orld—Industrialized Capital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orld—Commun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orld—Nations that Don’t Fit  in First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(Old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-Rich, Non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System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th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World’s Nations Become Strat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y of relative privilege based on power, property, and presti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Global Do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Glob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in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’s Religious C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Racial 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 and Status of Fe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l Marx: The Means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eber: Property, Prestige,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nt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ust Make Sure all Positions are F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sitions are More Important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tivate Qualified People, They Must Be Re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ortant Positions Filled by More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D4FB-AFE5-4495-9738-D935705A0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B4C6-F3DF-447A-B502-4581A5D03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22D56-16A7-4192-B9F9-E0EAB2994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0DDC-B7D8-4A79-9712-C673C9E31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D547B-8400-4F1F-80F8-8EDF5794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F124C-77ED-4521-9F9E-3F36AAE8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88693-5B90-4B1F-BCFE-73B0DDC5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5D1C3-AFD1-401B-A3A5-B5A24472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06A00-7E98-4E6F-BE5B-9BA37762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4DA4F-E628-485C-AD2C-45826393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76DA1-D6C7-4764-80FA-481D32D8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19EA-1D33-422C-9E5D-DD9479C80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D8205-B8F0-4A19-A236-4AD76B6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35F33-CBEB-4CC9-BF89-BCF8136A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94CA4-1B35-4978-A29E-869AFF87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FE4ED-352A-48AE-96D0-62247EB4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86882-5AF2-4710-8753-476789AE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8809-1978-4056-8540-2A2C0A447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9D55-1721-4562-B5D9-267BEFD8C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DCF4-70B3-40E9-9B85-5F30F68C1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6929-D094-4505-960A-8BDB0F72D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2A2A-22BB-4328-9E14-D8BA84B03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D26B-B993-4064-BD59-A41A94105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E951-EC18-4F48-B04A-77C67EC1D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AA76-7670-4B27-BD71-9B8C7C12B4A6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9: Global Stratific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61F5-32AE-46D8-A5D7-09D8262DE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28960"/>
            <a:ext cx="480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Nin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lobal Stratific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10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umin’s Critique of Davis and Mo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do We Know Positions Most Important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tification Should = Merit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Ought to Benefit Everyo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ca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ociety Can Exist Unless Organiz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Means Inequalities of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 Nature is Self-Cente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333360"/>
            <a:ext cx="807732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21337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 Explanation is Ideology of the Eli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 Consciousness Will Overcome Blinding Ide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Applications of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nski’s Synthe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790560"/>
            <a:ext cx="784872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ology vs. F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de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nformation and Using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714240"/>
            <a:ext cx="777240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o Elites Maintain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Great Brita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Former Soviet Un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762120"/>
            <a:ext cx="7086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arative Soci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orld—Industrialized Capital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orld—Commun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orld—Nations that Don’t Fit  in First Tw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762120"/>
            <a:ext cx="6782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Old Model)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762120"/>
            <a:ext cx="6705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il-Rich, Non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304920"/>
            <a:ext cx="7315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ying the Mod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ld System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valuating the Theo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714240"/>
            <a:ext cx="79250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id World’s Nations Become Stratified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hierarchy of relative privilege based on power, property, and prestige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1447920"/>
            <a:ext cx="648324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Social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o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national Corpor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Global Do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7621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aintaining Glob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Henslin final"/>
          <p:cNvPicPr/>
          <p:nvPr/>
        </p:nvPicPr>
        <p:blipFill>
          <a:blip r:embed="rId1"/>
          <a:stretch/>
        </p:blipFill>
        <p:spPr>
          <a:xfrm>
            <a:off x="24382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in the New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Slaver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a’s Religious Cas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uth Afric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.S. Racial Cast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23880"/>
            <a:ext cx="7848720" cy="14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Cast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st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Stratification and Status of Fema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62120"/>
            <a:ext cx="7010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Oth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: The Means of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x Weber: Property, Prestige,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263600"/>
            <a:ext cx="80010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ants of Social Clas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4" name="Picture 5" descr="C:\PowerPoint Work\Allyn &amp; Bacon\2005 Work\Henslin 8ed\Artwork\09-01.jpg"/>
          <p:cNvPicPr/>
          <p:nvPr/>
        </p:nvPicPr>
        <p:blipFill>
          <a:blip r:embed="rId1"/>
          <a:srcRect l="0" t="0" r="0" b="17076"/>
          <a:stretch/>
        </p:blipFill>
        <p:spPr>
          <a:xfrm>
            <a:off x="3352680" y="152280"/>
            <a:ext cx="24544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vis and Moore’s Expla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Must Make Sure all Positions are Fill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Positions are More Important than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 Motivate Qualified People, They Must Be Rewar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66680" y="2057400"/>
            <a:ext cx="63248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avis and Moore’s Explanatio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 Important Positions Filled by More Qualified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22:36Z</dcterms:modified>
  <cp:revision>183</cp:revision>
  <dc:subject>Chapter 9: Global Stratification</dc:subject>
  <dc:title>Sociology: A Down-to-Earth Approach, 8/e</dc:title>
</cp:coreProperties>
</file>