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Eigh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Out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iends,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son or Freed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l Associatio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us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er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fs that Actions are Morally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the Significance of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Become Part of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l Towards or Away from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Inj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ial of a Vic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emnation of Condem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l to Higher Loyal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jecting 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racing Labels—Outlaw Bi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wer of Labels—Saints and Roughne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ing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rifies Moral Boundaries and Affirms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motes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Deviance Be Functi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Values Produc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Leads to A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n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not the act itself, but the reactions to the act, that make something devian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ard Becker, 19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nov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eat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be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Deviant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qual Access to Institutional Means to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te-Collar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legitimate Opportunity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, Crime, and the Criminal Justic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and In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w as an Instrument of Op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d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ath Penalty B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 Crime and Pris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line of C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t to Some is not Deviant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” is Nonjudgmental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uble with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ization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ther Mental nor Illn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less Mentally 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More Human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ion to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Norms as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olation of Rules or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g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mishes on “Normal”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ce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Norms - Social Cha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’s Formal and Informal Means of Enforc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Make Social Lif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is a Sa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enterpiece of Public Ri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tion Cere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ming and Degradation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for Answers Inside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redis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es on Abnormalities Within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ality Dis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ant Pers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s of Dev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B84E-F675-46B7-8F64-DC508CAA8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9063D-088D-4A41-B572-2CFF54807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507C1-6B29-4EE2-8D62-4B67930DD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E16C-2223-4345-A146-E61578459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7C414-1942-4DF0-8E9D-8BA45627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A4A5E-9A2A-4318-82C6-F84212EA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D33AC-79DB-456B-85D7-80C04390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3ECBB7-767F-4DEA-9BF2-E1E74A01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09E7D-953F-4395-B7C1-9A992BE4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192B7-209B-4BBC-A232-0C76955F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8491DE-66C9-4024-BAFB-19D9E49B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6B84D-C3B1-41DB-BF5E-8B9FEF0C1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28728-B426-4712-8C0E-DC719133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6E3DC-CB92-4631-9CC6-F07504F7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99228-A2F9-431B-ACA6-B7E61537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BC966-B935-4D4D-8C50-31D09B11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E799A-E16F-450C-8520-9706E379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3337-F6B6-4EBE-8D78-A144F0DC3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4E768-764B-4380-B763-7F3F0D19F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8C3B-A01E-4534-913F-D49A8F78B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4844-9E08-46F0-B3E0-6BAA797E1D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725D-D9CE-4268-A265-7AC4A15D2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77BAD-E4CD-4E94-A8D6-A7D9A1310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4044-372C-4873-B980-44834CB56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B31D-3FAC-4D40-820E-9EBE348588E6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8:Deviance and Social Control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8772-1B2F-4351-BBA8-EB1D614AA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048120" y="3733920"/>
            <a:ext cx="5105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Eight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Deviance and Social Control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Out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6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iends, Neighb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ison or Freedom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Differential Association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0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us Princip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228600"/>
            <a:ext cx="72392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19764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uter Contr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ach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volvem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97640" indent="-19764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fs that Actions are Morally Wro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304920"/>
            <a:ext cx="762012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ol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3" dur="1" fill="hold"/>
                                  <p:tgtEl>
                                    <p:spTgt spid="1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the Significance of Labe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bels Become Part of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pel Towards or Away from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2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Responsi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Inju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nial of a Vict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1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emnation of Condemn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l to Higher Loyal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228600"/>
            <a:ext cx="80773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Rejecting Labe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5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bracing Labels—Outlaw Bi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ower of Labels—Saints and Roughneck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228600"/>
            <a:ext cx="79250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mbolic Interaction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beling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9" dur="1" fill="hold"/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rifies Moral Boundaries and Affirms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Un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41280" indent="-34128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motes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an Deviance Be Function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8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Values Produc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 Me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in Leads to Anom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train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2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not the act itself, but the reactions to the act, that make something deviant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r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6300"/>
                </a:solidFill>
                <a:latin typeface="Times New Roman"/>
              </a:rPr>
              <a:t>Howard Becker, 1966</a:t>
            </a:r>
            <a:endParaRPr b="1" lang="en-US" sz="20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82880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/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820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novato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t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reat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bell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our Deviant Path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6" dur="1" fill="hold"/>
                                  <p:tgtEl>
                                    <p:spTgt spid="14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equal Access to Institutional Means to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ite-Collar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28800"/>
            <a:ext cx="8077320" cy="11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unctionalis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llegitimate Opportunity Struc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0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9" name="Picture 5" descr="C:\PowerPoint Work\Allyn &amp; Bacon\2005 Work\Henslin 8ed\Artwork\08-01.jpg"/>
          <p:cNvPicPr/>
          <p:nvPr/>
        </p:nvPicPr>
        <p:blipFill>
          <a:blip r:embed="rId1"/>
          <a:stretch/>
        </p:blipFill>
        <p:spPr>
          <a:xfrm>
            <a:off x="1295280" y="380880"/>
            <a:ext cx="6553440" cy="615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, Crime, and the Criminal Justic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and In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aw as an Instrument of Oppress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 Conflict Perspectiv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9" dur="1" fill="hold"/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eet Crime and Pris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8" dur="1" fill="hold"/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7" name="Picture 3" descr="C:\PowerPoint Work\Allyn &amp; Bacon\2005 Work\Henslin 8ed\Artwork\08-02.jpg"/>
          <p:cNvPicPr/>
          <p:nvPr/>
        </p:nvPicPr>
        <p:blipFill>
          <a:blip r:embed="rId1"/>
          <a:stretch/>
        </p:blipFill>
        <p:spPr>
          <a:xfrm>
            <a:off x="2505240" y="33480"/>
            <a:ext cx="4133520" cy="6789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2" dur="1" fill="hold"/>
                                  <p:tgtEl>
                                    <p:spTgt spid="1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3" name="Picture 6" descr="C:\PowerPoint Work\Allyn &amp; Bacon\2005 Work\Henslin 8ed\Artwork\08-03.jpg"/>
          <p:cNvPicPr/>
          <p:nvPr/>
        </p:nvPicPr>
        <p:blipFill>
          <a:blip r:embed="rId1"/>
          <a:stretch/>
        </p:blipFill>
        <p:spPr>
          <a:xfrm>
            <a:off x="1676520" y="228600"/>
            <a:ext cx="55465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ecidiv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eath Penalty Bi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066680" y="1295280"/>
            <a:ext cx="80773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066680" y="2057400"/>
            <a:ext cx="63248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Street Crime and Prison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Decline of Cr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9" name="Picture 3" descr="C:\PowerPoint Work\Allyn &amp; Bacon\2005 Work\Henslin 8ed\Artwork\08-04.jpg"/>
          <p:cNvPicPr/>
          <p:nvPr/>
        </p:nvPicPr>
        <p:blipFill>
          <a:blip r:embed="rId1"/>
          <a:stretch/>
        </p:blipFill>
        <p:spPr>
          <a:xfrm>
            <a:off x="685800" y="380880"/>
            <a:ext cx="7620120" cy="612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Deviant to Some is not Deviant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” is Nonjudgmental Te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806400"/>
            <a:ext cx="51818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Devianc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71" name="Group 7"/>
          <p:cNvGrpSpPr/>
          <p:nvPr/>
        </p:nvGrpSpPr>
        <p:grpSpPr>
          <a:xfrm>
            <a:off x="2743200" y="380880"/>
            <a:ext cx="2971800" cy="5943600"/>
            <a:chOff x="2743200" y="380880"/>
            <a:chExt cx="2971800" cy="5943600"/>
          </a:xfrm>
        </p:grpSpPr>
        <p:pic>
          <p:nvPicPr>
            <p:cNvPr id="172" name="Picture 3" descr="C:\PowerPoint Work\Allyn &amp; Bacon\2005 Work\Henslin 8ed\Artwork\08-05.jpg"/>
            <p:cNvPicPr/>
            <p:nvPr/>
          </p:nvPicPr>
          <p:blipFill>
            <a:blip r:embed="rId1"/>
            <a:srcRect l="0" t="0" r="0" b="78289"/>
            <a:stretch/>
          </p:blipFill>
          <p:spPr>
            <a:xfrm>
              <a:off x="2895480" y="380880"/>
              <a:ext cx="2541600" cy="266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173" name="Picture 4" descr="C:\PowerPoint Work\Allyn &amp; Bacon\2005 Work\Henslin 8ed\Artwork\08-05.jpg"/>
            <p:cNvPicPr/>
            <p:nvPr/>
          </p:nvPicPr>
          <p:blipFill>
            <a:blip r:embed="rId2"/>
            <a:srcRect l="0" t="73955" r="0" b="0"/>
            <a:stretch/>
          </p:blipFill>
          <p:spPr>
            <a:xfrm>
              <a:off x="2895480" y="3124080"/>
              <a:ext cx="2541600" cy="3200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</p:pic>
        <p:sp>
          <p:nvSpPr>
            <p:cNvPr id="174" name="AutoShape 6"/>
            <p:cNvSpPr/>
            <p:nvPr/>
          </p:nvSpPr>
          <p:spPr>
            <a:xfrm>
              <a:off x="2743200" y="2895480"/>
              <a:ext cx="2971800" cy="304920"/>
            </a:xfrm>
            <a:custGeom>
              <a:avLst/>
              <a:gdLst>
                <a:gd name="textAreaLeft" fmla="*/ 0 w 2971800"/>
                <a:gd name="textAreaRight" fmla="*/ 2972160 w 2971800"/>
                <a:gd name="textAreaTop" fmla="*/ 39240 h 304920"/>
                <a:gd name="textAreaBottom" fmla="*/ 2656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3600" y="-3560"/>
                    <a:pt x="7200" y="6360"/>
                    <a:pt x="10800" y="1400"/>
                  </a:cubicBezTo>
                  <a:cubicBezTo>
                    <a:pt x="14400" y="-3560"/>
                    <a:pt x="18000" y="6360"/>
                    <a:pt x="21600" y="1400"/>
                  </a:cubicBezTo>
                  <a:lnTo>
                    <a:pt x="21600" y="20200"/>
                  </a:lnTo>
                  <a:cubicBezTo>
                    <a:pt x="18000" y="25160"/>
                    <a:pt x="14400" y="15240"/>
                    <a:pt x="10800" y="20200"/>
                  </a:cubicBezTo>
                  <a:cubicBezTo>
                    <a:pt x="7200" y="25160"/>
                    <a:pt x="3600" y="15240"/>
                    <a:pt x="0" y="2020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buClr>
                  <a:srgbClr val="996633"/>
                </a:buClr>
                <a:buSzPct val="60000"/>
                <a:buFont typeface="Wingdings" charset="2"/>
                <a:buChar char="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g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ouble with Stat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dicalization of Devi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either Mental nor Illness?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85520" indent="-26244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omeless Mentally Ill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7600" indent="-41760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ed for More Humane Approa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66680" y="1219320"/>
            <a:ext cx="80773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eaction to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6" dur="1" fill="hold"/>
                                  <p:tgtEl>
                                    <p:spTgt spid="1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Henslin final"/>
          <p:cNvPicPr/>
          <p:nvPr/>
        </p:nvPicPr>
        <p:blipFill>
          <a:blip r:embed="rId1"/>
          <a:stretch/>
        </p:blipFill>
        <p:spPr>
          <a:xfrm>
            <a:off x="22096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Norms as Law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ce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olation of Rules or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igma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Blemishes on “Normal” Identit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viance Termin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Norms - Social Chao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ontrol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’s Formal and Informal Means of Enforc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1027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Norms Make Social Life Possibl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11320"/>
            <a:ext cx="34290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anc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5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haming is a San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Be Centerpiece of Public Ritu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gradation Ceremon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haming and Degradation Ceremoni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ok for Answers Inside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-23004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etic Predispos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219320"/>
            <a:ext cx="78487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cuses on Abnormaliti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sonality Disor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337680" indent="-33768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viant Personalit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1187280"/>
            <a:ext cx="784872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xplanations of Devian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7" dur="1" fill="hold"/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8:53Z</dcterms:modified>
  <cp:revision>178</cp:revision>
  <dc:subject>Chapter 8:Deviance and Social Control</dc:subject>
  <dc:title>Sociology: A Down-to-Earth Approach, 8/e</dc:title>
</cp:coreProperties>
</file>