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0000"/>
              </a:lnSpc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94800"/>
            <a:ext cx="4571640" cy="342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Eight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iance and Social Cont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ok for Answers Outside Individu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al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lanations of Devi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mi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iends, Neighb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cul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son or Freedo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mbolic Interactionist Perspe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tial Association The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ner Contr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r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ci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igious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mbolic Interactionist Perspectiv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ol The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er Contr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ach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it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volv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liefs that Actions are Morally Wro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mbolic Interactionist Perspe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ol The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cuses on the Significance of Lab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bels Become Part of Self-Conce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pel Towards or Away from Devi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mbolic Interactionist Perspe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beling The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nial of Responsi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nial of Inju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nial of a Victi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mbolic Interactionist Perspe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jecting Lab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demnation of Condemn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eal to Higher Loyal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mbolic Interactionist Perspe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jecting Lab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bracing Labels—Outlaw Bik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ower of Labels—Saints and Roughnec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mbolic Interactionist Perspe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beling The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rifies Moral Boundaries and Affirms No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motes Social Un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motes Social 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ctionalist Perspe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Deviance Be Functiona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al Values Produce Devi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ltural Go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itutional Me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in Leads to Anom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ctionalist Perspe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in The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is not the act itself, but the reactions to the act, that make something deviant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ard Becker, 196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Devianc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nova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tual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reat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be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ctionalist Perspe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 Deviant Pat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equal Access to Institutional Means to Suc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eet Cr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te-Collar Cr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der and Cr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ctionalist Perspe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llegitimate Opportunity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s, Crime, and the Criminal Justice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wer and Ine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Law as an Instrument of Op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onflict Perspe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eet Crime and Pris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ction to Devi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idiv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ction to Devi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eet Crime and Priso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Decline of Cr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idiv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Death Penalty B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ction to Devi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eet Crime and Priso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Decline of Cr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ative Devi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Deviant to Some is not Deviant to Oth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viance” is Nonjudgmental Te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Devianc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gal 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ouble with Stat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dicalization of Devi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ither Mental nor Illnes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meless Mentally 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ed for More Humane Approa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ction to Devi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im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olation of Norms as La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vian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olation of Rules or No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gm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emishes on “Normal” Ident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viance Termin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Norms - Social Cha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al Contro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oup’s Formal and Informal Means of Enforcing No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s Make Social Life Poss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Negative Sa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Positive Sa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Sa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aming is a Sa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Be Centerpiece of Public Rit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gradation Ceremo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aming and Degradation Ceremon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obi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ok for Answers Inside Individu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Predis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lanations of Devi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sych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cuses on Abnormalities Within Individu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onality Disor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viant Personal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lanations of Devi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65D025-28F9-45AD-B1D9-72CB140CFD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7769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68120" y="4204080"/>
            <a:ext cx="7769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B0756D-96C4-4CE3-A50C-5E29C8B65A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9360" y="205560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68120" y="420408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9360" y="420408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7D7A18-58A8-478C-BC5F-583F6C3A90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25012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94680" y="2055600"/>
            <a:ext cx="25012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21600" y="2055600"/>
            <a:ext cx="25012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68120" y="4204080"/>
            <a:ext cx="25012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94680" y="4204080"/>
            <a:ext cx="25012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21600" y="4204080"/>
            <a:ext cx="25012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887852-E7C0-4D2F-9626-AE419E19806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0B2FEF-5994-4F7F-AA69-798D7056E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68120" y="2055600"/>
            <a:ext cx="77691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79E6C8-2EE3-4808-B801-5416F1373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7769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0A66EF-CABD-4E79-9885-44A1EF6E9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3791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49360" y="2055600"/>
            <a:ext cx="3791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5F7C62-1961-47E8-B0B4-8F8299BD9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7E4F54-25A2-4E50-9266-F1F50A4E3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A10700-6549-4416-8FE0-1488B9B54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49360" y="2055600"/>
            <a:ext cx="3791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68120" y="420408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33F1D4-6537-4E34-AC70-F97839CD0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68120" y="2055600"/>
            <a:ext cx="77691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1103F2-7AC9-40F6-B4CE-40A04D684B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3791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49360" y="205560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049360" y="420408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AF92BD-BBAA-432F-A976-F0EBC5A2F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05560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8120" y="4204080"/>
            <a:ext cx="7769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1BE399-B410-4537-8AAE-DF40EAC4D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7769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68120" y="4204080"/>
            <a:ext cx="7769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D3A7FF-F6EA-4B42-B913-CF188A288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05560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8120" y="420408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049360" y="420408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B70257-B116-40D1-9F82-0CF9890A3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25012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694680" y="2055600"/>
            <a:ext cx="25012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321600" y="2055600"/>
            <a:ext cx="25012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68120" y="4204080"/>
            <a:ext cx="25012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694680" y="4204080"/>
            <a:ext cx="25012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321600" y="4204080"/>
            <a:ext cx="25012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61D088-EDD9-41F2-9D37-6D6E70B0A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7769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487EF7-5A8C-4563-AF05-43EBC65F46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3791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9360" y="2055600"/>
            <a:ext cx="3791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1E8D46-5B45-4A23-8803-00D2011BA6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EEBC95-556B-4921-AD97-0A7261619A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C3792E-9917-49D6-AC7A-C27EE943F1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9360" y="2055600"/>
            <a:ext cx="3791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68120" y="420408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86D305-DC2E-41AF-A18E-DC7BF211AA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3791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205560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9360" y="420408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92FB43-1FAB-4A19-B2DB-15924152DF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9360" y="205560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8120" y="4204080"/>
            <a:ext cx="7769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A991CE-D958-4891-A0BD-03347B4666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-3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F00B8-0EEA-4005-9F00-B13433063E72}" type="slidenum"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body"/>
          </p:nvPr>
        </p:nvSpPr>
        <p:spPr>
          <a:xfrm>
            <a:off x="1068120" y="2055600"/>
            <a:ext cx="7769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448920" indent="-44892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9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945360" indent="-40608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2" marL="1400760" indent="-36504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3" marL="1849680" indent="-35856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4" marL="2257560" indent="-31716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5" marL="2257560" indent="-31716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6" marL="2257560" indent="-31716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Rectangle 39"/>
          <p:cNvSpPr/>
          <p:nvPr/>
        </p:nvSpPr>
        <p:spPr>
          <a:xfrm>
            <a:off x="2895480" y="0"/>
            <a:ext cx="6248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Times New Roman"/>
              </a:rPr>
              <a:t>Chapter 8:Deviance and Social Control</a:t>
            </a:r>
            <a:endParaRPr b="1" lang="en-US" sz="12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0" y="0"/>
            <a:ext cx="1085760" cy="68547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68120" y="2055600"/>
            <a:ext cx="7769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448920" indent="-44892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9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945360" indent="-40608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2" marL="1400760" indent="-36504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3" marL="1849680" indent="-35856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4" marL="2257560" indent="-31716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5" marL="2257560" indent="-31716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6" marL="2257560" indent="-31716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3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4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5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0AC79-0BB8-4855-A4D2-96A220AF63C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3"/>
          <p:cNvSpPr/>
          <p:nvPr/>
        </p:nvSpPr>
        <p:spPr>
          <a:xfrm>
            <a:off x="3048120" y="3733920"/>
            <a:ext cx="510516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Chapter Eight: </a:t>
            </a:r>
            <a:endParaRPr b="1" lang="en-US" sz="3600" spc="-1" strike="noStrike">
              <a:solidFill>
                <a:srgbClr val="8663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Deviance and Social Control</a:t>
            </a:r>
            <a:endParaRPr b="1" lang="en-US" sz="36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1066680" y="20570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30040" indent="0">
              <a:lnSpc>
                <a:spcPct val="1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ociolog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230040" indent="-230040">
              <a:lnSpc>
                <a:spcPct val="19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Look for Answers Outside Individual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230040" indent="-230040">
              <a:lnSpc>
                <a:spcPct val="19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ocial Clas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1066680" y="1219320"/>
            <a:ext cx="784872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Explanations of Deviance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76" dur="1" fill="hold"/>
                                  <p:tgtEl>
                                    <p:spTgt spid="11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1066680" y="20570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30040" indent="-23004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amili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230040" indent="-23004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riends, Neighbor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230040" indent="-23004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ubcultur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230040" indent="-23004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Prison or Freedom?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7" name="Text Box 3"/>
          <p:cNvSpPr/>
          <p:nvPr/>
        </p:nvSpPr>
        <p:spPr>
          <a:xfrm>
            <a:off x="1066680" y="228600"/>
            <a:ext cx="8077320" cy="1828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Symbolic Interactionist Perspective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Differential Association Theory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9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00" dur="1" fill="hold"/>
                                  <p:tgtEl>
                                    <p:spTgt spid="11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1066680" y="20570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3004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Inner Control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230040" indent="-23004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Moralit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230040" indent="-23004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onscienc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230040" indent="-23004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Religious Principl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1066680" y="228600"/>
            <a:ext cx="7239240" cy="1828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Symbolic Interactionist Perspective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ontrol Theory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24" dur="1" fill="hold"/>
                                  <p:tgtEl>
                                    <p:spTgt spid="11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197640"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Outer Control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197640" indent="-197640">
              <a:lnSpc>
                <a:spcPct val="17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Attachment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197640" indent="-197640">
              <a:lnSpc>
                <a:spcPct val="17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ommitment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197640" indent="-197640">
              <a:lnSpc>
                <a:spcPct val="17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Involvement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197640" indent="-197640">
              <a:lnSpc>
                <a:spcPct val="17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Beliefs that Actions are Morally Wrong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3" name="Text Box 3"/>
          <p:cNvSpPr/>
          <p:nvPr/>
        </p:nvSpPr>
        <p:spPr>
          <a:xfrm>
            <a:off x="1066680" y="304920"/>
            <a:ext cx="7620120" cy="1752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Symbolic Interactionist Perspective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ontrol Theory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3" dur="1" fill="hold"/>
                                  <p:tgtEl>
                                    <p:spTgt spid="12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1066680" y="205704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30040" indent="-230040">
              <a:lnSpc>
                <a:spcPct val="24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ocuses on the Significance of Label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230040" indent="-230040">
              <a:lnSpc>
                <a:spcPct val="24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Labels Become Part of Self-Concep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230040" indent="-230040">
              <a:lnSpc>
                <a:spcPct val="24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Propel Towards or Away from Devianc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6" name="Text Box 3"/>
          <p:cNvSpPr/>
          <p:nvPr/>
        </p:nvSpPr>
        <p:spPr>
          <a:xfrm>
            <a:off x="1066680" y="228600"/>
            <a:ext cx="8077320" cy="1828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Symbolic Interactionist Perspective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abeling Theory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72" dur="1" fill="hold"/>
                                  <p:tgtEl>
                                    <p:spTgt spid="12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1066680" y="205704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30040" indent="-230040">
              <a:lnSpc>
                <a:spcPct val="22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Denial of Responsibilit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230040" indent="-230040">
              <a:lnSpc>
                <a:spcPct val="22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Denial of Injur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230040" indent="-230040">
              <a:lnSpc>
                <a:spcPct val="22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Denial of a Victim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9" name="Text Box 3"/>
          <p:cNvSpPr/>
          <p:nvPr/>
        </p:nvSpPr>
        <p:spPr>
          <a:xfrm>
            <a:off x="1066680" y="228600"/>
            <a:ext cx="8077320" cy="1828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Symbolic Interactionist Perspective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Rejecting Labels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8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91" dur="1" fill="hold"/>
                                  <p:tgtEl>
                                    <p:spTgt spid="12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30040" indent="-230040">
              <a:lnSpc>
                <a:spcPct val="24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ondemnation of Condemner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230040" indent="-230040">
              <a:lnSpc>
                <a:spcPct val="24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Appeal to Higher Loyalti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1066680" y="228600"/>
            <a:ext cx="8077320" cy="1828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Symbolic Interactionist Perspective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Rejecting Labels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0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05" dur="1" fill="hold"/>
                                  <p:tgtEl>
                                    <p:spTgt spid="13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1066320" y="2057040"/>
            <a:ext cx="80773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27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Embracing Labels—Outlaw Biker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7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e Power of Labels—Saints and Roughneck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1066680" y="228600"/>
            <a:ext cx="7925040" cy="1828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Symbolic Interactionist Perspective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abeling Theor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19" dur="1" fill="hold"/>
                                  <p:tgtEl>
                                    <p:spTgt spid="13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1066320" y="2057400"/>
            <a:ext cx="586764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-341280">
              <a:lnSpc>
                <a:spcPct val="19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larifies Moral Boundaries and Affirms Norm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341280" indent="-341280">
              <a:lnSpc>
                <a:spcPct val="19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Promotes Social Unit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341280" indent="-341280">
              <a:lnSpc>
                <a:spcPct val="19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Promotes Social Chang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38" name="Text Box 3"/>
          <p:cNvSpPr/>
          <p:nvPr/>
        </p:nvSpPr>
        <p:spPr>
          <a:xfrm>
            <a:off x="1066680" y="928800"/>
            <a:ext cx="8077320" cy="112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Functionalist Perspective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an Deviance Be Functional?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38" dur="1" fill="hold"/>
                                  <p:tgtEl>
                                    <p:spTgt spid="13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1066320" y="2057400"/>
            <a:ext cx="678204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30040" indent="-230040">
              <a:lnSpc>
                <a:spcPct val="19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ocial Values Produce Devianc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230040" indent="-230040">
              <a:lnSpc>
                <a:spcPct val="19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ultural Goal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230040" indent="-230040">
              <a:lnSpc>
                <a:spcPct val="19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Institutional Mean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230040" indent="-230040">
              <a:lnSpc>
                <a:spcPct val="19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train Leads to Anomi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1" name="Text Box 3"/>
          <p:cNvSpPr/>
          <p:nvPr/>
        </p:nvSpPr>
        <p:spPr>
          <a:xfrm>
            <a:off x="1066680" y="928800"/>
            <a:ext cx="8077320" cy="112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Functionalist Perspective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Strain Theor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62" dur="1" fill="hold"/>
                                  <p:tgtEl>
                                    <p:spTgt spid="14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6840" y="205740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30040" indent="0">
              <a:lnSpc>
                <a:spcPct val="2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“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It is not the act itself, but the reactions to the act, that make something deviant.”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230040" indent="0" algn="r">
              <a:lnSpc>
                <a:spcPct val="2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66300"/>
                </a:solidFill>
                <a:latin typeface="Times New Roman"/>
              </a:rPr>
              <a:t>Howard Becker, 1966</a:t>
            </a:r>
            <a:endParaRPr b="1" lang="en-US" sz="20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1828800" y="730080"/>
            <a:ext cx="5715000" cy="132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What is Deviance?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" dur="1" fill="hold"/>
                                  <p:tgtEl>
                                    <p:spTgt spid="8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1066320" y="2057400"/>
            <a:ext cx="678204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30040" indent="-230040">
              <a:lnSpc>
                <a:spcPct val="18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Innovator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230040" indent="-230040">
              <a:lnSpc>
                <a:spcPct val="18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Ritualism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230040" indent="-230040">
              <a:lnSpc>
                <a:spcPct val="18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Retreatism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230040" indent="-230040">
              <a:lnSpc>
                <a:spcPct val="18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Rebell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1066680" y="928800"/>
            <a:ext cx="8077320" cy="112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Functionalist Perspective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Four Deviant Path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86" dur="1" fill="hold"/>
                                  <p:tgtEl>
                                    <p:spTgt spid="14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1066320" y="2057400"/>
            <a:ext cx="58676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Unequal Access to Institutional Means to Succes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treet Crim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White-Collar Crim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Gender and Crim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7" name="Text Box 3"/>
          <p:cNvSpPr/>
          <p:nvPr/>
        </p:nvSpPr>
        <p:spPr>
          <a:xfrm>
            <a:off x="1066680" y="928800"/>
            <a:ext cx="8077320" cy="112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Functionalist Perspective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llegitimate Opportunity Structur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9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0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0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10" dur="1" fill="hold"/>
                                  <p:tgtEl>
                                    <p:spTgt spid="14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49" name="Picture 5" descr="C:\PowerPoint Work\Allyn &amp; Bacon\2005 Work\Henslin 8ed\Artwork\08-01.jpg"/>
          <p:cNvPicPr/>
          <p:nvPr/>
        </p:nvPicPr>
        <p:blipFill>
          <a:blip r:embed="rId1"/>
          <a:stretch/>
        </p:blipFill>
        <p:spPr>
          <a:xfrm>
            <a:off x="1295280" y="380880"/>
            <a:ext cx="6553440" cy="615636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1066680" y="2057040"/>
            <a:ext cx="68580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lass, Crime, and the Criminal Justice System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Power and Inequalit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e Law as an Instrument of Oppress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52" name="Text Box 3"/>
          <p:cNvSpPr/>
          <p:nvPr/>
        </p:nvSpPr>
        <p:spPr>
          <a:xfrm>
            <a:off x="1066680" y="1295280"/>
            <a:ext cx="807732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The Conflict Perspective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29" dur="1" fill="hold"/>
                                  <p:tgtEl>
                                    <p:spTgt spid="15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1066680" y="2057040"/>
            <a:ext cx="73915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8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treet Crime and Prison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55" name="Text Box 3"/>
          <p:cNvSpPr/>
          <p:nvPr/>
        </p:nvSpPr>
        <p:spPr>
          <a:xfrm>
            <a:off x="1066680" y="1295280"/>
            <a:ext cx="807732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Reaction to Deviance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38" dur="1" fill="hold"/>
                                  <p:tgtEl>
                                    <p:spTgt spid="15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57" name="Picture 3" descr="C:\PowerPoint Work\Allyn &amp; Bacon\2005 Work\Henslin 8ed\Artwork\08-02.jpg"/>
          <p:cNvPicPr/>
          <p:nvPr/>
        </p:nvPicPr>
        <p:blipFill>
          <a:blip r:embed="rId1"/>
          <a:stretch/>
        </p:blipFill>
        <p:spPr>
          <a:xfrm>
            <a:off x="2505240" y="33480"/>
            <a:ext cx="4133520" cy="67896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1066680" y="2057040"/>
            <a:ext cx="73915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0">
              <a:lnSpc>
                <a:spcPct val="1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0">
              <a:lnSpc>
                <a:spcPct val="1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8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Recidivism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60" name="Text Box 3"/>
          <p:cNvSpPr/>
          <p:nvPr/>
        </p:nvSpPr>
        <p:spPr>
          <a:xfrm>
            <a:off x="1066680" y="1295280"/>
            <a:ext cx="807732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Reaction to Deviance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61" name="Rectangle 4"/>
          <p:cNvSpPr/>
          <p:nvPr/>
        </p:nvSpPr>
        <p:spPr>
          <a:xfrm>
            <a:off x="1066680" y="2057400"/>
            <a:ext cx="632484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3960" indent="-453960">
              <a:lnSpc>
                <a:spcPct val="180000"/>
              </a:lnSpc>
              <a:spcBef>
                <a:spcPts val="799"/>
              </a:spcBef>
              <a:buClr>
                <a:srgbClr val="b2b2b2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imes New Roman"/>
              </a:rPr>
              <a:t>Street Crime and Prisons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80000"/>
              </a:lnSpc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e Decline of Crim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nodeType="clickEffect" fill="hold">
                      <p:stCondLst>
                        <p:cond delay="0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52" dur="1" fill="hold"/>
                                  <p:tgtEl>
                                    <p:spTgt spid="15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63" name="Picture 6" descr="C:\PowerPoint Work\Allyn &amp; Bacon\2005 Work\Henslin 8ed\Artwork\08-03.jpg"/>
          <p:cNvPicPr/>
          <p:nvPr/>
        </p:nvPicPr>
        <p:blipFill>
          <a:blip r:embed="rId1"/>
          <a:stretch/>
        </p:blipFill>
        <p:spPr>
          <a:xfrm>
            <a:off x="1676520" y="228600"/>
            <a:ext cx="5546520" cy="64008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1066680" y="2057040"/>
            <a:ext cx="73915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0">
              <a:lnSpc>
                <a:spcPct val="1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0">
              <a:lnSpc>
                <a:spcPct val="1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8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imes New Roman"/>
              </a:rPr>
              <a:t>Recidivism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8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e Death Penalty Bia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66" name="Text Box 3"/>
          <p:cNvSpPr/>
          <p:nvPr/>
        </p:nvSpPr>
        <p:spPr>
          <a:xfrm>
            <a:off x="1066680" y="1295280"/>
            <a:ext cx="807732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Reaction to Deviance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67" name="Rectangle 4"/>
          <p:cNvSpPr/>
          <p:nvPr/>
        </p:nvSpPr>
        <p:spPr>
          <a:xfrm>
            <a:off x="1066680" y="2057400"/>
            <a:ext cx="632484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3960" indent="-453960">
              <a:lnSpc>
                <a:spcPct val="180000"/>
              </a:lnSpc>
              <a:spcBef>
                <a:spcPts val="799"/>
              </a:spcBef>
              <a:buClr>
                <a:srgbClr val="b2b2b2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imes New Roman"/>
              </a:rPr>
              <a:t>Street Crime and Prisons 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80000"/>
              </a:lnSpc>
              <a:spcBef>
                <a:spcPts val="799"/>
              </a:spcBef>
              <a:buClr>
                <a:srgbClr val="b2b2b2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imes New Roman"/>
              </a:rPr>
              <a:t>The Decline of Crim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69" name="Picture 3" descr="C:\PowerPoint Work\Allyn &amp; Bacon\2005 Work\Henslin 8ed\Artwork\08-04.jpg"/>
          <p:cNvPicPr/>
          <p:nvPr/>
        </p:nvPicPr>
        <p:blipFill>
          <a:blip r:embed="rId1"/>
          <a:stretch/>
        </p:blipFill>
        <p:spPr>
          <a:xfrm>
            <a:off x="685800" y="380880"/>
            <a:ext cx="7620120" cy="61279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1066680" y="205740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449280" indent="-44928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Relative Devianc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9280" indent="-44928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What is Deviant to Some is not Deviant to Other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9280" indent="-44928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“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Deviance” is Nonjudgmental Term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1066680" y="806400"/>
            <a:ext cx="5181840" cy="125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What is Deviance?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8" dur="1" fill="hold"/>
                                  <p:tgtEl>
                                    <p:spTgt spid="9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grpSp>
        <p:nvGrpSpPr>
          <p:cNvPr id="171" name="Group 7"/>
          <p:cNvGrpSpPr/>
          <p:nvPr/>
        </p:nvGrpSpPr>
        <p:grpSpPr>
          <a:xfrm>
            <a:off x="2743200" y="380880"/>
            <a:ext cx="2971800" cy="5943600"/>
            <a:chOff x="2743200" y="380880"/>
            <a:chExt cx="2971800" cy="5943600"/>
          </a:xfrm>
        </p:grpSpPr>
        <p:pic>
          <p:nvPicPr>
            <p:cNvPr id="172" name="Picture 3" descr="C:\PowerPoint Work\Allyn &amp; Bacon\2005 Work\Henslin 8ed\Artwork\08-05.jpg"/>
            <p:cNvPicPr/>
            <p:nvPr/>
          </p:nvPicPr>
          <p:blipFill>
            <a:blip r:embed="rId1"/>
            <a:srcRect l="0" t="0" r="0" b="78289"/>
            <a:stretch/>
          </p:blipFill>
          <p:spPr>
            <a:xfrm>
              <a:off x="2895480" y="380880"/>
              <a:ext cx="2541600" cy="26672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000000"/>
              </a:outerShdw>
            </a:effectLst>
          </p:spPr>
        </p:pic>
        <p:pic>
          <p:nvPicPr>
            <p:cNvPr id="173" name="Picture 4" descr="C:\PowerPoint Work\Allyn &amp; Bacon\2005 Work\Henslin 8ed\Artwork\08-05.jpg"/>
            <p:cNvPicPr/>
            <p:nvPr/>
          </p:nvPicPr>
          <p:blipFill>
            <a:blip r:embed="rId2"/>
            <a:srcRect l="0" t="73955" r="0" b="0"/>
            <a:stretch/>
          </p:blipFill>
          <p:spPr>
            <a:xfrm>
              <a:off x="2895480" y="3124080"/>
              <a:ext cx="2541600" cy="32004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000000"/>
              </a:outerShdw>
            </a:effectLst>
          </p:spPr>
        </p:pic>
        <p:sp>
          <p:nvSpPr>
            <p:cNvPr id="174" name="AutoShape 6"/>
            <p:cNvSpPr/>
            <p:nvPr/>
          </p:nvSpPr>
          <p:spPr>
            <a:xfrm>
              <a:off x="2743200" y="2895480"/>
              <a:ext cx="2971800" cy="304920"/>
            </a:xfrm>
            <a:custGeom>
              <a:avLst/>
              <a:gdLst>
                <a:gd name="textAreaLeft" fmla="*/ 0 w 2971800"/>
                <a:gd name="textAreaRight" fmla="*/ 2972160 w 2971800"/>
                <a:gd name="textAreaTop" fmla="*/ 39240 h 304920"/>
                <a:gd name="textAreaBottom" fmla="*/ 2656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400"/>
                  </a:moveTo>
                  <a:cubicBezTo>
                    <a:pt x="3600" y="-3560"/>
                    <a:pt x="7200" y="6360"/>
                    <a:pt x="10800" y="1400"/>
                  </a:cubicBezTo>
                  <a:cubicBezTo>
                    <a:pt x="14400" y="-3560"/>
                    <a:pt x="18000" y="6360"/>
                    <a:pt x="21600" y="1400"/>
                  </a:cubicBezTo>
                  <a:lnTo>
                    <a:pt x="21600" y="20200"/>
                  </a:lnTo>
                  <a:cubicBezTo>
                    <a:pt x="18000" y="25160"/>
                    <a:pt x="14400" y="15240"/>
                    <a:pt x="10800" y="20200"/>
                  </a:cubicBezTo>
                  <a:cubicBezTo>
                    <a:pt x="7200" y="25160"/>
                    <a:pt x="3600" y="15240"/>
                    <a:pt x="0" y="20200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0000"/>
                </a:lnSpc>
                <a:spcBef>
                  <a:spcPts val="799"/>
                </a:spcBef>
                <a:buClr>
                  <a:srgbClr val="996633"/>
                </a:buClr>
                <a:buSzPct val="60000"/>
                <a:buFont typeface="Wingdings" charset="2"/>
                <a:buChar char="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866300"/>
                </a:solidFill>
                <a:latin typeface="Times New Roman"/>
              </a:endParaRPr>
            </a:p>
          </p:txBody>
        </p:sp>
      </p:grp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1066320" y="2057040"/>
            <a:ext cx="80773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417600" indent="-417600">
              <a:lnSpc>
                <a:spcPct val="13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Legal Chang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17600" indent="-417600">
              <a:lnSpc>
                <a:spcPct val="13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rouble with Statistic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17600" indent="-417600">
              <a:lnSpc>
                <a:spcPct val="13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Medicalization of Devianc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785520" indent="-262440">
              <a:lnSpc>
                <a:spcPct val="13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Neither Mental nor Illness?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lvl="1" marL="785520" indent="-262440">
              <a:lnSpc>
                <a:spcPct val="13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Homeless Mentally Ill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marL="417600" indent="-417600">
              <a:lnSpc>
                <a:spcPct val="13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Need for More Humane Approach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77" name="Text Box 3"/>
          <p:cNvSpPr/>
          <p:nvPr/>
        </p:nvSpPr>
        <p:spPr>
          <a:xfrm>
            <a:off x="1066680" y="1219320"/>
            <a:ext cx="807732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Reaction to Deviance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6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86" dur="1" fill="hold"/>
                                  <p:tgtEl>
                                    <p:spTgt spid="17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7" descr="Henslin final"/>
          <p:cNvPicPr/>
          <p:nvPr/>
        </p:nvPicPr>
        <p:blipFill>
          <a:blip r:embed="rId1"/>
          <a:stretch/>
        </p:blipFill>
        <p:spPr>
          <a:xfrm>
            <a:off x="2209680" y="228600"/>
            <a:ext cx="4705560" cy="64008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</p:pic>
      <p:sp>
        <p:nvSpPr>
          <p:cNvPr id="179" name="Місце для нижнього колонтитула 1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1066320" y="205704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4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rime 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4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Violation of Norms as Laws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4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Deviance 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4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Violation of Rules or Norms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4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tigma 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4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Blemishes on “Normal” Identity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1066680" y="654120"/>
            <a:ext cx="6477120" cy="1403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Deviance Terminology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5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2" dur="1" fill="hold"/>
                                  <p:tgtEl>
                                    <p:spTgt spid="95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1066680" y="2133720"/>
            <a:ext cx="64771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8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No Norms - Social Chao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8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ocial Control 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8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Group’s Formal and Informal Means of Enforcing Norms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9" name="Text Box 1027"/>
          <p:cNvSpPr/>
          <p:nvPr/>
        </p:nvSpPr>
        <p:spPr>
          <a:xfrm>
            <a:off x="1066680" y="806400"/>
            <a:ext cx="6400800" cy="125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Norms Make Social Life Possible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81" dur="1" fill="hold"/>
                                  <p:tgtEl>
                                    <p:spTgt spid="9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1066320" y="2057400"/>
            <a:ext cx="7162920" cy="373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30040" indent="-230040">
              <a:lnSpc>
                <a:spcPct val="27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Negative Sanction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230040" indent="-230040">
              <a:lnSpc>
                <a:spcPct val="27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Positive Sanction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2" name="Text Box 3"/>
          <p:cNvSpPr/>
          <p:nvPr/>
        </p:nvSpPr>
        <p:spPr>
          <a:xfrm>
            <a:off x="1066680" y="1111320"/>
            <a:ext cx="3429000" cy="946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Sanctions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5" dur="1" fill="hold"/>
                                  <p:tgtEl>
                                    <p:spTgt spid="10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1066320" y="2057040"/>
            <a:ext cx="71629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30040" indent="-23004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haming is a Sanc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230040" indent="-23004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an Be Centerpiece of Public Ritua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230040" indent="-23004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Degradation Ceremon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1066680" y="714240"/>
            <a:ext cx="7848720" cy="1343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Shaming and Degradation Ceremonies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14" dur="1" fill="hold"/>
                                  <p:tgtEl>
                                    <p:spTgt spid="10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1066680" y="20570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30040" indent="0">
              <a:lnSpc>
                <a:spcPct val="1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ociobiolog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230040" indent="-230040">
              <a:lnSpc>
                <a:spcPct val="18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Look for Answers Inside Individual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230040" indent="-230040">
              <a:lnSpc>
                <a:spcPct val="18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Genetic Predisposition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8" name="Text Box 3"/>
          <p:cNvSpPr/>
          <p:nvPr/>
        </p:nvSpPr>
        <p:spPr>
          <a:xfrm>
            <a:off x="1066680" y="1219320"/>
            <a:ext cx="784872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Explanations of Deviance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33" dur="1" fill="hold"/>
                                  <p:tgtEl>
                                    <p:spTgt spid="10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1066320" y="2057040"/>
            <a:ext cx="61722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768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Psycholog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337680" indent="-33768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ocuses on Abnormalities Within Individual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337680" indent="-33768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Personality Disorder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337680" indent="-33768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Deviant Personaliti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1" name="Text Box 3"/>
          <p:cNvSpPr/>
          <p:nvPr/>
        </p:nvSpPr>
        <p:spPr>
          <a:xfrm>
            <a:off x="1066680" y="1187280"/>
            <a:ext cx="7848720" cy="870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Explanations of Deviance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57" dur="1" fill="hold"/>
                                  <p:tgtEl>
                                    <p:spTgt spid="11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5-05T18:08:30Z</dcterms:created>
  <dc:creator>James Henslin</dc:creator>
  <dc:description/>
  <dc:language>en-US</dc:language>
  <cp:lastModifiedBy>Legion</cp:lastModifiedBy>
  <dcterms:modified xsi:type="dcterms:W3CDTF">2017-07-04T13:18:53Z</dcterms:modified>
  <cp:revision>178</cp:revision>
  <dc:subject>Chapter 8:Deviance and Social Control</dc:subject>
  <dc:title>Sociology: A Down-to-Earth Approach, 8/e</dc:title>
</cp:coreProperties>
</file>