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Eigh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and Social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for Answers Outside Individ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nations of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iends, Neighb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son or Freedo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ial Association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ner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gious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er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l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iefs that Actions are Morally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es on the Significance of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s Become Part of Self-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l Towards or Away from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ing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ial of Respo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ial of Inj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ial of a Vict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jecting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emnation of Condem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al to Higher Loyal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jecting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bracing Labels—Outlaw Bi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wer of Labels—Saints and Roughne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ing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rifies Moral Boundaries and Affirms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motes Social 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motes Soci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Deviance Be Functio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Values Produce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al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itutional M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in Leads to An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in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not the act itself, but the reactions to the act, that make something deviant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ard Becker, 19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Devia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nov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tu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eat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be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Deviant P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equal Access to Institutional Means to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et C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te-Collar C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C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legitimate Opportunity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, Crime, and the Criminal Justic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and Ine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w as an Instrument of Op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flic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et Crime and Pri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 to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idiv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 to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et Crime and Pris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cline of C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idiv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ath Penalty 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 to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et Crime and Pris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cline of C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Deviant to Some is not Deviant to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ance” is Nonjudgmental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Devia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uble with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ization of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ther Mental nor Illne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less Mentally 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for More Humane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 to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ation of Norms as 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ation of Rules or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g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emishes on “Normal” Id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ance Termi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Norms - Social Cha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ontr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’s Formal and Informal Means of Enforcing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s Make Social Life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egative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sitive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ming is a Sa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Centerpiece of Public Ri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adation Cerem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ming and Degradation Ceremo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for Answers Inside Individ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redis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nations of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ych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es on Abnormalities Within Individ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ity Dis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ant Person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nations of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502D2-4877-40A2-B117-0D6C7D33E4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689F9-9AA1-4673-9688-E810AC89EE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5424E-0ADA-4B5C-8552-B56FBFA498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78EC5-4105-4683-82FF-03134CAB1F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739E0-F72E-488F-8B67-D72E5E7E0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C3A0F-59EE-4A53-8992-87B8EC5F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F0A4C-10B6-4734-AAAF-ACEB05D6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12280-8863-4912-9199-713C818B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FEA3AE-D937-4438-901B-7E06FE4C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D4C36-FD39-4ACF-940D-F25EFC27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C6D7B-517A-4F39-99B3-3CCB65EA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4D46C-F2AC-4905-AE16-5E822A977E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167A0-2113-4853-A1E6-57D6F9F5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AA76A-AA8E-4140-9CE2-4A0EBFF6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C72DC-C3EF-4981-8D15-E6C9A608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051E9-02DF-42DF-A084-074B72881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F7043-7400-4C31-B7B5-4C38EDAD5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7B04A-00F5-44E4-8DD4-D2B5CB07CF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5BF7F-20AF-4935-9B41-7D732EA9E3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83CB8-3CE5-4FC0-AA90-97B060E8EF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9FFED-0746-4A65-87BE-E865FCDFD3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AB0AA-C9C7-4280-87BB-AB010CEB17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03B7B-AA91-4D6A-B903-D7A3D747E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71F06-6847-46E4-A9D2-ABFED03E7D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A5C7-F872-4F28-BE4A-38D594834B07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8:Deviance and Social Control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4715-F2D6-4311-B590-10B346BCFA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048120" y="3733920"/>
            <a:ext cx="5105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Eight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Deviance and Social Control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ook for Answers Outside Individu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066680" y="1219320"/>
            <a:ext cx="78487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xplanations of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6" dur="1" fill="hold"/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iends, Neighbo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ub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ison or Freedom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066680" y="228600"/>
            <a:ext cx="8077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ifferential Association The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0" dur="1" fill="hold"/>
                                  <p:tgtEl>
                                    <p:spTgt spid="11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ner Contro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r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scie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us Princip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066680" y="228600"/>
            <a:ext cx="723924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ntrol The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4" dur="1" fill="hold"/>
                                  <p:tgtEl>
                                    <p:spTgt spid="11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19764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uter Contro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97640" indent="-19764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ttachm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97640" indent="-19764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mmitm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97640" indent="-19764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volvem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97640" indent="-19764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eliefs that Actions are Morally Wro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066680" y="304920"/>
            <a:ext cx="76201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ntrol The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3" dur="1" fill="hold"/>
                                  <p:tgtEl>
                                    <p:spTgt spid="12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cuses on the Significance of Labe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bels Become Part of Self-Concep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pel Towards or Away from Devi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066680" y="228600"/>
            <a:ext cx="8077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abeling The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2" dur="1" fill="hold"/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2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nial of Responsibi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nial of Inju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nial of a Victi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6680" y="228600"/>
            <a:ext cx="8077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jecting Label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1" dur="1" fill="hold"/>
                                  <p:tgtEl>
                                    <p:spTgt spid="1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demnation of Condemn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eal to Higher Loyalt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066680" y="228600"/>
            <a:ext cx="8077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jecting Label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5" dur="1" fill="hold"/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mbracing Labels—Outlaw Bik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Power of Labels—Saints and Roughneck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66680" y="228600"/>
            <a:ext cx="792504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abeling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9" dur="1" fill="hold"/>
                                  <p:tgtEl>
                                    <p:spTgt spid="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58676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arifies Moral Boundaries and Affirms Norm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341280" indent="-34128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motes Social Un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341280" indent="-34128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motes Social Chan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066680" y="928800"/>
            <a:ext cx="8077320" cy="11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unctional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an Deviance Be Functional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8" dur="1" fill="hold"/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7820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Values Produce Devi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al Go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stitutional Me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rain Leads to Anomi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066680" y="928800"/>
            <a:ext cx="8077320" cy="11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unctional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train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2" dur="1" fill="hold"/>
                                  <p:tgtEl>
                                    <p:spTgt spid="14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2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t is not the act itself, but the reactions to the act, that make something deviant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0" algn="r">
              <a:lnSpc>
                <a:spcPct val="2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66300"/>
                </a:solidFill>
                <a:latin typeface="Times New Roman"/>
              </a:rPr>
              <a:t>Howard Becker, 1966</a:t>
            </a:r>
            <a:endParaRPr b="1" lang="en-US" sz="20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828800" y="730080"/>
            <a:ext cx="57150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at is Deviance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8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7820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novato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itu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treat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bell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66680" y="928800"/>
            <a:ext cx="8077320" cy="11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unctional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our Deviant Path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6" dur="1" fill="hold"/>
                                  <p:tgtEl>
                                    <p:spTgt spid="14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58676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equal Access to Institutional Means to Succ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reet Cr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ite-Collar Cr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and Cr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066680" y="928800"/>
            <a:ext cx="8077320" cy="11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unctional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llegitimate Opportunity Structur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0" dur="1" fill="hold"/>
                                  <p:tgtEl>
                                    <p:spTgt spid="1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9" name="Picture 5" descr="C:\PowerPoint Work\Allyn &amp; Bacon\2005 Work\Henslin 8ed\Artwork\08-01.jpg"/>
          <p:cNvPicPr/>
          <p:nvPr/>
        </p:nvPicPr>
        <p:blipFill>
          <a:blip r:embed="rId1"/>
          <a:stretch/>
        </p:blipFill>
        <p:spPr>
          <a:xfrm>
            <a:off x="1295280" y="380880"/>
            <a:ext cx="6553440" cy="6156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ass, Crime, and the Criminal Justice Syste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 and Inequ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Law as an Instrument of Oppress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066680" y="1295280"/>
            <a:ext cx="80773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 Conflic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9" dur="1" fill="hold"/>
                                  <p:tgtEl>
                                    <p:spTgt spid="1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reet Crime and Pris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066680" y="1295280"/>
            <a:ext cx="80773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eaction to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8" dur="1" fill="hold"/>
                                  <p:tgtEl>
                                    <p:spTgt spid="1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7" name="Picture 3" descr="C:\PowerPoint Work\Allyn &amp; Bacon\2005 Work\Henslin 8ed\Artwork\08-02.jpg"/>
          <p:cNvPicPr/>
          <p:nvPr/>
        </p:nvPicPr>
        <p:blipFill>
          <a:blip r:embed="rId1"/>
          <a:stretch/>
        </p:blipFill>
        <p:spPr>
          <a:xfrm>
            <a:off x="2505240" y="33480"/>
            <a:ext cx="4133520" cy="6789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cidiv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066680" y="1295280"/>
            <a:ext cx="80773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eaction to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066680" y="2057400"/>
            <a:ext cx="63248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Street Crime and Prisons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Decline of Cr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2" dur="1" fill="hold"/>
                                  <p:tgtEl>
                                    <p:spTgt spid="1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3" name="Picture 6" descr="C:\PowerPoint Work\Allyn &amp; Bacon\2005 Work\Henslin 8ed\Artwork\08-03.jpg"/>
          <p:cNvPicPr/>
          <p:nvPr/>
        </p:nvPicPr>
        <p:blipFill>
          <a:blip r:embed="rId1"/>
          <a:stretch/>
        </p:blipFill>
        <p:spPr>
          <a:xfrm>
            <a:off x="1676520" y="228600"/>
            <a:ext cx="554652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Recidiv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Death Penalty Bia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066680" y="1295280"/>
            <a:ext cx="80773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eaction to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066680" y="2057400"/>
            <a:ext cx="63248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Street Crime and Prisons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The Decline of Cr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9" name="Picture 3" descr="C:\PowerPoint Work\Allyn &amp; Bacon\2005 Work\Henslin 8ed\Artwork\08-04.jpg"/>
          <p:cNvPicPr/>
          <p:nvPr/>
        </p:nvPicPr>
        <p:blipFill>
          <a:blip r:embed="rId1"/>
          <a:stretch/>
        </p:blipFill>
        <p:spPr>
          <a:xfrm>
            <a:off x="685800" y="380880"/>
            <a:ext cx="7620120" cy="6127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ative Devi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at is Deviant to Some is not Deviant to 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viance” is Nonjudgmental Ter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66680" y="806400"/>
            <a:ext cx="51818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at is Deviance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71" name="Group 7"/>
          <p:cNvGrpSpPr/>
          <p:nvPr/>
        </p:nvGrpSpPr>
        <p:grpSpPr>
          <a:xfrm>
            <a:off x="2743200" y="380880"/>
            <a:ext cx="2971800" cy="5943600"/>
            <a:chOff x="2743200" y="380880"/>
            <a:chExt cx="2971800" cy="5943600"/>
          </a:xfrm>
        </p:grpSpPr>
        <p:pic>
          <p:nvPicPr>
            <p:cNvPr id="172" name="Picture 3" descr="C:\PowerPoint Work\Allyn &amp; Bacon\2005 Work\Henslin 8ed\Artwork\08-05.jpg"/>
            <p:cNvPicPr/>
            <p:nvPr/>
          </p:nvPicPr>
          <p:blipFill>
            <a:blip r:embed="rId1"/>
            <a:srcRect l="0" t="0" r="0" b="78289"/>
            <a:stretch/>
          </p:blipFill>
          <p:spPr>
            <a:xfrm>
              <a:off x="2895480" y="380880"/>
              <a:ext cx="2541600" cy="2667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73" name="Picture 4" descr="C:\PowerPoint Work\Allyn &amp; Bacon\2005 Work\Henslin 8ed\Artwork\08-05.jpg"/>
            <p:cNvPicPr/>
            <p:nvPr/>
          </p:nvPicPr>
          <p:blipFill>
            <a:blip r:embed="rId2"/>
            <a:srcRect l="0" t="73955" r="0" b="0"/>
            <a:stretch/>
          </p:blipFill>
          <p:spPr>
            <a:xfrm>
              <a:off x="2895480" y="3124080"/>
              <a:ext cx="2541600" cy="3200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sp>
          <p:nvSpPr>
            <p:cNvPr id="174" name="AutoShape 6"/>
            <p:cNvSpPr/>
            <p:nvPr/>
          </p:nvSpPr>
          <p:spPr>
            <a:xfrm>
              <a:off x="2743200" y="2895480"/>
              <a:ext cx="2971800" cy="304920"/>
            </a:xfrm>
            <a:custGeom>
              <a:avLst/>
              <a:gdLst>
                <a:gd name="textAreaLeft" fmla="*/ 0 w 2971800"/>
                <a:gd name="textAreaRight" fmla="*/ 2972160 w 2971800"/>
                <a:gd name="textAreaTop" fmla="*/ 39240 h 304920"/>
                <a:gd name="textAreaBottom" fmla="*/ 2656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buClr>
                  <a:srgbClr val="996633"/>
                </a:buClr>
                <a:buSzPct val="60000"/>
                <a:buFont typeface="Wingdings" charset="2"/>
                <a:buChar char="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17600" indent="-41760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gal Chan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17600" indent="-41760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rouble with Stat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17600" indent="-41760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edicalization of Devi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85520" indent="-26244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Neither Mental nor Illness?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85520" indent="-26244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omeless Mentally Ill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17600" indent="-41760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eed for More Humane Approac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066680" y="1219320"/>
            <a:ext cx="80773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eaction to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6" dur="1" fill="hold"/>
                                  <p:tgtEl>
                                    <p:spTgt spid="17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7" descr="Henslin final"/>
          <p:cNvPicPr/>
          <p:nvPr/>
        </p:nvPicPr>
        <p:blipFill>
          <a:blip r:embed="rId1"/>
          <a:stretch/>
        </p:blipFill>
        <p:spPr>
          <a:xfrm>
            <a:off x="2209680" y="228600"/>
            <a:ext cx="470556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rime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iolation of Norms as Law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viance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iolation of Rules or Norm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igma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Blemishes on “Normal” Ident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654120"/>
            <a:ext cx="6477120" cy="14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eviance Terminolog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" dur="1" fill="hold"/>
                                  <p:tgtEl>
                                    <p:spTgt spid="9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213372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o Norms - Social Chao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ontrol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Group’s Formal and Informal Means of Enforcing Norm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1027"/>
          <p:cNvSpPr/>
          <p:nvPr/>
        </p:nvSpPr>
        <p:spPr>
          <a:xfrm>
            <a:off x="1066680" y="806400"/>
            <a:ext cx="640080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Norms Make Social Life Possibl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1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16292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2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egative Sanc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sitive Sanc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1111320"/>
            <a:ext cx="3429000" cy="94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anc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5" dur="1" fill="hold"/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haming is a San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n Be Centerpiece of Public Ritu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gradation Ceremon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66680" y="714240"/>
            <a:ext cx="784872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haming and Degradation Ceremon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4" dur="1" fill="hold"/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b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ook for Answers Inside Individu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etic Predisposi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066680" y="1219320"/>
            <a:ext cx="78487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xplanations of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" dur="1" fill="hold"/>
                                  <p:tgtEl>
                                    <p:spTgt spid="1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76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sych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337680" indent="-3376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cuses on Abnormalities Within Individu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337680" indent="-3376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rsonality Disord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337680" indent="-3376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viant Personalit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66680" y="1187280"/>
            <a:ext cx="7848720" cy="87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xplanations of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7" dur="1" fill="hold"/>
                                  <p:tgtEl>
                                    <p:spTgt spid="1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4T13:18:53Z</dcterms:modified>
  <cp:revision>178</cp:revision>
  <dc:subject>Chapter 8:Deviance and Social Control</dc:subject>
  <dc:title>Sociology: A Down-to-Earth Approach, 8/e</dc:title>
</cp:coreProperties>
</file>