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kways - Norms not Strictly Enfor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s - Core Values:  We Insist on Conform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kways and M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ulture - A World Within the Dominant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ercultures - Groups With Norms and Values at Odds With the Dominant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ultures and Countercul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in U.S.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ievement and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 and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cy and Practic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ence and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in U.S.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 Com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itari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e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c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in U.S.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ism and Group Supe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gio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mantic L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in U.S.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precisely at the point of value contradictions, then, that one can see a major force for social change in a society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Contradictions and Soci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i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-fulfill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Fi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thful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rn for the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erg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Wars: When Values Cl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s Blin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l” vs. “Real”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and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ctivities are Universal - Courtship, Marriage, Funerals, G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 Customs Associated with Activities Differ Between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al Univer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, Beliefs, Values, Norms, Behavior Passed from One Generation to the 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 vs. Nonmaterial Cul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Cul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versial View of Human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y Cause of Human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les Darwin and Natural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sts and Social Biologists on Opposite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w Technology - New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al Lag and Cultur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y and Cultural Lev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y in the Global Vil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Normal, Natural, or Usu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ulture Within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as L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Sh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nocent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and Taken-for-Granted Ori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ing Cultures on Their Own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ck Cultur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ronting Contrasting Views of 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cticing Cultural Relativ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ying Messages without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ures’ Meaning Differ Among Cul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Lead to Misunderstan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of Symbolic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Human Experience to be Cumul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Social or Shared 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Social or Shared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Shared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Complex, Shared, Goal-Directed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of Symbolic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 Has Embedded Within It Ways of Looking at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pir-Whorf Reverses Common S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 and Perception:                 Sapir-Who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- What is Desirable in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s - Expectations or Rules for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ctions - Reaction to Following or Breaking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ve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 Holi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, Norms, and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2DCD7-898D-4354-B784-E181F768E8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AAD5F-6033-4CF6-99F4-52CB04AC35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5E521-EB46-4E6D-A113-E0966F4ED5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C72BE-FCC0-497C-AFD6-3643D6B6FF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4BD7C-E558-4FD4-8ED5-D4E6DB9CE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1E2F8-6D76-4E3E-B33B-3B707765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79D87-6C1D-4158-BC62-CF9BC50B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3F0F0-4FE6-4F68-B011-4DA6B35D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0AA662-07DC-4164-9B4B-B0166B72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600B5-F323-4F96-B86C-E257C88D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B7161-E0D8-4897-ABC7-82DFB78B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EBD69-4FF2-4A53-88EE-63DE56038C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44BFA-1B87-44C4-862B-BEFBEA1D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9196B-354C-41C0-AF37-B581A9B4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C05EB-3462-486A-B0ED-E3A07157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9BFB9-203C-4DF1-A874-A649F9C0A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C372D2-A2EC-4D59-AB40-8E077F8D5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C987B-C05A-4E94-94C5-CE08F5979A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D8BDF-DFC9-4F88-92A6-5B3053E617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363C6-01CD-4232-B69B-3D5E6B47B7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E5700-71EC-4679-898E-6FF0C178BD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FC8AE-4A62-4909-83FF-EFC01336A0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FD77C-A8C1-42F4-9C20-A289F28DAC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88615-86D6-4B28-9B09-34C1FFF970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7F3F-A7F0-4251-A606-7E7205CA3B89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2: Culture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7C4C-6DBB-4650-8A12-E3199C32ED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2514600" y="3828960"/>
            <a:ext cx="6095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Two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ulture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lkways - Norms not Strictly Enforc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res - Core Values:  We Insist on Conform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066680" y="730080"/>
            <a:ext cx="70866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olkways and Mor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6" dur="1" fill="hold"/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ubculture - A World Within the Dominant 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untercultures - Groups With Norms and Values at Odds With the Dominant 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066680" y="762120"/>
            <a:ext cx="723924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ubcultures and Countercultur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4" dur="1" fill="hold"/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523880" y="685800"/>
            <a:ext cx="6553440" cy="990720"/>
          </a:xfrm>
          <a:prstGeom prst="rect">
            <a:avLst/>
          </a:prstGeom>
          <a:solidFill>
            <a:srgbClr val="fff0a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2160" rIns="92160" tIns="46080" bIns="4608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in U.S. Socie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19" name="Group 3"/>
          <p:cNvGrpSpPr/>
          <p:nvPr/>
        </p:nvGrpSpPr>
        <p:grpSpPr>
          <a:xfrm>
            <a:off x="1752480" y="1828800"/>
            <a:ext cx="6095880" cy="4255920"/>
            <a:chOff x="1752480" y="1828800"/>
            <a:chExt cx="6095880" cy="4255920"/>
          </a:xfrm>
        </p:grpSpPr>
        <p:sp>
          <p:nvSpPr>
            <p:cNvPr id="120" name="Rectangle 4"/>
            <p:cNvSpPr/>
            <p:nvPr/>
          </p:nvSpPr>
          <p:spPr>
            <a:xfrm>
              <a:off x="5816520" y="5272200"/>
              <a:ext cx="2031840" cy="81252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Romantic Love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1" name="Rectangle 5"/>
            <p:cNvSpPr/>
            <p:nvPr/>
          </p:nvSpPr>
          <p:spPr>
            <a:xfrm>
              <a:off x="3784320" y="5272200"/>
              <a:ext cx="2032200" cy="81252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Democrac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2" name="Rectangle 6"/>
            <p:cNvSpPr/>
            <p:nvPr/>
          </p:nvSpPr>
          <p:spPr>
            <a:xfrm>
              <a:off x="1752480" y="5272200"/>
              <a:ext cx="2031840" cy="81252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Science and Technolog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5816520" y="445932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Religiosit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>
              <a:off x="3784320" y="4459320"/>
              <a:ext cx="203220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Freedom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5" name="Rectangle 9"/>
            <p:cNvSpPr/>
            <p:nvPr/>
          </p:nvSpPr>
          <p:spPr>
            <a:xfrm>
              <a:off x="1752480" y="445932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Efficiency and Practicalit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6" name="Rectangle 10"/>
            <p:cNvSpPr/>
            <p:nvPr/>
          </p:nvSpPr>
          <p:spPr>
            <a:xfrm>
              <a:off x="5816520" y="364644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Education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7" name="Rectangle 11"/>
            <p:cNvSpPr/>
            <p:nvPr/>
          </p:nvSpPr>
          <p:spPr>
            <a:xfrm>
              <a:off x="3784320" y="3646440"/>
              <a:ext cx="203220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Humanitarianism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8" name="Rectangle 12"/>
            <p:cNvSpPr/>
            <p:nvPr/>
          </p:nvSpPr>
          <p:spPr>
            <a:xfrm>
              <a:off x="1752480" y="364644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Activity and Work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9" name="Rectangle 13"/>
            <p:cNvSpPr/>
            <p:nvPr/>
          </p:nvSpPr>
          <p:spPr>
            <a:xfrm>
              <a:off x="5816520" y="2641680"/>
              <a:ext cx="2031840" cy="100476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Racism and Group Superiorit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0" name="Rectangle 14"/>
            <p:cNvSpPr/>
            <p:nvPr/>
          </p:nvSpPr>
          <p:spPr>
            <a:xfrm>
              <a:off x="3784320" y="2641680"/>
              <a:ext cx="2032200" cy="100476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Material Comfort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1" name="Rectangle 15"/>
            <p:cNvSpPr/>
            <p:nvPr/>
          </p:nvSpPr>
          <p:spPr>
            <a:xfrm>
              <a:off x="1752480" y="2641680"/>
              <a:ext cx="2031840" cy="100476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Individualism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2" name="Rectangle 16"/>
            <p:cNvSpPr/>
            <p:nvPr/>
          </p:nvSpPr>
          <p:spPr>
            <a:xfrm>
              <a:off x="5816520" y="182880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Equalit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3" name="Rectangle 17"/>
            <p:cNvSpPr/>
            <p:nvPr/>
          </p:nvSpPr>
          <p:spPr>
            <a:xfrm>
              <a:off x="3784320" y="1828800"/>
              <a:ext cx="203220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Progress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4" name="Rectangle 18"/>
            <p:cNvSpPr/>
            <p:nvPr/>
          </p:nvSpPr>
          <p:spPr>
            <a:xfrm>
              <a:off x="1752480" y="182880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Achievement and Success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>
              <a:off x="1752480" y="1828800"/>
              <a:ext cx="6095880" cy="0"/>
            </a:xfrm>
            <a:prstGeom prst="line">
              <a:avLst/>
            </a:prstGeom>
            <a:ln cap="sq" w="2844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>
              <a:off x="1752480" y="2641680"/>
              <a:ext cx="6095880" cy="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7" name="Line 21"/>
            <p:cNvSpPr/>
            <p:nvPr/>
          </p:nvSpPr>
          <p:spPr>
            <a:xfrm>
              <a:off x="1752480" y="3646440"/>
              <a:ext cx="6095880" cy="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8" name="Line 22"/>
            <p:cNvSpPr/>
            <p:nvPr/>
          </p:nvSpPr>
          <p:spPr>
            <a:xfrm>
              <a:off x="1752480" y="4459320"/>
              <a:ext cx="6095880" cy="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>
              <a:off x="1752480" y="5272200"/>
              <a:ext cx="6095880" cy="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0" name="Line 24"/>
            <p:cNvSpPr/>
            <p:nvPr/>
          </p:nvSpPr>
          <p:spPr>
            <a:xfrm>
              <a:off x="1752480" y="6084720"/>
              <a:ext cx="6095880" cy="0"/>
            </a:xfrm>
            <a:prstGeom prst="line">
              <a:avLst/>
            </a:prstGeom>
            <a:ln cap="sq" w="2844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1" name="Line 25"/>
            <p:cNvSpPr/>
            <p:nvPr/>
          </p:nvSpPr>
          <p:spPr>
            <a:xfrm>
              <a:off x="1752480" y="1828800"/>
              <a:ext cx="0" cy="4255920"/>
            </a:xfrm>
            <a:prstGeom prst="line">
              <a:avLst/>
            </a:prstGeom>
            <a:ln cap="sq" w="2844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2" name="Line 26"/>
            <p:cNvSpPr/>
            <p:nvPr/>
          </p:nvSpPr>
          <p:spPr>
            <a:xfrm>
              <a:off x="3784320" y="1828800"/>
              <a:ext cx="0" cy="425592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5816520" y="1828800"/>
              <a:ext cx="0" cy="425592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4" name="Line 28"/>
            <p:cNvSpPr/>
            <p:nvPr/>
          </p:nvSpPr>
          <p:spPr>
            <a:xfrm>
              <a:off x="7848360" y="1828800"/>
              <a:ext cx="0" cy="4255920"/>
            </a:xfrm>
            <a:prstGeom prst="line">
              <a:avLst/>
            </a:prstGeom>
            <a:ln cap="sq" w="2844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1066680" y="1676520"/>
            <a:ext cx="6858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chievement and Succ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ividu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ctivity and Wor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fficiency and Practic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cience and Techn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066680" y="533520"/>
            <a:ext cx="655344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in U.S. Socie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3" dur="1" fill="hold"/>
                                  <p:tgtEl>
                                    <p:spTgt spid="14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1066680" y="1600200"/>
            <a:ext cx="63248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gr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terial Comfor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umanitarian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eedo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mocrac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990720" y="533520"/>
            <a:ext cx="731520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in U.S. Socie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2" dur="1" fill="hold"/>
                                  <p:tgtEl>
                                    <p:spTgt spid="1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066680" y="1676520"/>
            <a:ext cx="6858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qu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ism and Group Superior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s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mantic Lo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90720" y="457200"/>
            <a:ext cx="647676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in U.S. Socie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1" dur="1" fill="hold"/>
                                  <p:tgtEl>
                                    <p:spTgt spid="15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80880" y="11426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2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0" algn="ctr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t is precisely at the point of value contradictions, then, that one can see a major force for social change in a society.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333440" y="685800"/>
            <a:ext cx="64771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Contradictions and Social Chang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066320" y="15235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is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lf-fulfill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hysical Fitn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Youthfuln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cern for the Environ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990720" y="533520"/>
            <a:ext cx="5105160" cy="10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merging Valu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3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5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1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5" dur="1" fill="hold"/>
                                  <p:tgtEl>
                                    <p:spTgt spid="15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Wars: When Values Clas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Value as Blind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deal” vs. “Real” 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066680" y="838080"/>
            <a:ext cx="647712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and Cultur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0" dur="1" fill="hold"/>
                                  <p:tgtEl>
                                    <p:spTgt spid="1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me Activities are Universal - Courtship, Marriage, Funerals, Gam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pecific Customs Associated with Activities Differ Between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066680" y="806400"/>
            <a:ext cx="58676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ultural Universal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8" dur="1" fill="hold"/>
                                  <p:tgtEl>
                                    <p:spTgt spid="1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nguage, Beliefs, Values, Norms, Behavior Passed from One Generation to the Nex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terial vs. Nonmaterial Cultur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806400"/>
            <a:ext cx="640080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at is Culture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/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6680" y="15998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roversial View of Human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iology Cause of Human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arles Darwin and Natural Sele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ists and Social Biologists on Opposite Sid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066680" y="533520"/>
            <a:ext cx="4876920" cy="10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obiolog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0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6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2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6" dur="1" fill="hold"/>
                                  <p:tgtEl>
                                    <p:spTgt spid="1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New Technology - New Too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al Lag and Cultural Chan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echnology and Cultural Level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066680" y="609480"/>
            <a:ext cx="655344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chnology in the Global Villag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1" dur="1" fill="hold"/>
                                  <p:tgtEl>
                                    <p:spTgt spid="1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Henslin final"/>
          <p:cNvPicPr/>
          <p:nvPr/>
        </p:nvPicPr>
        <p:blipFill>
          <a:blip r:embed="rId1"/>
          <a:stretch/>
        </p:blipFill>
        <p:spPr>
          <a:xfrm>
            <a:off x="2133720" y="228600"/>
            <a:ext cx="470520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at is Normal, Natural, or Usual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Culture Within U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as Le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Shoc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thnocentr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066680" y="561960"/>
            <a:ext cx="6858000" cy="14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ulture and Taken-for-Granted Orienta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" dur="1" fill="hold"/>
                                  <p:tgtEl>
                                    <p:spTgt spid="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58676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nderstanding Cultures on Their Own Term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ck Cultures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fronting Contrasting Views of Re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501480"/>
            <a:ext cx="6400800" cy="155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Practicing Cultural Relativism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" dur="1" fill="hold"/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stur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veying Messages without Word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stures’ Meaning Differ Among Cultur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n Lead to Misunderstanding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577800"/>
            <a:ext cx="662940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mponents of Symbolic Cultur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4" dur="1" fill="hold"/>
                                  <p:tgtEl>
                                    <p:spTgt spid="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1" name="Picture 5" descr="C:\PowerPoint Work\Allyn &amp; Bacon\2005 Work\Henslin 8ed\Artwork\02-01.jpg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3555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65534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ngu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llows Human Experience to be Cumula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vides Social or Shared Pas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vides Social or Shared Fu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llows Shared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llows Complex, Shared, Goal-Directed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066680" y="577800"/>
            <a:ext cx="662940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mponents of Symbolic Cultur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0" dur="1" fill="hold"/>
                                  <p:tgtEl>
                                    <p:spTgt spid="1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nguage Has Embedded Within It Ways of Looking at the Worl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apir-Whorf Reverses Common Sen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066680" y="547560"/>
            <a:ext cx="7239240" cy="15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Language and Perception:                 Sapir-Whorf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8" dur="1" fill="hold"/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alues - What is Desirable in Lif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Norms - Expectations or Rules for Behavio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anctions - Reaction to Following or Breaking Norm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Positive Sanctions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Negative Sanctions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oral Holiday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533520" y="38088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Values, Norms, and Sanctions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8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8" dur="1" fill="hold"/>
                                  <p:tgtEl>
                                    <p:spTgt spid="1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4T13:13:18Z</dcterms:modified>
  <cp:revision>173</cp:revision>
  <dc:subject>Chapter Two: Culture</dc:subject>
  <dc:title>Sociology: A Down-to-Earth Approach, 8/e</dc:title>
</cp:coreProperties>
</file>