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0000"/>
              </a:lnSpc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94800"/>
            <a:ext cx="4571640" cy="342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Tw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l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lkways - Norms not Strictly Enforc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res - Core Values:  We Insist on Conform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lkways and M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culture - A World Within the Dominant Cul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ntercultures - Groups With Norms and Values at Odds With the Dominant Cul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cultures and Countercul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s in U.S. Socie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hievement and Suc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ividual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vity and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fficiency and Practic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ience and Techn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s in U.S. Socie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erial Comf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umanitarian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eed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mocra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s in U.S. Socie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cism and Group Superior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u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igios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mantic Lo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s in U.S. Socie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is precisely at the point of value contradictions, then, that one can see a major force for social change in a society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s Contradictions and Social 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is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f-fulfill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ysical Fit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thful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cern for the Enviro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erging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lture Wars: When Values Cla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as Blin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eal” vs. “Real” Cul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s and Cul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Activities are Universal - Courtship, Marriage, Funerals, Ga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ific Customs Associated with Activities Differ Between 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ltural Univers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nguage, Beliefs, Values, Norms, Behavior Passed from One Generation to the N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erial vs. Nonmaterial Cul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Cultu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oversial View of Human Behav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ology Cause of Human Behav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rles Darwin and Natural Se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ologists and Social Biologists on Opposite S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obi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New Technology - New T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ltural Lag and Cultural 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chnology and Cultural Leve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chnology in the Global Vill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Normal, Natural, or Usua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ulture Within 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lture as Le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lture Sho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hnocentr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lture and Taken-for-Granted Ori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standing Cultures on Their Own Te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ck Culture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ronting Contrasting Views of Re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acticing Cultural Relativ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s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veying Messages without W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stures’ Meaning Differ Among Cul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Lead to Misunderstandi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of Symbolic Cul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ows Human Experience to be Cumul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des Social or Shared P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des Social or Shared Fu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ows Shared Perspe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ows Complex, Shared, Goal-Directed Behav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of Symbolic Cul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nguage Has Embedded Within It Ways of Looking at the 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pir-Whorf Reverses Common S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nguage and Perception:                 Sapir-Whor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s - What is Desirable in Lif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s - Expectations or Rules for Behav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nctions - Reaction to Following or Breaking No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itive Sa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gative Sa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ral Holida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s, Norms, and Sa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F80DBC-9ED7-45F1-9E45-A981387020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6668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0CA0E4-8CE6-41D3-9B76-5A1F46695E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936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278F9B-960B-4BEE-BF78-F87A3A3617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9468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2232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6668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9468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2232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0DE721-B1BC-49CC-9698-B3789CC8E4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6F25DC-96AF-4E12-9C03-5FA4B1E3E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8C27AC-CA1A-4E96-8478-38836A807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03CDBA-22F8-48A8-A878-68E13CF45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181E2B-6DB9-40CE-B321-6073DA1C6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32694A-EA53-4E74-96DF-A5418B4ED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4250FC-AF47-4212-B593-B5ADC0AF1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1AC15D-F5B4-4883-98DA-21D7493D4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E5BE6C-CE68-461E-AA95-BEAAD3AC1D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04936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A4516B-8C3F-448A-B7D0-CC40A5E77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778B7B-8107-44A7-893B-D01B25A7E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6668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FE5FA1-5ABF-4EA7-9F82-DBB9D4D4A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04936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F80489-A7D8-4D66-8C89-E43689154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69468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32232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6668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69468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32232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FCC0C1-03AF-4326-8B09-3321C4EC3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697C08-DEC4-4DA6-B423-D8D77360EE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31833C-E98A-457C-9B0D-0054C71C10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49FEA4-0B8F-4F78-9CA1-5567216686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7CF16B-0E32-4A96-92C1-606650D7F7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FC5A08-B862-40F2-8A2C-2AB6E2D435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936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786A57-4008-461B-A090-BEBE7E12F9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0CBF31-C081-4FBC-9C8F-C4FE120692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-3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D8D1C-0CAA-44EB-A334-0D233BE03A7B}" type="slidenum"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body"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448920" indent="-44892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9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945360" indent="-40608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2" marL="1400760" indent="-36504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3" marL="1849680" indent="-35856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4" marL="2257560" indent="-31716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5" marL="2257560" indent="-31716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6" marL="2257560" indent="-31716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Rectangle 39"/>
          <p:cNvSpPr/>
          <p:nvPr/>
        </p:nvSpPr>
        <p:spPr>
          <a:xfrm>
            <a:off x="2895480" y="0"/>
            <a:ext cx="6248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Times New Roman"/>
              </a:rPr>
              <a:t>Chapter 2: Culture</a:t>
            </a:r>
            <a:endParaRPr b="1" lang="en-US" sz="12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0" y="0"/>
            <a:ext cx="1085760" cy="68547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448920" indent="-44892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9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945360" indent="-40608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2" marL="1400760" indent="-36504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3" marL="1849680" indent="-35856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4" marL="2257560" indent="-31716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5" marL="2257560" indent="-31716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6" marL="2257560" indent="-31716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3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4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5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7BB3A-30A5-44F0-9CCD-D31B69B65FB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3"/>
          <p:cNvSpPr/>
          <p:nvPr/>
        </p:nvSpPr>
        <p:spPr>
          <a:xfrm>
            <a:off x="2514600" y="3828960"/>
            <a:ext cx="6095880" cy="15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Chapter Two</a:t>
            </a:r>
            <a:endParaRPr b="1" lang="en-US" sz="3600" spc="-1" strike="noStrike">
              <a:solidFill>
                <a:srgbClr val="8663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Culture</a:t>
            </a:r>
            <a:endParaRPr b="1" lang="en-US" sz="36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1066320" y="20570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olkways - Norms not Strictly Enforced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Mores - Core Values:  We Insist on Conformit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1066680" y="730080"/>
            <a:ext cx="7086600" cy="132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Folkways and Mores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6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2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36" dur="1" fill="hold"/>
                                  <p:tgtEl>
                                    <p:spTgt spid="11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1066680" y="2057400"/>
            <a:ext cx="73152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7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ubculture - A World Within the Dominant Cultur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7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ountercultures - Groups With Norms and Values at Odds With the Dominant Cultur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1066680" y="762120"/>
            <a:ext cx="7239240" cy="1295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Subcultures and Countercultures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4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0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4" dur="1" fill="hold"/>
                                  <p:tgtEl>
                                    <p:spTgt spid="11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1523880" y="685800"/>
            <a:ext cx="6553440" cy="990720"/>
          </a:xfrm>
          <a:prstGeom prst="rect">
            <a:avLst/>
          </a:prstGeom>
          <a:solidFill>
            <a:srgbClr val="fff0af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  <p:txBody>
          <a:bodyPr lIns="92160" rIns="92160" tIns="46080" bIns="46080" anchor="ctr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Values in U.S. Society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  <p:grpSp>
        <p:nvGrpSpPr>
          <p:cNvPr id="119" name="Group 3"/>
          <p:cNvGrpSpPr/>
          <p:nvPr/>
        </p:nvGrpSpPr>
        <p:grpSpPr>
          <a:xfrm>
            <a:off x="1752480" y="1828800"/>
            <a:ext cx="6095880" cy="4255920"/>
            <a:chOff x="1752480" y="1828800"/>
            <a:chExt cx="6095880" cy="4255920"/>
          </a:xfrm>
        </p:grpSpPr>
        <p:sp>
          <p:nvSpPr>
            <p:cNvPr id="120" name="Rectangle 4"/>
            <p:cNvSpPr/>
            <p:nvPr/>
          </p:nvSpPr>
          <p:spPr>
            <a:xfrm>
              <a:off x="5816520" y="5272200"/>
              <a:ext cx="2031840" cy="812520"/>
            </a:xfrm>
            <a:prstGeom prst="rect">
              <a:avLst/>
            </a:prstGeom>
            <a:solidFill>
              <a:srgbClr val="003399"/>
            </a:solidFill>
            <a:ln w="12600">
              <a:solidFill>
                <a:srgbClr val="fff2bb"/>
              </a:solidFill>
              <a:miter/>
            </a:ln>
            <a:effectLst>
              <a:outerShdw dist="71785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imes New Roman"/>
                </a:rPr>
                <a:t>Romantic Love</a:t>
              </a:r>
              <a:endParaRPr b="1" lang="en-US" sz="2000" spc="-1" strike="noStrike">
                <a:solidFill>
                  <a:srgbClr val="866300"/>
                </a:solidFill>
                <a:latin typeface="Times New Roman"/>
              </a:endParaRPr>
            </a:p>
          </p:txBody>
        </p:sp>
        <p:sp>
          <p:nvSpPr>
            <p:cNvPr id="121" name="Rectangle 5"/>
            <p:cNvSpPr/>
            <p:nvPr/>
          </p:nvSpPr>
          <p:spPr>
            <a:xfrm>
              <a:off x="3784320" y="5272200"/>
              <a:ext cx="2032200" cy="812520"/>
            </a:xfrm>
            <a:prstGeom prst="rect">
              <a:avLst/>
            </a:prstGeom>
            <a:solidFill>
              <a:srgbClr val="003399"/>
            </a:solidFill>
            <a:ln w="12600">
              <a:solidFill>
                <a:srgbClr val="fff2bb"/>
              </a:solidFill>
              <a:miter/>
            </a:ln>
            <a:effectLst>
              <a:outerShdw dist="71785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imes New Roman"/>
                </a:rPr>
                <a:t>Democracy</a:t>
              </a:r>
              <a:endParaRPr b="1" lang="en-US" sz="2000" spc="-1" strike="noStrike">
                <a:solidFill>
                  <a:srgbClr val="866300"/>
                </a:solidFill>
                <a:latin typeface="Times New Roman"/>
              </a:endParaRPr>
            </a:p>
          </p:txBody>
        </p:sp>
        <p:sp>
          <p:nvSpPr>
            <p:cNvPr id="122" name="Rectangle 6"/>
            <p:cNvSpPr/>
            <p:nvPr/>
          </p:nvSpPr>
          <p:spPr>
            <a:xfrm>
              <a:off x="1752480" y="5272200"/>
              <a:ext cx="2031840" cy="812520"/>
            </a:xfrm>
            <a:prstGeom prst="rect">
              <a:avLst/>
            </a:prstGeom>
            <a:solidFill>
              <a:srgbClr val="003399"/>
            </a:solidFill>
            <a:ln w="12600">
              <a:solidFill>
                <a:srgbClr val="fff2bb"/>
              </a:solidFill>
              <a:miter/>
            </a:ln>
            <a:effectLst>
              <a:outerShdw dist="71785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imes New Roman"/>
                </a:rPr>
                <a:t>Science and Technology</a:t>
              </a:r>
              <a:endParaRPr b="1" lang="en-US" sz="2000" spc="-1" strike="noStrike">
                <a:solidFill>
                  <a:srgbClr val="866300"/>
                </a:solidFill>
                <a:latin typeface="Times New Roman"/>
              </a:endParaRPr>
            </a:p>
          </p:txBody>
        </p:sp>
        <p:sp>
          <p:nvSpPr>
            <p:cNvPr id="123" name="Rectangle 7"/>
            <p:cNvSpPr/>
            <p:nvPr/>
          </p:nvSpPr>
          <p:spPr>
            <a:xfrm>
              <a:off x="5816520" y="4459320"/>
              <a:ext cx="2031840" cy="812880"/>
            </a:xfrm>
            <a:prstGeom prst="rect">
              <a:avLst/>
            </a:prstGeom>
            <a:solidFill>
              <a:srgbClr val="003399"/>
            </a:solidFill>
            <a:ln w="12600">
              <a:solidFill>
                <a:srgbClr val="fff2bb"/>
              </a:solidFill>
              <a:miter/>
            </a:ln>
            <a:effectLst>
              <a:outerShdw dist="71785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imes New Roman"/>
                </a:rPr>
                <a:t>Religiosity</a:t>
              </a:r>
              <a:endParaRPr b="1" lang="en-US" sz="2000" spc="-1" strike="noStrike">
                <a:solidFill>
                  <a:srgbClr val="866300"/>
                </a:solidFill>
                <a:latin typeface="Times New Roman"/>
              </a:endParaRPr>
            </a:p>
          </p:txBody>
        </p:sp>
        <p:sp>
          <p:nvSpPr>
            <p:cNvPr id="124" name="Rectangle 8"/>
            <p:cNvSpPr/>
            <p:nvPr/>
          </p:nvSpPr>
          <p:spPr>
            <a:xfrm>
              <a:off x="3784320" y="4459320"/>
              <a:ext cx="2032200" cy="812880"/>
            </a:xfrm>
            <a:prstGeom prst="rect">
              <a:avLst/>
            </a:prstGeom>
            <a:solidFill>
              <a:srgbClr val="003399"/>
            </a:solidFill>
            <a:ln w="12600">
              <a:solidFill>
                <a:srgbClr val="fff2bb"/>
              </a:solidFill>
              <a:miter/>
            </a:ln>
            <a:effectLst>
              <a:outerShdw dist="71785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imes New Roman"/>
                </a:rPr>
                <a:t>Freedom</a:t>
              </a:r>
              <a:endParaRPr b="1" lang="en-US" sz="2000" spc="-1" strike="noStrike">
                <a:solidFill>
                  <a:srgbClr val="866300"/>
                </a:solidFill>
                <a:latin typeface="Times New Roman"/>
              </a:endParaRPr>
            </a:p>
          </p:txBody>
        </p:sp>
        <p:sp>
          <p:nvSpPr>
            <p:cNvPr id="125" name="Rectangle 9"/>
            <p:cNvSpPr/>
            <p:nvPr/>
          </p:nvSpPr>
          <p:spPr>
            <a:xfrm>
              <a:off x="1752480" y="4459320"/>
              <a:ext cx="2031840" cy="812880"/>
            </a:xfrm>
            <a:prstGeom prst="rect">
              <a:avLst/>
            </a:prstGeom>
            <a:solidFill>
              <a:srgbClr val="003399"/>
            </a:solidFill>
            <a:ln w="12600">
              <a:solidFill>
                <a:srgbClr val="fff2bb"/>
              </a:solidFill>
              <a:miter/>
            </a:ln>
            <a:effectLst>
              <a:outerShdw dist="71785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imes New Roman"/>
                </a:rPr>
                <a:t>Efficiency and Practicality</a:t>
              </a:r>
              <a:endParaRPr b="1" lang="en-US" sz="2000" spc="-1" strike="noStrike">
                <a:solidFill>
                  <a:srgbClr val="866300"/>
                </a:solidFill>
                <a:latin typeface="Times New Roman"/>
              </a:endParaRPr>
            </a:p>
          </p:txBody>
        </p:sp>
        <p:sp>
          <p:nvSpPr>
            <p:cNvPr id="126" name="Rectangle 10"/>
            <p:cNvSpPr/>
            <p:nvPr/>
          </p:nvSpPr>
          <p:spPr>
            <a:xfrm>
              <a:off x="5816520" y="3646440"/>
              <a:ext cx="2031840" cy="812880"/>
            </a:xfrm>
            <a:prstGeom prst="rect">
              <a:avLst/>
            </a:prstGeom>
            <a:solidFill>
              <a:srgbClr val="003399"/>
            </a:solidFill>
            <a:ln w="12600">
              <a:solidFill>
                <a:srgbClr val="fff2bb"/>
              </a:solidFill>
              <a:miter/>
            </a:ln>
            <a:effectLst>
              <a:outerShdw dist="71785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imes New Roman"/>
                </a:rPr>
                <a:t>Education</a:t>
              </a:r>
              <a:endParaRPr b="1" lang="en-US" sz="2000" spc="-1" strike="noStrike">
                <a:solidFill>
                  <a:srgbClr val="866300"/>
                </a:solidFill>
                <a:latin typeface="Times New Roman"/>
              </a:endParaRPr>
            </a:p>
          </p:txBody>
        </p:sp>
        <p:sp>
          <p:nvSpPr>
            <p:cNvPr id="127" name="Rectangle 11"/>
            <p:cNvSpPr/>
            <p:nvPr/>
          </p:nvSpPr>
          <p:spPr>
            <a:xfrm>
              <a:off x="3784320" y="3646440"/>
              <a:ext cx="2032200" cy="812880"/>
            </a:xfrm>
            <a:prstGeom prst="rect">
              <a:avLst/>
            </a:prstGeom>
            <a:solidFill>
              <a:srgbClr val="003399"/>
            </a:solidFill>
            <a:ln w="12600">
              <a:solidFill>
                <a:srgbClr val="fff2bb"/>
              </a:solidFill>
              <a:miter/>
            </a:ln>
            <a:effectLst>
              <a:outerShdw dist="71785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imes New Roman"/>
                </a:rPr>
                <a:t>Humanitarianism</a:t>
              </a:r>
              <a:endParaRPr b="1" lang="en-US" sz="2000" spc="-1" strike="noStrike">
                <a:solidFill>
                  <a:srgbClr val="866300"/>
                </a:solidFill>
                <a:latin typeface="Times New Roman"/>
              </a:endParaRPr>
            </a:p>
          </p:txBody>
        </p:sp>
        <p:sp>
          <p:nvSpPr>
            <p:cNvPr id="128" name="Rectangle 12"/>
            <p:cNvSpPr/>
            <p:nvPr/>
          </p:nvSpPr>
          <p:spPr>
            <a:xfrm>
              <a:off x="1752480" y="3646440"/>
              <a:ext cx="2031840" cy="812880"/>
            </a:xfrm>
            <a:prstGeom prst="rect">
              <a:avLst/>
            </a:prstGeom>
            <a:solidFill>
              <a:srgbClr val="003399"/>
            </a:solidFill>
            <a:ln w="12600">
              <a:solidFill>
                <a:srgbClr val="fff2bb"/>
              </a:solidFill>
              <a:miter/>
            </a:ln>
            <a:effectLst>
              <a:outerShdw dist="71785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imes New Roman"/>
                </a:rPr>
                <a:t>Activity and Work</a:t>
              </a:r>
              <a:endParaRPr b="1" lang="en-US" sz="2000" spc="-1" strike="noStrike">
                <a:solidFill>
                  <a:srgbClr val="866300"/>
                </a:solidFill>
                <a:latin typeface="Times New Roman"/>
              </a:endParaRPr>
            </a:p>
          </p:txBody>
        </p:sp>
        <p:sp>
          <p:nvSpPr>
            <p:cNvPr id="129" name="Rectangle 13"/>
            <p:cNvSpPr/>
            <p:nvPr/>
          </p:nvSpPr>
          <p:spPr>
            <a:xfrm>
              <a:off x="5816520" y="2641680"/>
              <a:ext cx="2031840" cy="1004760"/>
            </a:xfrm>
            <a:prstGeom prst="rect">
              <a:avLst/>
            </a:prstGeom>
            <a:solidFill>
              <a:srgbClr val="003399"/>
            </a:solidFill>
            <a:ln w="12600">
              <a:solidFill>
                <a:srgbClr val="fff2bb"/>
              </a:solidFill>
              <a:miter/>
            </a:ln>
            <a:effectLst>
              <a:outerShdw dist="71785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imes New Roman"/>
                </a:rPr>
                <a:t>Racism and Group Superiority</a:t>
              </a:r>
              <a:endParaRPr b="1" lang="en-US" sz="2000" spc="-1" strike="noStrike">
                <a:solidFill>
                  <a:srgbClr val="866300"/>
                </a:solidFill>
                <a:latin typeface="Times New Roman"/>
              </a:endParaRPr>
            </a:p>
          </p:txBody>
        </p:sp>
        <p:sp>
          <p:nvSpPr>
            <p:cNvPr id="130" name="Rectangle 14"/>
            <p:cNvSpPr/>
            <p:nvPr/>
          </p:nvSpPr>
          <p:spPr>
            <a:xfrm>
              <a:off x="3784320" y="2641680"/>
              <a:ext cx="2032200" cy="1004760"/>
            </a:xfrm>
            <a:prstGeom prst="rect">
              <a:avLst/>
            </a:prstGeom>
            <a:solidFill>
              <a:srgbClr val="003399"/>
            </a:solidFill>
            <a:ln w="12600">
              <a:solidFill>
                <a:srgbClr val="fff2bb"/>
              </a:solidFill>
              <a:miter/>
            </a:ln>
            <a:effectLst>
              <a:outerShdw dist="71785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imes New Roman"/>
                </a:rPr>
                <a:t>Material Comfort</a:t>
              </a:r>
              <a:endParaRPr b="1" lang="en-US" sz="2000" spc="-1" strike="noStrike">
                <a:solidFill>
                  <a:srgbClr val="866300"/>
                </a:solidFill>
                <a:latin typeface="Times New Roman"/>
              </a:endParaRPr>
            </a:p>
          </p:txBody>
        </p:sp>
        <p:sp>
          <p:nvSpPr>
            <p:cNvPr id="131" name="Rectangle 15"/>
            <p:cNvSpPr/>
            <p:nvPr/>
          </p:nvSpPr>
          <p:spPr>
            <a:xfrm>
              <a:off x="1752480" y="2641680"/>
              <a:ext cx="2031840" cy="1004760"/>
            </a:xfrm>
            <a:prstGeom prst="rect">
              <a:avLst/>
            </a:prstGeom>
            <a:solidFill>
              <a:srgbClr val="003399"/>
            </a:solidFill>
            <a:ln w="12600">
              <a:solidFill>
                <a:srgbClr val="fff2bb"/>
              </a:solidFill>
              <a:miter/>
            </a:ln>
            <a:effectLst>
              <a:outerShdw dist="71785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imes New Roman"/>
                </a:rPr>
                <a:t>Individualism</a:t>
              </a:r>
              <a:endParaRPr b="1" lang="en-US" sz="2000" spc="-1" strike="noStrike">
                <a:solidFill>
                  <a:srgbClr val="866300"/>
                </a:solidFill>
                <a:latin typeface="Times New Roman"/>
              </a:endParaRPr>
            </a:p>
          </p:txBody>
        </p:sp>
        <p:sp>
          <p:nvSpPr>
            <p:cNvPr id="132" name="Rectangle 16"/>
            <p:cNvSpPr/>
            <p:nvPr/>
          </p:nvSpPr>
          <p:spPr>
            <a:xfrm>
              <a:off x="5816520" y="1828800"/>
              <a:ext cx="2031840" cy="812880"/>
            </a:xfrm>
            <a:prstGeom prst="rect">
              <a:avLst/>
            </a:prstGeom>
            <a:solidFill>
              <a:srgbClr val="003399"/>
            </a:solidFill>
            <a:ln w="12600">
              <a:solidFill>
                <a:srgbClr val="fff2bb"/>
              </a:solidFill>
              <a:miter/>
            </a:ln>
            <a:effectLst>
              <a:outerShdw dist="71785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imes New Roman"/>
                </a:rPr>
                <a:t>Equality</a:t>
              </a:r>
              <a:endParaRPr b="1" lang="en-US" sz="2000" spc="-1" strike="noStrike">
                <a:solidFill>
                  <a:srgbClr val="866300"/>
                </a:solidFill>
                <a:latin typeface="Times New Roman"/>
              </a:endParaRPr>
            </a:p>
          </p:txBody>
        </p:sp>
        <p:sp>
          <p:nvSpPr>
            <p:cNvPr id="133" name="Rectangle 17"/>
            <p:cNvSpPr/>
            <p:nvPr/>
          </p:nvSpPr>
          <p:spPr>
            <a:xfrm>
              <a:off x="3784320" y="1828800"/>
              <a:ext cx="2032200" cy="812880"/>
            </a:xfrm>
            <a:prstGeom prst="rect">
              <a:avLst/>
            </a:prstGeom>
            <a:solidFill>
              <a:srgbClr val="003399"/>
            </a:solidFill>
            <a:ln w="12600">
              <a:solidFill>
                <a:srgbClr val="fff2bb"/>
              </a:solidFill>
              <a:miter/>
            </a:ln>
            <a:effectLst>
              <a:outerShdw dist="71785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imes New Roman"/>
                </a:rPr>
                <a:t>Progress</a:t>
              </a:r>
              <a:endParaRPr b="1" lang="en-US" sz="2000" spc="-1" strike="noStrike">
                <a:solidFill>
                  <a:srgbClr val="866300"/>
                </a:solidFill>
                <a:latin typeface="Times New Roman"/>
              </a:endParaRPr>
            </a:p>
          </p:txBody>
        </p:sp>
        <p:sp>
          <p:nvSpPr>
            <p:cNvPr id="134" name="Rectangle 18"/>
            <p:cNvSpPr/>
            <p:nvPr/>
          </p:nvSpPr>
          <p:spPr>
            <a:xfrm>
              <a:off x="1752480" y="1828800"/>
              <a:ext cx="2031840" cy="812880"/>
            </a:xfrm>
            <a:prstGeom prst="rect">
              <a:avLst/>
            </a:prstGeom>
            <a:solidFill>
              <a:srgbClr val="003399"/>
            </a:solidFill>
            <a:ln w="12600">
              <a:solidFill>
                <a:srgbClr val="fff2bb"/>
              </a:solidFill>
              <a:miter/>
            </a:ln>
            <a:effectLst>
              <a:outerShdw dist="71785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imes New Roman"/>
                </a:rPr>
                <a:t>Achievement and Success</a:t>
              </a:r>
              <a:endParaRPr b="1" lang="en-US" sz="2000" spc="-1" strike="noStrike">
                <a:solidFill>
                  <a:srgbClr val="866300"/>
                </a:solidFill>
                <a:latin typeface="Times New Roman"/>
              </a:endParaRPr>
            </a:p>
          </p:txBody>
        </p:sp>
        <p:sp>
          <p:nvSpPr>
            <p:cNvPr id="135" name="Line 19"/>
            <p:cNvSpPr/>
            <p:nvPr/>
          </p:nvSpPr>
          <p:spPr>
            <a:xfrm>
              <a:off x="1752480" y="1828800"/>
              <a:ext cx="6095880" cy="0"/>
            </a:xfrm>
            <a:prstGeom prst="line">
              <a:avLst/>
            </a:prstGeom>
            <a:ln cap="sq" w="28440">
              <a:solidFill>
                <a:srgbClr val="fff2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30000"/>
                </a:lnSpc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866300"/>
                </a:solidFill>
                <a:latin typeface="Times New Roman"/>
              </a:endParaRPr>
            </a:p>
          </p:txBody>
        </p:sp>
        <p:sp>
          <p:nvSpPr>
            <p:cNvPr id="136" name="Line 20"/>
            <p:cNvSpPr/>
            <p:nvPr/>
          </p:nvSpPr>
          <p:spPr>
            <a:xfrm>
              <a:off x="1752480" y="2641680"/>
              <a:ext cx="6095880" cy="0"/>
            </a:xfrm>
            <a:prstGeom prst="line">
              <a:avLst/>
            </a:prstGeom>
            <a:ln w="12600">
              <a:solidFill>
                <a:srgbClr val="fff2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30000"/>
                </a:lnSpc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866300"/>
                </a:solidFill>
                <a:latin typeface="Times New Roman"/>
              </a:endParaRPr>
            </a:p>
          </p:txBody>
        </p:sp>
        <p:sp>
          <p:nvSpPr>
            <p:cNvPr id="137" name="Line 21"/>
            <p:cNvSpPr/>
            <p:nvPr/>
          </p:nvSpPr>
          <p:spPr>
            <a:xfrm>
              <a:off x="1752480" y="3646440"/>
              <a:ext cx="6095880" cy="0"/>
            </a:xfrm>
            <a:prstGeom prst="line">
              <a:avLst/>
            </a:prstGeom>
            <a:ln w="12600">
              <a:solidFill>
                <a:srgbClr val="fff2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30000"/>
                </a:lnSpc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866300"/>
                </a:solidFill>
                <a:latin typeface="Times New Roman"/>
              </a:endParaRPr>
            </a:p>
          </p:txBody>
        </p:sp>
        <p:sp>
          <p:nvSpPr>
            <p:cNvPr id="138" name="Line 22"/>
            <p:cNvSpPr/>
            <p:nvPr/>
          </p:nvSpPr>
          <p:spPr>
            <a:xfrm>
              <a:off x="1752480" y="4459320"/>
              <a:ext cx="6095880" cy="0"/>
            </a:xfrm>
            <a:prstGeom prst="line">
              <a:avLst/>
            </a:prstGeom>
            <a:ln w="12600">
              <a:solidFill>
                <a:srgbClr val="fff2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30000"/>
                </a:lnSpc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866300"/>
                </a:solidFill>
                <a:latin typeface="Times New Roman"/>
              </a:endParaRPr>
            </a:p>
          </p:txBody>
        </p:sp>
        <p:sp>
          <p:nvSpPr>
            <p:cNvPr id="139" name="Line 23"/>
            <p:cNvSpPr/>
            <p:nvPr/>
          </p:nvSpPr>
          <p:spPr>
            <a:xfrm>
              <a:off x="1752480" y="5272200"/>
              <a:ext cx="6095880" cy="0"/>
            </a:xfrm>
            <a:prstGeom prst="line">
              <a:avLst/>
            </a:prstGeom>
            <a:ln w="12600">
              <a:solidFill>
                <a:srgbClr val="fff2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30000"/>
                </a:lnSpc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866300"/>
                </a:solidFill>
                <a:latin typeface="Times New Roman"/>
              </a:endParaRPr>
            </a:p>
          </p:txBody>
        </p:sp>
        <p:sp>
          <p:nvSpPr>
            <p:cNvPr id="140" name="Line 24"/>
            <p:cNvSpPr/>
            <p:nvPr/>
          </p:nvSpPr>
          <p:spPr>
            <a:xfrm>
              <a:off x="1752480" y="6084720"/>
              <a:ext cx="6095880" cy="0"/>
            </a:xfrm>
            <a:prstGeom prst="line">
              <a:avLst/>
            </a:prstGeom>
            <a:ln cap="sq" w="28440">
              <a:solidFill>
                <a:srgbClr val="fff2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30000"/>
                </a:lnSpc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866300"/>
                </a:solidFill>
                <a:latin typeface="Times New Roman"/>
              </a:endParaRPr>
            </a:p>
          </p:txBody>
        </p:sp>
        <p:sp>
          <p:nvSpPr>
            <p:cNvPr id="141" name="Line 25"/>
            <p:cNvSpPr/>
            <p:nvPr/>
          </p:nvSpPr>
          <p:spPr>
            <a:xfrm>
              <a:off x="1752480" y="1828800"/>
              <a:ext cx="0" cy="4255920"/>
            </a:xfrm>
            <a:prstGeom prst="line">
              <a:avLst/>
            </a:prstGeom>
            <a:ln cap="sq" w="28440">
              <a:solidFill>
                <a:srgbClr val="fff2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30000"/>
                </a:lnSpc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866300"/>
                </a:solidFill>
                <a:latin typeface="Times New Roman"/>
              </a:endParaRPr>
            </a:p>
          </p:txBody>
        </p:sp>
        <p:sp>
          <p:nvSpPr>
            <p:cNvPr id="142" name="Line 26"/>
            <p:cNvSpPr/>
            <p:nvPr/>
          </p:nvSpPr>
          <p:spPr>
            <a:xfrm>
              <a:off x="3784320" y="1828800"/>
              <a:ext cx="0" cy="4255920"/>
            </a:xfrm>
            <a:prstGeom prst="line">
              <a:avLst/>
            </a:prstGeom>
            <a:ln w="12600">
              <a:solidFill>
                <a:srgbClr val="fff2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30000"/>
                </a:lnSpc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866300"/>
                </a:solidFill>
                <a:latin typeface="Times New Roman"/>
              </a:endParaRPr>
            </a:p>
          </p:txBody>
        </p:sp>
        <p:sp>
          <p:nvSpPr>
            <p:cNvPr id="143" name="Line 27"/>
            <p:cNvSpPr/>
            <p:nvPr/>
          </p:nvSpPr>
          <p:spPr>
            <a:xfrm>
              <a:off x="5816520" y="1828800"/>
              <a:ext cx="0" cy="4255920"/>
            </a:xfrm>
            <a:prstGeom prst="line">
              <a:avLst/>
            </a:prstGeom>
            <a:ln w="12600">
              <a:solidFill>
                <a:srgbClr val="fff2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30000"/>
                </a:lnSpc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866300"/>
                </a:solidFill>
                <a:latin typeface="Times New Roman"/>
              </a:endParaRPr>
            </a:p>
          </p:txBody>
        </p:sp>
        <p:sp>
          <p:nvSpPr>
            <p:cNvPr id="144" name="Line 28"/>
            <p:cNvSpPr/>
            <p:nvPr/>
          </p:nvSpPr>
          <p:spPr>
            <a:xfrm>
              <a:off x="7848360" y="1828800"/>
              <a:ext cx="0" cy="4255920"/>
            </a:xfrm>
            <a:prstGeom prst="line">
              <a:avLst/>
            </a:prstGeom>
            <a:ln cap="sq" w="28440">
              <a:solidFill>
                <a:srgbClr val="fff2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30000"/>
                </a:lnSpc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866300"/>
                </a:solidFill>
                <a:latin typeface="Times New Roman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6" name="Rectangle 2"/>
          <p:cNvSpPr/>
          <p:nvPr/>
        </p:nvSpPr>
        <p:spPr>
          <a:xfrm>
            <a:off x="1066680" y="1676520"/>
            <a:ext cx="68580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Achievement and Succes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Individualism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Activity and Work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Efficiency and Practicalit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cience and Technolog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7" name="Text Box 3"/>
          <p:cNvSpPr/>
          <p:nvPr/>
        </p:nvSpPr>
        <p:spPr>
          <a:xfrm>
            <a:off x="1066680" y="533520"/>
            <a:ext cx="6553440" cy="11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Values in U.S. Society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83" dur="1" fill="hold"/>
                                  <p:tgtEl>
                                    <p:spTgt spid="146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9" name="Rectangle 2"/>
          <p:cNvSpPr/>
          <p:nvPr/>
        </p:nvSpPr>
        <p:spPr>
          <a:xfrm>
            <a:off x="1066680" y="1600200"/>
            <a:ext cx="632484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3960" indent="-453960">
              <a:lnSpc>
                <a:spcPct val="170000"/>
              </a:lnSpc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Progres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70000"/>
              </a:lnSpc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Material Comfor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70000"/>
              </a:lnSpc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Humanitarianism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70000"/>
              </a:lnSpc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reedom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70000"/>
              </a:lnSpc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Democrac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50" name="Text Box 3"/>
          <p:cNvSpPr/>
          <p:nvPr/>
        </p:nvSpPr>
        <p:spPr>
          <a:xfrm>
            <a:off x="990720" y="533520"/>
            <a:ext cx="7315200" cy="11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Values in U.S. Society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12" dur="1" fill="hold"/>
                                  <p:tgtEl>
                                    <p:spTgt spid="14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52" name="Rectangle 2"/>
          <p:cNvSpPr/>
          <p:nvPr/>
        </p:nvSpPr>
        <p:spPr>
          <a:xfrm>
            <a:off x="1066680" y="1676520"/>
            <a:ext cx="685800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Equalit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Racism and Group Superiorit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Educa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Religiosit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Romantic Lov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53" name="Text Box 3"/>
          <p:cNvSpPr/>
          <p:nvPr/>
        </p:nvSpPr>
        <p:spPr>
          <a:xfrm>
            <a:off x="990720" y="457200"/>
            <a:ext cx="6476760" cy="125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Values in U.S. Society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2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41" dur="1" fill="hold"/>
                                  <p:tgtEl>
                                    <p:spTgt spid="15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380880" y="1142640"/>
            <a:ext cx="838224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30040" indent="0">
              <a:lnSpc>
                <a:spcPct val="2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66300"/>
              </a:solidFill>
              <a:latin typeface="Times New Roman"/>
            </a:endParaRPr>
          </a:p>
          <a:p>
            <a:pPr marL="230040" indent="0" algn="ctr">
              <a:lnSpc>
                <a:spcPct val="2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“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It is precisely at the point of value contradictions, then, that one can see a major force for social change in a society.”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1333440" y="685800"/>
            <a:ext cx="647712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Values Contradictions and Social Change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1066320" y="15235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Leisur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lf-fulfillmen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Physical Fitnes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Youthfulnes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oncern for the Environmen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59" name="Text Box 3"/>
          <p:cNvSpPr/>
          <p:nvPr/>
        </p:nvSpPr>
        <p:spPr>
          <a:xfrm>
            <a:off x="990720" y="533520"/>
            <a:ext cx="5105160" cy="1098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Emerging Values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48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53" dur="5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59" dur="5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6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65" dur="500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71" dur="500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8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75" dur="1" fill="hold"/>
                                  <p:tgtEl>
                                    <p:spTgt spid="158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1066320" y="205740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ulture Wars: When Values Clash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Value as Blinder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“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Ideal” vs. “Real” Cultur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1066680" y="838080"/>
            <a:ext cx="6477120" cy="1219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Values and Culture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9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6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9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00" dur="1" fill="hold"/>
                                  <p:tgtEl>
                                    <p:spTgt spid="16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1066680" y="20570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ome Activities are Universal - Courtship, Marriage, Funerals, Gam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pecific Customs Associated with Activities Differ Between Group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65" name="Text Box 3"/>
          <p:cNvSpPr/>
          <p:nvPr/>
        </p:nvSpPr>
        <p:spPr>
          <a:xfrm>
            <a:off x="1066680" y="806400"/>
            <a:ext cx="5867640" cy="125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Cultural Universals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8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4" dur="5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18" dur="1" fill="hold"/>
                                  <p:tgtEl>
                                    <p:spTgt spid="16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1066680" y="2057040"/>
            <a:ext cx="73152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Language, Beliefs, Values, Norms, Behavior Passed from One Generation to the Nex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Material vs. Nonmaterial Cultur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1066680" y="806400"/>
            <a:ext cx="6400800" cy="125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What is Culture?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8" dur="1" fill="hold"/>
                                  <p:tgtEl>
                                    <p:spTgt spid="8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1066680" y="159984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440280" indent="-440280">
              <a:lnSpc>
                <a:spcPct val="17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ontroversial View of Human Behavior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0280" indent="-440280">
              <a:lnSpc>
                <a:spcPct val="17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Biology Cause of Human Behavior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0280" indent="-440280">
              <a:lnSpc>
                <a:spcPct val="17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harles Darwin and Natural Selec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0280" indent="-440280">
              <a:lnSpc>
                <a:spcPct val="17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ociologists and Social Biologists on Opposite Sid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1066680" y="533520"/>
            <a:ext cx="4876920" cy="1098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Sociobiology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25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30" dur="5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36" dur="5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42" dur="5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46" dur="1" fill="hold"/>
                                  <p:tgtEl>
                                    <p:spTgt spid="167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1066320" y="2057040"/>
            <a:ext cx="80773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e New Technology - New Tool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ultural Lag and Cultural Chang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echnology and Cultural Leveling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71" name="Text Box 3"/>
          <p:cNvSpPr/>
          <p:nvPr/>
        </p:nvSpPr>
        <p:spPr>
          <a:xfrm>
            <a:off x="1066680" y="609480"/>
            <a:ext cx="6553440" cy="1447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Technology in the Global Village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4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0" dur="5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7" dur="5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71" dur="1" fill="hold"/>
                                  <p:tgtEl>
                                    <p:spTgt spid="17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7" descr="Henslin final"/>
          <p:cNvPicPr/>
          <p:nvPr/>
        </p:nvPicPr>
        <p:blipFill>
          <a:blip r:embed="rId1"/>
          <a:stretch/>
        </p:blipFill>
        <p:spPr>
          <a:xfrm>
            <a:off x="2133720" y="228600"/>
            <a:ext cx="4705200" cy="64008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</p:pic>
      <p:sp>
        <p:nvSpPr>
          <p:cNvPr id="173" name="Місце для нижнього колонтитула 1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1066320" y="2057040"/>
            <a:ext cx="71629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430920" indent="-430920">
              <a:lnSpc>
                <a:spcPct val="17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What is Normal, Natural, or Usual?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30920" indent="-430920">
              <a:lnSpc>
                <a:spcPct val="17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e Culture Within U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30920" indent="-430920">
              <a:lnSpc>
                <a:spcPct val="17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ulture as Len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30920" indent="-430920">
              <a:lnSpc>
                <a:spcPct val="17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ulture Shock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30920" indent="-430920">
              <a:lnSpc>
                <a:spcPct val="17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Ethnocentrism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1066680" y="561960"/>
            <a:ext cx="6858000" cy="1495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Culture and Taken-for-Granted Orientations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" dur="5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" dur="5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7" dur="1" fill="hold"/>
                                  <p:tgtEl>
                                    <p:spTgt spid="9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1066320" y="2057040"/>
            <a:ext cx="58676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Understanding Cultures on Their Own Term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“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ick Cultures”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onfronting Contrasting Views of Realit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1066680" y="501480"/>
            <a:ext cx="6400800" cy="155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Practicing Cultural Relativism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1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8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82" dur="1" fill="hold"/>
                                  <p:tgtEl>
                                    <p:spTgt spid="9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1066680" y="205740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Gestur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7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onveying Messages without Word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7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Gestures’ Meaning Differ Among Cultur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7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an Lead to Misunderstanding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1066680" y="577800"/>
            <a:ext cx="6629400" cy="1479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Components of Symbolic Culture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0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6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9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3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0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14" dur="1" fill="hold"/>
                                  <p:tgtEl>
                                    <p:spTgt spid="98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01" name="Picture 5" descr="C:\PowerPoint Work\Allyn &amp; Bacon\2005 Work\Henslin 8ed\Artwork\02-01.jpg"/>
          <p:cNvPicPr/>
          <p:nvPr/>
        </p:nvPicPr>
        <p:blipFill>
          <a:blip r:embed="rId1"/>
          <a:stretch/>
        </p:blipFill>
        <p:spPr>
          <a:xfrm>
            <a:off x="457200" y="1447920"/>
            <a:ext cx="8229600" cy="35557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1066680" y="2057400"/>
            <a:ext cx="65534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449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Languag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9280" indent="-449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Allows Human Experience to be Cumulativ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9280" indent="-449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Provides Social or Shared Pas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9280" indent="-449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Provides Social or Shared Futur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9280" indent="-449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Allows Shared Perspectiv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9280" indent="-449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Allows Complex, Shared, Goal-Directed Behavior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1066680" y="577800"/>
            <a:ext cx="6629400" cy="1479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Components of Symbolic Culture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2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8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5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2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9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6" dur="5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60" dur="1" fill="hold"/>
                                  <p:tgtEl>
                                    <p:spTgt spid="103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1066680" y="20570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Language Has Embedded Within It Ways of Looking at the World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apir-Whorf Reverses Common Sens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1066680" y="547560"/>
            <a:ext cx="7239240" cy="15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Language and Perception:                 Sapir-Whorf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8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4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78" dur="1" fill="hold"/>
                                  <p:tgtEl>
                                    <p:spTgt spid="10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6840" y="1219320"/>
            <a:ext cx="8381880" cy="533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449280" indent="-449280">
              <a:lnSpc>
                <a:spcPct val="170000"/>
              </a:lnSpc>
              <a:spcBef>
                <a:spcPts val="700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Values - What is Desirable in Life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marL="449280" indent="-449280">
              <a:lnSpc>
                <a:spcPct val="170000"/>
              </a:lnSpc>
              <a:spcBef>
                <a:spcPts val="700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Norms - Expectations or Rules for Behavior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marL="449280" indent="-449280">
              <a:lnSpc>
                <a:spcPct val="170000"/>
              </a:lnSpc>
              <a:spcBef>
                <a:spcPts val="700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Sanctions - Reaction to Following or Breaking Norms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lvl="1" marL="845280" indent="-28260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66300"/>
                </a:solidFill>
                <a:latin typeface="Times New Roman"/>
              </a:rPr>
              <a:t>Positive Sanctions</a:t>
            </a:r>
            <a:endParaRPr b="1" lang="en-US" sz="2400" spc="-1" strike="noStrike">
              <a:solidFill>
                <a:srgbClr val="866300"/>
              </a:solidFill>
              <a:latin typeface="Times New Roman"/>
            </a:endParaRPr>
          </a:p>
          <a:p>
            <a:pPr lvl="1" marL="845280" indent="-28260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66300"/>
                </a:solidFill>
                <a:latin typeface="Times New Roman"/>
              </a:rPr>
              <a:t>Negative Sanctions</a:t>
            </a:r>
            <a:endParaRPr b="1" lang="en-US" sz="2400" spc="-1" strike="noStrike">
              <a:solidFill>
                <a:srgbClr val="866300"/>
              </a:solidFill>
              <a:latin typeface="Times New Roman"/>
            </a:endParaRPr>
          </a:p>
          <a:p>
            <a:pPr marL="449280" indent="-449280">
              <a:lnSpc>
                <a:spcPct val="170000"/>
              </a:lnSpc>
              <a:spcBef>
                <a:spcPts val="700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Moral Holidays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533520" y="380880"/>
            <a:ext cx="8229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Values, Norms, and Sanctions</a:t>
            </a:r>
            <a:endParaRPr b="1" lang="en-US" sz="40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85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90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96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9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02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08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14" dur="5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18" dur="1" fill="hold"/>
                                  <p:tgtEl>
                                    <p:spTgt spid="109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5-05T18:08:30Z</dcterms:created>
  <dc:creator>James Henslin</dc:creator>
  <dc:description/>
  <dc:language>en-US</dc:language>
  <cp:lastModifiedBy>Legion</cp:lastModifiedBy>
  <dcterms:modified xsi:type="dcterms:W3CDTF">2017-07-04T13:13:18Z</dcterms:modified>
  <cp:revision>173</cp:revision>
  <dc:subject>Chapter Two: Culture</dc:subject>
  <dc:title>Sociology: A Down-to-Earth Approach, 8/e</dc:title>
</cp:coreProperties>
</file>