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C4FD-DB83-4307-BC3B-D74B976C4A8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rchaeology?:</a:t>
            </a:r>
            <a:br>
              <a:rPr sz="1200"/>
            </a:br>
            <a:r>
              <a:rPr b="0" lang="en-US" sz="1200" spc="-1" strike="noStrike">
                <a:solidFill>
                  <a:srgbClr val="000000"/>
                </a:solidFill>
                <a:latin typeface="Calibri"/>
              </a:rPr>
              <a:t>Studying Past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 and Cultur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y i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Archaeology?:</a:t>
            </a:r>
            <a:br>
              <a:rPr sz="1200"/>
            </a:br>
            <a:r>
              <a:rPr b="0" lang="en-US" sz="1200" spc="-1" strike="noStrike">
                <a:solidFill>
                  <a:srgbClr val="ffffff"/>
                </a:solidFill>
                <a:latin typeface="Times New Roman"/>
              </a:rPr>
              <a:t>Studying Past Cul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Cul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 and Culture Proc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oal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y in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ltur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at complex whole which includes knowledge, belief, art, morals, law, custom, and any other capabilities and habits acquired by a[person] as a member of society” Edward Ty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nonbiological means by which human societies adapt to and accomodate thei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is a society’s traditional system of beliefs and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human culture and animal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an animal dies, its experiences die with them.  But what about primate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Cultur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at complex whole which includes knowledge, belief, art, morals, law, custom, and any other capabilities and habits acquired by a[person] as a member of society” Edward Ty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ary nonbiological means by which human societies adapt to and accomodate thei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is a society’s traditional system of beliefs and 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difference between human culture and animal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when an animal dies, its experiences die with them.  But what about primate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lex system comprising a set of interacting variable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ial cus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lements function to maintain a commun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one element changes, others are e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study Cultural Systems i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omplex system comprising a set of interacting variables, inclu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ial cus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sist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organ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elements function to maintain a commun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one element changes, others are effec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 we study Cultural Systems in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ial Cus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ial Cus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Organ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by which human societies changed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was generally slow and gra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Proces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es by which human societies changed in the pas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change was generally slow and gradu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ary Proces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en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u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g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tate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do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Organized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Evolu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tate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b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efdom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e-Organized Societ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s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Goal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ing Culture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ing Past Life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ing Cultur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rchaeology Relevant to the Pres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Goals of Archaeolog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Goal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udying Culture Hi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onstructing Past Lifew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laining Culture Ch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king Archaeology Relevant to the Pres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ing Culture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indian (15-10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ic (10-3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land (3-1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ssippian (1kya-500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World (Europe/Af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lithic (2 mya-10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olithic (10 kya-6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olithic (6 kya-4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nze Age (4 kya-2.5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 Age (2.5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udying Culture Hi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rth Americ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indian (15-10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ic (10-3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odland (3-1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ssissippian (1kya-500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World (Europe/Afric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lithic (2 mya-10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olithic (10 kya-6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olithic (6 kya-4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onze Age (4 kya-2.5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ron Age (2.5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ing Past Life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intknapping-Making Stone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dec.ny.gov/images/administration_images/0807flintknap.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onstructing Past Lifew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intknapping-Making Stone 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dec.ny.gov/images/administration_images/0807flintknap.jp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ing Cultur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xby Homesite: 1800-1845 The actual household objects of the Bixby house, the house itself with its outbuildings, and the surrounding New England landscape illustrate clearly the changes i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work in the first half of the 19th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laining Culture Ch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ixby Homesite: 1800-1845 The actual household objects of the Bixby house, the house itself with its outbuildings, and the surrounding New England landscape illustrate clearly the changes in socie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in work in the first half of the 19th centur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mp; Relevance to the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pathology: A 20,000-Skeleton Perspective The diagnosis of various pathologies is a major tool for both archaeology and medicine. This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amp; Relevance to the Pres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pathology: A 20,000-Skeleton Perspective The diagnosis of various pathologies is a major tool for both archaeology and medicine. This s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y in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Histor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 Typ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olog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y in Archaeolog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Historic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ro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 Typ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u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erimental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t-processu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deologic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mbol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History-Pot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History-Potte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Ethno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noarchaeology of the Kalin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ew of Dangtalan looking north. The irrigated fie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order the village on the east, west, and south. Notic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riability in house sizes as well as construction materials (e.g., thatch vs. corrugated iron sheets for the roo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ual-Ethno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thnoarchaeology of the Kaling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iew of Dangtalan looking north. The irrigated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order the village on the east, west, and south. Notice th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ariability in house sizes as well as construction materials (e.g., thatch vs. corrugated iron sheets for the roof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mag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chen Itza- The player on the left holds the severed head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efeated player on the right. From the trunk spouts blood in the form of seven serpents. In the center is the 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t-Processual-Image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chen Itza- The player on the left holds the severed head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defeated player on the right. From the trunk spouts blood in the form of seven serpents. In the center is the ba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Conce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sils-Studied by Paleoanthrop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rved remains of creatures from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form when an organism dies, is buried, and over long periods of time the organic part decays and is replaced by mi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bones form st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sil localities are where fossils are f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cal sites-Studied by 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s of past human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ettlements with ceremonial cen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hunting ca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ic Concep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ssils-Studied by Paleoanthrop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erved remains of creatures from the p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form when an organism dies, is buried, and over long periods of time the organic part decays and is replaced by miner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bones form st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ssil localities are where fossils are fou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cal sites-Studied by 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ces of past human 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settlements with ceremonial cente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 hunting c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Objects found and studied by archaeologists which have been made or modified by hum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ne tools, bone tools, pottery most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facts- nonartifactual remains found at archaeological sites, such as animals bones, shells, plant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provide ecological and subsistenc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tures- Nonmoveable artifacts such as hearths, pits or house flo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reveal information such as settlement and subs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s- Objects found and studied by archaeologists which have been made or modified by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ne tools, bone tools, pottery most comm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cofacts- nonartifactual remains found at archaeological sites, such as animals bones, shells, plant rema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provide ecological and subsistence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atures- Nonmoveable artifacts such as hearths, pits or house flo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reveal information such as settlement and subsist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rtifacts context is it's specific location where it was found and how it relates to other artifact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stone arrowhead is found with newspapers and plastic bottles, what would you conclude about the arrowheads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a pot on its own may tell you how it was made or what it was made from, but if it is removed from its context archaeologists have no idea what it was associated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artifacts context is it's specific location where it was found and how it relates to other artifacts around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A stone arrowhead is found with newspapers and plastic bottles, what would you conclude about the arrowheads 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a pot on its own may tell you how it was made or what it was made from, but if it is removed from its context archaeologists have no idea what it was associ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ing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ng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Controlled Survey, Remote Sen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 Vert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ing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14, Dendrochro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e and Regional 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ing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cating Si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ident, Controlled Survey, Remote Sens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cav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rizontal, Vertic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ing Techniq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rbon 14, Dendrochro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e and Regional Synthe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Anthropolog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anthropology or it is n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ors vs. 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ors are after artifacts for money or for personal coll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are after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 is the most important thing to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and space in which objects occur in the grou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 study of the past in this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is Anthropology</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is anthropology or it is no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lectors vs. 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lectors are after artifacts for money or for personal coll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sts are after knowled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ext is the most important thing to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ime and space in which objects occur in the 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ic study of the past in this 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use of written sources, architecture and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recent historic times, may be text a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water archaeologists-study waterlogged sites or artifacts with special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historic-cultures before written rec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orld vs. Old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assical-use of written sources, architecture and ar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recent historic times, may be text aid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water archaeologists-study waterlogged sites or artifacts with special techniq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historic-cultures before written rec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World vs. Old Worl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on particular artifacts or eco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oarchaeologists-animal bones from archaeological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hic analysts-stone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ethnobotanists-botanical remains, domest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archaeologists-human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a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te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earch on particular artifacts or eco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oarchaeologists-animal bones from archaeological si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thic analysts-stone 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ethnobotanists-botanical remains, domest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oarchaeologists-human rema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amic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ite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ri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tc.,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216DF-1E92-432D-9CD0-06BF068F5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E91DE-6455-4C37-A78E-C676BB57A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AE2F7-F6D7-4621-B13B-9F52FF09B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9BD24-3A7E-4115-B35B-7ACA00A19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F3BC7F-3DC7-4680-B4B0-3128530AE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361FB-CBA2-4A02-B18A-2CE29E9D8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526C1-AE44-4167-BE2C-3BB50BCAD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E46B0-96B9-4869-BCDB-2053A4629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3B7A1-DBF1-4069-BE8F-834038E74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58647-EAC4-444A-86D6-182857E4E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C8359-3771-4ECC-BFE6-68C5F6FA9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E5A76-3A99-4E58-B184-6A9FE661A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9B199-1706-4277-AD40-BE4701C55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2AFA4-2788-4EBD-AC28-4AFFD93B4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C189C-0643-4B21-945F-0E84514F5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52528-9637-4790-BBC2-C7BFA954DF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1F919-1ABC-44C7-B2B0-0BFB1AB76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9A676-C9F1-43CB-A06B-53690D1C8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CE9BC-F0F1-4E73-A00C-CAA7A1D71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66744-1266-4635-86D8-31DBB21BE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48B7A-A4BE-42D5-A37D-B9EAFD9E9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341D4-840D-4F9A-9BB5-343BF5B5B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15F85-4897-401A-B8F7-FF0308EE6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52AE8-6051-4456-89F3-7007CCAAB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0CCE-9C79-477D-BFC0-5ABF57C952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4D47-41F1-42BA-BE19-99DBFC5304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990360"/>
            <a:ext cx="7721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is Archaeology?:</a:t>
            </a:r>
            <a:br>
              <a:rPr sz="4400"/>
            </a:br>
            <a:r>
              <a:rPr b="0" lang="en-US" sz="4400" spc="-1" strike="noStrike">
                <a:solidFill>
                  <a:srgbClr val="ffff00"/>
                </a:solidFill>
                <a:latin typeface="Times New Roman"/>
              </a:rPr>
              <a:t>Studying Past Cultures</a:t>
            </a:r>
            <a:endParaRPr b="0" lang="en-US" sz="4400" spc="-1" strike="noStrike">
              <a:solidFill>
                <a:srgbClr val="ffff00"/>
              </a:solidFill>
              <a:latin typeface="Times New Roman"/>
            </a:endParaRPr>
          </a:p>
        </p:txBody>
      </p:sp>
      <p:sp>
        <p:nvSpPr>
          <p:cNvPr id="100" name="PlaceHolder 2"/>
          <p:cNvSpPr>
            <a:spLocks noGrp="1"/>
          </p:cNvSpPr>
          <p:nvPr>
            <p:ph type="subTitle"/>
          </p:nvPr>
        </p:nvSpPr>
        <p:spPr>
          <a:xfrm>
            <a:off x="1625400" y="3352320"/>
            <a:ext cx="6908760" cy="2305080"/>
          </a:xfrm>
          <a:prstGeom prst="rect">
            <a:avLst/>
          </a:prstGeom>
          <a:noFill/>
          <a:ln w="0">
            <a:noFill/>
          </a:ln>
        </p:spPr>
        <p:txBody>
          <a:bodyPr lIns="92160" rIns="92160" tIns="46080" bIns="46080" anchor="t">
            <a:noAutofit/>
          </a:bodyPr>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hat is Culture?</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ltural Systems and Culture Process</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oals of Archaeology</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ory in Archaeology</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90600"/>
            <a:ext cx="7772400" cy="6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What is Culture?</a:t>
            </a:r>
            <a:br>
              <a:rPr sz="4400"/>
            </a:br>
            <a:endParaRPr b="0" lang="en-US" sz="4400" spc="-1" strike="noStrike">
              <a:solidFill>
                <a:srgbClr val="ffff00"/>
              </a:solidFill>
              <a:latin typeface="Times New Roman"/>
            </a:endParaRPr>
          </a:p>
        </p:txBody>
      </p:sp>
      <p:sp>
        <p:nvSpPr>
          <p:cNvPr id="128" name="PlaceHolder 2"/>
          <p:cNvSpPr>
            <a:spLocks noGrp="1"/>
          </p:cNvSpPr>
          <p:nvPr>
            <p:ph/>
          </p:nvPr>
        </p:nvSpPr>
        <p:spPr>
          <a:xfrm>
            <a:off x="1066320" y="990720"/>
            <a:ext cx="7620120" cy="4876560"/>
          </a:xfrm>
          <a:prstGeom prst="rect">
            <a:avLst/>
          </a:prstGeom>
          <a:noFill/>
          <a:ln w="0">
            <a:noFill/>
          </a:ln>
        </p:spPr>
        <p:txBody>
          <a:bodyPr anchor="t">
            <a:normAutofit fontScale="94000"/>
          </a:bodyPr>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That complex whole which includes knowledge, belief, art, morals, law, custom, and any other capabilities and habits acquired by a[person] as a member of society” Edward Tylor</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imary nonbiological means by which human societies adapt to and accomodate their environment.</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e is a society’s traditional system of beliefs and behavior.</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at is the difference between human culture and animal societies?</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e. when an animal dies, its experiences die with them.  But what about primate societies?</a:t>
            </a:r>
            <a:endParaRPr b="0" lang="en-US" sz="2800" spc="-1" strike="noStrike">
              <a:solidFill>
                <a:srgbClr val="ffffff"/>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al Systems</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641240"/>
            <a:ext cx="7772400" cy="4454280"/>
          </a:xfrm>
          <a:prstGeom prst="rect">
            <a:avLst/>
          </a:prstGeom>
          <a:noFill/>
          <a:ln w="0">
            <a:noFill/>
          </a:ln>
        </p:spPr>
        <p:txBody>
          <a:bodyPr anchor="t">
            <a:normAutofit fontScale="97000"/>
          </a:bodyPr>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al Systems</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complex system comprising a set of interacting variables, including:</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ols</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urial customs</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ubsistence</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ligion</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ocial organization</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se elements function to maintain a community</a:t>
            </a:r>
            <a:r>
              <a:rPr b="0" lang="en-US" sz="2400" spc="-1" strike="noStrike">
                <a:solidFill>
                  <a:srgbClr val="ffffff"/>
                </a:solidFill>
                <a:latin typeface="Times New Roman"/>
                <a:ea typeface="Arial"/>
              </a:rPr>
              <a:t>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en one element changes, others are effected</a:t>
            </a:r>
            <a:endParaRPr b="0" lang="en-US" sz="2400" spc="-1" strike="noStrike">
              <a:solidFill>
                <a:srgbClr val="ffffff"/>
              </a:solidFill>
              <a:latin typeface="Times New Roman"/>
            </a:endParaRPr>
          </a:p>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w do we study Cultural Systems in Archaeology?</a:t>
            </a:r>
            <a:endParaRPr b="0" lang="en-US" sz="2800" spc="-1" strike="noStrike">
              <a:solidFill>
                <a:srgbClr val="ffffff"/>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s</a:t>
            </a:r>
            <a:endParaRPr b="0" lang="en-US" sz="4400" spc="-1" strike="noStrike">
              <a:solidFill>
                <a:srgbClr val="ffff00"/>
              </a:solidFill>
              <a:latin typeface="Times New Roman"/>
            </a:endParaRPr>
          </a:p>
        </p:txBody>
      </p:sp>
      <p:pic>
        <p:nvPicPr>
          <p:cNvPr id="134" name="Picture 5" descr="stonetools"/>
          <p:cNvPicPr/>
          <p:nvPr/>
        </p:nvPicPr>
        <p:blipFill>
          <a:blip r:embed="rId1"/>
          <a:stretch/>
        </p:blipFill>
        <p:spPr>
          <a:xfrm>
            <a:off x="914400" y="1371600"/>
            <a:ext cx="7543800" cy="485316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urial Customs</a:t>
            </a:r>
            <a:endParaRPr b="0" lang="en-US" sz="4400" spc="-1" strike="noStrike">
              <a:solidFill>
                <a:srgbClr val="ffff00"/>
              </a:solidFill>
              <a:latin typeface="Times New Roman"/>
            </a:endParaRPr>
          </a:p>
        </p:txBody>
      </p:sp>
      <p:pic>
        <p:nvPicPr>
          <p:cNvPr id="137" name="Picture 4" descr="burial"/>
          <p:cNvPicPr/>
          <p:nvPr/>
        </p:nvPicPr>
        <p:blipFill>
          <a:blip r:embed="rId1">
            <a:lum contrast="36000"/>
          </a:blip>
          <a:stretch/>
        </p:blipFill>
        <p:spPr>
          <a:xfrm>
            <a:off x="457200" y="1371600"/>
            <a:ext cx="3276720" cy="2224080"/>
          </a:xfrm>
          <a:prstGeom prst="rect">
            <a:avLst/>
          </a:prstGeom>
          <a:ln w="0">
            <a:noFill/>
          </a:ln>
        </p:spPr>
      </p:pic>
      <p:pic>
        <p:nvPicPr>
          <p:cNvPr id="138" name="Picture 5" descr="burial2"/>
          <p:cNvPicPr/>
          <p:nvPr/>
        </p:nvPicPr>
        <p:blipFill>
          <a:blip r:embed="rId2"/>
          <a:stretch/>
        </p:blipFill>
        <p:spPr>
          <a:xfrm>
            <a:off x="4724280" y="1371600"/>
            <a:ext cx="3319560" cy="2192400"/>
          </a:xfrm>
          <a:prstGeom prst="rect">
            <a:avLst/>
          </a:prstGeom>
          <a:ln w="0">
            <a:noFill/>
          </a:ln>
        </p:spPr>
      </p:pic>
      <p:pic>
        <p:nvPicPr>
          <p:cNvPr id="139" name="Picture 6" descr="burial3"/>
          <p:cNvPicPr/>
          <p:nvPr/>
        </p:nvPicPr>
        <p:blipFill>
          <a:blip r:embed="rId3"/>
          <a:stretch/>
        </p:blipFill>
        <p:spPr>
          <a:xfrm>
            <a:off x="533520" y="4114800"/>
            <a:ext cx="3352680" cy="2087640"/>
          </a:xfrm>
          <a:prstGeom prst="rect">
            <a:avLst/>
          </a:prstGeom>
          <a:ln w="0">
            <a:noFill/>
          </a:ln>
        </p:spPr>
      </p:pic>
      <p:pic>
        <p:nvPicPr>
          <p:cNvPr id="140" name="Picture 7" descr="dogburial"/>
          <p:cNvPicPr/>
          <p:nvPr/>
        </p:nvPicPr>
        <p:blipFill>
          <a:blip r:embed="rId4"/>
          <a:stretch/>
        </p:blipFill>
        <p:spPr>
          <a:xfrm>
            <a:off x="4876920" y="4038480"/>
            <a:ext cx="3276360" cy="21481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igion</a:t>
            </a:r>
            <a:endParaRPr b="0" lang="en-US" sz="4400" spc="-1" strike="noStrike">
              <a:solidFill>
                <a:srgbClr val="ffff00"/>
              </a:solidFill>
              <a:latin typeface="Times New Roman"/>
            </a:endParaRPr>
          </a:p>
        </p:txBody>
      </p:sp>
      <p:pic>
        <p:nvPicPr>
          <p:cNvPr id="143" name="Picture 4" descr="Shellobject"/>
          <p:cNvPicPr/>
          <p:nvPr/>
        </p:nvPicPr>
        <p:blipFill>
          <a:blip r:embed="rId1"/>
          <a:stretch/>
        </p:blipFill>
        <p:spPr>
          <a:xfrm>
            <a:off x="2133720" y="1371600"/>
            <a:ext cx="5562360" cy="517032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cial Organization</a:t>
            </a:r>
            <a:endParaRPr b="0" lang="en-US" sz="4400" spc="-1" strike="noStrike">
              <a:solidFill>
                <a:srgbClr val="ffff00"/>
              </a:solidFill>
              <a:latin typeface="Times New Roman"/>
            </a:endParaRPr>
          </a:p>
        </p:txBody>
      </p:sp>
      <p:pic>
        <p:nvPicPr>
          <p:cNvPr id="146" name="Picture 3" descr="Teotihuacan"/>
          <p:cNvPicPr/>
          <p:nvPr/>
        </p:nvPicPr>
        <p:blipFill>
          <a:blip r:embed="rId1"/>
          <a:stretch/>
        </p:blipFill>
        <p:spPr>
          <a:xfrm>
            <a:off x="1447920" y="1600200"/>
            <a:ext cx="6629400" cy="451008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e Proces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ocesses by which human societies changed in the pas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lture change was generally slow and gradual.</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imary Processe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ven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ffus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igration</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al Evolu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estate Societi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and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rib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hiefdom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tate-Organized Societie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he Goals of Archaeolo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our Goals of Archaeolog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tudying Culture Histo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constructing Past Lifeway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plaining Culture Chan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king Archaeology Relevant to the Present</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ying Culture History</a:t>
            </a:r>
            <a:endParaRPr b="0" lang="en-US" sz="4400" spc="-1" strike="noStrike">
              <a:solidFill>
                <a:srgbClr val="ffff00"/>
              </a:solidFill>
              <a:latin typeface="Times New Roman"/>
            </a:endParaRPr>
          </a:p>
        </p:txBody>
      </p:sp>
      <p:sp>
        <p:nvSpPr>
          <p:cNvPr id="158" name="PlaceHolder 2"/>
          <p:cNvSpPr>
            <a:spLocks noGrp="1"/>
          </p:cNvSpPr>
          <p:nvPr>
            <p:ph/>
          </p:nvPr>
        </p:nvSpPr>
        <p:spPr>
          <a:xfrm>
            <a:off x="0" y="1641240"/>
            <a:ext cx="44956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th Americ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leoindian (15-10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ic (10-3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odland (3-1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ssissippian (1kya-500ya)</a:t>
            </a:r>
            <a:endParaRPr b="0" lang="en-US" sz="2800" spc="-1" strike="noStrike">
              <a:solidFill>
                <a:srgbClr val="ffffff"/>
              </a:solidFill>
              <a:latin typeface="Times New Roman"/>
            </a:endParaRPr>
          </a:p>
        </p:txBody>
      </p:sp>
      <p:sp>
        <p:nvSpPr>
          <p:cNvPr id="159" name="PlaceHolder 3"/>
          <p:cNvSpPr>
            <a:spLocks noGrp="1"/>
          </p:cNvSpPr>
          <p:nvPr>
            <p:ph/>
          </p:nvPr>
        </p:nvSpPr>
        <p:spPr>
          <a:xfrm>
            <a:off x="4419360" y="1641240"/>
            <a:ext cx="47242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ld World (Europe/Afric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leolithic (2 mya-10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solithic (10 kya-6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olithic (6 kya-4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nze Age (4 kya-2.5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on Age (2.5 kya--)</a:t>
            </a:r>
            <a:endParaRPr b="0" lang="en-US" sz="2800" spc="-1" strike="noStrike">
              <a:solidFill>
                <a:srgbClr val="ffffff"/>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28600"/>
            <a:ext cx="80773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rchaeologists?</a:t>
            </a:r>
            <a:endParaRPr b="0" lang="en-US" sz="3600" spc="-1" strike="noStrike">
              <a:solidFill>
                <a:srgbClr val="ffff00"/>
              </a:solidFill>
              <a:latin typeface="Times New Roman"/>
            </a:endParaRPr>
          </a:p>
        </p:txBody>
      </p:sp>
      <p:pic>
        <p:nvPicPr>
          <p:cNvPr id="103" name="Picture 4" descr="MVC-012S"/>
          <p:cNvPicPr/>
          <p:nvPr/>
        </p:nvPicPr>
        <p:blipFill>
          <a:blip r:embed="rId1"/>
          <a:stretch/>
        </p:blipFill>
        <p:spPr>
          <a:xfrm>
            <a:off x="4800600" y="1219320"/>
            <a:ext cx="2932200" cy="5105160"/>
          </a:xfrm>
          <a:prstGeom prst="rect">
            <a:avLst/>
          </a:prstGeom>
          <a:ln w="0">
            <a:noFill/>
          </a:ln>
        </p:spPr>
      </p:pic>
      <p:pic>
        <p:nvPicPr>
          <p:cNvPr id="104" name="Picture 6" descr="splash_02"/>
          <p:cNvPicPr/>
          <p:nvPr/>
        </p:nvPicPr>
        <p:blipFill>
          <a:blip r:embed="rId2"/>
          <a:stretch/>
        </p:blipFill>
        <p:spPr>
          <a:xfrm>
            <a:off x="990720" y="1295280"/>
            <a:ext cx="2698560" cy="510552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onstructing Past Lifeways</a:t>
            </a:r>
            <a:endParaRPr b="0" lang="en-US" sz="4400" spc="-1" strike="noStrike">
              <a:solidFill>
                <a:srgbClr val="ffff00"/>
              </a:solidFill>
              <a:latin typeface="Times New Roman"/>
            </a:endParaRPr>
          </a:p>
        </p:txBody>
      </p:sp>
      <p:sp>
        <p:nvSpPr>
          <p:cNvPr id="162" name="TextBox 8"/>
          <p:cNvSpPr/>
          <p:nvPr/>
        </p:nvSpPr>
        <p:spPr>
          <a:xfrm>
            <a:off x="2367000" y="5105520"/>
            <a:ext cx="448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ntknapping-Making Stone Tools</a:t>
            </a:r>
            <a:endParaRPr b="0" lang="en-US" sz="2400" spc="-1" strike="noStrike">
              <a:solidFill>
                <a:srgbClr val="ffffff"/>
              </a:solidFill>
              <a:latin typeface="Times New Roman"/>
            </a:endParaRPr>
          </a:p>
        </p:txBody>
      </p:sp>
      <p:pic>
        <p:nvPicPr>
          <p:cNvPr id="163" name="Picture 8" descr="http://www.dec.ny.gov/images/administration_images/0807flintknap.jpg"/>
          <p:cNvPicPr/>
          <p:nvPr/>
        </p:nvPicPr>
        <p:blipFill>
          <a:blip r:embed="rId1"/>
          <a:stretch/>
        </p:blipFill>
        <p:spPr>
          <a:xfrm>
            <a:off x="2057400" y="1371600"/>
            <a:ext cx="4762440" cy="3191040"/>
          </a:xfrm>
          <a:prstGeom prst="rect">
            <a:avLst/>
          </a:prstGeom>
          <a:ln w="0">
            <a:noFill/>
          </a:ln>
        </p:spPr>
      </p:pic>
      <p:sp>
        <p:nvSpPr>
          <p:cNvPr id="164" name="Rectangle 10"/>
          <p:cNvSpPr/>
          <p:nvPr/>
        </p:nvSpPr>
        <p:spPr>
          <a:xfrm>
            <a:off x="2209680" y="6595920"/>
            <a:ext cx="4572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http://www.dec.ny.gov/images/administration_images/0807flintknap.jpg</a:t>
            </a:r>
            <a:endParaRPr b="0" lang="en-US" sz="11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Explaining Culture Change</a:t>
            </a:r>
            <a:endParaRPr b="0" lang="en-US" sz="4400" spc="-1" strike="noStrike">
              <a:solidFill>
                <a:srgbClr val="ffff00"/>
              </a:solidFill>
              <a:latin typeface="Times New Roman"/>
            </a:endParaRPr>
          </a:p>
        </p:txBody>
      </p:sp>
      <p:pic>
        <p:nvPicPr>
          <p:cNvPr id="167" name="Picture 3" descr="Historical"/>
          <p:cNvPicPr/>
          <p:nvPr/>
        </p:nvPicPr>
        <p:blipFill>
          <a:blip r:embed="rId1"/>
          <a:stretch/>
        </p:blipFill>
        <p:spPr>
          <a:xfrm>
            <a:off x="1447920" y="1066680"/>
            <a:ext cx="6400800" cy="4095720"/>
          </a:xfrm>
          <a:prstGeom prst="rect">
            <a:avLst/>
          </a:prstGeom>
          <a:ln w="0">
            <a:noFill/>
          </a:ln>
        </p:spPr>
      </p:pic>
      <p:sp>
        <p:nvSpPr>
          <p:cNvPr id="168" name="Text Box 4"/>
          <p:cNvSpPr/>
          <p:nvPr/>
        </p:nvSpPr>
        <p:spPr>
          <a:xfrm>
            <a:off x="228600" y="530532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ixby Homesite: 1800-1845 The actual household objects of the Bixby house, the house itself with its outbuildings, and the surrounding New England landscape illustrate clearly the changes in socie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in work in the first half of the 19th century. </a:t>
            </a:r>
            <a:endParaRPr b="0" lang="en-US" sz="2400" spc="-1" strike="noStrike">
              <a:solidFill>
                <a:srgbClr val="ffffff"/>
              </a:solidFill>
              <a:latin typeface="Times New Roman"/>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0"/>
            <a:ext cx="96775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Archaeology &amp; Relevance to the Present</a:t>
            </a:r>
            <a:endParaRPr b="0" lang="en-US" sz="4400" spc="-1" strike="noStrike">
              <a:solidFill>
                <a:srgbClr val="ffff00"/>
              </a:solidFill>
              <a:latin typeface="Times New Roman"/>
            </a:endParaRPr>
          </a:p>
        </p:txBody>
      </p:sp>
      <p:pic>
        <p:nvPicPr>
          <p:cNvPr id="171" name="Picture 3" descr="Paleopathology"/>
          <p:cNvPicPr/>
          <p:nvPr/>
        </p:nvPicPr>
        <p:blipFill>
          <a:blip r:embed="rId1"/>
          <a:stretch/>
        </p:blipFill>
        <p:spPr>
          <a:xfrm>
            <a:off x="1676520" y="914400"/>
            <a:ext cx="5135400" cy="3429000"/>
          </a:xfrm>
          <a:prstGeom prst="rect">
            <a:avLst/>
          </a:prstGeom>
          <a:ln w="0">
            <a:noFill/>
          </a:ln>
        </p:spPr>
      </p:pic>
      <p:sp>
        <p:nvSpPr>
          <p:cNvPr id="172" name="Text Box 4"/>
          <p:cNvSpPr/>
          <p:nvPr/>
        </p:nvSpPr>
        <p:spPr>
          <a:xfrm>
            <a:off x="0" y="457524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eopathology: A 20,000-Skeleton Perspective The diagnosis of various pathologies is a major tool for both archaeology and medicine. This se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2400" spc="-1" strike="noStrike">
              <a:solidFill>
                <a:srgbClr val="ffffff"/>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heory in Archaeolo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al-Historic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onology</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ifact Typology</a:t>
            </a:r>
            <a:endParaRPr b="0" lang="en-US" sz="24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ocessu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mental Archaeology</a:t>
            </a:r>
            <a:endParaRPr b="0" lang="en-US" sz="24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st-processu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ologica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bolism</a:t>
            </a:r>
            <a:endParaRPr b="0" lang="en-US" sz="2400" spc="-1" strike="noStrike">
              <a:solidFill>
                <a:srgbClr val="ffffff"/>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ulture History-Pottery</a:t>
            </a:r>
            <a:endParaRPr b="0" lang="en-US" sz="4400" spc="-1" strike="noStrike">
              <a:solidFill>
                <a:srgbClr val="ffff00"/>
              </a:solidFill>
              <a:latin typeface="Times New Roman"/>
            </a:endParaRPr>
          </a:p>
        </p:txBody>
      </p:sp>
      <p:pic>
        <p:nvPicPr>
          <p:cNvPr id="178" name="Picture 4" descr="pottery2"/>
          <p:cNvPicPr/>
          <p:nvPr/>
        </p:nvPicPr>
        <p:blipFill>
          <a:blip r:embed="rId1"/>
          <a:stretch/>
        </p:blipFill>
        <p:spPr>
          <a:xfrm>
            <a:off x="4537080" y="3405240"/>
            <a:ext cx="68400" cy="46080"/>
          </a:xfrm>
          <a:prstGeom prst="rect">
            <a:avLst/>
          </a:prstGeom>
          <a:ln w="0">
            <a:noFill/>
          </a:ln>
        </p:spPr>
      </p:pic>
      <p:pic>
        <p:nvPicPr>
          <p:cNvPr id="179" name="Picture 5" descr="pottery1"/>
          <p:cNvPicPr/>
          <p:nvPr/>
        </p:nvPicPr>
        <p:blipFill>
          <a:blip r:embed="rId2"/>
          <a:stretch/>
        </p:blipFill>
        <p:spPr>
          <a:xfrm>
            <a:off x="838080" y="1447920"/>
            <a:ext cx="2819520" cy="1914480"/>
          </a:xfrm>
          <a:prstGeom prst="rect">
            <a:avLst/>
          </a:prstGeom>
          <a:ln w="0">
            <a:noFill/>
          </a:ln>
        </p:spPr>
      </p:pic>
      <p:pic>
        <p:nvPicPr>
          <p:cNvPr id="180" name="Picture 6" descr="pottery2"/>
          <p:cNvPicPr/>
          <p:nvPr/>
        </p:nvPicPr>
        <p:blipFill>
          <a:blip r:embed="rId3"/>
          <a:stretch/>
        </p:blipFill>
        <p:spPr>
          <a:xfrm>
            <a:off x="4800600" y="1447920"/>
            <a:ext cx="2938320" cy="1995480"/>
          </a:xfrm>
          <a:prstGeom prst="rect">
            <a:avLst/>
          </a:prstGeom>
          <a:ln w="0">
            <a:noFill/>
          </a:ln>
        </p:spPr>
      </p:pic>
      <p:pic>
        <p:nvPicPr>
          <p:cNvPr id="181" name="Picture 7" descr="pottery3"/>
          <p:cNvPicPr/>
          <p:nvPr/>
        </p:nvPicPr>
        <p:blipFill>
          <a:blip r:embed="rId4"/>
          <a:stretch/>
        </p:blipFill>
        <p:spPr>
          <a:xfrm>
            <a:off x="1066680" y="4038480"/>
            <a:ext cx="3013200" cy="1876680"/>
          </a:xfrm>
          <a:prstGeom prst="rect">
            <a:avLst/>
          </a:prstGeom>
          <a:ln w="0">
            <a:noFill/>
          </a:ln>
        </p:spPr>
      </p:pic>
      <p:pic>
        <p:nvPicPr>
          <p:cNvPr id="182" name="Picture 8" descr="pottery4"/>
          <p:cNvPicPr/>
          <p:nvPr/>
        </p:nvPicPr>
        <p:blipFill>
          <a:blip r:embed="rId5"/>
          <a:stretch/>
        </p:blipFill>
        <p:spPr>
          <a:xfrm>
            <a:off x="5105520" y="3657600"/>
            <a:ext cx="2557440" cy="25574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ual-Ethnoarchaeology</a:t>
            </a:r>
            <a:endParaRPr b="0" lang="en-US" sz="4400" spc="-1" strike="noStrike">
              <a:solidFill>
                <a:srgbClr val="ffff00"/>
              </a:solidFill>
              <a:latin typeface="Times New Roman"/>
            </a:endParaRPr>
          </a:p>
        </p:txBody>
      </p:sp>
      <p:pic>
        <p:nvPicPr>
          <p:cNvPr id="185" name="Picture 3" descr="Ethnoarch"/>
          <p:cNvPicPr/>
          <p:nvPr/>
        </p:nvPicPr>
        <p:blipFill>
          <a:blip r:embed="rId1"/>
          <a:stretch/>
        </p:blipFill>
        <p:spPr>
          <a:xfrm>
            <a:off x="1600200" y="838080"/>
            <a:ext cx="6019920" cy="4081680"/>
          </a:xfrm>
          <a:prstGeom prst="rect">
            <a:avLst/>
          </a:prstGeom>
          <a:ln w="0">
            <a:noFill/>
          </a:ln>
        </p:spPr>
      </p:pic>
      <p:sp>
        <p:nvSpPr>
          <p:cNvPr id="186" name="Text Box 4"/>
          <p:cNvSpPr/>
          <p:nvPr/>
        </p:nvSpPr>
        <p:spPr>
          <a:xfrm>
            <a:off x="990720" y="4940280"/>
            <a:ext cx="7621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hnoarchaeology of the Kalin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iew of Dangtalan looking north. The irrigated fie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order the village on the east, west, and south. Notice th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ariability in house sizes as well as construction materials (e.g., thatch vs. corrugated iron sheets for the roofs).</a:t>
            </a:r>
            <a:endParaRPr b="0" lang="en-US" sz="24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st-Processual-Imagery</a:t>
            </a:r>
            <a:endParaRPr b="0" lang="en-US" sz="4400" spc="-1" strike="noStrike">
              <a:solidFill>
                <a:srgbClr val="ffff00"/>
              </a:solidFill>
              <a:latin typeface="Times New Roman"/>
            </a:endParaRPr>
          </a:p>
        </p:txBody>
      </p:sp>
      <p:pic>
        <p:nvPicPr>
          <p:cNvPr id="189" name="Picture 3" descr="Chichenfrieze"/>
          <p:cNvPicPr/>
          <p:nvPr/>
        </p:nvPicPr>
        <p:blipFill>
          <a:blip r:embed="rId1"/>
          <a:stretch/>
        </p:blipFill>
        <p:spPr>
          <a:xfrm>
            <a:off x="1143000" y="762120"/>
            <a:ext cx="7010280" cy="4705200"/>
          </a:xfrm>
          <a:prstGeom prst="rect">
            <a:avLst/>
          </a:prstGeom>
          <a:ln w="0">
            <a:noFill/>
          </a:ln>
        </p:spPr>
      </p:pic>
      <p:sp>
        <p:nvSpPr>
          <p:cNvPr id="190" name="Text Box 4"/>
          <p:cNvSpPr/>
          <p:nvPr/>
        </p:nvSpPr>
        <p:spPr>
          <a:xfrm>
            <a:off x="762120" y="567072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hen Itza- The player on the left holds the severed head o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defeated player on the right. From the trunk spouts blood in the form of seven serpents. In the center is the ball. </a:t>
            </a:r>
            <a:endParaRPr b="0" lang="en-US" sz="24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sic Concepts</a:t>
            </a:r>
            <a:endParaRPr b="0" lang="en-US" sz="4400" spc="-1" strike="noStrike">
              <a:solidFill>
                <a:srgbClr val="ffff00"/>
              </a:solidFill>
              <a:latin typeface="Times New Roman"/>
            </a:endParaRPr>
          </a:p>
        </p:txBody>
      </p:sp>
      <p:sp>
        <p:nvSpPr>
          <p:cNvPr id="107" name="PlaceHolder 2"/>
          <p:cNvSpPr>
            <a:spLocks noGrp="1"/>
          </p:cNvSpPr>
          <p:nvPr>
            <p:ph/>
          </p:nvPr>
        </p:nvSpPr>
        <p:spPr>
          <a:xfrm>
            <a:off x="455400" y="1598760"/>
            <a:ext cx="8226360" cy="503064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ssils-Studied by Paleoanthropologis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erved remains of creatures from the pas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form when an organism dies, is buried, and over long periods of time the organic part decays and is replaced by mineral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bones form sto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ssil localities are where fossils are found.</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eological sites-Studied by Archaeologis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 of past human activity.</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rge settlements with ceremonial center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ll hunting camps.</a:t>
            </a:r>
            <a:endParaRPr b="0" lang="en-US" sz="2400" spc="-1" strike="noStrike">
              <a:solidFill>
                <a:srgbClr val="ffff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rms</a:t>
            </a:r>
            <a:endParaRPr b="0" lang="en-US" sz="4400" spc="-1" strike="noStrike">
              <a:solidFill>
                <a:srgbClr val="ffff00"/>
              </a:solidFill>
              <a:latin typeface="Times New Roman"/>
            </a:endParaRPr>
          </a:p>
        </p:txBody>
      </p:sp>
      <p:sp>
        <p:nvSpPr>
          <p:cNvPr id="110" name="PlaceHolder 2"/>
          <p:cNvSpPr>
            <a:spLocks noGrp="1"/>
          </p:cNvSpPr>
          <p:nvPr>
            <p:ph/>
          </p:nvPr>
        </p:nvSpPr>
        <p:spPr>
          <a:xfrm>
            <a:off x="455400" y="1598760"/>
            <a:ext cx="8226360" cy="5030640"/>
          </a:xfrm>
          <a:prstGeom prst="rect">
            <a:avLst/>
          </a:prstGeom>
          <a:noFill/>
          <a:ln w="0">
            <a:noFill/>
          </a:ln>
        </p:spPr>
        <p:txBody>
          <a:bodyPr anchor="t">
            <a:normAutofit/>
          </a:bodyPr>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tifacts- Objects found and studied by archaeologists which have been made or modified by human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ne tools, bone tools, pottery most common.</a:t>
            </a:r>
            <a:endParaRPr b="0" lang="en-US" sz="2400" spc="-1" strike="noStrike">
              <a:solidFill>
                <a:srgbClr val="ffffff"/>
              </a:solidFill>
              <a:latin typeface="Times New Roman"/>
            </a:endParaRPr>
          </a:p>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acts- nonartifactual remains found at archaeological sites, such as animals bones, shells, plant remain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provide ecological and subsistence information. </a:t>
            </a:r>
            <a:endParaRPr b="0" lang="en-US" sz="2400" spc="-1" strike="noStrike">
              <a:solidFill>
                <a:srgbClr val="ffffff"/>
              </a:solidFill>
              <a:latin typeface="Times New Roman"/>
            </a:endParaRPr>
          </a:p>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atures- Nonmoveable artifacts such as hearths, pits or house floors. </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reveal information such as settlement and subsistence.</a:t>
            </a:r>
            <a:endParaRPr b="0" lang="en-US" sz="2400" spc="-1" strike="noStrike">
              <a:solidFill>
                <a:srgbClr val="ffffff"/>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text</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rtifacts context is it's specific location where it was found and how it relates to other artifacts around i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A stone arrowhead is found with newspapers and plastic bottles, what would you conclude about the arrowheads context?</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a pot on its own may tell you how it was made or what it was made from, but if it is removed from its context archaeologists have no idea what it was associated with.</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oing Archaeology</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41240"/>
            <a:ext cx="7772400" cy="4454280"/>
          </a:xfrm>
          <a:prstGeom prst="rect">
            <a:avLst/>
          </a:prstGeom>
          <a:noFill/>
          <a:ln w="0">
            <a:noFill/>
          </a:ln>
        </p:spPr>
        <p:txBody>
          <a:bodyPr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ating Site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ident, Controlled Survey, Remote Sensing</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avation </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rizontal, Vertical</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ing Technique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on 14, Dendrochronology</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ifact Analysis</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te and Regional Synthesis</a:t>
            </a:r>
            <a:endParaRPr b="0" lang="en-US" sz="3200" spc="-1" strike="noStrike">
              <a:solidFill>
                <a:srgbClr val="ffffff"/>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rchaeology is Anthropology</a:t>
            </a:r>
            <a:br>
              <a:rPr sz="4000"/>
            </a:br>
            <a:endParaRPr b="0" lang="en-US" sz="4000" spc="-1" strike="noStrike">
              <a:solidFill>
                <a:srgbClr val="ffff00"/>
              </a:solidFill>
              <a:latin typeface="Times New Roman"/>
            </a:endParaRPr>
          </a:p>
        </p:txBody>
      </p:sp>
      <p:sp>
        <p:nvSpPr>
          <p:cNvPr id="11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eology is anthropology or it is noth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ectors vs. Archaeologist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ctors are after artifacts for money or for personal collection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chaeologists are after knowledge.</a:t>
            </a:r>
            <a:endParaRPr b="0" lang="en-US" sz="20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 is the most important thing to archaeology.</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ime and space in which objects occur in the ground.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atic study of the past in this context.</a:t>
            </a:r>
            <a:endParaRPr b="0" lang="en-US" sz="2400" spc="-1" strike="noStrike">
              <a:solidFill>
                <a:srgbClr val="ffffff"/>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es of archaeology</a:t>
            </a:r>
            <a:endParaRPr b="0" lang="en-US" sz="4400" spc="-1" strike="noStrike">
              <a:solidFill>
                <a:srgbClr val="ffff00"/>
              </a:solidFill>
              <a:latin typeface="Times New Roman"/>
            </a:endParaRPr>
          </a:p>
        </p:txBody>
      </p:sp>
      <p:sp>
        <p:nvSpPr>
          <p:cNvPr id="12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cal-use of written sources, architecture and art.</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recent historic times, may be text aided.</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water archaeologists-study waterlogged sites or artifacts with special technique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historic-cultures before written record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World vs. Old World</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ecialists</a:t>
            </a:r>
            <a:endParaRPr b="0" lang="en-US" sz="4400" spc="-1" strike="noStrike">
              <a:solidFill>
                <a:srgbClr val="ffff00"/>
              </a:solidFill>
              <a:latin typeface="Times New Roman"/>
            </a:endParaRPr>
          </a:p>
        </p:txBody>
      </p:sp>
      <p:sp>
        <p:nvSpPr>
          <p:cNvPr id="12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on particular artifacts or ecofact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ooarchaeologists-animal bones from archaeological site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thic analysts-stone tool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eoethnobotanists-botanical remains, domestication.</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archaeologists-human remain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ramic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l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itecture</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ing</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c., etc.</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30T13:34:56Z</dcterms:created>
  <dc:creator>Bella</dc:creator>
  <dc:description/>
  <dc:language>en-US</dc:language>
  <cp:lastModifiedBy>Legion</cp:lastModifiedBy>
  <dcterms:modified xsi:type="dcterms:W3CDTF">2017-07-04T12:56:15Z</dcterms:modified>
  <cp:revision>23</cp:revision>
  <dc:subject/>
  <dc:title>Studying Past Cultures</dc:title>
</cp:coreProperties>
</file>