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7.png" ContentType="image/png"/>
  <Override PartName="/ppt/media/image32.png" ContentType="image/png"/>
  <Override PartName="/ppt/media/image22.jpeg" ContentType="image/jpeg"/>
  <Override PartName="/ppt/media/image9.png" ContentType="image/png"/>
  <Override PartName="/ppt/media/image28.png" ContentType="image/png"/>
  <Override PartName="/ppt/media/image8.jpeg" ContentType="image/jpeg"/>
  <Override PartName="/ppt/media/image29.jpeg" ContentType="image/jpeg"/>
  <Override PartName="/ppt/media/image3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36.png" ContentType="image/png"/>
  <Override PartName="/ppt/media/image6.png" ContentType="image/png"/>
  <Override PartName="/ppt/media/image10.png" ContentType="image/png"/>
  <Override PartName="/ppt/media/image4.jpeg" ContentType="image/jpe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0F5F-806D-4385-B85E-36D1A886924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story of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Develop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Hutton (1726-17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appeal to catastrophies un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cting today are same as in the pas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erosion, weathering. earthquakes and volcanos all acting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Lyell (1797-18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Principles of Geology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Hutton's theory of processes being the same as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Geology. syntesized Law of Superposition and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mes Hutton (1726-179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lieved appeal to catastrophies unnecessa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es acting today are same as in the pas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 erosion, weathering. earthquakes and volcanos all acting th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Lyell (1797-1875)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Principles of Geology (183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ed Hutton's theory of processes being the same as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Geology. syntesized Law of Superposition and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and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stablished that life forms had changed, but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credible a mechanism was needed to expla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ly influenced by geolog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orms explained by a "struggle for existence" in which those well adapted to a particular environment survive and the ill-adapted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favorable variations over a long period of time would result in new species, extinction of old species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rigin of Species (18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olution and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was established that life forms had changed, but how?</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order to be credible a mechanism was needed to explain th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atly influenced by geologis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forms explained by a "struggle for existence" in which those well adapted to a particular environment survive and the ill-adapted do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mulated favorable variations over a long period of time would result in new species, extinction of old species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rigin of Species (185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aeology.about.com/cs/educationalresour/a/history4.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 ca. 18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o Tole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 ca. 188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udio Toled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antiquity of the earth and a scheme by which life forms had changed, how old was the human spe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Boucher de Perthes-French customs official, collected stone implements and fossils along the Somm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on of extinct fauna and stone tools could not be explained with catastroph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em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findings in 1847, was considered a her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thers investigated results and found them conclusive, established by 1860 the long and changing history of human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ven the antiquity of the earth and a scheme by which life forms had changed, how old was the human spec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cques Boucher de Perthes-French customs official, collected stone implements and fossils along the Somme Riv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ociation of extinct fauna and stone tools could not be explained with catastrophism.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trem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findings in 1847, was considered a hereti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er: Others investigated results and found them conclusive, established by 1860 the long and changing history of humank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a New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ment of Archaeological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A.H.L. Fox Pitt-Rivers (18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English landowner, innovator of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d need for careful records, importance of vertical control (profiles), measurement of artifacts, interested in function and publishe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orth America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a New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inement of Archaeological Meth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 A.H.L. Fox Pitt-Rivers (18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lthy English landowner, innovator of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d need for careful records, importance of vertical control (profiles), measurement of artifacts, interested in function and published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North America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Period (1492-184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archaeology mainly developed from social sciences (European: Physical sc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us (ca. 14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not hu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ulative Period (1492-184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archaeology mainly developed from social sciences (European: Physical sci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ative Americ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overy of Americ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umbus (ca. 149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Indians not huma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building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hokia, 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k’s M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Point, 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ville, 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building Debat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hokia, I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k’s M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verty Point, L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B</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ville, 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Mound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ions during speculative period led to discovery of ruins and mound centers with burials and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Danes who then migrated to Mexico and became Toltecs and Azt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other, more civilized, but extinct Indians-the "lost r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ed some mounds, interested in their construction not really in who buil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Thom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them extremely well constructed and linked pottery in them to “modern” Indians-proving that the moundbuilders were the ancestors of the Indian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 Moundbuild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lorations during speculative period led to discovery of ruins and mound centers with burials and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or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Danes who then migrated to Mexico and became Toltecs and Azte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other, more civilized, but extinct Indians-the "lost ra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omas Jeffers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cavated some mounds, interested in their construction not really in who built the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yrus Thom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 them extremely well constructed and linked pottery in them to “modern” Indians-proving that the moundbuilders were the ancestors of the Indians tod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and Testing (1840-19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the study of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sequences of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rvey and Testing (1840-1914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vance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the study of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ying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ing sequences of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es, Taxonomies, and Chronologies (1914-194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es, Taxonomies, and Chronologies (1914-194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rchaeologi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 is made up of many disciplines, such as geology, geography, philosopy, sociology, chemistry, biolog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seen as we look at the history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efinition, i.e. looters of Egyptian tombs? Grave rob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human past through material remains, and looters were mostly doing it for money, not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interest in past as early as Egyp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bonidus (555-538 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King of Babylonian empire, rebuilt temples of ancient Babylon, sort of a preservati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Archaeologist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 is made up of many disciplines, such as geology, geography, philosopy, sociology, chemistry, biology, et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an be seen as we look at the history of archaeolog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s definition, i.e. looters of Egyptian tombs? Grave rob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y of human past through material remains, and looters were mostly doing it for money, not knowled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ginning interest in past as early as Egypti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bonidus (555-538 B.C.)</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st King of Babylonian empire, rebuilt temples of ancient Babylon, sort of a preservationi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icatory-Historical Period Context and Function  (1940-19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eriod, archaeologists began to deal with Native cultures in terms of three conce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as behavior, pattern, and the environment, and the context and function of each of these concepts in the cul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disciplines, such as geology, botany and biology, chemistry, and mathematics began to be more involved in the archaeological field during this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ory-Historical Period Context and Function  (1940-196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period, archaeologists began to deal with Native cultures in terms of three concep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ifacts as behavior, pattern, and the environment, and the context and function of each of these concepts in the cultur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 disciplines, such as geology, botany and biology, chemistry, and mathematics began to be more involved in the archaeological field during this perio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ism (1960 – prese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two major traj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and Cultural Resourc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ism (1960 – present) </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ere two major trajector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and Cultural Resource Managemen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sm (1990-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middle of the modern period (1970’s),  archaeologists began to be concerned more about human behavior and the study of Native American cul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not merely a science of material culture,  but concerns of human beings and their cultural   behavior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concep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as intera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must include women, ethnic minorities, illiterate (under-represented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bring cultural biases to work, act as mediators of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archaeology of the m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processualism (1990-pres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the middle of the modern period (1970’s),  archaeologists began to be concerned more about human behavior and the study of Native American cultur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is not merely a science of material culture,  but concerns of human beings and their cultural   behavior in the pas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s concepts of:</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as interactiv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change must include women, ethnic minorities, illiterate (under-represented grou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ists bring cultural biases to work, act as mediators of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The archaeology of the m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s concepts of culture history, processualism and post-processualism for understanding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s modern techniques as well as tried and true methods of exca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s to utilize other disciplines, as well as anthropology, for a “holis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er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bines concepts of culture history, processualism and post-processualism for understanding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loys modern techniques as well as tried and true methods of excav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s to utilize other disciplines, as well as anthropology, for a “holistic”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 Iraq, Basalt Lion with Figures; Matson Collection, ca. 19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 Iraq, Basalt Lion with Figures; Matson Collection, ca. 193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y of Congr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Augustine (48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order of monks, developed the concept of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d small-scale change and argued that God created the world and infused it with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ystem of proces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 Ages (500-13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ritical acceptance of biblical account, the past was known and discussed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sis account of creation, dawn of humanity and diversity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c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 Augustine (48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ing order of monks, developed the concept of natur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served small-scale change and argued that God created the world and infused it with lif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ural system of process and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dle Ages (500-13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critical acceptance of biblical account, the past was known and discussed in the bi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sis account of creation, dawn of humanity and diversity accounted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ian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0-15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covery of the past, interest in the classical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on of statuary for artistic reasons produced interest in past and cultur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arch (1304-1374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 remote past a period of ide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iaco (1391-144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alian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00-15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discovery of the past, interest in the classical peri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ection of statuary for artistic reasons produced interest in past and cultural ide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trarch (1304-1374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et, remote past a period of ideal perf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iaco (1391-144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quaria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the antiquities of the classical civilizations became pastime of the wealthy as result of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al interest led to appreciation of local antiqu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 Mercati (15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ian who worked for Medici mercant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ati catlogued these, was interested in their similarities and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und and collected stone tools from around Tuscani, Ita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tiquarian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the antiquities of the classical civilizations became pastime of the wealthy as result of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general interest led to appreciation of local antiqu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chael Mercati (15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ian who worked for Medici mercantil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ati catlogued these, was interested in their similarities and differ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so found and collected stone tools from around Tuscani, Ita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ca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bishop James Ussher and Archbishop Lightfoot (1600s, Ir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enealogical lists in bible and calculated that the world was created one the evening before October 23. 4004 B.C at 9:30 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s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blical Accou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bishop James Ussher and Archbishop Lightfoot (1600s, Iris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ing genealogical lists in bible and calculated that the world was created one the evening before October 23. 4004 B.C at 9:30 A.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sh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ghtfoo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ca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mpe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eenth-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rchaeology.org/interactive/pompeii/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cav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mpeii</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ighteenth-centur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archaeology.org/interactive/pompeii/index.htm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logists and Antiquity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ghteenth centuries were a time of massive construction (i.e. canals), revealing great exposures of the earths rocks-hence a period of development in G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Strata" Smith (1769-1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o recognize Earth made of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 strati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 the Law of Superposition (layers on top are younger than lower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uvier (1769-1832)-Fren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Paleontology, worked out a geological history using fossils as type indicator of str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x foss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fossils associated with certain str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explaining change in fossils, but said bible accounts for this with floods or catas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logists and Antiquity of the Eart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eighteenth centuries were a time of massive construction (i.e. canals), revealing great exposures of the earths rocks-hence a period of development in G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 "Strata" Smith (1769-183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recognize Earth made of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ience of stratigraph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d the Law of Superposition (layers on top are younger than lower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rges Cuvier (1769-1832)-Frenc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Paleontology, worked out a geological history using fossils as type indicator of strata.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ex fossil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ain fossils associated with certain strat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explaining change in fossils, but said bible accounts for this with floods or catastroph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F6D9A-E386-410E-9A19-64E2F6910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4CE2F-E127-4C84-B0DD-E44EDE8C8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E32E2-B45F-4417-ABE5-EFBB70C05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9E7BE-F967-4EE8-9DFB-3C5E5A0E4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E96BB-95F6-4987-8A39-DFF0DA6E3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98BD7-8799-4F6E-BC07-C96883BA6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309CC-1A73-4CD5-87CB-A878492A3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DE19F-1135-4852-9154-99D689497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63BB8-25F4-42EB-BB6B-F88649B5D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2D460-8C3B-42B8-9D27-060F19AC2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BFE96-56D5-4419-BE47-ED7BD6471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9A4BF-4504-4671-8098-C3AE310EC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EA76F-0CC7-480E-A31A-E94995E51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C0191-70CF-4C4B-8989-F36267B18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70DD0-D743-413E-BA54-D9A54FF2B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98457-DD11-4738-BAC6-9CB0D5086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667D2-ACC4-47EA-B7E2-F5701D7FE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9EE070-736A-493B-9A3A-9AB799FA99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A0885D-FF0F-4810-86EA-2FB2E0599B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DDEBD-174E-4949-97CE-637657EE5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AAC34A-51EA-4A7A-878C-5D18B4E2D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D135F-F60F-423E-97FF-80A2B496F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36025-79A2-4722-9D1C-5A05256ED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BF90F1-3112-451D-85D5-4BA406F84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840CE-8843-44CA-A75C-B20DC030D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2BD19-FEC2-4F6C-B1D4-685459EDB9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76FF9-7724-417C-91C0-B2092D733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5CFA4-6BE5-4D98-9711-01BAB154B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D06FEB-FC5F-49B0-A491-FADAA476BF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F30C88-0B14-4A26-814D-0603EF0A0B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A40B1D-B6A8-42C6-BB0D-42257CB475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CABC27-8AB4-46F7-89CD-B4E45618C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FCC177-0765-4F42-AB68-3B17FC708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9312-A7C9-496F-A4A5-EB0BD605C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02F9A6-D6BE-4B85-BCE3-311B6EA2E4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3C0CA5-7E15-45B7-8C8C-FE3D547C4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78C67-5F17-4A86-A706-D7FF75868F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82683-3EE9-4FDD-9347-AE2CBA537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24E3D-8BF0-4DF1-92AE-1573A4AC7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E0FDF-F3DC-4E82-9D1E-0F52EC54E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6659C1-17A0-4747-AAA7-8874E351D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4FB10C-78E2-4D5D-8DDA-74B437F84A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AF3F27-8117-42CE-A62B-7382B8CA59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9BB9F8-E364-482E-9E3A-02245AE1A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A44A1-E136-4F3B-BFC8-82B0F74AB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D77B6A-F65C-487F-B453-F2B7E6A0F5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BFD3D-5120-4F02-BB4F-C74583F6B4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B26C44-0039-46FE-854C-513689E931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F3D16A-5A9D-46B4-AF3E-21B1CEA19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AF676D-6570-48EE-AFD6-249A230FB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A76DB-29EB-4942-B4F3-B714E555B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C9C19-7165-4097-BAC3-9DF10E5C5D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A4AF6-3552-4CC8-B598-7A6727676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015FE2-9D1E-484B-9EA1-C3AEFBB0E0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B26E4B-41AD-4B28-ACD0-10E93C23F0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8BD0B-3E1C-4664-B849-689106EB7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6724E7-EE02-4876-96CE-3157E138C0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E1A26-DBFC-4D72-8699-DE12BA1F0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C2E0-FCB8-449A-87F9-CEF750668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0DB6B-98C1-4DED-A462-707C69D27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6531-8E27-4541-90C8-35029350B386}"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6B71-30DD-47F0-902E-D00DD4290A27}"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CDFA-DD8A-4309-816A-F1B04F2254D5}"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www.sliderbase.com</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3CD1-1892-4456-A309-BB653C710A58}"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BE66-9FAC-459F-BA7B-625CE5D55DE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flickr.com/photos/catr/418299740/"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n.wikipedia.org/wiki/Image:MicheleMercati.jpe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James_Ussher_2.jpg" TargetMode="External"/><Relationship Id="rId3" Type="http://schemas.openxmlformats.org/officeDocument/2006/relationships/image" Target="../media/image14.jpeg"/><Relationship Id="rId4" Type="http://schemas.openxmlformats.org/officeDocument/2006/relationships/hyperlink" Target="http://en.wikipedia.org/wiki/Image:JohnLightfoot.gif" TargetMode="External"/><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65640" y="536400"/>
            <a:ext cx="551016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rly Development</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chaeology as Science</a:t>
            </a:r>
            <a:endParaRPr b="0" lang="en-US" sz="2200" spc="-1" strike="noStrike">
              <a:solidFill>
                <a:srgbClr val="000000"/>
              </a:solidFill>
              <a:latin typeface="Trebuchet MS"/>
            </a:endParaRPr>
          </a:p>
        </p:txBody>
      </p:sp>
      <p:sp>
        <p:nvSpPr>
          <p:cNvPr id="229" name="Місце для нижнього колонтитула 1"/>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212760" y="324000"/>
            <a:ext cx="7486560" cy="14317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mes Hutton (1726-1797)</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Believed appeal to catastrophies unnecessary.</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cesses acting today are same as in the past: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or example, erosion, weathering. earthquakes and volcanos all acting the</a:t>
            </a:r>
            <a:endParaRPr b="0" lang="en-US" sz="2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arles Lyell (1797-1875) </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ublished Principles of Geology (1830).</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dentified Hutton's theory of processes being the same as 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ather of Geology. syntesized Law of Superposition and Uniformitarianism.</a:t>
            </a:r>
            <a:endParaRPr b="0" lang="en-US" sz="2400" spc="-1" strike="noStrike">
              <a:solidFill>
                <a:srgbClr val="6c6c6c"/>
              </a:solidFill>
              <a:latin typeface="Trebuchet MS"/>
            </a:endParaRPr>
          </a:p>
        </p:txBody>
      </p:sp>
      <p:sp>
        <p:nvSpPr>
          <p:cNvPr id="26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2" descr=""/>
          <p:cNvPicPr/>
          <p:nvPr/>
        </p:nvPicPr>
        <p:blipFill>
          <a:blip r:embed="rId1"/>
          <a:stretch/>
        </p:blipFill>
        <p:spPr>
          <a:xfrm>
            <a:off x="244440" y="298440"/>
            <a:ext cx="7454880" cy="142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was established that life forms had changed, but how?</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be credible a mechanism was needed to explain thi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rles Darwin-</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Greatly influenced by geologists,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ew forms explained by a "struggle for existence" in which those well adapted to a particular environment survive and the ill-adapted don't.</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ccumulated favorable variations over a long period of time would result in new species, extinction of old species (Natural Selection).</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On the Origin of Species</a:t>
            </a:r>
            <a:r>
              <a:rPr b="0" lang="en-US" sz="2400" spc="-1" strike="noStrike">
                <a:solidFill>
                  <a:srgbClr val="000000"/>
                </a:solidFill>
                <a:latin typeface="Trebuchet MS"/>
              </a:rPr>
              <a:t> (1859)</a:t>
            </a:r>
            <a:endParaRPr b="0" lang="en-US" sz="2400" spc="-1" strike="noStrike">
              <a:solidFill>
                <a:srgbClr val="000000"/>
              </a:solidFill>
              <a:latin typeface="Trebuchet MS"/>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24000"/>
            <a:ext cx="7486560" cy="1431720"/>
          </a:xfrm>
          <a:prstGeom prst="rect">
            <a:avLst/>
          </a:prstGeom>
          <a:ln w="0">
            <a:noFill/>
          </a:ln>
        </p:spPr>
      </p:pic>
      <p:pic>
        <p:nvPicPr>
          <p:cNvPr id="271" name="Picture 2" descr="Charles Darwin ca. 1880"/>
          <p:cNvPicPr/>
          <p:nvPr/>
        </p:nvPicPr>
        <p:blipFill>
          <a:blip r:embed="rId2"/>
          <a:stretch/>
        </p:blipFill>
        <p:spPr>
          <a:xfrm>
            <a:off x="3048120" y="1828800"/>
            <a:ext cx="2157120" cy="3276720"/>
          </a:xfrm>
          <a:prstGeom prst="rect">
            <a:avLst/>
          </a:prstGeom>
          <a:ln w="0">
            <a:noFill/>
          </a:ln>
        </p:spPr>
      </p:pic>
      <p:sp>
        <p:nvSpPr>
          <p:cNvPr id="272" name="Rectangle 5"/>
          <p:cNvSpPr/>
          <p:nvPr/>
        </p:nvSpPr>
        <p:spPr>
          <a:xfrm>
            <a:off x="1981080" y="6211800"/>
            <a:ext cx="4800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p:txBody>
      </p:sp>
      <p:sp>
        <p:nvSpPr>
          <p:cNvPr id="273" name="Rectangle 6"/>
          <p:cNvSpPr/>
          <p:nvPr/>
        </p:nvSpPr>
        <p:spPr>
          <a:xfrm>
            <a:off x="2895480" y="518148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harles Darwin ca. 18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de66"/>
                </a:solidFill>
                <a:uFillTx/>
                <a:latin typeface="Tahoma"/>
                <a:hlinkClick r:id="rId3"/>
              </a:rPr>
              <a:t>Claudio Toledo</a:t>
            </a:r>
            <a:endParaRPr b="0" lang="en-US" sz="1800" spc="-1" strike="noStrike">
              <a:solidFill>
                <a:srgbClr val="000000"/>
              </a:solidFill>
              <a:latin typeface="Tahoma"/>
            </a:endParaRPr>
          </a:p>
        </p:txBody>
      </p:sp>
      <p:sp>
        <p:nvSpPr>
          <p:cNvPr id="274"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12760" y="324000"/>
            <a:ext cx="7675560" cy="14317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iven the antiquity of the earth and a scheme by which life forms had changed, how old was the human species?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cques Boucher de Perthes-French customs official, collected stone implements and fossils along the Somme River.</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ssociation of extinct fauna and stone tools could not be explained with catastrophism.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treme antiquity of humankind.</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ublished findings in 1847, was considered a heretic. </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er: Others investigated results and found them conclusive, established by 1860 the long and changing history of humankind. </a:t>
            </a:r>
            <a:endParaRPr b="0" lang="en-US" sz="2400" spc="-1" strike="noStrike">
              <a:solidFill>
                <a:srgbClr val="000000"/>
              </a:solidFill>
              <a:latin typeface="Trebuchet MS"/>
            </a:endParaRPr>
          </a:p>
        </p:txBody>
      </p:sp>
      <p:sp>
        <p:nvSpPr>
          <p:cNvPr id="27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44440" y="324000"/>
            <a:ext cx="7454880" cy="139536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inement of Archaeological Metho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eneral A.H.L. Fox Pitt-Rivers (1800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althy English landowner, innovator of field method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zed need for careful records, importance of vertical control (profiles), measurement of artifacts, interested in function and published result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velopment of North American Archaeology</a:t>
            </a:r>
            <a:endParaRPr b="0" lang="en-US" sz="2600" spc="-1" strike="noStrike">
              <a:solidFill>
                <a:srgbClr val="000000"/>
              </a:solidFill>
              <a:latin typeface="Trebuchet MS"/>
            </a:endParaRPr>
          </a:p>
        </p:txBody>
      </p:sp>
      <p:sp>
        <p:nvSpPr>
          <p:cNvPr id="28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44440" y="298440"/>
            <a:ext cx="7454880" cy="1165320"/>
          </a:xfrm>
          <a:prstGeom prst="rect">
            <a:avLst/>
          </a:prstGeom>
          <a:ln w="0">
            <a:noFill/>
          </a:ln>
        </p:spPr>
      </p:pic>
      <p:sp>
        <p:nvSpPr>
          <p:cNvPr id="282" name=""/>
          <p:cNvSpPr txBox="1"/>
          <p:nvPr/>
        </p:nvSpPr>
        <p:spPr>
          <a:xfrm>
            <a:off x="304920" y="1143000"/>
            <a:ext cx="8229600" cy="54100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merican archaeology mainly developed from social sciences (European: Physical science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est in Native American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covery of America</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lumbus (ca. 1492)</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merican Indians not human.</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rly explorer accounts still used today as ethnographic analogies, such as DeSoto in the Southeast and the Labrador Coast. Called the new land Vinland, and left evidence of sod houses, some bronze and metal artifacts.</a:t>
            </a:r>
            <a:endParaRPr b="0" lang="en-US" sz="2300" spc="-1" strike="noStrike">
              <a:solidFill>
                <a:srgbClr val="6c6c6c"/>
              </a:solidFill>
              <a:latin typeface="Trebuchet MS"/>
            </a:endParaRPr>
          </a:p>
        </p:txBody>
      </p:sp>
      <p:sp>
        <p:nvSpPr>
          <p:cNvPr id="28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669960" y="-30240"/>
            <a:ext cx="8474040" cy="1011240"/>
          </a:xfrm>
          <a:prstGeom prst="rect">
            <a:avLst/>
          </a:prstGeom>
          <a:ln w="0">
            <a:noFill/>
          </a:ln>
        </p:spPr>
      </p:pic>
      <p:pic>
        <p:nvPicPr>
          <p:cNvPr id="285" name="Picture 4" descr="mnkmound"/>
          <p:cNvPicPr/>
          <p:nvPr/>
        </p:nvPicPr>
        <p:blipFill>
          <a:blip r:embed="rId2"/>
          <a:stretch/>
        </p:blipFill>
        <p:spPr>
          <a:xfrm>
            <a:off x="1371600" y="685800"/>
            <a:ext cx="6629400" cy="3436920"/>
          </a:xfrm>
          <a:prstGeom prst="rect">
            <a:avLst/>
          </a:prstGeom>
          <a:ln w="0">
            <a:noFill/>
          </a:ln>
        </p:spPr>
      </p:pic>
      <p:pic>
        <p:nvPicPr>
          <p:cNvPr id="286" name="Picture 5" descr="mound"/>
          <p:cNvPicPr/>
          <p:nvPr/>
        </p:nvPicPr>
        <p:blipFill>
          <a:blip r:embed="rId3"/>
          <a:stretch/>
        </p:blipFill>
        <p:spPr>
          <a:xfrm>
            <a:off x="5029200" y="3340080"/>
            <a:ext cx="4114800" cy="3517920"/>
          </a:xfrm>
          <a:prstGeom prst="rect">
            <a:avLst/>
          </a:prstGeom>
          <a:ln w="0">
            <a:noFill/>
          </a:ln>
        </p:spPr>
      </p:pic>
      <p:pic>
        <p:nvPicPr>
          <p:cNvPr id="287" name="Picture 6" descr="PPMP29"/>
          <p:cNvPicPr/>
          <p:nvPr/>
        </p:nvPicPr>
        <p:blipFill>
          <a:blip r:embed="rId4"/>
          <a:stretch/>
        </p:blipFill>
        <p:spPr>
          <a:xfrm>
            <a:off x="0" y="3581280"/>
            <a:ext cx="5029200" cy="2968920"/>
          </a:xfrm>
          <a:prstGeom prst="rect">
            <a:avLst/>
          </a:prstGeom>
          <a:ln w="0">
            <a:noFill/>
          </a:ln>
        </p:spPr>
      </p:pic>
      <p:sp>
        <p:nvSpPr>
          <p:cNvPr id="288" name="Text Box 7"/>
          <p:cNvSpPr/>
          <p:nvPr/>
        </p:nvSpPr>
        <p:spPr>
          <a:xfrm>
            <a:off x="-70560" y="99072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hokia, I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k’s Mound</a:t>
            </a:r>
            <a:endParaRPr b="0" lang="en-US" sz="1800" spc="-1" strike="noStrike">
              <a:solidFill>
                <a:srgbClr val="000000"/>
              </a:solidFill>
              <a:latin typeface="Tahoma"/>
            </a:endParaRPr>
          </a:p>
        </p:txBody>
      </p:sp>
      <p:sp>
        <p:nvSpPr>
          <p:cNvPr id="289" name="Text Box 8"/>
          <p:cNvSpPr/>
          <p:nvPr/>
        </p:nvSpPr>
        <p:spPr>
          <a:xfrm>
            <a:off x="1247760" y="621648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verty Point, L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B</a:t>
            </a:r>
            <a:endParaRPr b="0" lang="en-US" sz="1800" spc="-1" strike="noStrike">
              <a:solidFill>
                <a:srgbClr val="000000"/>
              </a:solidFill>
              <a:latin typeface="Tahoma"/>
            </a:endParaRPr>
          </a:p>
        </p:txBody>
      </p:sp>
      <p:sp>
        <p:nvSpPr>
          <p:cNvPr id="290" name="Text Box 9"/>
          <p:cNvSpPr/>
          <p:nvPr/>
        </p:nvSpPr>
        <p:spPr>
          <a:xfrm>
            <a:off x="7183080" y="5943600"/>
            <a:ext cx="17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ville,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A</a:t>
            </a:r>
            <a:endParaRPr b="0" lang="en-US" sz="1800" spc="-1" strike="noStrike">
              <a:solidFill>
                <a:srgbClr val="000000"/>
              </a:solidFill>
              <a:latin typeface="Tahoma"/>
            </a:endParaRPr>
          </a:p>
        </p:txBody>
      </p:sp>
      <p:sp>
        <p:nvSpPr>
          <p:cNvPr id="29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4" descr=""/>
          <p:cNvPicPr/>
          <p:nvPr/>
        </p:nvPicPr>
        <p:blipFill>
          <a:blip r:embed="rId1"/>
          <a:stretch/>
        </p:blipFill>
        <p:spPr>
          <a:xfrm>
            <a:off x="244440" y="324000"/>
            <a:ext cx="7454880" cy="1395360"/>
          </a:xfrm>
          <a:prstGeom prst="rect">
            <a:avLst/>
          </a:prstGeom>
          <a:ln w="0">
            <a:noFill/>
          </a:ln>
        </p:spPr>
      </p:pic>
      <p:sp>
        <p:nvSpPr>
          <p:cNvPr id="293" name=""/>
          <p:cNvSpPr txBox="1"/>
          <p:nvPr/>
        </p:nvSpPr>
        <p:spPr>
          <a:xfrm>
            <a:off x="0" y="1599840"/>
            <a:ext cx="8229600" cy="5257800"/>
          </a:xfrm>
          <a:prstGeom prst="rect">
            <a:avLst/>
          </a:prstGeom>
          <a:noFill/>
          <a:ln w="0">
            <a:noFill/>
          </a:ln>
        </p:spPr>
        <p:txBody>
          <a:bodyPr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ations during speculative period led to discovery of ruins and mound centers with burials and artifacts.</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orie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Danes who then migrated to Mexico and became Toltecs and Aztecs.</a:t>
            </a:r>
            <a:endParaRPr b="0" lang="en-US" sz="1800" spc="-1" strike="noStrike">
              <a:solidFill>
                <a:srgbClr val="6c6c6c"/>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other, more civilized, but extinct Indians-the "lost race".</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omas Jefferson</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excavated some mounds, interested in their construction not really in who built them.</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yrus Thoma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found them extremely well constructed and linked pottery in them to “modern” Indians-proving that the moundbuilders were the ancestors of the Indians today.</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2" descr=""/>
          <p:cNvPicPr/>
          <p:nvPr/>
        </p:nvPicPr>
        <p:blipFill>
          <a:blip r:embed="rId1"/>
          <a:stretch/>
        </p:blipFill>
        <p:spPr>
          <a:xfrm>
            <a:off x="-92160" y="281160"/>
            <a:ext cx="9083880" cy="14317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ments:</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field method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the study of artifact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lassifying culture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fining sequences of cultures</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fessionalization of the discipline began; there was a need felt to record rapidly vanishing information; and so there was the organization of local naturalist, historical, and scientific societies. </a:t>
            </a:r>
            <a:endParaRPr b="0" lang="en-US" sz="2800" spc="-1" strike="noStrike">
              <a:solidFill>
                <a:srgbClr val="000000"/>
              </a:solidFill>
              <a:latin typeface="Trebuchet MS"/>
            </a:endParaRPr>
          </a:p>
        </p:txBody>
      </p:sp>
      <p:sp>
        <p:nvSpPr>
          <p:cNvPr id="29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44440" y="298440"/>
            <a:ext cx="7454880" cy="142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y new trends emerged in the 1920s and 1930s, in part spurred by the Great Depression and federally funded archaeology through the Works Progress Administration (WPA).</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2800" spc="-1" strike="noStrike">
              <a:solidFill>
                <a:srgbClr val="000000"/>
              </a:solidFill>
              <a:latin typeface="Trebuchet MS"/>
            </a:endParaRPr>
          </a:p>
        </p:txBody>
      </p:sp>
      <p:sp>
        <p:nvSpPr>
          <p:cNvPr id="30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44440" y="298440"/>
            <a:ext cx="7454880" cy="1165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 is made up of many disciplines, such as geology, geography, philosopy, sociology, chemistry, biology, etc.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n be seen as we look at the history of archaeology.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were they?</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Requires definition, i.e. looters of Egyptian tombs? Grave robbers?</a:t>
            </a:r>
            <a:endParaRPr b="0" lang="en-US" sz="2000" spc="-1" strike="noStrike">
              <a:solidFill>
                <a:srgbClr val="6c6c6c"/>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of human past through material remains, and looters were mostly doing it for money, not knowledge.</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ginning interest in past as early as Egyptians:</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abonidus (555-538 B.C.)</a:t>
            </a:r>
            <a:endParaRPr b="0" lang="en-US" sz="2000" spc="-1" strike="noStrike">
              <a:solidFill>
                <a:srgbClr val="6c6c6c"/>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Last King of Babylonian empire, rebuilt temples of ancient Babylon, sort of a preservationist.</a:t>
            </a:r>
            <a:endParaRPr b="0" lang="en-US" sz="2000" spc="-1" strike="noStrike">
              <a:solidFill>
                <a:srgbClr val="6c6c6c"/>
              </a:solidFill>
              <a:latin typeface="Trebuchet MS"/>
            </a:endParaRPr>
          </a:p>
        </p:txBody>
      </p:sp>
      <p:sp>
        <p:nvSpPr>
          <p:cNvPr id="23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244440" y="66600"/>
            <a:ext cx="7978680" cy="1944720"/>
          </a:xfrm>
          <a:prstGeom prst="rect">
            <a:avLst/>
          </a:prstGeom>
          <a:ln w="0">
            <a:noFill/>
          </a:ln>
        </p:spPr>
      </p:pic>
      <p:sp>
        <p:nvSpPr>
          <p:cNvPr id="302" name=""/>
          <p:cNvSpPr txBox="1"/>
          <p:nvPr/>
        </p:nvSpPr>
        <p:spPr>
          <a:xfrm>
            <a:off x="457200" y="201096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this period, archaeologists began to deal with Native cultures in terms of three concepts: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ifacts as behavior, pattern, and the environment, and the context and function of each of these concepts in the culture. </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disciplines, such as geology, botany and biology, chemistry, and mathematics began to be more involved in the archaeological field during this period. </a:t>
            </a:r>
            <a:endParaRPr b="0" lang="en-US" sz="2600" spc="-1" strike="noStrike">
              <a:solidFill>
                <a:srgbClr val="000000"/>
              </a:solidFill>
              <a:latin typeface="Trebuchet MS"/>
            </a:endParaRPr>
          </a:p>
        </p:txBody>
      </p:sp>
      <p:sp>
        <p:nvSpPr>
          <p:cNvPr id="30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44440" y="298440"/>
            <a:ext cx="7551720" cy="11653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were two major trajectories: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cessual archaeology and Cultural Resource Managemen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ltural Resource Management (CRM) dominates North American archaeology at present, the result of national laws, such as the National Historic Preservation Act of 1966; Its goal is to manage and conserve America's archaeological heritage. </a:t>
            </a:r>
            <a:endParaRPr b="0" lang="en-US" sz="2400" spc="-1" strike="noStrike">
              <a:solidFill>
                <a:srgbClr val="000000"/>
              </a:solidFill>
              <a:latin typeface="Trebuchet MS"/>
            </a:endParaRPr>
          </a:p>
        </p:txBody>
      </p:sp>
      <p:sp>
        <p:nvSpPr>
          <p:cNvPr id="30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244440" y="298440"/>
            <a:ext cx="7454880" cy="1420920"/>
          </a:xfrm>
          <a:prstGeom prst="rect">
            <a:avLst/>
          </a:prstGeom>
          <a:ln w="0">
            <a:noFill/>
          </a:ln>
        </p:spPr>
      </p:pic>
      <p:sp>
        <p:nvSpPr>
          <p:cNvPr id="308" name=""/>
          <p:cNvSpPr txBox="1"/>
          <p:nvPr/>
        </p:nvSpPr>
        <p:spPr>
          <a:xfrm>
            <a:off x="380520" y="1676160"/>
            <a:ext cx="7696440" cy="5181480"/>
          </a:xfrm>
          <a:prstGeom prst="rect">
            <a:avLst/>
          </a:prstGeom>
          <a:noFill/>
          <a:ln w="0">
            <a:noFill/>
          </a:ln>
        </p:spPr>
        <p:txBody>
          <a:bodyPr anchor="t">
            <a:normAutofit/>
          </a:bodyPr>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m the middle of the modern period (1970’s),  archaeologists began to be concerned more about human behavior and the study of Native American cultures.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aeology is not merely a science of material culture,  but concerns of human beings and their cultural   behavior in the past.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ludes concepts of:</a:t>
            </a:r>
            <a:endParaRPr b="0" lang="en-US" sz="2000" spc="-1" strike="noStrike">
              <a:solidFill>
                <a:srgbClr val="000000"/>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as interactive</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change must include women, ethnic minorities, illiterate (under-represented groups).</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rchaeologists bring cultural biases to work, act as mediators of the past.</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t>
            </a:r>
            <a:r>
              <a:rPr b="0" lang="en-US" sz="1800" spc="-1" strike="noStrike">
                <a:solidFill>
                  <a:srgbClr val="6c6c6c"/>
                </a:solidFill>
                <a:latin typeface="Trebuchet MS"/>
              </a:rPr>
              <a:t>The archaeology of the mind” </a:t>
            </a:r>
            <a:endParaRPr b="0" lang="en-US" sz="1800" spc="-1" strike="noStrike">
              <a:solidFill>
                <a:srgbClr val="6c6c6c"/>
              </a:solidFill>
              <a:latin typeface="Trebuchet MS"/>
            </a:endParaRPr>
          </a:p>
        </p:txBody>
      </p:sp>
      <p:sp>
        <p:nvSpPr>
          <p:cNvPr id="30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24000"/>
            <a:ext cx="7486560" cy="14317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bines concepts of culture history, processualism and post-processualism for understanding the pa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ploys modern techniques as well as tried and true methods of excav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inues to utilize other disciplines, as well as anthropology, for a “holistic” approach.</a:t>
            </a:r>
            <a:endParaRPr b="0" lang="en-US" sz="2600" spc="-1" strike="noStrike">
              <a:solidFill>
                <a:srgbClr val="000000"/>
              </a:solidFill>
              <a:latin typeface="Trebuchet MS"/>
            </a:endParaRPr>
          </a:p>
        </p:txBody>
      </p:sp>
      <p:sp>
        <p:nvSpPr>
          <p:cNvPr id="31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pic>
        <p:nvPicPr>
          <p:cNvPr id="234" name="Picture 2" descr="Babylon, Iraq, Basalt Lion with Figures; Matson Collection, ca. 1932"/>
          <p:cNvPicPr/>
          <p:nvPr/>
        </p:nvPicPr>
        <p:blipFill>
          <a:blip r:embed="rId2"/>
          <a:stretch/>
        </p:blipFill>
        <p:spPr>
          <a:xfrm>
            <a:off x="2057400" y="1828800"/>
            <a:ext cx="4267080" cy="3225960"/>
          </a:xfrm>
          <a:prstGeom prst="rect">
            <a:avLst/>
          </a:prstGeom>
          <a:ln w="0">
            <a:noFill/>
          </a:ln>
        </p:spPr>
      </p:pic>
      <p:sp>
        <p:nvSpPr>
          <p:cNvPr id="235" name="Rectangle 4"/>
          <p:cNvSpPr/>
          <p:nvPr/>
        </p:nvSpPr>
        <p:spPr>
          <a:xfrm>
            <a:off x="1905120" y="5410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bylon, Iraq, Basalt Lion with Figures; Matson Collection, ca. 193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ibrary of Congress</a:t>
            </a:r>
            <a:endParaRPr b="0" lang="en-US" sz="1800" spc="-1" strike="noStrike">
              <a:solidFill>
                <a:srgbClr val="000000"/>
              </a:solidFill>
              <a:latin typeface="Tahoma"/>
            </a:endParaRPr>
          </a:p>
        </p:txBody>
      </p:sp>
      <p:sp>
        <p:nvSpPr>
          <p:cNvPr id="236"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 Augustine (48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teaching order of monks, developed the concept of natur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observed small-scale change and argued that God created the world and infused it with lif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natural system of process and change.</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ddle Ages (500-130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Uncritical acceptance of biblical account, the past was known and discussed in the bibl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Genesis account of creation, dawn of humanity and diversity accounted for.</a:t>
            </a:r>
            <a:endParaRPr b="0" lang="en-US" sz="2400" spc="-1" strike="noStrike">
              <a:solidFill>
                <a:srgbClr val="6c6c6c"/>
              </a:solidFill>
              <a:latin typeface="Trebuchet MS"/>
            </a:endParaRPr>
          </a:p>
        </p:txBody>
      </p:sp>
      <p:sp>
        <p:nvSpPr>
          <p:cNvPr id="23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212760" y="274680"/>
            <a:ext cx="8474040" cy="1011240"/>
          </a:xfrm>
          <a:prstGeom prst="rect">
            <a:avLst/>
          </a:prstGeom>
          <a:ln w="0">
            <a:noFill/>
          </a:ln>
        </p:spPr>
      </p:pic>
      <p:sp>
        <p:nvSpPr>
          <p:cNvPr id="241" name=""/>
          <p:cNvSpPr txBox="1"/>
          <p:nvPr/>
        </p:nvSpPr>
        <p:spPr>
          <a:xfrm>
            <a:off x="457200" y="1066320"/>
            <a:ext cx="8229600" cy="579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300-150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discovery of the past, interest in the classical period.</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llection of statuary for artistic reasons produced interest in past and cultural identity.</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trarch (1304-1374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oet, remote past a period of ideal perfection.</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riaco (1391-144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nsidered by many to have established the modem discipline of archaeology. Translated the Latin inscription of the triumphal Arch of Trojan at Ancona, and was inspired to devote his life to study and collection of ancient monuments.</a:t>
            </a:r>
            <a:endParaRPr b="0" lang="en-US" sz="2400" spc="-1" strike="noStrike">
              <a:solidFill>
                <a:srgbClr val="6c6c6c"/>
              </a:solidFill>
              <a:latin typeface="Trebuchet MS"/>
            </a:endParaRPr>
          </a:p>
        </p:txBody>
      </p:sp>
      <p:sp>
        <p:nvSpPr>
          <p:cNvPr id="24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244440" y="298440"/>
            <a:ext cx="7454880" cy="1165320"/>
          </a:xfrm>
          <a:prstGeom prst="rect">
            <a:avLst/>
          </a:prstGeom>
          <a:ln w="0">
            <a:noFill/>
          </a:ln>
        </p:spPr>
      </p:pic>
      <p:sp>
        <p:nvSpPr>
          <p:cNvPr id="244" name=""/>
          <p:cNvSpPr txBox="1"/>
          <p:nvPr/>
        </p:nvSpPr>
        <p:spPr>
          <a:xfrm>
            <a:off x="457200" y="9903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est in the antiquities of the classical civilizations became pastime of the wealthy as result of Renaissance.</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general interest led to appreciation of local antiquities.</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Rectangle 3"/>
          <p:cNvSpPr/>
          <p:nvPr/>
        </p:nvSpPr>
        <p:spPr>
          <a:xfrm>
            <a:off x="228600" y="3733920"/>
            <a:ext cx="4572000" cy="2092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ael Mercati (1500s)</a:t>
            </a:r>
            <a:endParaRPr b="0" lang="en-US" sz="24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rarian who worked for Medici mercantiles. </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cati catlogued these, was interested in their similarities and differences.</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found and collected stone tools from around Tuscani, Italy.</a:t>
            </a:r>
            <a:endParaRPr b="0" lang="en-US" sz="2000" spc="-1" strike="noStrike">
              <a:solidFill>
                <a:srgbClr val="000000"/>
              </a:solidFill>
              <a:latin typeface="Tahoma"/>
            </a:endParaRPr>
          </a:p>
        </p:txBody>
      </p:sp>
      <p:pic>
        <p:nvPicPr>
          <p:cNvPr id="246" name="Picture 5" descr="http://upload.wikimedia.org/wikipedia/en/2/23/MicheleMercati.jpeg">
            <a:hlinkClick r:id="rId2"/>
          </p:cNvPr>
          <p:cNvPicPr/>
          <p:nvPr/>
        </p:nvPicPr>
        <p:blipFill>
          <a:blip r:embed="rId3"/>
          <a:stretch/>
        </p:blipFill>
        <p:spPr>
          <a:xfrm>
            <a:off x="5257800" y="3429000"/>
            <a:ext cx="1924200" cy="2400480"/>
          </a:xfrm>
          <a:prstGeom prst="rect">
            <a:avLst/>
          </a:prstGeom>
          <a:ln w="0">
            <a:noFill/>
          </a:ln>
        </p:spPr>
      </p:pic>
      <p:sp>
        <p:nvSpPr>
          <p:cNvPr id="24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212760" y="324000"/>
            <a:ext cx="7486560" cy="1431720"/>
          </a:xfrm>
          <a:prstGeom prst="rect">
            <a:avLst/>
          </a:prstGeom>
          <a:ln w="0">
            <a:noFill/>
          </a:ln>
        </p:spPr>
      </p:pic>
      <p:sp>
        <p:nvSpPr>
          <p:cNvPr id="249" name=""/>
          <p:cNvSpPr txBox="1"/>
          <p:nvPr/>
        </p:nvSpPr>
        <p:spPr>
          <a:xfrm>
            <a:off x="304920" y="14475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chbishop James Ussher and Archbishop Lightfoot (1600s, Irish). </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genealogical lists in bible and calculated that the world was created one the evening before October 23. 4004 B.C at 9:30 A.M.</a:t>
            </a:r>
            <a:endParaRPr b="0" lang="en-US" sz="2800" spc="-1" strike="noStrike">
              <a:solidFill>
                <a:srgbClr val="000000"/>
              </a:solidFill>
              <a:latin typeface="Trebuchet MS"/>
            </a:endParaRPr>
          </a:p>
        </p:txBody>
      </p:sp>
      <p:pic>
        <p:nvPicPr>
          <p:cNvPr id="250" name="Picture 5" descr="http://upload.wikimedia.org/wikipedia/commons/thumb/6/6d/James_Ussher_2.jpg/200px-James_Ussher_2.jpg">
            <a:hlinkClick r:id="rId2"/>
          </p:cNvPr>
          <p:cNvPicPr/>
          <p:nvPr/>
        </p:nvPicPr>
        <p:blipFill>
          <a:blip r:embed="rId3"/>
          <a:stretch/>
        </p:blipFill>
        <p:spPr>
          <a:xfrm>
            <a:off x="1143000" y="3733920"/>
            <a:ext cx="1905120" cy="2457360"/>
          </a:xfrm>
          <a:prstGeom prst="rect">
            <a:avLst/>
          </a:prstGeom>
          <a:ln w="0">
            <a:noFill/>
          </a:ln>
        </p:spPr>
      </p:pic>
      <p:pic>
        <p:nvPicPr>
          <p:cNvPr id="251" name="Picture 7" descr="John Lightfood.">
            <a:hlinkClick r:id="rId4"/>
          </p:cNvPr>
          <p:cNvPicPr/>
          <p:nvPr/>
        </p:nvPicPr>
        <p:blipFill>
          <a:blip r:embed="rId5"/>
          <a:stretch/>
        </p:blipFill>
        <p:spPr>
          <a:xfrm>
            <a:off x="4419720" y="3352680"/>
            <a:ext cx="1904760" cy="2943360"/>
          </a:xfrm>
          <a:prstGeom prst="rect">
            <a:avLst/>
          </a:prstGeom>
          <a:ln w="0">
            <a:noFill/>
          </a:ln>
        </p:spPr>
      </p:pic>
      <p:sp>
        <p:nvSpPr>
          <p:cNvPr id="252" name="TextBox 5"/>
          <p:cNvSpPr/>
          <p:nvPr/>
        </p:nvSpPr>
        <p:spPr>
          <a:xfrm>
            <a:off x="1571040" y="6248520"/>
            <a:ext cx="9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sher</a:t>
            </a:r>
            <a:endParaRPr b="0" lang="en-US" sz="1800" spc="-1" strike="noStrike">
              <a:solidFill>
                <a:srgbClr val="000000"/>
              </a:solidFill>
              <a:latin typeface="Tahoma"/>
            </a:endParaRPr>
          </a:p>
        </p:txBody>
      </p:sp>
      <p:sp>
        <p:nvSpPr>
          <p:cNvPr id="253" name="TextBox 6"/>
          <p:cNvSpPr/>
          <p:nvPr/>
        </p:nvSpPr>
        <p:spPr>
          <a:xfrm>
            <a:off x="4837320" y="648828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foot</a:t>
            </a:r>
            <a:endParaRPr b="0" lang="en-US" sz="1800" spc="-1" strike="noStrike">
              <a:solidFill>
                <a:srgbClr val="000000"/>
              </a:solidFill>
              <a:latin typeface="Tahoma"/>
            </a:endParaRPr>
          </a:p>
        </p:txBody>
      </p:sp>
      <p:sp>
        <p:nvSpPr>
          <p:cNvPr id="25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457200" y="1609560"/>
            <a:ext cx="5562720" cy="828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mpeii</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7" name="Picture 4" descr="[image]"/>
          <p:cNvPicPr/>
          <p:nvPr/>
        </p:nvPicPr>
        <p:blipFill>
          <a:blip r:embed="rId2"/>
          <a:stretch/>
        </p:blipFill>
        <p:spPr>
          <a:xfrm>
            <a:off x="2895480" y="1523880"/>
            <a:ext cx="3276720" cy="4905360"/>
          </a:xfrm>
          <a:prstGeom prst="rect">
            <a:avLst/>
          </a:prstGeom>
          <a:ln w="0">
            <a:noFill/>
          </a:ln>
        </p:spPr>
      </p:pic>
      <p:sp>
        <p:nvSpPr>
          <p:cNvPr id="258" name="Rectangle 5"/>
          <p:cNvSpPr/>
          <p:nvPr/>
        </p:nvSpPr>
        <p:spPr>
          <a:xfrm>
            <a:off x="548640" y="21337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ghteenth-century </a:t>
            </a:r>
            <a:endParaRPr b="0" lang="en-US" sz="1800" spc="-1" strike="noStrike">
              <a:solidFill>
                <a:srgbClr val="000000"/>
              </a:solidFill>
              <a:latin typeface="Tahoma"/>
            </a:endParaRPr>
          </a:p>
        </p:txBody>
      </p:sp>
      <p:sp>
        <p:nvSpPr>
          <p:cNvPr id="259" name="Rectangle 6"/>
          <p:cNvSpPr/>
          <p:nvPr/>
        </p:nvSpPr>
        <p:spPr>
          <a:xfrm>
            <a:off x="304920" y="6488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archaeology.org/interactive/pompeii/index.html</a:t>
            </a:r>
            <a:endParaRPr b="0" lang="en-US" sz="1800" spc="-1" strike="noStrike">
              <a:solidFill>
                <a:srgbClr val="000000"/>
              </a:solidFill>
              <a:latin typeface="Tahoma"/>
            </a:endParaRPr>
          </a:p>
        </p:txBody>
      </p:sp>
      <p:sp>
        <p:nvSpPr>
          <p:cNvPr id="260"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244440" y="298440"/>
            <a:ext cx="7454880" cy="1420920"/>
          </a:xfrm>
          <a:prstGeom prst="rect">
            <a:avLst/>
          </a:prstGeom>
          <a:ln w="0">
            <a:noFill/>
          </a:ln>
        </p:spPr>
      </p:pic>
      <p:sp>
        <p:nvSpPr>
          <p:cNvPr id="262"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ighteenth centuries were a time of massive construction (i.e. canals), revealing great exposures of the earths rocks-hence a period of development in Geolog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lliam "Strata" Smith (1769-1839)</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irst to recognize Earth made of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cience of stratigraphy.</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eveloped the Law of Superposition (layers on top are younger than lower layers).</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rges Cuvier (1769-1832)-French,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ather of Paleontology, worked out a geological history using fossils as type indicator of strata.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dex fossils</a:t>
            </a:r>
            <a:endParaRPr b="0" lang="en-US" sz="20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rtain fossils associated with certain strata.</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blem explaining change in fossils, but said bible accounts for this with floods or catastrophies.</a:t>
            </a:r>
            <a:endParaRPr b="0" lang="en-US" sz="2000" spc="-1" strike="noStrike">
              <a:solidFill>
                <a:srgbClr val="6c6c6c"/>
              </a:solidFill>
              <a:latin typeface="Trebuchet MS"/>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8:07:17Z</dcterms:created>
  <dc:creator>New Faculty</dc:creator>
  <dc:description/>
  <dc:language>en-US</dc:language>
  <cp:lastModifiedBy>Legion</cp:lastModifiedBy>
  <dcterms:modified xsi:type="dcterms:W3CDTF">2017-07-04T12:45:07Z</dcterms:modified>
  <cp:revision>26</cp:revision>
  <dc:subject/>
  <dc:title>History of Archaeology</dc:title>
</cp:coreProperties>
</file>