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3.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7.png" ContentType="image/png"/>
  <Override PartName="/ppt/media/image32.png" ContentType="image/png"/>
  <Override PartName="/ppt/media/image22.jpeg" ContentType="image/jpeg"/>
  <Override PartName="/ppt/media/image9.png" ContentType="image/png"/>
  <Override PartName="/ppt/media/image28.png" ContentType="image/png"/>
  <Override PartName="/ppt/media/image8.jpeg" ContentType="image/jpeg"/>
  <Override PartName="/ppt/media/image29.jpeg" ContentType="image/jpeg"/>
  <Override PartName="/ppt/media/image30.png" ContentType="image/png"/>
  <Override PartName="/ppt/media/image5.png" ContentType="image/png"/>
  <Override PartName="/ppt/media/image35.png" ContentType="image/png"/>
  <Override PartName="/ppt/media/image34.png" ContentType="image/png"/>
  <Override PartName="/ppt/media/image12.jpeg" ContentType="image/jpeg"/>
  <Override PartName="/ppt/media/image13.png" ContentType="image/png"/>
  <Override PartName="/ppt/media/image11.png" ContentType="image/png"/>
  <Override PartName="/ppt/media/image36.png" ContentType="image/png"/>
  <Override PartName="/ppt/media/image6.png" ContentType="image/png"/>
  <Override PartName="/ppt/media/image10.png" ContentType="image/png"/>
  <Override PartName="/ppt/media/image4.jpeg" ContentType="image/jpeg"/>
  <Override PartName="/ppt/media/image25.png" ContentType="image/png"/>
  <Override PartName="/ppt/media/image14.jpeg" ContentType="image/jpe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E197B-22B0-4184-9AFA-F97ADD2CFF2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 of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Develo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as Sc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istory of Archaeolog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arly Developme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aeology as Scienc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form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mes Hutton (1726-179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ved appeal to catastrophies unnecess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es acting today are same as in the past:Uniform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erosion, weathering. earthquakes and volcanos all acting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les Lyell (1797-187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shed Principles of Geology (18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ied Hutton's theory of processes being the same as uniform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her of Geology. syntesized Law of Superposition and Uniform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iformitarianis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ames Hutton (1726-1797)</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elieved appeal to catastrophies unnecessar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cesses acting today are same as in the past:Uniformitarianis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 example, erosion, weathering. earthquakes and volcanos all acting th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rles Lyell (1797-1875)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ublished Principles of Geology (1830).</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ied Hutton's theory of processes being the same as uniformitarianis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ther of Geology. syntesized Law of Superposition and Uniformitarianis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olution and Natural Se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established that life forms had changed, but h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be credible a mechanism was needed to explain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les Darw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ly influenced by geologis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forms explained by a "struggle for existence" in which those well adapted to a particular environment survive and the ill-adapted d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umulated favorable variations over a long period of time would result in new species, extinction of old species (Natural Se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rigin of Species (18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volution and Natural Sele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t was established that life forms had changed, but how?</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 order to be credible a mechanism was needed to explain thi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rles Darwi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eatly influenced by geologist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w forms explained by a "struggle for existence" in which those well adapted to a particular environment survive and the ill-adapted do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ccumulated favorable variations over a long period of time would result in new species, extinction of old species (Natural Sele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n the Origin of Species (1859)</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les Darw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archaeology.about.com/cs/educationalresour/a/history4.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les Darwin ca. 188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udio Toled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rles Darwi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ttp://archaeology.about.com/cs/educationalresour/a/history4.ht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rles Darwin ca. 1880</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audio Toledo</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tiquity of Humank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n the antiquity of the earth and a scheme by which life forms had changed, how old was the human spec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ques Boucher de Perthes-French customs official, collected stone implements and fossils along the Somme Ri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ociation of extinct fauna and stone tools could not be explained with catastrophis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reme antiquity of humank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shed findings in 1847, was considered a heret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 Others investigated results and found them conclusive, established by 1860 the long and changing history of humanki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Antiquity of Humankin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iven the antiquity of the earth and a scheme by which life forms had changed, how old was the human specie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acques Boucher de Perthes-French customs official, collected stone implements and fossils along the Somme Riv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ssociation of extinct fauna and stone tools could not be explained with catastrophism.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xtreme antiquity of humankin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ublished findings in 1847, was considered a heretic.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ter: Others investigated results and found them conclusive, established by 1860 the long and changing history of humankind.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as a New Sc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inement of Archaeological Meth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A.H.L. Fox Pitt-Rivers (1800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lthy English landowner, innovator of field meth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d need for careful records, importance of vertical control (profiles), measurement of artifacts, interested in function and published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ment of North American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aeology as a New Scienc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finement of Archaeological Metho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neral A.H.L. Fox Pitt-Rivers (1800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ealthy English landowner, innovator of field method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ognized need for careful records, importance of vertical control (profiles), measurement of artifacts, interested in function and published resul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velopment of North American Archaeolog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ulative Period (1492-1840)</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archaeology mainly developed from social sciences (European: Physical sci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in 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overy of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umbus (ca. 149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Indians not hu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explorer accounts still used today as ethnographic analogies, such as DeSoto in the Southeast and the Labrador Coast. Called the new land Vinland, and left evidence of sod houses, some bronze and metal arti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peculative Period (1492-1840)</a:t>
            </a:r>
            <a:br>
              <a:rPr sz="1200"/>
            </a:b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merican archaeology mainly developed from social sciences (European: Physical scienc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rest in Native America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scovery of Americ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lumbus (ca. 1492)</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merican Indians not huma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arly explorer accounts still used today as ethnographic analogies, such as DeSoto in the Southeast and the Labrador Coast. Called the new land Vinland, and left evidence of sod houses, some bronze and metal artifac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dbuilding Deb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hokia, 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k’s M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verty Point, L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d 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dville, 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d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undbuilding Debat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hokia, I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nk’s Moun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verty Point, L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und B</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undville, A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und 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ere the Moundbui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ations during speculative period led to discovery of ruins and mound centers with burials and arti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ds are found from 4000 to 500 years ago in the U.S., range from small conical burial mounds to huge platfoIlD mound centers (Cahokia) with ceremonial houses built on top of them. Could not have been built by savages, and these savages were for the most part ignorant of the moundbuilders because the moundbuUder cultures had dissipated primarily before cont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t by Danes who then migrated to Mexico and became Toltecs and Azte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t by other, more civilized, but extinct Indians-the "lost r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Jeff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avated some mounds, interested in their construction not really in who built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yrus Thom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nd them extremely well constructed and linked pottery in them to “modern” Indians-proving that the moundbuilders were the ancestors of the Indians to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o were the Moundbuild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xplorations during speculative period led to discovery of ruins and mound centers with burials and artifac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unds are found from 4000 to 500 years ago in the U.S., range from small conical burial mounds to huge platfoIlD mound centers (Cahokia) with ceremonial houses built on top of them. Could not have been built by savages, and these savages were for the most part ignorant of the moundbuilders because the moundbuUder cultures had dissipated primarily before contac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or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uilt by Danes who then migrated to Mexico and became Toltecs and Aztec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uilt by other, more civilized, but extinct Indians-the "lost rac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omas Jeffers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xcavated some mounds, interested in their construction not really in who built the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yrus Thoma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und them extremely well constructed and linked pottery in them to “modern” Indians-proving that the moundbuilders were the ancestors of the Indians toda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vey and Testing (1840-1914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anc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ing and refining field meth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ing and refining the study of arti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fying cul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ng sequences of cul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fessionalization of the discipline began; there was a need felt to record rapidly vanishing information; and so there was the organization of local naturalist, historical, and scientific socie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urvey and Testing (1840-1914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vancemen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veloping and refining field method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veloping and refining the study of artifac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assifying cultur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fining sequences of cultur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fessionalization of the discipline began; there was a need felt to record rapidly vanishing information; and so there was the organization of local naturalist, historical, and scientific societie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ntheses, Taxonomies, and Chronologies (1914-194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new trends emerged in the 1920s and 1930s, in part spurred by the Great Depression and federally funded archaeology through the Works Progress Administration (WP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focus of the period was historical and chronological: and involved construction of taxonomies, area chronologies, and space-time charts; refinement of stratigraphic and seriational procedures, and rapid adoption of new absolute dating techniques (e.g. C-14 dating and dend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yntheses, Taxonomies, and Chronologies (1914-1940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ny new trends emerged in the 1920s and 1930s, in part spurred by the Great Depression and federally funded archaeology through the Works Progress Administration (WP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main focus of the period was historical and chronological: and involved construction of taxonomies, area chronologies, and space-time charts; refinement of stratigraphic and seriational procedures, and rapid adoption of new absolute dating techniques (e.g. C-14 dating and dendro).</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Archaeologist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 is made up of many disciplines, such as geology, geography, philosopy, sociology, chemistry, biology, et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be seen as we look at the history of archaeolo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ere th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quires definition, i.e. looters of Egyptian tombs? Grave rob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of human past through material remains, and looters were mostly doing it for money, not knowled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ginning interest in past as early as Egyp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bonidus (555-538 B.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King of Babylonian empire, rebuilt temples of ancient Babylon, sort of a preservation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rst Archaeologists</a:t>
            </a:r>
            <a:br>
              <a:rPr sz="1200"/>
            </a:b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 is made up of many disciplines, such as geology, geography, philosopy, sociology, chemistry, biology, etc.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is can be seen as we look at the history of archaeology.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o were the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quires definition, i.e. looters of Egyptian tombs? Grave robb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udy of human past through material remains, and looters were mostly doing it for money, not knowledg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eginning interest in past as early as Egyptia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abonidus (555-538 B.C.)</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ast King of Babylonian empire, rebuilt temples of ancient Babylon, sort of a preservationis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ficatory-Historical Period Context and Function  (1940-196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period, archaeologists began to deal with Native cultures in terms of three concep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facts as behavior, pattern, and the environment, and the context and function of each of these concepts in the cul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disciplines, such as geology, botany and biology, chemistry, and mathematics began to be more involved in the archaeological field during this peri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assificatory-Historical Period Context and Function  (1940-1960)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 this period, archaeologists began to deal with Native cultures in terms of three concept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tifacts as behavior, pattern, and the environment, and the context and function of each of these concepts in the culture.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ther disciplines, such as geology, botany and biology, chemistry, and mathematics began to be more involved in the archaeological field during this period.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ualism (1960 – presen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ere two major trajector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ual archaeology and Cultural Resource Manag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ual archaeology (the New Archaeology) was developed by Lewis Binford and others in the 1960s; with the motto "archaeology as anthropology"; The new focus was on the transformation of archaeological data into cultural data, a "behavioral" 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Resource Management (CRM) dominates North American archaeology at present, the result of national laws, such as the National Historic Preservation Act of 1966; Its goal is to manage and conserve America's archaeological herit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cessualism (1960 – present) </a:t>
            </a:r>
            <a:br>
              <a:rPr sz="1200"/>
            </a:b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re were two major trajectorie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cessual archaeology and Cultural Resource Managemen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cessual archaeology (the New Archaeology) was developed by Lewis Binford and others in the 1960s; with the motto "archaeology as anthropology"; The new focus was on the transformation of archaeological data into cultural data, a "behavioral" approac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ultural Resource Management (CRM) dominates North American archaeology at present, the result of national laws, such as the National Historic Preservation Act of 1966; Its goal is to manage and conserve America's archaeological heritage.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processualism (1990-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middle of the modern period (1970’s),  archaeologists began to be concerned more about human behavior and the study of Native American cultu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is not merely a science of material culture,  but concerns of human beings and their cultural   behavior in the p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s concepts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as intera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change must include women, ethnic minorities, illiterate (under-represented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ists bring cultural biases to work, act as mediators of the p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archaeology of the mi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stprocessualism (1990-prese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om the middle of the modern period (1970’s),  archaeologists began to be concerned more about human behavior and the study of Native American culture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aeology is not merely a science of material culture,  but concerns of human beings and their cultural   behavior in the pas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cludes concepts of:</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ulture as interactiv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ulture change must include women, ethnic minorities, illiterate (under-represented group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aeologists bring cultural biases to work, act as mediators of the pas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The archaeology of the mind”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rn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es concepts of culture history, processualism and post-processualism for understanding the p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loys modern techniques as well as tried and true methods of exca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s to utilize other disciplines, as well as anthropology, for a “holistic” 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dern Archaeolog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bines concepts of culture history, processualism and post-processualism for understanding the pas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mploys modern techniques as well as tried and true methods of excav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inues to utilize other disciplines, as well as anthropology, for a “holistic” approac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byl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bylon, Iraq, Basalt Lion with Figures; Matson Collection, ca. 193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brary of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abyl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abylon, Iraq, Basalt Lion with Figures; Matson Collection, ca. 1932</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brary of Congres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 Augustine (480 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ing order of monks, developed the concept of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ed small-scale change and argued that God created the world and infused it with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 system of process and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ddle Ages (500-1300 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critical acceptance of biblical account, the past was known and discussed in the b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sis account of creation, dawn of humanity and diversity accounted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assica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 Augustine (480 A.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aching order of monks, developed the concept of natur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served small-scale change and argued that God created the world and infused it with lif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atural system of process and chang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iddle Ages (500-1300 A.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critical acceptance of biblical account, the past was known and discussed in the bib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nesis account of creation, dawn of humanity and diversity accounted fo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alian Renaiss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00-1500 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iscovery of the past, interest in the classical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ction of statuary for artistic reasons produced interest in past and cultural ident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rarch (1304-1374 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et, remote past a period of ideal perf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iaco (1391-1440 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ed by many to have established the modem discipline of archaeology. Translated the Latin inscription of the triumphal Arch of Trojan at Ancona, and was inspired to devote his life to study and collection of ancient mon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talian Renaissanc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300-1500 A.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discovery of the past, interest in the classical perio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llection of statuary for artistic reasons produced interest in past and cultural identit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etrarch (1304-1374 A.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et, remote past a period of ideal perfe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iriaco (1391-1440 A.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sidered by many to have established the modem discipline of archaeology. Translated the Latin inscription of the triumphal Arch of Trojan at Ancona, and was inspired to devote his life to study and collection of ancient monumen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quarian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in the antiquities of the classical civilizations became pastime of the wealthy as result of Renaiss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eneral interest led to appreciation of local antiqu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chael Mercati (1500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brarian who worked for Medici mercanti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ati catlogued these, was interested in their similarities and dif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found and collected stone tools from around Tuscani, Ita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tiquarians</a:t>
            </a:r>
            <a:br>
              <a:rPr sz="1200"/>
            </a:b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rest in the antiquities of the classical civilizations became pastime of the wealthy as result of Renaissanc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is general interest led to appreciation of local antiquit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ichael Mercati (1500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brarian who worked for Medici mercantiles.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rcati catlogued these, was interested in their similarities and differenc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so found and collected stone tools from around Tuscani, Ital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blical Accou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bishop James Ussher and Archbishop Lightfoot (1600s, Iris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genealogical lists in bible and calculated that the world was created one the evening before October 23. 4004 B.C at 9:30 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s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f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iblical Accoun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chbishop James Ussher and Archbishop Lightfoot (1600s, Irish).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ing genealogical lists in bible and calculated that the world was created one the evening before October 23. 4004 B.C at 9:30 A.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sh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ghtfoo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Exca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mpe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ighteenth-centu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archaeology.org/interactive/pompeii/index.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arly Excav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mpeii</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ighteenth-century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ttp://www.archaeology.org/interactive/pompeii/index.htm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logists and Antiquity of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ighteenth centuries were a time of massive construction (i.e. canals), revealing great exposures of the earths rocks-hence a period of development in G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Strata" Smith (1769-183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to recognize Earth made of lay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ience of stratigrap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ed the Law of Superposition (layers on top are younger than lower lay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s Cuvier (1769-1832)-Fren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her of Paleontology, worked out a geological history using fossils as type indicator of strat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x fossi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fossils associated with certain str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explaining change in fossils, but said bible accounts for this with floods or catastroph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ologists and Antiquity of the Eart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eighteenth centuries were a time of massive construction (i.e. canals), revealing great exposures of the earths rocks-hence a period of development in Geolog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illiam "Strata" Smith (1769-1839)</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rst to recognize Earth made of lay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ience of stratigraph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veloped the Law of Superposition (layers on top are younger than lower lay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orges Cuvier (1769-1832)-French,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ather of Paleontology, worked out a geological history using fossils as type indicator of strata.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dex fossil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ertain fossils associated with certain strat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blem explaining change in fossils, but said bible accounts for this with floods or catastroph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CF781F-60F0-41C0-B604-7151EEC261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0220A-AFC3-4BEB-94D4-BFFDCC29D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A5E28D-2A67-4DAB-B416-F62739180D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0DA77-D3A4-4111-9FFA-533865DB9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DA62E5-ED71-4CA1-B79E-1990A88309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D83191-CD34-479F-B29E-F00589ACB3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AA1ACE-FFE2-423F-B3A6-1A695CE0B6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29B871-0875-4253-95D3-084B54361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F2D797-2753-4D19-BCCE-93C4722FA1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A04CA8-E306-4DEF-8ED5-79A8CFF513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D2F51-12E7-4345-A014-41FD9D974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08AA0-5FA4-4162-A6BA-4481E09F4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2F42D-0486-4815-8B83-183C8AC16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D4140-B0E0-4693-A15A-984A3E939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9D1BCE-D635-4A41-9787-BB7380A0F9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4D4EB1-92D3-42D6-8C74-80B8D7E663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7871E5-C657-40D9-89EA-58BCC4C1D2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43929F-5387-4835-A477-71897434C7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E76871-6244-4921-91DA-AAB1B6D547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2986E6-1B36-4A8D-AAB5-32DFAB126C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5B04E6-B7E1-4990-8004-BD9208A7A9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5D1C2B-B6DB-42BA-8E1B-CAF2A6CB26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DAEB9-EDF5-4AC3-A2D9-E5E5C164A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372442-7D1F-4C36-B9C4-FE804DA330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78AA6E-1388-456C-87AE-F72367191E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D4BCF6-FF3D-4B3D-A246-6B56FCD50F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BCE37A-8A8E-43DD-AF91-E461C3B3C1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DD1090-A8D0-4B7B-86DF-38B49AEBA3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0D1DDC-5FA9-4645-985F-216B71BA1C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A01BBB-FEF0-4D32-BEDA-CD2AF2DCEE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247456-6C6D-4F08-8263-50A4B3CAB8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5DC4C1-A106-4A7E-AF28-039173D72D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26A8E7-CB20-40FE-B06D-BAB186E4C1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19B63-F3C2-4D41-B901-DDBC3D504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33391E-F6C5-4F7A-8C6F-312A3A641C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AFD510-4F49-4C2E-B625-3D9E2CC5AA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9357ED-5F41-4DBE-BF72-7C5A9AAD36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E666CC-10D5-483C-81D2-A0121CBEC6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BA8D40-B60F-42A2-92F6-19F415E683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7C2680-9253-44AF-A1C3-81070DF5CD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ED44DB-85AA-4BAD-882F-C6DF51BEEB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799FA2-C26D-4D61-AE9C-8FFAD7BF20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F4EA41-CE39-4722-B1CD-A177AB96C6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04ACDB-59DF-40D7-83A0-3572ADB1F0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1BFDA-9191-43C5-BE0B-C48FCAAD4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49DE5A-19F8-4CFE-90B4-05721D95B2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1A2CFA-A65C-4590-98AF-80C23279E3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0DBCC9-9272-4836-8A06-47C8C74D41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E3FB9A-9DB2-4A96-9765-01D089FF4E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8258B8-7538-4A52-8F8D-309C60FCD0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EC9B31-2BE5-4D78-89A4-4AA112D9DB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34C7F9-FC18-4CA5-B699-126956B408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E94868-529A-4750-A2C5-7608079E36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F59765-ECD2-480A-897D-6CBC851853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E86E48-A5ED-4DF0-8B95-B69504A139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4A54D-8B37-48E4-834A-8F65AED3C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3CDD27-5CFD-48C6-A8B3-9C28EA3D25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08935-610A-4510-B00B-88E35872D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448A1-0F66-41D4-8A3E-CE2D4D838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171E4-A8FC-44F2-9CC0-4566B7B691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www.sliderbase.com</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D61A1-59E8-4E08-9FBC-C92513F3B2A0}"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sliderbase.com</a:t>
            </a:r>
            <a:endParaRPr b="0" lang="en-US" sz="1000" spc="-1" strike="noStrike">
              <a:solidFill>
                <a:srgbClr val="000000"/>
              </a:solidFill>
              <a:latin typeface="Times New Roman"/>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FD79F-9D43-4477-88C6-44FF22AD0DE8}"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www.sliderbase.com</a:t>
            </a:r>
            <a:endParaRPr b="0" lang="en-US" sz="1000" spc="-1" strike="noStrike">
              <a:solidFill>
                <a:srgbClr val="000000"/>
              </a:solidFill>
              <a:latin typeface="Times New Roman"/>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FEBF8-7ADE-4D57-86AB-B05505A34DD2}"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imes New Roman"/>
              </a:rPr>
              <a:t>www.sliderbase.com</a:t>
            </a:r>
            <a:endParaRPr b="0" lang="en-US" sz="1000" spc="-1" strike="noStrike">
              <a:solidFill>
                <a:srgbClr val="000000"/>
              </a:solidFill>
              <a:latin typeface="Times New Roman"/>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4F83E-2652-4D94-A508-8ECC7996C837}"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www.sliderbase.com</a:t>
            </a:r>
            <a:endParaRPr b="0" lang="en-US" sz="1000" spc="-1" strike="noStrike">
              <a:solidFill>
                <a:srgbClr val="000000"/>
              </a:solidFill>
              <a:latin typeface="Times New Roman"/>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389BB-4B61-4197-85D7-311A61064CA7}"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hyperlink" Target="http://www.flickr.com/photos/catr/418299740/" TargetMode="External"/><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en.wikipedia.org/wiki/Image:MicheleMercati.jpeg" TargetMode="External"/><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en.wikipedia.org/wiki/Image:James_Ussher_2.jpg" TargetMode="External"/><Relationship Id="rId3" Type="http://schemas.openxmlformats.org/officeDocument/2006/relationships/image" Target="../media/image14.jpeg"/><Relationship Id="rId4" Type="http://schemas.openxmlformats.org/officeDocument/2006/relationships/hyperlink" Target="http://en.wikipedia.org/wiki/Image:JohnLightfoot.gif" TargetMode="External"/><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Rectangle 2" descr=""/>
          <p:cNvPicPr/>
          <p:nvPr/>
        </p:nvPicPr>
        <p:blipFill>
          <a:blip r:embed="rId1"/>
          <a:stretch/>
        </p:blipFill>
        <p:spPr>
          <a:xfrm>
            <a:off x="3365640" y="536400"/>
            <a:ext cx="5510160" cy="3194280"/>
          </a:xfrm>
          <a:prstGeom prst="rect">
            <a:avLst/>
          </a:prstGeom>
          <a:ln w="0">
            <a:noFill/>
          </a:ln>
        </p:spPr>
      </p:pic>
      <p:sp>
        <p:nvSpPr>
          <p:cNvPr id="228"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arly Development</a:t>
            </a:r>
            <a:endParaRPr b="0" lang="en-US" sz="22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rchaeology as Science</a:t>
            </a:r>
            <a:endParaRPr b="0" lang="en-US" sz="2200" spc="-1" strike="noStrike">
              <a:solidFill>
                <a:srgbClr val="000000"/>
              </a:solidFill>
              <a:latin typeface="Trebuchet MS"/>
            </a:endParaRPr>
          </a:p>
        </p:txBody>
      </p:sp>
      <p:sp>
        <p:nvSpPr>
          <p:cNvPr id="229" name="Місце для нижнього колонтитула 1"/>
          <p:cNvSpPr/>
          <p:nvPr/>
        </p:nvSpPr>
        <p:spPr>
          <a:xfrm>
            <a:off x="2819520" y="6558120"/>
            <a:ext cx="292716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Rectangle 2" descr=""/>
          <p:cNvPicPr/>
          <p:nvPr/>
        </p:nvPicPr>
        <p:blipFill>
          <a:blip r:embed="rId1"/>
          <a:stretch/>
        </p:blipFill>
        <p:spPr>
          <a:xfrm>
            <a:off x="212760" y="324000"/>
            <a:ext cx="7486560" cy="1431720"/>
          </a:xfrm>
          <a:prstGeom prst="rect">
            <a:avLst/>
          </a:prstGeom>
          <a:ln w="0">
            <a:noFill/>
          </a:ln>
        </p:spPr>
      </p:pic>
      <p:sp>
        <p:nvSpPr>
          <p:cNvPr id="265"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James Hutton (1726-1797)</a:t>
            </a:r>
            <a:endParaRPr b="0" lang="en-US" sz="28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Believed appeal to catastrophies unnecessary.</a:t>
            </a:r>
            <a:endParaRPr b="0" lang="en-US" sz="24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processes acting today are same as in the past:Uniformitarianism</a:t>
            </a:r>
            <a:endParaRPr b="0" lang="en-US" sz="24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For example, erosion, weathering. earthquakes and volcanos all acting the</a:t>
            </a:r>
            <a:endParaRPr b="0" lang="en-US" sz="24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harles Lyell (1797-1875) </a:t>
            </a:r>
            <a:endParaRPr b="0" lang="en-US" sz="28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published Principles of Geology (1830).</a:t>
            </a:r>
            <a:endParaRPr b="0" lang="en-US" sz="24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identified Hutton's theory of processes being the same as uniformitarianism.</a:t>
            </a:r>
            <a:endParaRPr b="0" lang="en-US" sz="24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Father of Geology. syntesized Law of Superposition and Uniformitarianism.</a:t>
            </a:r>
            <a:endParaRPr b="0" lang="en-US" sz="2400" spc="-1" strike="noStrike">
              <a:solidFill>
                <a:srgbClr val="6c6c6c"/>
              </a:solidFill>
              <a:latin typeface="Trebuchet MS"/>
            </a:endParaRPr>
          </a:p>
        </p:txBody>
      </p:sp>
      <p:sp>
        <p:nvSpPr>
          <p:cNvPr id="266"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Rectangle 2" descr=""/>
          <p:cNvPicPr/>
          <p:nvPr/>
        </p:nvPicPr>
        <p:blipFill>
          <a:blip r:embed="rId1"/>
          <a:stretch/>
        </p:blipFill>
        <p:spPr>
          <a:xfrm>
            <a:off x="244440" y="298440"/>
            <a:ext cx="7454880" cy="1420920"/>
          </a:xfrm>
          <a:prstGeom prst="rect">
            <a:avLst/>
          </a:prstGeom>
          <a:ln w="0">
            <a:noFill/>
          </a:ln>
        </p:spPr>
      </p:pic>
      <p:sp>
        <p:nvSpPr>
          <p:cNvPr id="268"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t was established that life forms had changed, but how?</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 order to be credible a mechanism was needed to explain this.</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harles Darwin-</a:t>
            </a:r>
            <a:endParaRPr b="0" lang="en-US" sz="24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Greatly influenced by geologists, </a:t>
            </a:r>
            <a:endParaRPr b="0" lang="en-US" sz="20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new forms explained by a "struggle for existence" in which those well adapted to a particular environment survive and the ill-adapted don't.</a:t>
            </a:r>
            <a:endParaRPr b="0" lang="en-US" sz="20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Accumulated favorable variations over a long period of time would result in new species, extinction of old species (Natural Selection).</a:t>
            </a:r>
            <a:endParaRPr b="0" lang="en-US" sz="20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rebuchet MS"/>
              </a:rPr>
              <a:t>On the Origin of Species</a:t>
            </a:r>
            <a:r>
              <a:rPr b="0" lang="en-US" sz="2400" spc="-1" strike="noStrike">
                <a:solidFill>
                  <a:srgbClr val="000000"/>
                </a:solidFill>
                <a:latin typeface="Trebuchet MS"/>
              </a:rPr>
              <a:t> (1859)</a:t>
            </a:r>
            <a:endParaRPr b="0" lang="en-US" sz="2400" spc="-1" strike="noStrike">
              <a:solidFill>
                <a:srgbClr val="000000"/>
              </a:solidFill>
              <a:latin typeface="Trebuchet MS"/>
            </a:endParaRPr>
          </a:p>
        </p:txBody>
      </p:sp>
      <p:sp>
        <p:nvSpPr>
          <p:cNvPr id="269"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Title 1" descr=""/>
          <p:cNvPicPr/>
          <p:nvPr/>
        </p:nvPicPr>
        <p:blipFill>
          <a:blip r:embed="rId1"/>
          <a:stretch/>
        </p:blipFill>
        <p:spPr>
          <a:xfrm>
            <a:off x="212760" y="324000"/>
            <a:ext cx="7486560" cy="1431720"/>
          </a:xfrm>
          <a:prstGeom prst="rect">
            <a:avLst/>
          </a:prstGeom>
          <a:ln w="0">
            <a:noFill/>
          </a:ln>
        </p:spPr>
      </p:pic>
      <p:pic>
        <p:nvPicPr>
          <p:cNvPr id="271" name="Picture 2" descr="Charles Darwin ca. 1880"/>
          <p:cNvPicPr/>
          <p:nvPr/>
        </p:nvPicPr>
        <p:blipFill>
          <a:blip r:embed="rId2"/>
          <a:stretch/>
        </p:blipFill>
        <p:spPr>
          <a:xfrm>
            <a:off x="3048120" y="1828800"/>
            <a:ext cx="2157120" cy="3276720"/>
          </a:xfrm>
          <a:prstGeom prst="rect">
            <a:avLst/>
          </a:prstGeom>
          <a:ln w="0">
            <a:noFill/>
          </a:ln>
        </p:spPr>
      </p:pic>
      <p:sp>
        <p:nvSpPr>
          <p:cNvPr id="272" name="Rectangle 5"/>
          <p:cNvSpPr/>
          <p:nvPr/>
        </p:nvSpPr>
        <p:spPr>
          <a:xfrm>
            <a:off x="1981080" y="6211800"/>
            <a:ext cx="4800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ttp://archaeology.about.com/cs/educationalresour/a/history4.htm</a:t>
            </a:r>
            <a:endParaRPr b="0" lang="en-US" sz="1200" spc="-1" strike="noStrike">
              <a:solidFill>
                <a:srgbClr val="000000"/>
              </a:solidFill>
              <a:latin typeface="Tahoma"/>
            </a:endParaRPr>
          </a:p>
        </p:txBody>
      </p:sp>
      <p:sp>
        <p:nvSpPr>
          <p:cNvPr id="273" name="Rectangle 6"/>
          <p:cNvSpPr/>
          <p:nvPr/>
        </p:nvSpPr>
        <p:spPr>
          <a:xfrm>
            <a:off x="2895480" y="5181480"/>
            <a:ext cx="4572000" cy="6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harles Darwin ca. 1880</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de66"/>
                </a:solidFill>
                <a:uFillTx/>
                <a:latin typeface="Tahoma"/>
                <a:hlinkClick r:id="rId3"/>
              </a:rPr>
              <a:t>Claudio Toledo</a:t>
            </a:r>
            <a:endParaRPr b="0" lang="en-US" sz="1800" spc="-1" strike="noStrike">
              <a:solidFill>
                <a:srgbClr val="000000"/>
              </a:solidFill>
              <a:latin typeface="Tahoma"/>
            </a:endParaRPr>
          </a:p>
        </p:txBody>
      </p:sp>
      <p:sp>
        <p:nvSpPr>
          <p:cNvPr id="274"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Rectangle 2" descr=""/>
          <p:cNvPicPr/>
          <p:nvPr/>
        </p:nvPicPr>
        <p:blipFill>
          <a:blip r:embed="rId1"/>
          <a:stretch/>
        </p:blipFill>
        <p:spPr>
          <a:xfrm>
            <a:off x="212760" y="324000"/>
            <a:ext cx="7675560" cy="1431720"/>
          </a:xfrm>
          <a:prstGeom prst="rect">
            <a:avLst/>
          </a:prstGeom>
          <a:ln w="0">
            <a:noFill/>
          </a:ln>
        </p:spPr>
      </p:pic>
      <p:sp>
        <p:nvSpPr>
          <p:cNvPr id="276"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iven the antiquity of the earth and a scheme by which life forms had changed, how old was the human species? </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acques Boucher de Perthes-French customs official, collected stone implements and fossils along the Somme River.</a:t>
            </a:r>
            <a:endParaRPr b="0" lang="en-US" sz="24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association of extinct fauna and stone tools could not be explained with catastrophism. </a:t>
            </a:r>
            <a:endParaRPr b="0" lang="en-US" sz="20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Extreme antiquity of humankind.</a:t>
            </a:r>
            <a:endParaRPr b="0" lang="en-US" sz="20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published findings in 1847, was considered a heretic. </a:t>
            </a:r>
            <a:endParaRPr b="0" lang="en-US" sz="20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ater: Others investigated results and found them conclusive, established by 1860 the long and changing history of humankind. </a:t>
            </a:r>
            <a:endParaRPr b="0" lang="en-US" sz="2400" spc="-1" strike="noStrike">
              <a:solidFill>
                <a:srgbClr val="000000"/>
              </a:solidFill>
              <a:latin typeface="Trebuchet MS"/>
            </a:endParaRPr>
          </a:p>
        </p:txBody>
      </p:sp>
      <p:sp>
        <p:nvSpPr>
          <p:cNvPr id="277"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Rectangle 2" descr=""/>
          <p:cNvPicPr/>
          <p:nvPr/>
        </p:nvPicPr>
        <p:blipFill>
          <a:blip r:embed="rId1"/>
          <a:stretch/>
        </p:blipFill>
        <p:spPr>
          <a:xfrm>
            <a:off x="244440" y="324000"/>
            <a:ext cx="7454880" cy="1395360"/>
          </a:xfrm>
          <a:prstGeom prst="rect">
            <a:avLst/>
          </a:prstGeom>
          <a:ln w="0">
            <a:noFill/>
          </a:ln>
        </p:spPr>
      </p:pic>
      <p:sp>
        <p:nvSpPr>
          <p:cNvPr id="27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efinement of Archaeological Method</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General A.H.L. Fox Pitt-Rivers (1800s)</a:t>
            </a:r>
            <a:endParaRPr b="0" lang="en-US" sz="2300" spc="-1" strike="noStrike">
              <a:solidFill>
                <a:srgbClr val="6c6c6c"/>
              </a:solidFill>
              <a:latin typeface="Trebuchet MS"/>
            </a:endParaRPr>
          </a:p>
          <a:p>
            <a:pPr lvl="2" marL="758880" indent="-22860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ealthy English landowner, innovator of field methods.</a:t>
            </a:r>
            <a:endParaRPr b="0" lang="en-US" sz="2000" spc="-1" strike="noStrike">
              <a:solidFill>
                <a:srgbClr val="000000"/>
              </a:solidFill>
              <a:latin typeface="Trebuchet MS"/>
            </a:endParaRPr>
          </a:p>
          <a:p>
            <a:pPr lvl="2" marL="758880" indent="-228600">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cognized need for careful records, importance of vertical control (profiles), measurement of artifacts, interested in function and published results.</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evelopment of North American Archaeology</a:t>
            </a:r>
            <a:endParaRPr b="0" lang="en-US" sz="2600" spc="-1" strike="noStrike">
              <a:solidFill>
                <a:srgbClr val="000000"/>
              </a:solidFill>
              <a:latin typeface="Trebuchet MS"/>
            </a:endParaRPr>
          </a:p>
        </p:txBody>
      </p:sp>
      <p:sp>
        <p:nvSpPr>
          <p:cNvPr id="280"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Rectangle 2" descr=""/>
          <p:cNvPicPr/>
          <p:nvPr/>
        </p:nvPicPr>
        <p:blipFill>
          <a:blip r:embed="rId1"/>
          <a:stretch/>
        </p:blipFill>
        <p:spPr>
          <a:xfrm>
            <a:off x="244440" y="298440"/>
            <a:ext cx="7454880" cy="1165320"/>
          </a:xfrm>
          <a:prstGeom prst="rect">
            <a:avLst/>
          </a:prstGeom>
          <a:ln w="0">
            <a:noFill/>
          </a:ln>
        </p:spPr>
      </p:pic>
      <p:sp>
        <p:nvSpPr>
          <p:cNvPr id="282" name=""/>
          <p:cNvSpPr txBox="1"/>
          <p:nvPr/>
        </p:nvSpPr>
        <p:spPr>
          <a:xfrm>
            <a:off x="304920" y="1143000"/>
            <a:ext cx="8229600" cy="54100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merican archaeology mainly developed from social sciences (European: Physical sciences).</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Interest in Native Americans</a:t>
            </a:r>
            <a:endParaRPr b="0" lang="en-US" sz="23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iscovery of America</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Columbus (ca. 1492)</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merican Indians not human.</a:t>
            </a:r>
            <a:endParaRPr b="0" lang="en-US" sz="23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Early explorer accounts still used today as ethnographic analogies, such as DeSoto in the Southeast and the Labrador Coast. Called the new land Vinland, and left evidence of sod houses, some bronze and metal artifacts.</a:t>
            </a:r>
            <a:endParaRPr b="0" lang="en-US" sz="2300" spc="-1" strike="noStrike">
              <a:solidFill>
                <a:srgbClr val="6c6c6c"/>
              </a:solidFill>
              <a:latin typeface="Trebuchet MS"/>
            </a:endParaRPr>
          </a:p>
        </p:txBody>
      </p:sp>
      <p:sp>
        <p:nvSpPr>
          <p:cNvPr id="28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Rectangle 2" descr=""/>
          <p:cNvPicPr/>
          <p:nvPr/>
        </p:nvPicPr>
        <p:blipFill>
          <a:blip r:embed="rId1"/>
          <a:stretch/>
        </p:blipFill>
        <p:spPr>
          <a:xfrm>
            <a:off x="669960" y="-30240"/>
            <a:ext cx="8474040" cy="1011240"/>
          </a:xfrm>
          <a:prstGeom prst="rect">
            <a:avLst/>
          </a:prstGeom>
          <a:ln w="0">
            <a:noFill/>
          </a:ln>
        </p:spPr>
      </p:pic>
      <p:pic>
        <p:nvPicPr>
          <p:cNvPr id="285" name="Picture 4" descr="mnkmound"/>
          <p:cNvPicPr/>
          <p:nvPr/>
        </p:nvPicPr>
        <p:blipFill>
          <a:blip r:embed="rId2"/>
          <a:stretch/>
        </p:blipFill>
        <p:spPr>
          <a:xfrm>
            <a:off x="1371600" y="685800"/>
            <a:ext cx="6629400" cy="3436920"/>
          </a:xfrm>
          <a:prstGeom prst="rect">
            <a:avLst/>
          </a:prstGeom>
          <a:ln w="0">
            <a:noFill/>
          </a:ln>
        </p:spPr>
      </p:pic>
      <p:pic>
        <p:nvPicPr>
          <p:cNvPr id="286" name="Picture 5" descr="mound"/>
          <p:cNvPicPr/>
          <p:nvPr/>
        </p:nvPicPr>
        <p:blipFill>
          <a:blip r:embed="rId3"/>
          <a:stretch/>
        </p:blipFill>
        <p:spPr>
          <a:xfrm>
            <a:off x="5029200" y="3340080"/>
            <a:ext cx="4114800" cy="3517920"/>
          </a:xfrm>
          <a:prstGeom prst="rect">
            <a:avLst/>
          </a:prstGeom>
          <a:ln w="0">
            <a:noFill/>
          </a:ln>
        </p:spPr>
      </p:pic>
      <p:pic>
        <p:nvPicPr>
          <p:cNvPr id="287" name="Picture 6" descr="PPMP29"/>
          <p:cNvPicPr/>
          <p:nvPr/>
        </p:nvPicPr>
        <p:blipFill>
          <a:blip r:embed="rId4"/>
          <a:stretch/>
        </p:blipFill>
        <p:spPr>
          <a:xfrm>
            <a:off x="0" y="3581280"/>
            <a:ext cx="5029200" cy="2968920"/>
          </a:xfrm>
          <a:prstGeom prst="rect">
            <a:avLst/>
          </a:prstGeom>
          <a:ln w="0">
            <a:noFill/>
          </a:ln>
        </p:spPr>
      </p:pic>
      <p:sp>
        <p:nvSpPr>
          <p:cNvPr id="288" name="Text Box 7"/>
          <p:cNvSpPr/>
          <p:nvPr/>
        </p:nvSpPr>
        <p:spPr>
          <a:xfrm>
            <a:off x="-70560" y="990720"/>
            <a:ext cx="176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hokia, I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nk’s Mound</a:t>
            </a:r>
            <a:endParaRPr b="0" lang="en-US" sz="1800" spc="-1" strike="noStrike">
              <a:solidFill>
                <a:srgbClr val="000000"/>
              </a:solidFill>
              <a:latin typeface="Tahoma"/>
            </a:endParaRPr>
          </a:p>
        </p:txBody>
      </p:sp>
      <p:sp>
        <p:nvSpPr>
          <p:cNvPr id="289" name="Text Box 8"/>
          <p:cNvSpPr/>
          <p:nvPr/>
        </p:nvSpPr>
        <p:spPr>
          <a:xfrm>
            <a:off x="1247760" y="6216480"/>
            <a:ext cx="200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verty Point, L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und B</a:t>
            </a:r>
            <a:endParaRPr b="0" lang="en-US" sz="1800" spc="-1" strike="noStrike">
              <a:solidFill>
                <a:srgbClr val="000000"/>
              </a:solidFill>
              <a:latin typeface="Tahoma"/>
            </a:endParaRPr>
          </a:p>
        </p:txBody>
      </p:sp>
      <p:sp>
        <p:nvSpPr>
          <p:cNvPr id="290" name="Text Box 9"/>
          <p:cNvSpPr/>
          <p:nvPr/>
        </p:nvSpPr>
        <p:spPr>
          <a:xfrm>
            <a:off x="7183080" y="5943600"/>
            <a:ext cx="1761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undville, A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und A</a:t>
            </a:r>
            <a:endParaRPr b="0" lang="en-US" sz="1800" spc="-1" strike="noStrike">
              <a:solidFill>
                <a:srgbClr val="000000"/>
              </a:solidFill>
              <a:latin typeface="Tahoma"/>
            </a:endParaRPr>
          </a:p>
        </p:txBody>
      </p:sp>
      <p:sp>
        <p:nvSpPr>
          <p:cNvPr id="291"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Rectangle 4" descr=""/>
          <p:cNvPicPr/>
          <p:nvPr/>
        </p:nvPicPr>
        <p:blipFill>
          <a:blip r:embed="rId1"/>
          <a:stretch/>
        </p:blipFill>
        <p:spPr>
          <a:xfrm>
            <a:off x="244440" y="324000"/>
            <a:ext cx="7454880" cy="1395360"/>
          </a:xfrm>
          <a:prstGeom prst="rect">
            <a:avLst/>
          </a:prstGeom>
          <a:ln w="0">
            <a:noFill/>
          </a:ln>
        </p:spPr>
      </p:pic>
      <p:sp>
        <p:nvSpPr>
          <p:cNvPr id="293" name=""/>
          <p:cNvSpPr txBox="1"/>
          <p:nvPr/>
        </p:nvSpPr>
        <p:spPr>
          <a:xfrm>
            <a:off x="0" y="1599840"/>
            <a:ext cx="8229600" cy="5257800"/>
          </a:xfrm>
          <a:prstGeom prst="rect">
            <a:avLst/>
          </a:prstGeom>
          <a:noFill/>
          <a:ln w="0">
            <a:noFill/>
          </a:ln>
        </p:spPr>
        <p:txBody>
          <a:bodyPr anchor="t">
            <a:normAutofit fontScale="99000"/>
          </a:bodyPr>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lorations during speculative period led to discovery of ruins and mound centers with burials and artifacts.</a:t>
            </a:r>
            <a:endParaRPr b="0" lang="en-US" sz="2000" spc="-1" strike="noStrike">
              <a:solidFill>
                <a:srgbClr val="000000"/>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unds are found from 4000 to 500 years ago in the U.S., range from small conical burial mounds to huge platfoIlD mound centers (Cahokia) with ceremonial houses built on top of them. Could not have been built by savages, and these savages were for the most part ignorant of the moundbuilders because the moundbuUder cultures had dissipated primarily before contact.</a:t>
            </a:r>
            <a:endParaRPr b="0" lang="en-US" sz="2000" spc="-1" strike="noStrike">
              <a:solidFill>
                <a:srgbClr val="000000"/>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ories:</a:t>
            </a:r>
            <a:endParaRPr b="0" lang="en-US" sz="2000" spc="-1" strike="noStrike">
              <a:solidFill>
                <a:srgbClr val="000000"/>
              </a:solidFill>
              <a:latin typeface="Trebuchet MS"/>
            </a:endParaRPr>
          </a:p>
          <a:p>
            <a:pPr lvl="1" marL="515160" indent="-2260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built by Danes who then migrated to Mexico and became Toltecs and Aztecs.</a:t>
            </a:r>
            <a:endParaRPr b="0" lang="en-US" sz="1800" spc="-1" strike="noStrike">
              <a:solidFill>
                <a:srgbClr val="6c6c6c"/>
              </a:solidFill>
              <a:latin typeface="Trebuchet MS"/>
            </a:endParaRPr>
          </a:p>
          <a:p>
            <a:pPr lvl="1" marL="515160" indent="-2260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built by other, more civilized, but extinct Indians-the "lost race".</a:t>
            </a:r>
            <a:endParaRPr b="0" lang="en-US" sz="1800" spc="-1" strike="noStrike">
              <a:solidFill>
                <a:srgbClr val="6c6c6c"/>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omas Jefferson</a:t>
            </a:r>
            <a:endParaRPr b="0" lang="en-US" sz="2000" spc="-1" strike="noStrike">
              <a:solidFill>
                <a:srgbClr val="000000"/>
              </a:solidFill>
              <a:latin typeface="Trebuchet MS"/>
            </a:endParaRPr>
          </a:p>
          <a:p>
            <a:pPr lvl="1" marL="515160" indent="-2260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excavated some mounds, interested in their construction not really in who built them.</a:t>
            </a:r>
            <a:endParaRPr b="0" lang="en-US" sz="1800" spc="-1" strike="noStrike">
              <a:solidFill>
                <a:srgbClr val="6c6c6c"/>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yrus Thomas</a:t>
            </a:r>
            <a:endParaRPr b="0" lang="en-US" sz="2000" spc="-1" strike="noStrike">
              <a:solidFill>
                <a:srgbClr val="000000"/>
              </a:solidFill>
              <a:latin typeface="Trebuchet MS"/>
            </a:endParaRPr>
          </a:p>
          <a:p>
            <a:pPr lvl="1" marL="515160" indent="-2260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found them extremely well constructed and linked pottery in them to “modern” Indians-proving that the moundbuilders were the ancestors of the Indians today.</a:t>
            </a:r>
            <a:endParaRPr b="0" lang="en-US" sz="1800" spc="-1" strike="noStrike">
              <a:solidFill>
                <a:srgbClr val="6c6c6c"/>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94"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Rectangle 2" descr=""/>
          <p:cNvPicPr/>
          <p:nvPr/>
        </p:nvPicPr>
        <p:blipFill>
          <a:blip r:embed="rId1"/>
          <a:stretch/>
        </p:blipFill>
        <p:spPr>
          <a:xfrm>
            <a:off x="-92160" y="281160"/>
            <a:ext cx="9083880" cy="1431720"/>
          </a:xfrm>
          <a:prstGeom prst="rect">
            <a:avLst/>
          </a:prstGeom>
          <a:ln w="0">
            <a:noFill/>
          </a:ln>
        </p:spPr>
      </p:pic>
      <p:sp>
        <p:nvSpPr>
          <p:cNvPr id="296"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dvancements:</a:t>
            </a:r>
            <a:endParaRPr b="0" lang="en-US" sz="28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Developing and refining field methods</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Developing and refining the study of artifacts</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Classifying cultures</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Defining sequences of cultures</a:t>
            </a:r>
            <a:endParaRPr b="0" lang="en-US" sz="24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fessionalization of the discipline began; there was a need felt to record rapidly vanishing information; and so there was the organization of local naturalist, historical, and scientific societies. </a:t>
            </a:r>
            <a:endParaRPr b="0" lang="en-US" sz="2800" spc="-1" strike="noStrike">
              <a:solidFill>
                <a:srgbClr val="000000"/>
              </a:solidFill>
              <a:latin typeface="Trebuchet MS"/>
            </a:endParaRPr>
          </a:p>
        </p:txBody>
      </p:sp>
      <p:sp>
        <p:nvSpPr>
          <p:cNvPr id="297"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Rectangle 2" descr=""/>
          <p:cNvPicPr/>
          <p:nvPr/>
        </p:nvPicPr>
        <p:blipFill>
          <a:blip r:embed="rId1"/>
          <a:stretch/>
        </p:blipFill>
        <p:spPr>
          <a:xfrm>
            <a:off x="244440" y="298440"/>
            <a:ext cx="7454880" cy="1420920"/>
          </a:xfrm>
          <a:prstGeom prst="rect">
            <a:avLst/>
          </a:prstGeom>
          <a:ln w="0">
            <a:noFill/>
          </a:ln>
        </p:spPr>
      </p:pic>
      <p:sp>
        <p:nvSpPr>
          <p:cNvPr id="299" name=""/>
          <p:cNvSpPr txBox="1"/>
          <p:nvPr/>
        </p:nvSpPr>
        <p:spPr>
          <a:xfrm>
            <a:off x="457200" y="1609200"/>
            <a:ext cx="7238880" cy="4846680"/>
          </a:xfrm>
          <a:prstGeom prst="rect">
            <a:avLst/>
          </a:prstGeom>
          <a:noFill/>
          <a:ln w="0">
            <a:noFill/>
          </a:ln>
        </p:spPr>
        <p:txBody>
          <a:bodyPr anchor="t">
            <a:normAutofit fontScale="98000"/>
          </a:bodyPr>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y new trends emerged in the 1920s and 1930s, in part spurred by the Great Depression and federally funded archaeology through the Works Progress Administration (WPA).</a:t>
            </a:r>
            <a:endParaRPr b="0" lang="en-US" sz="28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main focus of the period was historical and chronological: and involved construction of taxonomies, area chronologies, and space-time charts; refinement of stratigraphic and seriational procedures, and rapid adoption of new absolute dating techniques (e.g. C-14 dating and dendro).</a:t>
            </a:r>
            <a:endParaRPr b="0" lang="en-US" sz="2800" spc="-1" strike="noStrike">
              <a:solidFill>
                <a:srgbClr val="000000"/>
              </a:solidFill>
              <a:latin typeface="Trebuchet MS"/>
            </a:endParaRPr>
          </a:p>
        </p:txBody>
      </p:sp>
      <p:sp>
        <p:nvSpPr>
          <p:cNvPr id="300"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Rectangle 2" descr=""/>
          <p:cNvPicPr/>
          <p:nvPr/>
        </p:nvPicPr>
        <p:blipFill>
          <a:blip r:embed="rId1"/>
          <a:stretch/>
        </p:blipFill>
        <p:spPr>
          <a:xfrm>
            <a:off x="244440" y="298440"/>
            <a:ext cx="7454880" cy="116532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anchor="t">
            <a:normAutofit fontScale="98000"/>
          </a:bodyPr>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rch is made up of many disciplines, such as geology, geography, philosopy, sociology, chemistry, biology, etc. </a:t>
            </a:r>
            <a:endParaRPr b="0" lang="en-US" sz="24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s can be seen as we look at the history of archaeology. </a:t>
            </a:r>
            <a:endParaRPr b="0" lang="en-US" sz="24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o were they?</a:t>
            </a:r>
            <a:endParaRPr b="0" lang="en-US" sz="2400" spc="-1" strike="noStrike">
              <a:solidFill>
                <a:srgbClr val="000000"/>
              </a:solidFill>
              <a:latin typeface="Trebuchet MS"/>
            </a:endParaRPr>
          </a:p>
          <a:p>
            <a:pPr lvl="1" marL="510120" indent="-22392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Requires definition, i.e. looters of Egyptian tombs? Grave robbers?</a:t>
            </a:r>
            <a:endParaRPr b="0" lang="en-US" sz="2000" spc="-1" strike="noStrike">
              <a:solidFill>
                <a:srgbClr val="6c6c6c"/>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tudy of human past through material remains, and looters were mostly doing it for money, not knowledge.</a:t>
            </a:r>
            <a:endParaRPr b="0" lang="en-US" sz="24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ginning interest in past as early as Egyptians:</a:t>
            </a:r>
            <a:endParaRPr b="0" lang="en-US" sz="2400" spc="-1" strike="noStrike">
              <a:solidFill>
                <a:srgbClr val="000000"/>
              </a:solidFill>
              <a:latin typeface="Trebuchet MS"/>
            </a:endParaRPr>
          </a:p>
          <a:p>
            <a:pPr lvl="1" marL="510120" indent="-22392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Nabonidus (555-538 B.C.)</a:t>
            </a:r>
            <a:endParaRPr b="0" lang="en-US" sz="2000" spc="-1" strike="noStrike">
              <a:solidFill>
                <a:srgbClr val="6c6c6c"/>
              </a:solidFill>
              <a:latin typeface="Trebuchet MS"/>
            </a:endParaRPr>
          </a:p>
          <a:p>
            <a:pPr lvl="1" marL="510120" indent="-22392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Last King of Babylonian empire, rebuilt temples of ancient Babylon, sort of a preservationist.</a:t>
            </a:r>
            <a:endParaRPr b="0" lang="en-US" sz="2000" spc="-1" strike="noStrike">
              <a:solidFill>
                <a:srgbClr val="6c6c6c"/>
              </a:solidFill>
              <a:latin typeface="Trebuchet MS"/>
            </a:endParaRPr>
          </a:p>
        </p:txBody>
      </p:sp>
      <p:sp>
        <p:nvSpPr>
          <p:cNvPr id="232"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Rectangle 2" descr=""/>
          <p:cNvPicPr/>
          <p:nvPr/>
        </p:nvPicPr>
        <p:blipFill>
          <a:blip r:embed="rId1"/>
          <a:stretch/>
        </p:blipFill>
        <p:spPr>
          <a:xfrm>
            <a:off x="244440" y="66600"/>
            <a:ext cx="7978680" cy="1944720"/>
          </a:xfrm>
          <a:prstGeom prst="rect">
            <a:avLst/>
          </a:prstGeom>
          <a:ln w="0">
            <a:noFill/>
          </a:ln>
        </p:spPr>
      </p:pic>
      <p:sp>
        <p:nvSpPr>
          <p:cNvPr id="302" name=""/>
          <p:cNvSpPr txBox="1"/>
          <p:nvPr/>
        </p:nvSpPr>
        <p:spPr>
          <a:xfrm>
            <a:off x="457200" y="201096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n this period, archaeologists began to deal with Native cultures in terms of three concepts: </a:t>
            </a:r>
            <a:endParaRPr b="0" lang="en-US" sz="26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rtifacts as behavior, pattern, and the environment, and the context and function of each of these concepts in the culture. </a:t>
            </a:r>
            <a:endParaRPr b="0" lang="en-US" sz="23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Other disciplines, such as geology, botany and biology, chemistry, and mathematics began to be more involved in the archaeological field during this period. </a:t>
            </a:r>
            <a:endParaRPr b="0" lang="en-US" sz="2600" spc="-1" strike="noStrike">
              <a:solidFill>
                <a:srgbClr val="000000"/>
              </a:solidFill>
              <a:latin typeface="Trebuchet MS"/>
            </a:endParaRPr>
          </a:p>
        </p:txBody>
      </p:sp>
      <p:sp>
        <p:nvSpPr>
          <p:cNvPr id="30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Rectangle 2" descr=""/>
          <p:cNvPicPr/>
          <p:nvPr/>
        </p:nvPicPr>
        <p:blipFill>
          <a:blip r:embed="rId1"/>
          <a:stretch/>
        </p:blipFill>
        <p:spPr>
          <a:xfrm>
            <a:off x="244440" y="298440"/>
            <a:ext cx="7551720" cy="1165320"/>
          </a:xfrm>
          <a:prstGeom prst="rect">
            <a:avLst/>
          </a:prstGeom>
          <a:ln w="0">
            <a:noFill/>
          </a:ln>
        </p:spPr>
      </p:pic>
      <p:sp>
        <p:nvSpPr>
          <p:cNvPr id="305"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re were two major trajectories: </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Processual archaeology and Cultural Resource Management </a:t>
            </a:r>
            <a:endParaRPr b="0" lang="en-US" sz="20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ocessual archaeology (the New Archaeology) was developed by Lewis Binford and others in the 1960s; with the motto "archaeology as anthropology"; The new focus was on the transformation of archaeological data into cultural data, a "behavioral" approach.</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ultural Resource Management (CRM) dominates North American archaeology at present, the result of national laws, such as the National Historic Preservation Act of 1966; Its goal is to manage and conserve America's archaeological heritage. </a:t>
            </a:r>
            <a:endParaRPr b="0" lang="en-US" sz="2400" spc="-1" strike="noStrike">
              <a:solidFill>
                <a:srgbClr val="000000"/>
              </a:solidFill>
              <a:latin typeface="Trebuchet MS"/>
            </a:endParaRPr>
          </a:p>
        </p:txBody>
      </p:sp>
      <p:sp>
        <p:nvSpPr>
          <p:cNvPr id="306"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Rectangle 2" descr=""/>
          <p:cNvPicPr/>
          <p:nvPr/>
        </p:nvPicPr>
        <p:blipFill>
          <a:blip r:embed="rId1"/>
          <a:stretch/>
        </p:blipFill>
        <p:spPr>
          <a:xfrm>
            <a:off x="244440" y="298440"/>
            <a:ext cx="7454880" cy="1420920"/>
          </a:xfrm>
          <a:prstGeom prst="rect">
            <a:avLst/>
          </a:prstGeom>
          <a:ln w="0">
            <a:noFill/>
          </a:ln>
        </p:spPr>
      </p:pic>
      <p:sp>
        <p:nvSpPr>
          <p:cNvPr id="308" name=""/>
          <p:cNvSpPr txBox="1"/>
          <p:nvPr/>
        </p:nvSpPr>
        <p:spPr>
          <a:xfrm>
            <a:off x="380520" y="1676160"/>
            <a:ext cx="7696440" cy="5181480"/>
          </a:xfrm>
          <a:prstGeom prst="rect">
            <a:avLst/>
          </a:prstGeom>
          <a:noFill/>
          <a:ln w="0">
            <a:noFill/>
          </a:ln>
        </p:spPr>
        <p:txBody>
          <a:bodyPr anchor="t">
            <a:normAutofit/>
          </a:bodyPr>
          <a:p>
            <a:pPr marL="457200" indent="-4572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rom the middle of the modern period (1970’s),  archaeologists began to be concerned more about human behavior and the study of Native American cultures. </a:t>
            </a:r>
            <a:endParaRPr b="0" lang="en-US" sz="2000" spc="-1" strike="noStrike">
              <a:solidFill>
                <a:srgbClr val="000000"/>
              </a:solidFill>
              <a:latin typeface="Trebuchet MS"/>
            </a:endParaRPr>
          </a:p>
          <a:p>
            <a:pPr marL="457200" indent="-4572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rchaeology is not merely a science of material culture,  but concerns of human beings and their cultural   behavior in the past. </a:t>
            </a:r>
            <a:endParaRPr b="0" lang="en-US" sz="2000" spc="-1" strike="noStrike">
              <a:solidFill>
                <a:srgbClr val="000000"/>
              </a:solidFill>
              <a:latin typeface="Trebuchet MS"/>
            </a:endParaRPr>
          </a:p>
          <a:p>
            <a:pPr marL="457200" indent="-4572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cludes concepts of:</a:t>
            </a:r>
            <a:endParaRPr b="0" lang="en-US" sz="2000" spc="-1" strike="noStrike">
              <a:solidFill>
                <a:srgbClr val="000000"/>
              </a:solidFill>
              <a:latin typeface="Trebuchet MS"/>
            </a:endParaRPr>
          </a:p>
          <a:p>
            <a:pPr lvl="1" marL="838080" indent="-3808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Culture as interactive</a:t>
            </a:r>
            <a:endParaRPr b="0" lang="en-US" sz="1800" spc="-1" strike="noStrike">
              <a:solidFill>
                <a:srgbClr val="6c6c6c"/>
              </a:solidFill>
              <a:latin typeface="Trebuchet MS"/>
            </a:endParaRPr>
          </a:p>
          <a:p>
            <a:pPr lvl="1" marL="838080" indent="-3808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Culture change must include women, ethnic minorities, illiterate (under-represented groups).</a:t>
            </a:r>
            <a:endParaRPr b="0" lang="en-US" sz="1800" spc="-1" strike="noStrike">
              <a:solidFill>
                <a:srgbClr val="6c6c6c"/>
              </a:solidFill>
              <a:latin typeface="Trebuchet MS"/>
            </a:endParaRPr>
          </a:p>
          <a:p>
            <a:pPr lvl="1" marL="838080" indent="-3808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Archaeologists bring cultural biases to work, act as mediators of the past.</a:t>
            </a:r>
            <a:endParaRPr b="0" lang="en-US" sz="1800" spc="-1" strike="noStrike">
              <a:solidFill>
                <a:srgbClr val="6c6c6c"/>
              </a:solidFill>
              <a:latin typeface="Trebuchet MS"/>
            </a:endParaRPr>
          </a:p>
          <a:p>
            <a:pPr lvl="1" marL="838080" indent="-38088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c6c6c"/>
                </a:solidFill>
                <a:latin typeface="Trebuchet MS"/>
              </a:rPr>
              <a:t>“</a:t>
            </a:r>
            <a:r>
              <a:rPr b="0" lang="en-US" sz="1800" spc="-1" strike="noStrike">
                <a:solidFill>
                  <a:srgbClr val="6c6c6c"/>
                </a:solidFill>
                <a:latin typeface="Trebuchet MS"/>
              </a:rPr>
              <a:t>The archaeology of the mind” </a:t>
            </a:r>
            <a:endParaRPr b="0" lang="en-US" sz="1800" spc="-1" strike="noStrike">
              <a:solidFill>
                <a:srgbClr val="6c6c6c"/>
              </a:solidFill>
              <a:latin typeface="Trebuchet MS"/>
            </a:endParaRPr>
          </a:p>
        </p:txBody>
      </p:sp>
      <p:sp>
        <p:nvSpPr>
          <p:cNvPr id="309"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Rectangle 2" descr=""/>
          <p:cNvPicPr/>
          <p:nvPr/>
        </p:nvPicPr>
        <p:blipFill>
          <a:blip r:embed="rId1"/>
          <a:stretch/>
        </p:blipFill>
        <p:spPr>
          <a:xfrm>
            <a:off x="212760" y="324000"/>
            <a:ext cx="7486560" cy="1431720"/>
          </a:xfrm>
          <a:prstGeom prst="rect">
            <a:avLst/>
          </a:prstGeom>
          <a:ln w="0">
            <a:noFill/>
          </a:ln>
        </p:spPr>
      </p:pic>
      <p:sp>
        <p:nvSpPr>
          <p:cNvPr id="311"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mbines concepts of culture history, processualism and post-processualism for understanding the pas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mploys modern techniques as well as tried and true methods of excavatio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ntinues to utilize other disciplines, as well as anthropology, for a “holistic” approach.</a:t>
            </a:r>
            <a:endParaRPr b="0" lang="en-US" sz="2600" spc="-1" strike="noStrike">
              <a:solidFill>
                <a:srgbClr val="000000"/>
              </a:solidFill>
              <a:latin typeface="Trebuchet MS"/>
            </a:endParaRPr>
          </a:p>
        </p:txBody>
      </p:sp>
      <p:sp>
        <p:nvSpPr>
          <p:cNvPr id="312"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Title 1" descr=""/>
          <p:cNvPicPr/>
          <p:nvPr/>
        </p:nvPicPr>
        <p:blipFill>
          <a:blip r:embed="rId1"/>
          <a:stretch/>
        </p:blipFill>
        <p:spPr>
          <a:xfrm>
            <a:off x="212760" y="324000"/>
            <a:ext cx="7486560" cy="1431720"/>
          </a:xfrm>
          <a:prstGeom prst="rect">
            <a:avLst/>
          </a:prstGeom>
          <a:ln w="0">
            <a:noFill/>
          </a:ln>
        </p:spPr>
      </p:pic>
      <p:pic>
        <p:nvPicPr>
          <p:cNvPr id="234" name="Picture 2" descr="Babylon, Iraq, Basalt Lion with Figures; Matson Collection, ca. 1932"/>
          <p:cNvPicPr/>
          <p:nvPr/>
        </p:nvPicPr>
        <p:blipFill>
          <a:blip r:embed="rId2"/>
          <a:stretch/>
        </p:blipFill>
        <p:spPr>
          <a:xfrm>
            <a:off x="2057400" y="1828800"/>
            <a:ext cx="4267080" cy="3225960"/>
          </a:xfrm>
          <a:prstGeom prst="rect">
            <a:avLst/>
          </a:prstGeom>
          <a:ln w="0">
            <a:noFill/>
          </a:ln>
        </p:spPr>
      </p:pic>
      <p:sp>
        <p:nvSpPr>
          <p:cNvPr id="235" name="Rectangle 4"/>
          <p:cNvSpPr/>
          <p:nvPr/>
        </p:nvSpPr>
        <p:spPr>
          <a:xfrm>
            <a:off x="1905120" y="54100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bylon, Iraq, Basalt Lion with Figures; Matson Collection, ca. 1932</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Library of Congress</a:t>
            </a:r>
            <a:endParaRPr b="0" lang="en-US" sz="1800" spc="-1" strike="noStrike">
              <a:solidFill>
                <a:srgbClr val="000000"/>
              </a:solidFill>
              <a:latin typeface="Tahoma"/>
            </a:endParaRPr>
          </a:p>
        </p:txBody>
      </p:sp>
      <p:sp>
        <p:nvSpPr>
          <p:cNvPr id="236"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Rectangle 2" descr=""/>
          <p:cNvPicPr/>
          <p:nvPr/>
        </p:nvPicPr>
        <p:blipFill>
          <a:blip r:embed="rId1"/>
          <a:stretch/>
        </p:blipFill>
        <p:spPr>
          <a:xfrm>
            <a:off x="212760" y="324000"/>
            <a:ext cx="7486560" cy="1431720"/>
          </a:xfrm>
          <a:prstGeom prst="rect">
            <a:avLst/>
          </a:prstGeom>
          <a:ln w="0">
            <a:noFill/>
          </a:ln>
        </p:spPr>
      </p:pic>
      <p:sp>
        <p:nvSpPr>
          <p:cNvPr id="238"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 Augustine (480 A.D.)</a:t>
            </a:r>
            <a:endParaRPr b="0" lang="en-US" sz="28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teaching order of monks, developed the concept of nature.</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observed small-scale change and argued that God created the world and infused it with life.</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natural system of process and change.</a:t>
            </a:r>
            <a:endParaRPr b="0" lang="en-US" sz="2400" spc="-1" strike="noStrike">
              <a:solidFill>
                <a:srgbClr val="6c6c6c"/>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iddle Ages (500-1300 A.D.)</a:t>
            </a:r>
            <a:endParaRPr b="0" lang="en-US" sz="2800" spc="-1" strike="noStrike">
              <a:solidFill>
                <a:srgbClr val="000000"/>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Uncritical acceptance of biblical account, the past was known and discussed in the bible.</a:t>
            </a:r>
            <a:endParaRPr b="0" lang="en-US" sz="2400" spc="-1" strike="noStrike">
              <a:solidFill>
                <a:srgbClr val="6c6c6c"/>
              </a:solidFill>
              <a:latin typeface="Trebuchet MS"/>
            </a:endParaRPr>
          </a:p>
          <a:p>
            <a:pPr lvl="1" marL="520560" indent="-22860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Genesis account of creation, dawn of humanity and diversity accounted for.</a:t>
            </a:r>
            <a:endParaRPr b="0" lang="en-US" sz="2400" spc="-1" strike="noStrike">
              <a:solidFill>
                <a:srgbClr val="6c6c6c"/>
              </a:solidFill>
              <a:latin typeface="Trebuchet MS"/>
            </a:endParaRPr>
          </a:p>
        </p:txBody>
      </p:sp>
      <p:sp>
        <p:nvSpPr>
          <p:cNvPr id="239"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Rectangle 2" descr=""/>
          <p:cNvPicPr/>
          <p:nvPr/>
        </p:nvPicPr>
        <p:blipFill>
          <a:blip r:embed="rId1"/>
          <a:stretch/>
        </p:blipFill>
        <p:spPr>
          <a:xfrm>
            <a:off x="212760" y="274680"/>
            <a:ext cx="8474040" cy="1011240"/>
          </a:xfrm>
          <a:prstGeom prst="rect">
            <a:avLst/>
          </a:prstGeom>
          <a:ln w="0">
            <a:noFill/>
          </a:ln>
        </p:spPr>
      </p:pic>
      <p:sp>
        <p:nvSpPr>
          <p:cNvPr id="241" name=""/>
          <p:cNvSpPr txBox="1"/>
          <p:nvPr/>
        </p:nvSpPr>
        <p:spPr>
          <a:xfrm>
            <a:off x="457200" y="1066320"/>
            <a:ext cx="8229600" cy="57913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300-1500 A.D.</a:t>
            </a:r>
            <a:endParaRPr b="0" lang="en-US" sz="28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Rediscovery of the past, interest in the classical period.</a:t>
            </a:r>
            <a:endParaRPr b="0" lang="en-US" sz="24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Collection of statuary for artistic reasons produced interest in past and cultural identity.</a:t>
            </a:r>
            <a:endParaRPr b="0" lang="en-US" sz="24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etrarch (1304-1374 A.D.)</a:t>
            </a:r>
            <a:endParaRPr b="0" lang="en-US" sz="28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Poet, remote past a period of ideal perfection.</a:t>
            </a:r>
            <a:endParaRPr b="0" lang="en-US" sz="24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iriaco (1391-1440 A.D.)</a:t>
            </a:r>
            <a:endParaRPr b="0" lang="en-US" sz="28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Considered by many to have established the modem discipline of archaeology. Translated the Latin inscription of the triumphal Arch of Trojan at Ancona, and was inspired to devote his life to study and collection of ancient monuments.</a:t>
            </a:r>
            <a:endParaRPr b="0" lang="en-US" sz="2400" spc="-1" strike="noStrike">
              <a:solidFill>
                <a:srgbClr val="6c6c6c"/>
              </a:solidFill>
              <a:latin typeface="Trebuchet MS"/>
            </a:endParaRPr>
          </a:p>
        </p:txBody>
      </p:sp>
      <p:sp>
        <p:nvSpPr>
          <p:cNvPr id="242"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Rectangle 2" descr=""/>
          <p:cNvPicPr/>
          <p:nvPr/>
        </p:nvPicPr>
        <p:blipFill>
          <a:blip r:embed="rId1"/>
          <a:stretch/>
        </p:blipFill>
        <p:spPr>
          <a:xfrm>
            <a:off x="244440" y="298440"/>
            <a:ext cx="7454880" cy="1165320"/>
          </a:xfrm>
          <a:prstGeom prst="rect">
            <a:avLst/>
          </a:prstGeom>
          <a:ln w="0">
            <a:noFill/>
          </a:ln>
        </p:spPr>
      </p:pic>
      <p:sp>
        <p:nvSpPr>
          <p:cNvPr id="244" name=""/>
          <p:cNvSpPr txBox="1"/>
          <p:nvPr/>
        </p:nvSpPr>
        <p:spPr>
          <a:xfrm>
            <a:off x="457200" y="99036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terest in the antiquities of the classical civilizations became pastime of the wealthy as result of Renaissance.</a:t>
            </a:r>
            <a:endParaRPr b="0" lang="en-US" sz="2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s general interest led to appreciation of local antiquities.</a:t>
            </a:r>
            <a:endParaRPr b="0" lang="en-US" sz="2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5" name="Rectangle 3"/>
          <p:cNvSpPr/>
          <p:nvPr/>
        </p:nvSpPr>
        <p:spPr>
          <a:xfrm>
            <a:off x="228600" y="3733920"/>
            <a:ext cx="4572000" cy="20923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chael Mercati (1500s)</a:t>
            </a:r>
            <a:endParaRPr b="0" lang="en-US" sz="2400" spc="-1" strike="noStrike">
              <a:solidFill>
                <a:srgbClr val="000000"/>
              </a:solidFill>
              <a:latin typeface="Tahoma"/>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brarian who worked for Medici mercantiles. </a:t>
            </a:r>
            <a:endParaRPr b="0" lang="en-US" sz="2000" spc="-1" strike="noStrike">
              <a:solidFill>
                <a:srgbClr val="000000"/>
              </a:solidFill>
              <a:latin typeface="Tahoma"/>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rcati catlogued these, was interested in their similarities and differences.</a:t>
            </a:r>
            <a:endParaRPr b="0" lang="en-US" sz="2000" spc="-1" strike="noStrike">
              <a:solidFill>
                <a:srgbClr val="000000"/>
              </a:solidFill>
              <a:latin typeface="Tahoma"/>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so found and collected stone tools from around Tuscani, Italy.</a:t>
            </a:r>
            <a:endParaRPr b="0" lang="en-US" sz="2000" spc="-1" strike="noStrike">
              <a:solidFill>
                <a:srgbClr val="000000"/>
              </a:solidFill>
              <a:latin typeface="Tahoma"/>
            </a:endParaRPr>
          </a:p>
        </p:txBody>
      </p:sp>
      <p:pic>
        <p:nvPicPr>
          <p:cNvPr id="246" name="Picture 5" descr="http://upload.wikimedia.org/wikipedia/en/2/23/MicheleMercati.jpeg">
            <a:hlinkClick r:id="rId2"/>
          </p:cNvPr>
          <p:cNvPicPr/>
          <p:nvPr/>
        </p:nvPicPr>
        <p:blipFill>
          <a:blip r:embed="rId3"/>
          <a:stretch/>
        </p:blipFill>
        <p:spPr>
          <a:xfrm>
            <a:off x="5257800" y="3429000"/>
            <a:ext cx="1924200" cy="2400480"/>
          </a:xfrm>
          <a:prstGeom prst="rect">
            <a:avLst/>
          </a:prstGeom>
          <a:ln w="0">
            <a:noFill/>
          </a:ln>
        </p:spPr>
      </p:pic>
      <p:sp>
        <p:nvSpPr>
          <p:cNvPr id="247"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Rectangle 2" descr=""/>
          <p:cNvPicPr/>
          <p:nvPr/>
        </p:nvPicPr>
        <p:blipFill>
          <a:blip r:embed="rId1"/>
          <a:stretch/>
        </p:blipFill>
        <p:spPr>
          <a:xfrm>
            <a:off x="212760" y="324000"/>
            <a:ext cx="7486560" cy="1431720"/>
          </a:xfrm>
          <a:prstGeom prst="rect">
            <a:avLst/>
          </a:prstGeom>
          <a:ln w="0">
            <a:noFill/>
          </a:ln>
        </p:spPr>
      </p:pic>
      <p:sp>
        <p:nvSpPr>
          <p:cNvPr id="249" name=""/>
          <p:cNvSpPr txBox="1"/>
          <p:nvPr/>
        </p:nvSpPr>
        <p:spPr>
          <a:xfrm>
            <a:off x="304920" y="144756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rchbishop James Ussher and Archbishop Lightfoot (1600s, Irish). </a:t>
            </a:r>
            <a:endParaRPr b="0" lang="en-US" sz="2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Using genealogical lists in bible and calculated that the world was created one the evening before October 23. 4004 B.C at 9:30 A.M.</a:t>
            </a:r>
            <a:endParaRPr b="0" lang="en-US" sz="2800" spc="-1" strike="noStrike">
              <a:solidFill>
                <a:srgbClr val="000000"/>
              </a:solidFill>
              <a:latin typeface="Trebuchet MS"/>
            </a:endParaRPr>
          </a:p>
        </p:txBody>
      </p:sp>
      <p:pic>
        <p:nvPicPr>
          <p:cNvPr id="250" name="Picture 5" descr="http://upload.wikimedia.org/wikipedia/commons/thumb/6/6d/James_Ussher_2.jpg/200px-James_Ussher_2.jpg">
            <a:hlinkClick r:id="rId2"/>
          </p:cNvPr>
          <p:cNvPicPr/>
          <p:nvPr/>
        </p:nvPicPr>
        <p:blipFill>
          <a:blip r:embed="rId3"/>
          <a:stretch/>
        </p:blipFill>
        <p:spPr>
          <a:xfrm>
            <a:off x="1143000" y="3733920"/>
            <a:ext cx="1905120" cy="2457360"/>
          </a:xfrm>
          <a:prstGeom prst="rect">
            <a:avLst/>
          </a:prstGeom>
          <a:ln w="0">
            <a:noFill/>
          </a:ln>
        </p:spPr>
      </p:pic>
      <p:pic>
        <p:nvPicPr>
          <p:cNvPr id="251" name="Picture 7" descr="John Lightfood.">
            <a:hlinkClick r:id="rId4"/>
          </p:cNvPr>
          <p:cNvPicPr/>
          <p:nvPr/>
        </p:nvPicPr>
        <p:blipFill>
          <a:blip r:embed="rId5"/>
          <a:stretch/>
        </p:blipFill>
        <p:spPr>
          <a:xfrm>
            <a:off x="4419720" y="3352680"/>
            <a:ext cx="1904760" cy="2943360"/>
          </a:xfrm>
          <a:prstGeom prst="rect">
            <a:avLst/>
          </a:prstGeom>
          <a:ln w="0">
            <a:noFill/>
          </a:ln>
        </p:spPr>
      </p:pic>
      <p:sp>
        <p:nvSpPr>
          <p:cNvPr id="252" name="TextBox 5"/>
          <p:cNvSpPr/>
          <p:nvPr/>
        </p:nvSpPr>
        <p:spPr>
          <a:xfrm>
            <a:off x="1571040" y="6248520"/>
            <a:ext cx="93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sher</a:t>
            </a:r>
            <a:endParaRPr b="0" lang="en-US" sz="1800" spc="-1" strike="noStrike">
              <a:solidFill>
                <a:srgbClr val="000000"/>
              </a:solidFill>
              <a:latin typeface="Tahoma"/>
            </a:endParaRPr>
          </a:p>
        </p:txBody>
      </p:sp>
      <p:sp>
        <p:nvSpPr>
          <p:cNvPr id="253" name="TextBox 6"/>
          <p:cNvSpPr/>
          <p:nvPr/>
        </p:nvSpPr>
        <p:spPr>
          <a:xfrm>
            <a:off x="4837320" y="6488280"/>
            <a:ext cx="116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ghtfoot</a:t>
            </a:r>
            <a:endParaRPr b="0" lang="en-US" sz="1800" spc="-1" strike="noStrike">
              <a:solidFill>
                <a:srgbClr val="000000"/>
              </a:solidFill>
              <a:latin typeface="Tahoma"/>
            </a:endParaRPr>
          </a:p>
        </p:txBody>
      </p:sp>
      <p:sp>
        <p:nvSpPr>
          <p:cNvPr id="254"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Title 1" descr=""/>
          <p:cNvPicPr/>
          <p:nvPr/>
        </p:nvPicPr>
        <p:blipFill>
          <a:blip r:embed="rId1"/>
          <a:stretch/>
        </p:blipFill>
        <p:spPr>
          <a:xfrm>
            <a:off x="212760" y="324000"/>
            <a:ext cx="7486560" cy="1431720"/>
          </a:xfrm>
          <a:prstGeom prst="rect">
            <a:avLst/>
          </a:prstGeom>
          <a:ln w="0">
            <a:noFill/>
          </a:ln>
        </p:spPr>
      </p:pic>
      <p:sp>
        <p:nvSpPr>
          <p:cNvPr id="256" name=""/>
          <p:cNvSpPr txBox="1"/>
          <p:nvPr/>
        </p:nvSpPr>
        <p:spPr>
          <a:xfrm>
            <a:off x="457200" y="1609560"/>
            <a:ext cx="5562720" cy="8287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ompeii</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57" name="Picture 4" descr="[image]"/>
          <p:cNvPicPr/>
          <p:nvPr/>
        </p:nvPicPr>
        <p:blipFill>
          <a:blip r:embed="rId2"/>
          <a:stretch/>
        </p:blipFill>
        <p:spPr>
          <a:xfrm>
            <a:off x="2895480" y="1523880"/>
            <a:ext cx="3276720" cy="4905360"/>
          </a:xfrm>
          <a:prstGeom prst="rect">
            <a:avLst/>
          </a:prstGeom>
          <a:ln w="0">
            <a:noFill/>
          </a:ln>
        </p:spPr>
      </p:pic>
      <p:sp>
        <p:nvSpPr>
          <p:cNvPr id="258" name="Rectangle 5"/>
          <p:cNvSpPr/>
          <p:nvPr/>
        </p:nvSpPr>
        <p:spPr>
          <a:xfrm>
            <a:off x="548640" y="2133720"/>
            <a:ext cx="230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ighteenth-century </a:t>
            </a:r>
            <a:endParaRPr b="0" lang="en-US" sz="1800" spc="-1" strike="noStrike">
              <a:solidFill>
                <a:srgbClr val="000000"/>
              </a:solidFill>
              <a:latin typeface="Tahoma"/>
            </a:endParaRPr>
          </a:p>
        </p:txBody>
      </p:sp>
      <p:sp>
        <p:nvSpPr>
          <p:cNvPr id="259" name="Rectangle 6"/>
          <p:cNvSpPr/>
          <p:nvPr/>
        </p:nvSpPr>
        <p:spPr>
          <a:xfrm>
            <a:off x="304920" y="648828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ttp://www.archaeology.org/interactive/pompeii/index.html</a:t>
            </a:r>
            <a:endParaRPr b="0" lang="en-US" sz="1800" spc="-1" strike="noStrike">
              <a:solidFill>
                <a:srgbClr val="000000"/>
              </a:solidFill>
              <a:latin typeface="Tahoma"/>
            </a:endParaRPr>
          </a:p>
        </p:txBody>
      </p:sp>
      <p:sp>
        <p:nvSpPr>
          <p:cNvPr id="260" name="Місце для нижнього колонтитула 2"/>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Rectangle 2" descr=""/>
          <p:cNvPicPr/>
          <p:nvPr/>
        </p:nvPicPr>
        <p:blipFill>
          <a:blip r:embed="rId1"/>
          <a:stretch/>
        </p:blipFill>
        <p:spPr>
          <a:xfrm>
            <a:off x="244440" y="298440"/>
            <a:ext cx="7454880" cy="1420920"/>
          </a:xfrm>
          <a:prstGeom prst="rect">
            <a:avLst/>
          </a:prstGeom>
          <a:ln w="0">
            <a:noFill/>
          </a:ln>
        </p:spPr>
      </p:pic>
      <p:sp>
        <p:nvSpPr>
          <p:cNvPr id="262" name=""/>
          <p:cNvSpPr txBox="1"/>
          <p:nvPr/>
        </p:nvSpPr>
        <p:spPr>
          <a:xfrm>
            <a:off x="457200" y="1600200"/>
            <a:ext cx="8229600" cy="502920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eighteenth centuries were a time of massive construction (i.e. canals), revealing great exposures of the earths rocks-hence a period of development in Geology.</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illiam "Strata" Smith (1769-1839)</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first to recognize Earth made of layers.</a:t>
            </a:r>
            <a:endParaRPr b="0" lang="en-US" sz="20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Science of stratigraphy.</a:t>
            </a:r>
            <a:endParaRPr b="0" lang="en-US" sz="20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developed the Law of Superposition (layers on top are younger than lower layers).</a:t>
            </a:r>
            <a:endParaRPr b="0" lang="en-US" sz="2000" spc="-1" strike="noStrike">
              <a:solidFill>
                <a:srgbClr val="6c6c6c"/>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eorges Cuvier (1769-1832)-French, </a:t>
            </a:r>
            <a:endParaRPr b="0" lang="en-US" sz="24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Father of Paleontology, worked out a geological history using fossils as type indicator of strata.  </a:t>
            </a:r>
            <a:endParaRPr b="0" lang="en-US" sz="2000" spc="-1" strike="noStrike">
              <a:solidFill>
                <a:srgbClr val="6c6c6c"/>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Index fossils</a:t>
            </a:r>
            <a:endParaRPr b="0" lang="en-US" sz="2000" spc="-1" strike="noStrike">
              <a:solidFill>
                <a:srgbClr val="6c6c6c"/>
              </a:solidFill>
              <a:latin typeface="Trebuchet MS"/>
            </a:endParaRPr>
          </a:p>
          <a:p>
            <a:pPr lvl="2" marL="758880" indent="-228600">
              <a:lnSpc>
                <a:spcPct val="8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ertain fossils associated with certain strata.</a:t>
            </a:r>
            <a:endParaRPr b="0" lang="en-US" sz="1800" spc="-1" strike="noStrike">
              <a:solidFill>
                <a:srgbClr val="000000"/>
              </a:solidFill>
              <a:latin typeface="Trebuchet MS"/>
            </a:endParaRPr>
          </a:p>
          <a:p>
            <a:pPr lvl="1" marL="520560" indent="-228600">
              <a:lnSpc>
                <a:spcPct val="8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problem explaining change in fossils, but said bible accounts for this with floods or catastrophies.</a:t>
            </a:r>
            <a:endParaRPr b="0" lang="en-US" sz="2000" spc="-1" strike="noStrike">
              <a:solidFill>
                <a:srgbClr val="6c6c6c"/>
              </a:solidFill>
              <a:latin typeface="Trebuchet MS"/>
            </a:endParaRPr>
          </a:p>
        </p:txBody>
      </p:sp>
      <p:sp>
        <p:nvSpPr>
          <p:cNvPr id="263" name="Місце для нижнього колонтитула 1"/>
          <p:cNvSpPr/>
          <p:nvPr/>
        </p:nvSpPr>
        <p:spPr>
          <a:xfrm>
            <a:off x="457200" y="6558120"/>
            <a:ext cx="3657600" cy="228600"/>
          </a:xfrm>
          <a:prstGeom prst="rect">
            <a:avLst/>
          </a:prstGeom>
          <a:noFill/>
          <a:ln w="0">
            <a:noFill/>
          </a:ln>
        </p:spPr>
        <p:style>
          <a:lnRef idx="0"/>
          <a:fillRef idx="0"/>
          <a:effectRef idx="0"/>
          <a:fontRef idx="minor"/>
        </p:style>
        <p:txBody>
          <a:bodyPr lIns="90000" rIns="9000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ahoma"/>
              </a:rPr>
              <a:t>www.sliderbase.com</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4T18:07:17Z</dcterms:created>
  <dc:creator>New Faculty</dc:creator>
  <dc:description/>
  <dc:language>en-US</dc:language>
  <cp:lastModifiedBy>Legion</cp:lastModifiedBy>
  <dcterms:modified xsi:type="dcterms:W3CDTF">2017-07-04T12:45:07Z</dcterms:modified>
  <cp:revision>26</cp:revision>
  <dc:subject/>
  <dc:title>History of Archaeology</dc:title>
</cp:coreProperties>
</file>