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Gill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move the slide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8C3A8-BD1C-4605-A703-990211E5B478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E5B82-CE7C-403B-9133-3179A4A1669A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0C0C-B2D5-46B1-9912-7D1B26DFA2ED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ttack biological evolution (macroevolution), chemical evolution, and naturalistic philoso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rgue for evidences of intelligent design in cells, organisms, Earth and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often accept the “Big Bang,” cosmic evolution, and ge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9FF7-AC94-4B4A-876C-F82D87BD4FE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tend to dodge the issue of the age of the Earth (some explicitly accept an “Old Earth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generally avoid any discussion of the Bible, especially the Genesis record of Creation, Curse, and Flood; tend not to identify     who the “Designer”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BB18-34F2-41B4-90E2-3D92C42253E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FD06-6DA7-438B-A801-C30E363A871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B177-B6F4-4093-87BA-3EA5459FA085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ACC0E-C997-449C-904D-F158B676D76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C5989-0720-4CEE-A396-2E2970026962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F2899-9AB8-49BD-A64B-54EB781D7059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 and New Testa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1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A96EF-54B8-4F5E-9C9F-B1735C71C9E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Cosmic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“</a:t>
            </a: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Chem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F3A19-25FC-4DF2-8F41-293E70CA9B25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Biologic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Cultural Ev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 </a:t>
            </a:r>
            <a:r>
              <a:rPr b="0" lang="en-US" sz="1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2EE88-0591-4BC6-80EA-F338413629E0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97A91-9244-4EA3-B8EC-FC8C0FF7C02B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BA917-EC0B-4F86-A448-AA830488CF13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The Basic F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92DAD-3837-41CC-8DF1-75F84983EABC}" type="slidenum">
              <a:rPr b="0" lang="uk-UA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1638360"/>
            <a:ext cx="10464840" cy="1530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619600"/>
            <a:ext cx="1046484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50292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619600"/>
            <a:ext cx="5106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9000"/>
          </a:bodyPr>
          <a:p>
            <a:pPr marL="27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50292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619600"/>
            <a:ext cx="3369600" cy="53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78000"/>
          </a:bodyPr>
          <a:p>
            <a:pPr marL="267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3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609480" y="1797120"/>
            <a:ext cx="11773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At the completion of creation, everything was “very good”: there was no sin, suffering, disease, predation, carnivory, thorns, thistles, animal death, or human death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1282680" y="4915080"/>
            <a:ext cx="10426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Most of the fossil record was produced by a year-long catastrophic globa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flood at the time of Noah, which wa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a judgment on human sin by the Creato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0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86090496" presetSubtype="8325657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6090496" presetSubtype="860506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6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7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1"/>
          <p:cNvSpPr/>
          <p:nvPr/>
        </p:nvSpPr>
        <p:spPr>
          <a:xfrm>
            <a:off x="4254480" y="43164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9" name="Rectangle 2"/>
          <p:cNvSpPr/>
          <p:nvPr/>
        </p:nvSpPr>
        <p:spPr>
          <a:xfrm>
            <a:off x="520560" y="188604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ttack biological evolution (macroevolution), chemical evolution, and naturalistic philosop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0" name="Rectangle 3"/>
          <p:cNvSpPr/>
          <p:nvPr/>
        </p:nvSpPr>
        <p:spPr>
          <a:xfrm>
            <a:off x="1155600" y="4203720"/>
            <a:ext cx="1069344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argue for evidences of intelligent design in cells, organisms, Earth and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so do creationis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1" name="Rectangle 4"/>
          <p:cNvSpPr/>
          <p:nvPr/>
        </p:nvSpPr>
        <p:spPr>
          <a:xfrm>
            <a:off x="520560" y="6515280"/>
            <a:ext cx="11963520" cy="19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often accept the “Big Bang,” cosmic evolution, and ge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oppose these concept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5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1"/>
          <p:cNvSpPr/>
          <p:nvPr/>
        </p:nvSpPr>
        <p:spPr>
          <a:xfrm>
            <a:off x="5278320" y="795240"/>
            <a:ext cx="4496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cb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3" name="Rectangle 2"/>
          <p:cNvSpPr/>
          <p:nvPr/>
        </p:nvSpPr>
        <p:spPr>
          <a:xfrm>
            <a:off x="380880" y="1733400"/>
            <a:ext cx="122302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tend to dodge the issue of the age of the Earth (some explicitly accept an “Old Earth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take a clear position on        “Young Earth” and “Young Universe”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4" name="Rectangle 3"/>
          <p:cNvSpPr/>
          <p:nvPr/>
        </p:nvSpPr>
        <p:spPr>
          <a:xfrm>
            <a:off x="863640" y="4521240"/>
            <a:ext cx="11264760" cy="497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- generally avoid any discussion of the Bible, especially the Genesis record of Creation, Curse, and Flood; tend not to identify     who the “Designer” i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(creationists are able to focus strictly on science for a given audience, but affirm   the inerrancy of Scripture, and often present a gospel messag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6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587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588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589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0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1" name="Rectangle 7"/>
          <p:cNvSpPr/>
          <p:nvPr/>
        </p:nvSpPr>
        <p:spPr>
          <a:xfrm>
            <a:off x="2752560" y="6084720"/>
            <a:ext cx="31626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2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940120" y="805176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0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86092416" presetSubtype="87070592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75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75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75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75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75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1"/>
          <p:cNvSpPr/>
          <p:nvPr/>
        </p:nvSpPr>
        <p:spPr>
          <a:xfrm>
            <a:off x="5075280" y="44172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5" name="Rectangle 2"/>
          <p:cNvSpPr/>
          <p:nvPr/>
        </p:nvSpPr>
        <p:spPr>
          <a:xfrm>
            <a:off x="2044800" y="1866960"/>
            <a:ext cx="890244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e framework (or skelet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of the book of Genesis indicat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that the book as a whol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is intended to be taken as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6" name="Rectangle 3"/>
          <p:cNvSpPr/>
          <p:nvPr/>
        </p:nvSpPr>
        <p:spPr>
          <a:xfrm>
            <a:off x="1317600" y="4979880"/>
            <a:ext cx="982980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ese are the generations” (o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535000"/>
                </a:solidFill>
                <a:latin typeface="Trebuchet MS Bold"/>
                <a:ea typeface="Trebuchet MS Bold"/>
              </a:rPr>
              <a:t>This is the book of the generations”) appears 11 times in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6092800" presetSubtype="872336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6092800" presetSubtype="87233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7" name=""/>
          <p:cNvGraphicFramePr/>
          <p:nvPr/>
        </p:nvGraphicFramePr>
        <p:xfrm>
          <a:off x="127080" y="1133640"/>
          <a:ext cx="12750840" cy="8461080"/>
        </p:xfrm>
        <a:graphic>
          <a:graphicData uri="http://schemas.openxmlformats.org/drawingml/2006/table">
            <a:tbl>
              <a:tblPr/>
              <a:tblGrid>
                <a:gridCol w="1359000"/>
                <a:gridCol w="11391840"/>
              </a:tblGrid>
              <a:tr h="1178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These are the generations of the heavens and the eart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when they were created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5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This is the book of the generations of Ada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se are the generations of No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0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These are the generations of the sons of Noah,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Shem, Ham, and Japhet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1: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These are the generations of Shem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1:2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These are the generations of Terah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2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a40800"/>
                          </a:solidFill>
                          <a:latin typeface="Trebuchet MS"/>
                          <a:ea typeface="Trebuchet MS"/>
                        </a:rPr>
                        <a:t>These are the generations of Ishmae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25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These are the generations of Isaac, Abraham’s son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36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These are the generations of Esau (that is, Edom)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36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These are the generations of Esau, the father of the Edomites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6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37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“</a:t>
                      </a:r>
                      <a:r>
                        <a:rPr b="0" lang="en-US" sz="3000" spc="-1" strike="noStrike">
                          <a:solidFill>
                            <a:srgbClr val="ff2712"/>
                          </a:solidFill>
                          <a:latin typeface="Trebuchet MS"/>
                          <a:ea typeface="Trebuchet MS"/>
                        </a:rPr>
                        <a:t>These are the generations of Jacob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8" name="Rectangle 81"/>
          <p:cNvSpPr/>
          <p:nvPr/>
        </p:nvSpPr>
        <p:spPr>
          <a:xfrm>
            <a:off x="2399040" y="219600"/>
            <a:ext cx="82195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558e28"/>
                </a:solidFill>
                <a:uFillTx/>
                <a:latin typeface="Trebuchet MS Bold"/>
                <a:ea typeface="Trebuchet MS Bold"/>
              </a:rPr>
              <a:t>Genesis: The Literary F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0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01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3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4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6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7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2"/>
          <p:cNvSpPr/>
          <p:nvPr/>
        </p:nvSpPr>
        <p:spPr>
          <a:xfrm>
            <a:off x="5140440" y="520560"/>
            <a:ext cx="271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0" name="Rectangle 3"/>
          <p:cNvSpPr/>
          <p:nvPr/>
        </p:nvSpPr>
        <p:spPr>
          <a:xfrm>
            <a:off x="825480" y="2013120"/>
            <a:ext cx="113410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New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as well as other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Old Testament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writers, clearly understood Genesis 1 and 2 to be true history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Jesus himself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so understood these chapte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1" name="Rectangle 4"/>
          <p:cNvSpPr/>
          <p:nvPr/>
        </p:nvSpPr>
        <p:spPr>
          <a:xfrm>
            <a:off x="2133720" y="5092560"/>
            <a:ext cx="8724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enesis 1 and 2 are confirmed by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2" name="Rectangle 5"/>
          <p:cNvSpPr/>
          <p:nvPr/>
        </p:nvSpPr>
        <p:spPr>
          <a:xfrm>
            <a:off x="77040" y="6366240"/>
            <a:ext cx="181584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490000"/>
                </a:solidFill>
                <a:latin typeface="Trebuchet MS Bold"/>
                <a:ea typeface="Trebuchet MS Bold"/>
              </a:rPr>
              <a:t>Exodu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3" name="Rectangle 6"/>
          <p:cNvSpPr/>
          <p:nvPr/>
        </p:nvSpPr>
        <p:spPr>
          <a:xfrm>
            <a:off x="416520" y="7617240"/>
            <a:ext cx="17701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40800"/>
                </a:solidFill>
                <a:latin typeface="Trebuchet MS Bold"/>
                <a:ea typeface="Trebuchet MS Bold"/>
              </a:rPr>
              <a:t>Psal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4" name="Rectangle 7"/>
          <p:cNvSpPr/>
          <p:nvPr/>
        </p:nvSpPr>
        <p:spPr>
          <a:xfrm>
            <a:off x="750600" y="8785440"/>
            <a:ext cx="1501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e4940"/>
                </a:solidFill>
                <a:latin typeface="Trebuchet MS Bold"/>
                <a:ea typeface="Trebuchet MS Bold"/>
              </a:rPr>
              <a:t>Isa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5" name="Rectangle 8"/>
          <p:cNvSpPr/>
          <p:nvPr/>
        </p:nvSpPr>
        <p:spPr>
          <a:xfrm>
            <a:off x="2851200" y="6372720"/>
            <a:ext cx="22320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b2c01"/>
                </a:solidFill>
                <a:latin typeface="Trebuchet MS Bold"/>
                <a:ea typeface="Trebuchet MS Bold"/>
              </a:rPr>
              <a:t>Jeremia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6" name="Rectangle 9"/>
          <p:cNvSpPr/>
          <p:nvPr/>
        </p:nvSpPr>
        <p:spPr>
          <a:xfrm>
            <a:off x="3130200" y="7617240"/>
            <a:ext cx="2215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Matthew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7" name="Rectangle 10"/>
          <p:cNvSpPr/>
          <p:nvPr/>
        </p:nvSpPr>
        <p:spPr>
          <a:xfrm>
            <a:off x="3500640" y="8785440"/>
            <a:ext cx="20383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Rom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8" name="Rectangle 11"/>
          <p:cNvSpPr/>
          <p:nvPr/>
        </p:nvSpPr>
        <p:spPr>
          <a:xfrm>
            <a:off x="5900040" y="637272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da531"/>
                </a:solidFill>
                <a:latin typeface="Trebuchet MS Bold"/>
                <a:ea typeface="Trebuchet MS Bold"/>
              </a:rPr>
              <a:t>1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19" name="Rectangle 12"/>
          <p:cNvSpPr/>
          <p:nvPr/>
        </p:nvSpPr>
        <p:spPr>
          <a:xfrm>
            <a:off x="6329520" y="7617240"/>
            <a:ext cx="33336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2b4714"/>
                </a:solidFill>
                <a:latin typeface="Trebuchet MS Bold"/>
                <a:ea typeface="Trebuchet MS Bold"/>
              </a:rPr>
              <a:t>2 Corinthia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0" name="Rectangle 13"/>
          <p:cNvSpPr/>
          <p:nvPr/>
        </p:nvSpPr>
        <p:spPr>
          <a:xfrm>
            <a:off x="6815880" y="8785440"/>
            <a:ext cx="22197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b132"/>
                </a:solidFill>
                <a:latin typeface="Trebuchet MS Bold"/>
                <a:ea typeface="Trebuchet MS Bold"/>
              </a:rPr>
              <a:t>Hebrew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1" name="Rectangle 14"/>
          <p:cNvSpPr/>
          <p:nvPr/>
        </p:nvSpPr>
        <p:spPr>
          <a:xfrm>
            <a:off x="10141560" y="6372720"/>
            <a:ext cx="15004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79a5"/>
                </a:solidFill>
                <a:latin typeface="Trebuchet MS Bold"/>
                <a:ea typeface="Trebuchet MS Bold"/>
              </a:rPr>
              <a:t>Jam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2" name="Rectangle 15"/>
          <p:cNvSpPr/>
          <p:nvPr/>
        </p:nvSpPr>
        <p:spPr>
          <a:xfrm>
            <a:off x="10373400" y="7617240"/>
            <a:ext cx="249408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1 Timothy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3" name="Rectangle 16"/>
          <p:cNvSpPr/>
          <p:nvPr/>
        </p:nvSpPr>
        <p:spPr>
          <a:xfrm>
            <a:off x="10680480" y="8785440"/>
            <a:ext cx="178092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2 Peter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87171456" presetSubtype="8325776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7171456" presetSubtype="832577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23" presetSubtype="32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75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8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75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75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2850"/>
                            </p:stCondLst>
                            <p:childTnLst>
                              <p:par>
                                <p:cTn id="2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75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9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75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3975"/>
                            </p:stCondLst>
                            <p:childTnLst>
                              <p:par>
                                <p:cTn id="30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75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0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75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325"/>
                            </p:stCondLst>
                            <p:childTnLst>
                              <p:par>
                                <p:cTn id="31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75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6225"/>
                            </p:stCondLst>
                            <p:childTnLst>
                              <p:par>
                                <p:cTn id="31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75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6750"/>
                            </p:stCondLst>
                            <p:childTnLst>
                              <p:par>
                                <p:cTn id="32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75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7125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75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33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75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4" name=""/>
          <p:cNvGraphicFramePr/>
          <p:nvPr/>
        </p:nvGraphicFramePr>
        <p:xfrm>
          <a:off x="127080" y="122400"/>
          <a:ext cx="12750840" cy="9524880"/>
        </p:xfrm>
        <a:graphic>
          <a:graphicData uri="http://schemas.openxmlformats.org/drawingml/2006/table">
            <a:tbl>
              <a:tblPr/>
              <a:tblGrid>
                <a:gridCol w="2222280"/>
                <a:gridCol w="3530880"/>
                <a:gridCol w="6997680"/>
              </a:tblGrid>
              <a:tr h="5893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1:1f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1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Creation “ex nihilo” by God’s Wor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:1-2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Exodus 20:8-1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Creation in 6 days; rest on 7th da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1: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Psalm 8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The heavens mad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: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 Corinthians 4: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God commanded light to shin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: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Psalm 19:1b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God made the sky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1:6,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 Peter 3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Earth formed out of water, by water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0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1:14-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04:1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salm 136:7-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Isaiah 40:26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Jeremiah 31:3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the moon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 God mad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Stars created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90b00"/>
                          </a:solidFill>
                          <a:latin typeface="Trebuchet MS"/>
                          <a:ea typeface="Trebuchet MS"/>
                        </a:rPr>
                        <a:t>Purpose of sun, moon, stars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1:20-2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Psalm 104:24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a00e6"/>
                          </a:solidFill>
                          <a:latin typeface="Trebuchet MS"/>
                          <a:ea typeface="Trebuchet MS"/>
                        </a:rPr>
                        <a:t>Seas filled with life by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92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:26f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Psalm 8:6-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tthew 19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1 Corinthians 11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James 3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given rulership over creatio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God created them male and femal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is the image and glory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432f00"/>
                          </a:solidFill>
                          <a:latin typeface="Trebuchet MS"/>
                          <a:ea typeface="Trebuchet MS"/>
                        </a:rPr>
                        <a:t>Man was made in the likeness of G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:31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1 Timothy 4: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bafb"/>
                          </a:solidFill>
                          <a:latin typeface="Trebuchet MS"/>
                          <a:ea typeface="Trebuchet MS"/>
                        </a:rPr>
                        <a:t>Everything created by God is good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1" descr=""/>
          <p:cNvPicPr/>
          <p:nvPr/>
        </p:nvPicPr>
        <p:blipFill>
          <a:blip r:embed="rId1"/>
          <a:stretch/>
        </p:blipFill>
        <p:spPr>
          <a:xfrm>
            <a:off x="0" y="-152280"/>
            <a:ext cx="14755680" cy="100202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27080" y="122400"/>
          <a:ext cx="12750840" cy="9521640"/>
        </p:xfrm>
        <a:graphic>
          <a:graphicData uri="http://schemas.openxmlformats.org/drawingml/2006/table">
            <a:tbl>
              <a:tblPr/>
              <a:tblGrid>
                <a:gridCol w="2133360"/>
                <a:gridCol w="4241880"/>
                <a:gridCol w="6375600"/>
              </a:tblGrid>
              <a:tr h="133164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Genesis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Confirmed by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4d0069"/>
                          </a:solidFill>
                          <a:latin typeface="Trebuchet MS Bold"/>
                          <a:ea typeface="Trebuchet MS Bold"/>
                        </a:rPr>
                        <a:t>Subject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7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2: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Hebrews 4:4,10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0000"/>
                          </a:solidFill>
                          <a:latin typeface="Trebuchet MS"/>
                          <a:ea typeface="Trebuchet MS"/>
                        </a:rPr>
                        <a:t>God’s rest on the 7th day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3168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128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2: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Corinthians 15:45,4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1 Timothy 2:1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made of earth, a “living soul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0044fe"/>
                          </a:solidFill>
                          <a:latin typeface="Trebuchet MS"/>
                          <a:ea typeface="Trebuchet MS"/>
                        </a:rPr>
                        <a:t>Man was created before wo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2:17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Romans 5:12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dd2067"/>
                          </a:solidFill>
                          <a:latin typeface="Trebuchet MS"/>
                          <a:ea typeface="Trebuchet MS"/>
                        </a:rPr>
                        <a:t>Death came through si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412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2:1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1 Corinthians 11:9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956900"/>
                          </a:solidFill>
                          <a:latin typeface="Trebuchet MS"/>
                          <a:ea typeface="Trebuchet MS"/>
                        </a:rPr>
                        <a:t>Woman was created for man’s sake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7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2:21-23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1 Corinthians 11:8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558e28"/>
                          </a:solidFill>
                          <a:latin typeface="Trebuchet MS"/>
                          <a:ea typeface="Trebuchet MS"/>
                        </a:rPr>
                        <a:t>Woman originated from man.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3360"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2:24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3168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Matthew 19:5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000" spc="-1" strike="noStrike">
                          <a:solidFill>
                            <a:srgbClr val="ff5308"/>
                          </a:solidFill>
                          <a:latin typeface="Trebuchet MS"/>
                          <a:ea typeface="Trebuchet MS"/>
                        </a:rPr>
                        <a:t>Verse spoken by “the Creator.”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Gill Sans"/>
                      </a:endParaRPr>
                    </a:p>
                  </a:txBody>
                  <a:tcPr anchor="ctr" marL="50760" marR="50760">
                    <a:lnL w="12240">
                      <a:solidFill>
                        <a:srgbClr val="000000"/>
                      </a:solidFill>
                    </a:lnL>
                    <a:lnR w="31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31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push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2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2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36" name="Rectangle 2"/>
          <p:cNvSpPr/>
          <p:nvPr/>
        </p:nvSpPr>
        <p:spPr>
          <a:xfrm>
            <a:off x="7078680" y="339840"/>
            <a:ext cx="31622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165240" y="2317680"/>
            <a:ext cx="1267452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A tight genealogical continuity is given from Adam through his sons and the succeeding generations right up to Abraham, Isaac, and Jacob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No dividing line can be specified whe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86133e"/>
                </a:solidFill>
                <a:latin typeface="Trebuchet MS Bold"/>
                <a:ea typeface="Trebuchet MS Bold"/>
              </a:rPr>
              <a:t>myth” clearly ends and true “history” begin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87173376" presetSubtype="879031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0" name="Rectangle 3"/>
          <p:cNvSpPr/>
          <p:nvPr/>
        </p:nvSpPr>
        <p:spPr>
          <a:xfrm>
            <a:off x="3378240" y="5067360"/>
            <a:ext cx="9423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  <p:sp>
        <p:nvSpPr>
          <p:cNvPr id="643" name="Rectangle 3"/>
          <p:cNvSpPr/>
          <p:nvPr/>
        </p:nvSpPr>
        <p:spPr>
          <a:xfrm>
            <a:off x="9093240" y="5067360"/>
            <a:ext cx="3708360" cy="26924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4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2" descr=""/>
          <p:cNvPicPr/>
          <p:nvPr/>
        </p:nvPicPr>
        <p:blipFill>
          <a:blip r:embed="rId2"/>
          <a:stretch/>
        </p:blipFill>
        <p:spPr>
          <a:xfrm>
            <a:off x="57240" y="1587600"/>
            <a:ext cx="12884040" cy="65656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47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48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0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1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2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3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4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5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56" name="Rectangle 2"/>
          <p:cNvSpPr/>
          <p:nvPr/>
        </p:nvSpPr>
        <p:spPr>
          <a:xfrm>
            <a:off x="4356000" y="419040"/>
            <a:ext cx="4292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7" name="Rectangle 3"/>
          <p:cNvSpPr/>
          <p:nvPr/>
        </p:nvSpPr>
        <p:spPr>
          <a:xfrm>
            <a:off x="2332080" y="2076480"/>
            <a:ext cx="832788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are 64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ographical term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88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personal names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and som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20 identifiable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cultural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specified in the (disputed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Lucida Grande"/>
              </a:rPr>
              <a:t>first eleven chapters of Genesi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In chapters 1 and 2, such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“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real world” categories are foun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notably in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Genesis 2:8-14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0116480" presetSubtype="8790378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1"/>
          <p:cNvSpPr/>
          <p:nvPr/>
        </p:nvSpPr>
        <p:spPr>
          <a:xfrm>
            <a:off x="1549440" y="546120"/>
            <a:ext cx="989316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44fe"/>
                </a:solidFill>
                <a:uFillTx/>
                <a:latin typeface="Trebuchet MS Bold"/>
                <a:ea typeface="Trebuchet MS Bold"/>
              </a:rPr>
              <a:t>Five Arguments for Genesis 1 and 2 as Straightforward Historical Narra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9" name="Rectangle 2"/>
          <p:cNvSpPr/>
          <p:nvPr/>
        </p:nvSpPr>
        <p:spPr>
          <a:xfrm>
            <a:off x="775080" y="2835720"/>
            <a:ext cx="28839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uSSy GiRL!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pic>
        <p:nvPicPr>
          <p:cNvPr id="660" name="Picture 3" descr=""/>
          <p:cNvPicPr/>
          <p:nvPr/>
        </p:nvPicPr>
        <p:blipFill>
          <a:blip r:embed="rId1"/>
          <a:stretch/>
        </p:blipFill>
        <p:spPr>
          <a:xfrm>
            <a:off x="5460840" y="2908440"/>
            <a:ext cx="7556760" cy="3746520"/>
          </a:xfrm>
          <a:prstGeom prst="rect">
            <a:avLst/>
          </a:prstGeom>
          <a:ln w="0">
            <a:noFill/>
          </a:ln>
        </p:spPr>
      </p:pic>
      <p:pic>
        <p:nvPicPr>
          <p:cNvPr id="661" name="Picture 4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2" name="Rectangle 5"/>
          <p:cNvSpPr/>
          <p:nvPr/>
        </p:nvSpPr>
        <p:spPr>
          <a:xfrm>
            <a:off x="719280" y="4061160"/>
            <a:ext cx="284436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F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amework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644400" y="5029200"/>
            <a:ext cx="27180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cripture</a:t>
            </a: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4" name="Rectangle 7"/>
          <p:cNvSpPr/>
          <p:nvPr/>
        </p:nvSpPr>
        <p:spPr>
          <a:xfrm>
            <a:off x="622440" y="6032520"/>
            <a:ext cx="3162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G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nealogi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5" name="Rectangle 8"/>
          <p:cNvSpPr/>
          <p:nvPr/>
        </p:nvSpPr>
        <p:spPr>
          <a:xfrm>
            <a:off x="635040" y="7035840"/>
            <a:ext cx="4292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R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eal world item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6" name="Rectangle 9"/>
          <p:cNvSpPr/>
          <p:nvPr/>
        </p:nvSpPr>
        <p:spPr>
          <a:xfrm>
            <a:off x="622440" y="8039160"/>
            <a:ext cx="5041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Picture 1" descr=""/>
          <p:cNvPicPr/>
          <p:nvPr/>
        </p:nvPicPr>
        <p:blipFill>
          <a:blip r:embed="rId1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"/>
          <p:cNvSpPr/>
          <p:nvPr/>
        </p:nvSpPr>
        <p:spPr>
          <a:xfrm>
            <a:off x="3975120" y="45720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d2067"/>
                </a:solidFill>
                <a:uFillTx/>
                <a:latin typeface="Trebuchet MS Bold"/>
                <a:ea typeface="Trebuchet MS Bold"/>
              </a:rPr>
              <a:t>L</a:t>
            </a: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iterary indica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736720"/>
            <a:ext cx="129920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re is no substantial </a:t>
            </a:r>
            <a:r>
              <a:rPr b="0" lang="en-US" sz="4200" spc="-1" strike="noStrike">
                <a:solidFill>
                  <a:srgbClr val="6e0500"/>
                </a:solidFill>
                <a:latin typeface="Trebuchet MS Bold"/>
                <a:ea typeface="Trebuchet MS Bold"/>
              </a:rPr>
              <a:t>literary indication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 in Genesis 1 and 2 that these chapters are inte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o be taken as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llego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3f691e"/>
                </a:solidFill>
                <a:latin typeface="Trebuchet MS Bold"/>
                <a:ea typeface="Trebuchet MS Bold"/>
              </a:rPr>
              <a:t>legend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d90b00"/>
                </a:solidFill>
                <a:latin typeface="Trebuchet MS Bold"/>
                <a:ea typeface="Trebuchet MS Bold"/>
              </a:rPr>
              <a:t>parable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 </a:t>
            </a:r>
            <a:r>
              <a:rPr b="0" lang="en-US" sz="4200" spc="-1" strike="noStrike">
                <a:solidFill>
                  <a:srgbClr val="b7b100"/>
                </a:solidFill>
                <a:latin typeface="Trebuchet MS Bold"/>
                <a:ea typeface="Trebuchet MS Bold"/>
              </a:rPr>
              <a:t>poetry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or any other sort of “non-historical” material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90117248" presetSubtype="901503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Question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0" name="Picture 1" descr=""/>
          <p:cNvPicPr/>
          <p:nvPr/>
        </p:nvPicPr>
        <p:blipFill>
          <a:blip r:embed="rId1"/>
          <a:stretch/>
        </p:blipFill>
        <p:spPr>
          <a:xfrm>
            <a:off x="-1901880" y="-55440"/>
            <a:ext cx="14897160" cy="992952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2" descr=""/>
          <p:cNvPicPr/>
          <p:nvPr/>
        </p:nvPicPr>
        <p:blipFill>
          <a:blip r:embed="rId2"/>
          <a:stretch/>
        </p:blipFill>
        <p:spPr>
          <a:xfrm>
            <a:off x="15900480" y="9321840"/>
            <a:ext cx="4089240" cy="2603520"/>
          </a:xfrm>
          <a:prstGeom prst="rect">
            <a:avLst/>
          </a:prstGeom>
          <a:ln w="0">
            <a:noFill/>
          </a:ln>
        </p:spPr>
      </p:pic>
      <p:sp>
        <p:nvSpPr>
          <p:cNvPr id="672" name="Rectangle 3"/>
          <p:cNvSpPr/>
          <p:nvPr/>
        </p:nvSpPr>
        <p:spPr>
          <a:xfrm>
            <a:off x="165240" y="152280"/>
            <a:ext cx="2146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0000"/>
                </a:solidFill>
                <a:uFillTx/>
                <a:latin typeface="Trebuchet MS Bold"/>
                <a:ea typeface="Trebuchet MS Bold"/>
              </a:rPr>
              <a:t>Review: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3" name="Rectangle 4"/>
          <p:cNvSpPr/>
          <p:nvPr/>
        </p:nvSpPr>
        <p:spPr>
          <a:xfrm>
            <a:off x="457200" y="-44280"/>
            <a:ext cx="102888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4" name="Rectangle 5"/>
          <p:cNvSpPr/>
          <p:nvPr/>
        </p:nvSpPr>
        <p:spPr>
          <a:xfrm>
            <a:off x="457200" y="2044800"/>
            <a:ext cx="1612800" cy="18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S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5" name="Rectangle 6"/>
          <p:cNvSpPr/>
          <p:nvPr/>
        </p:nvSpPr>
        <p:spPr>
          <a:xfrm>
            <a:off x="419040" y="402588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6" name="Rectangle 7"/>
          <p:cNvSpPr/>
          <p:nvPr/>
        </p:nvSpPr>
        <p:spPr>
          <a:xfrm>
            <a:off x="431640" y="6006960"/>
            <a:ext cx="102888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7" name="Rectangle 8"/>
          <p:cNvSpPr/>
          <p:nvPr/>
        </p:nvSpPr>
        <p:spPr>
          <a:xfrm>
            <a:off x="393840" y="8089920"/>
            <a:ext cx="1028520" cy="18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6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endParaRPr b="0" lang="en-US" sz="11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8" name="Rectangle 9"/>
          <p:cNvSpPr/>
          <p:nvPr/>
        </p:nvSpPr>
        <p:spPr>
          <a:xfrm>
            <a:off x="3390840" y="438120"/>
            <a:ext cx="7340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F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ramework (Skeleton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9" name="Rectangle 10"/>
          <p:cNvSpPr/>
          <p:nvPr/>
        </p:nvSpPr>
        <p:spPr>
          <a:xfrm>
            <a:off x="3632040" y="2152800"/>
            <a:ext cx="7112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cripture</a:t>
            </a: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s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 (both Old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and New Testaments)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0" name="Rectangle 11"/>
          <p:cNvSpPr/>
          <p:nvPr/>
        </p:nvSpPr>
        <p:spPr>
          <a:xfrm>
            <a:off x="3556080" y="4508640"/>
            <a:ext cx="73404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G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nealogical continuity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1" name="Rectangle 12"/>
          <p:cNvSpPr/>
          <p:nvPr/>
        </p:nvSpPr>
        <p:spPr>
          <a:xfrm>
            <a:off x="3543480" y="6489720"/>
            <a:ext cx="53337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R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eal world item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2" name="Rectangle 13"/>
          <p:cNvSpPr/>
          <p:nvPr/>
        </p:nvSpPr>
        <p:spPr>
          <a:xfrm>
            <a:off x="3517920" y="8572680"/>
            <a:ext cx="623556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dd2067"/>
                </a:solidFill>
                <a:latin typeface="Trebuchet MS Bold"/>
                <a:ea typeface="Trebuchet MS Bold"/>
              </a:rPr>
              <a:t>L</a:t>
            </a:r>
            <a:r>
              <a:rPr b="0" lang="en-US" sz="5100" spc="-1" strike="noStrike">
                <a:solidFill>
                  <a:srgbClr val="000000"/>
                </a:solidFill>
                <a:latin typeface="Trebuchet MS Bold"/>
                <a:ea typeface="Trebuchet MS Bold"/>
              </a:rPr>
              <a:t>iterary indications</a:t>
            </a:r>
            <a:endParaRPr b="0" lang="en-US" sz="51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zoom dir="out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507960" y="1365120"/>
            <a:ext cx="504180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ff5308"/>
                </a:solidFill>
                <a:uFillTx/>
                <a:latin typeface="Trebuchet MS Bold"/>
                <a:ea typeface="Trebuchet MS Bold"/>
              </a:rPr>
              <a:t>1. Cosmic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1841400" y="2235240"/>
            <a:ext cx="107442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(Origin and Development of the Univers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825480" y="3251160"/>
            <a:ext cx="8166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“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Big Bang” starts the Univers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5" name="Rectangle 5"/>
          <p:cNvSpPr/>
          <p:nvPr/>
        </p:nvSpPr>
        <p:spPr>
          <a:xfrm>
            <a:off x="825480" y="4114800"/>
            <a:ext cx="12077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5308"/>
                </a:solidFill>
                <a:latin typeface="Trebuchet MS Bold"/>
                <a:ea typeface="Trebuchet MS Bold"/>
              </a:rPr>
              <a:t>Later formation of stars, galaxies, and plane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6" name="Rectangle 6"/>
          <p:cNvSpPr/>
          <p:nvPr/>
        </p:nvSpPr>
        <p:spPr>
          <a:xfrm>
            <a:off x="507960" y="5270400"/>
            <a:ext cx="56516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975500"/>
                </a:solidFill>
                <a:uFillTx/>
                <a:latin typeface="Trebuchet MS Bold"/>
                <a:ea typeface="Trebuchet MS Bold"/>
              </a:rPr>
              <a:t>2. Chem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7" name="Rectangle 7"/>
          <p:cNvSpPr/>
          <p:nvPr/>
        </p:nvSpPr>
        <p:spPr>
          <a:xfrm>
            <a:off x="1943280" y="6134040"/>
            <a:ext cx="3784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(Origin of Life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8" name="Rectangle 8"/>
          <p:cNvSpPr/>
          <p:nvPr/>
        </p:nvSpPr>
        <p:spPr>
          <a:xfrm>
            <a:off x="876240" y="7061040"/>
            <a:ext cx="806472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Life’s molecules form through random chemical reactio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9" name="Rectangle 9"/>
          <p:cNvSpPr/>
          <p:nvPr/>
        </p:nvSpPr>
        <p:spPr>
          <a:xfrm>
            <a:off x="838080" y="8521560"/>
            <a:ext cx="101728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975500"/>
                </a:solidFill>
                <a:latin typeface="Trebuchet MS Bold"/>
                <a:ea typeface="Trebuchet MS Bold"/>
              </a:rPr>
              <a:t>Eventually living cells come into being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"/>
          <p:cNvSpPr/>
          <p:nvPr/>
        </p:nvSpPr>
        <p:spPr>
          <a:xfrm>
            <a:off x="3036960" y="10152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507960" y="1365120"/>
            <a:ext cx="5854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89980e"/>
                </a:solidFill>
                <a:uFillTx/>
                <a:latin typeface="Trebuchet MS Bold"/>
                <a:ea typeface="Trebuchet MS Bold"/>
              </a:rPr>
              <a:t>3. Biologic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1434960" y="2235240"/>
            <a:ext cx="65786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(Origin of Life’s Diversity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711360" y="3124080"/>
            <a:ext cx="81658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89980e"/>
                </a:solidFill>
                <a:latin typeface="Trebuchet MS Bold"/>
                <a:ea typeface="Trebuchet MS Bold"/>
              </a:rPr>
              <a:t>From the first living cells, all life forms eventually develop (“molecules to man” evolution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507960" y="5486400"/>
            <a:ext cx="54482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005a7c"/>
                </a:solidFill>
                <a:uFillTx/>
                <a:latin typeface="Trebuchet MS Bold"/>
                <a:ea typeface="Trebuchet MS Bold"/>
              </a:rPr>
              <a:t>4. Cultural Evolutio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5" name="Rectangle 6"/>
          <p:cNvSpPr/>
          <p:nvPr/>
        </p:nvSpPr>
        <p:spPr>
          <a:xfrm>
            <a:off x="1486080" y="6350040"/>
            <a:ext cx="1153152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(Origin and Development of Human Societies)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6" name="Rectangle 7"/>
          <p:cNvSpPr/>
          <p:nvPr/>
        </p:nvSpPr>
        <p:spPr>
          <a:xfrm>
            <a:off x="939960" y="7238880"/>
            <a:ext cx="1002024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5a7c"/>
                </a:solidFill>
                <a:latin typeface="Trebuchet MS Bold"/>
                <a:ea typeface="Trebuchet MS Bold"/>
              </a:rPr>
              <a:t>Human beings learn agriculture, build cities, and continue to improve their technology and their cultur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150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1"/>
          <p:cNvSpPr/>
          <p:nvPr/>
        </p:nvSpPr>
        <p:spPr>
          <a:xfrm>
            <a:off x="2438280" y="552600"/>
            <a:ext cx="812808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Introduction: Three Approach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290082"/>
                </a:solidFill>
                <a:uFillTx/>
                <a:latin typeface="Trebuchet MS Bold"/>
                <a:ea typeface="Trebuchet MS Bold"/>
              </a:rPr>
              <a:t>to the Issue of Origin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3036960" y="3035160"/>
            <a:ext cx="693396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d90b00"/>
                </a:solidFill>
                <a:uFillTx/>
                <a:latin typeface="Trebuchet MS Bold"/>
                <a:ea typeface="Trebuchet MS Bold"/>
              </a:rPr>
              <a:t>Evolution: The Four Phase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3276720" y="4521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0" name="Rectangle 4"/>
          <p:cNvSpPr/>
          <p:nvPr/>
        </p:nvSpPr>
        <p:spPr>
          <a:xfrm>
            <a:off x="4254480" y="6006960"/>
            <a:ext cx="449568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c78d00"/>
                </a:solidFill>
                <a:uFillTx/>
                <a:latin typeface="Trebuchet MS Bold"/>
                <a:ea typeface="Trebuchet MS Bold"/>
              </a:rPr>
              <a:t>Intelligent Design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med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2" name="Rectangle 2"/>
          <p:cNvSpPr/>
          <p:nvPr/>
        </p:nvSpPr>
        <p:spPr>
          <a:xfrm>
            <a:off x="1447920" y="1441440"/>
            <a:ext cx="1009656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universe began when Go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the space-time-matter-energy complex, including a water-covered Earth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2712"/>
                </a:solidFill>
                <a:latin typeface="Trebuchet MS Bold"/>
                <a:ea typeface="Trebuchet MS Bold"/>
              </a:rPr>
              <a:t>on Day One, a few thousand years ago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469800" y="440676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God did not create the Sun, Moon, and stars until Day Four, after He had form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the Earth on Day One and had rearranged i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e3b00"/>
                </a:solidFill>
                <a:latin typeface="Trebuchet MS Bold"/>
                <a:ea typeface="Trebuchet MS Bold"/>
              </a:rPr>
              <a:t>so land appear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4" name="Rectangle 4"/>
          <p:cNvSpPr/>
          <p:nvPr/>
        </p:nvSpPr>
        <p:spPr>
          <a:xfrm>
            <a:off x="1587600" y="7365960"/>
            <a:ext cx="981684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The first life-forms were land plants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a7500"/>
                </a:solidFill>
                <a:latin typeface="Trebuchet MS Bold"/>
                <a:ea typeface="Trebuchet MS Bold"/>
              </a:rPr>
              <a:t>which God created on Day Three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dissolv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83249792" presetSubtype="8325606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83249792" presetSubtype="8599048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3249792" presetSubtype="859906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6" name="Rectangle 2"/>
          <p:cNvSpPr/>
          <p:nvPr/>
        </p:nvSpPr>
        <p:spPr>
          <a:xfrm>
            <a:off x="1015920" y="1441440"/>
            <a:ext cx="1096020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The first animals were aquatic organisms and flying creatures, which God creat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on Day Five. God created land animal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44fe"/>
                </a:solidFill>
                <a:latin typeface="Trebuchet MS Bold"/>
                <a:ea typeface="Trebuchet MS Bold"/>
              </a:rPr>
              <a:t>and Man just one day lat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7" name="Rectangle 3"/>
          <p:cNvSpPr/>
          <p:nvPr/>
        </p:nvSpPr>
        <p:spPr>
          <a:xfrm>
            <a:off x="469800" y="4457880"/>
            <a:ext cx="12052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The various types of land plants, aquatic organisms, flying creatures, and land animals were all created “according to their kinds,” with the capacity to reproduce themselv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e00f0"/>
                </a:solidFill>
                <a:latin typeface="Trebuchet MS Bold"/>
                <a:ea typeface="Trebuchet MS Bold"/>
              </a:rPr>
              <a:t>Basic types (“kinds”) of organisms were thus formed separately, not by evolutionary development from other basic type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83250560" presetSubtype="832562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83250560" presetSubtype="8604880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1"/>
          <p:cNvSpPr/>
          <p:nvPr/>
        </p:nvSpPr>
        <p:spPr>
          <a:xfrm>
            <a:off x="3276720" y="165240"/>
            <a:ext cx="6438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 u="sng">
                <a:solidFill>
                  <a:srgbClr val="3f691e"/>
                </a:solidFill>
                <a:uFillTx/>
                <a:latin typeface="Trebuchet MS Bold"/>
                <a:ea typeface="Trebuchet MS Bold"/>
              </a:rPr>
              <a:t>Creation: The Basic Facts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838080" y="1644480"/>
            <a:ext cx="113158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God formed the first man and woman as special creations, through unique processes. Among all life-forms on Earth, only man and woman were made “in the image of God.”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a8184b"/>
                </a:solidFill>
                <a:latin typeface="Trebuchet MS Bold"/>
                <a:ea typeface="Trebuchet MS Bold"/>
              </a:rPr>
              <a:t>Humans did not arise by evolution          from non-human primate ancestors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469800" y="6032520"/>
            <a:ext cx="1205244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• </a:t>
            </a: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During a period of six consecutive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normal-length days, the universe, life,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and biological diversity were commanded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3900"/>
                </a:solidFill>
                <a:latin typeface="Trebuchet MS Bold"/>
                <a:ea typeface="Trebuchet MS Bold"/>
              </a:rPr>
              <a:t>into existence by an Intelligent Designer.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transition spd="slow">
    <p:checker dir="horz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0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" nodeType="afterEffect" fill="hold" presetClass="entr" presetID="86090112" presetSubtype="832564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6090112" presetSubtype="860495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</dc:creator>
  <dc:description/>
  <dc:language>en-US</dc:language>
  <cp:lastModifiedBy>Legion</cp:lastModifiedBy>
  <dcterms:modified xsi:type="dcterms:W3CDTF">2017-07-04T11:54:58Z</dcterms:modified>
  <cp:revision>3</cp:revision>
  <dc:subject/>
  <dc:title>Презентація PowerPoint</dc:title>
</cp:coreProperties>
</file>