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B074-4805-435A-8EC9-9115FE3890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785-ED23-4624-A8F1-954DC6A0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B649-00CD-48DB-9434-83AF262E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15E2-8756-4093-80FE-5822D90A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8FDD-EB6F-4C8E-8314-363193F7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FFFA-CA63-4139-9F02-8B21E147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1EC5-5AD9-49A8-B40B-17F2900C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345-E20E-4226-81CB-EB08774F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EA3-26CE-48FF-A95C-6666FE61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994-F373-4BF3-9E69-BE8B2A71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E55-94EA-4195-B888-5B647C3F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C66-FD11-4B82-95BC-1201CC9C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4B0-C6CA-41E1-88F2-FCDC1039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461D-7630-4050-BFDE-3E609C293C7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Why did the Mormons Manage to survive Salt Lake C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The Geographical Position of Ut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9" descr="usa%20map%20copy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Brigham You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Brigham%2520Young"/>
          <p:cNvPicPr/>
          <p:nvPr/>
        </p:nvPicPr>
        <p:blipFill>
          <a:blip r:embed="rId1"/>
          <a:stretch/>
        </p:blipFill>
        <p:spPr>
          <a:xfrm>
            <a:off x="5867280" y="1628640"/>
            <a:ext cx="2881440" cy="446436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olygam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olygamy-thumb"/>
          <p:cNvPicPr/>
          <p:nvPr/>
        </p:nvPicPr>
        <p:blipFill>
          <a:blip r:embed="rId1"/>
          <a:stretch/>
        </p:blipFill>
        <p:spPr>
          <a:xfrm>
            <a:off x="611280" y="1557360"/>
            <a:ext cx="3529080" cy="3166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611280" y="494172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Self Sufficiency and the Railwa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erpetual Emigrating F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5" descr="MCj03841700000[1]"/>
          <p:cNvPicPr/>
          <p:nvPr/>
        </p:nvPicPr>
        <p:blipFill>
          <a:blip r:embed="rId1"/>
          <a:stretch/>
        </p:blipFill>
        <p:spPr>
          <a:xfrm>
            <a:off x="5292720" y="1700280"/>
            <a:ext cx="3166920" cy="4392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4:08:17Z</dcterms:created>
  <dc:creator>Carol</dc:creator>
  <dc:description>Why did the Mormons Manage to survive Salt Lake City?</dc:description>
  <cp:keywords>Why did the Mormons Manage to survive Salt Lake City?</cp:keywords>
  <dc:language>en-US</dc:language>
  <cp:lastModifiedBy>LEGION</cp:lastModifiedBy>
  <dcterms:modified xsi:type="dcterms:W3CDTF">2017-07-03T11:27:00Z</dcterms:modified>
  <cp:revision>8</cp:revision>
  <dc:subject>Why did the Mormons Manage to survive Salt Lake City?</dc:subject>
  <dc:title>Why did the Mormons Manage to survive Salt Lake City?</dc:title>
</cp:coreProperties>
</file>