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0C65-FFA7-4159-BE37-D609AF6EF5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0FA-A51A-4F35-AC67-CCFCD0C5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785-AFC6-4A10-A4AD-A508C76A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786-6FE3-46CE-8159-E1D6FF83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F40-AE8D-4329-96FF-CC4861B2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9DD-C195-473E-A989-094F1531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6FB-6BCA-4E94-96C7-FF5866A1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9C38-C03B-4B70-A0B7-3A2A2582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3F5-EF29-40B4-9DE4-03AE33C4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7FF-F4E4-47B5-BE85-705F1AB9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B1F-B9AD-4616-86FE-5071FFF6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DA6-3073-45E1-95DC-1DA0C854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9E7-FCB4-4135-810A-75FBBDF4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11F4-151B-4AD5-B0EE-AE75CF37A15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LEGION</cp:lastModifiedBy>
  <dcterms:modified xsi:type="dcterms:W3CDTF">2017-07-03T11:27:00Z</dcterms:modified>
  <cp:revision>8</cp:revision>
  <dc:subject>Why did the Mormons Manage to survive Salt Lake City?</dc:subject>
  <dc:title>Why did the Mormons Manage to survive Salt Lake City?</dc:title>
</cp:coreProperties>
</file>