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4CDA-58CA-46B7-928C-07D635A6F7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A43-96B6-40AC-9B7E-BF456B2A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6622-3ABD-4875-8096-F4E9BC7A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25CD-9BB8-46F2-B88C-2A35BA3E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FA0-68CF-4A6E-B84D-BD807D45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28ED-24FB-4969-BFF6-A776513A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3B2B-7C1F-41B6-B4C2-D1F00FFA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ABB8-F9AA-4A75-B816-6F7E46BD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8C75-187B-460E-8B53-70E7432D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C551-3236-42BF-A351-2D85AC9F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22FE-95B0-469E-8A33-89A4A8D6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51D7-6DFA-43A7-96FC-E8C43E4C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1D8-A96D-4DD3-9C14-60AAAF1B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5405-C695-4F99-A365-1819023AD9C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Why did the Mormons Manage to survive Salt Lake Cit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The Geographical Position of Ut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9" descr="usa%20map%20copy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Brigham You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6" descr="Brigham%2520Young"/>
          <p:cNvPicPr/>
          <p:nvPr/>
        </p:nvPicPr>
        <p:blipFill>
          <a:blip r:embed="rId1"/>
          <a:stretch/>
        </p:blipFill>
        <p:spPr>
          <a:xfrm>
            <a:off x="5867280" y="1628640"/>
            <a:ext cx="2881440" cy="446436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olygam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olygamy-thumb"/>
          <p:cNvPicPr/>
          <p:nvPr/>
        </p:nvPicPr>
        <p:blipFill>
          <a:blip r:embed="rId1"/>
          <a:stretch/>
        </p:blipFill>
        <p:spPr>
          <a:xfrm>
            <a:off x="611280" y="1557360"/>
            <a:ext cx="3529080" cy="3166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611280" y="494172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Self Sufficiency and the Railwa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erpetual Emigrating F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5" descr="MCj03841700000[1]"/>
          <p:cNvPicPr/>
          <p:nvPr/>
        </p:nvPicPr>
        <p:blipFill>
          <a:blip r:embed="rId1"/>
          <a:stretch/>
        </p:blipFill>
        <p:spPr>
          <a:xfrm>
            <a:off x="5292720" y="1700280"/>
            <a:ext cx="3166920" cy="4392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4:08:17Z</dcterms:created>
  <dc:creator>Carol</dc:creator>
  <dc:description>Why did the Mormons Manage to survive Salt Lake City?</dc:description>
  <cp:keywords>Why did the Mormons Manage to survive Salt Lake City?</cp:keywords>
  <dc:language>en-US</dc:language>
  <cp:lastModifiedBy>LEGION</cp:lastModifiedBy>
  <dcterms:modified xsi:type="dcterms:W3CDTF">2017-07-03T11:27:00Z</dcterms:modified>
  <cp:revision>8</cp:revision>
  <dc:subject>Why did the Mormons Manage to survive Salt Lake City?</dc:subject>
  <dc:title>Why did the Mormons Manage to survive Salt Lake City?</dc:title>
</cp:coreProperties>
</file>