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9F10-A3AB-41FC-8A8F-E0042DB367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7B2-533B-4567-82E1-676F112C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4FB-1697-44BC-BE94-A5F63A98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F78-6F4F-48C7-8805-E1294C9F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429-D285-4CAE-9F58-C323FC5F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C41-0AA6-4C4E-B821-6344178B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03C-595E-42E3-81E2-58D54039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AFE-95EE-4D10-BC32-641A4395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AE0-6AF2-4147-9B8D-E388261F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930-40AA-4081-A171-7BDA6164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238-C914-4363-AE08-D42AEC85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F6D-DBF2-4238-873A-F2A6D707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061-5727-4409-9562-A29BBF57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53B8-AE7C-4F65-8C6E-BCDB6A4B509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LEGION</cp:lastModifiedBy>
  <dcterms:modified xsi:type="dcterms:W3CDTF">2017-07-03T11:27:00Z</dcterms:modified>
  <cp:revision>8</cp:revision>
  <dc:subject>Why did the Mormons Manage to survive Salt Lake City?</dc:subject>
  <dc:title>Why did the Mormons Manage to survive Salt Lake City?</dc:title>
</cp:coreProperties>
</file>