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7F63-E33C-46C9-8DF0-D2869DF8E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ia Minor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the area were most civilization began in prehistory and histor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many water ways and food source the fertile crescent became the center of the universe to its peop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believed that this area was an abundant food source to the hunters and gather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farming a big population of people emerged out of the la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ia Minor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rea were most civilization began in prehistory and hi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many water ways and food source the fertile crescent became the center of the universe to its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believed that this area was an abundant food source to the hunters and ga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farming a big population of people emerged out of the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ople of the Asia Minor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sopotami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gyp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meria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ramaea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cia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ydia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ople of the Asia Minor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potam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y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er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ama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enic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di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are the Greek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sprang out of three civilizations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inoans &amp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&amp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ria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oth civilizations are known as the Aegean civilization which lived around the Mediterranean se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are the Greek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sprang out of three civilization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noans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ri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civilizations are known as the Aegean civilization which lived around the Mediterranean se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are the Minoa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lived on the islands off Gree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culture is often characterized as a society centered on goddess worship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inoans were primarily a mercantile people engaged in overseas trade. Many historians and archaeologists believe that the Minoans were involved in the Bronze Age's important tin trade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are the Minoa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lived on the islands off Gree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culture is often characterized as a society centered on goddess worshi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noans were primarily a mercantile people engaged in overseas trade. Many historians and archaeologists believe that the Minoans were involved in the Bronze Age's important tin trad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were the Mycenae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ns lived on the main la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ycenaean civilization was dominated by a warrior aristocrac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only did the Mycenaeans defeat the Minoans, but according to legend, they defeated Troy, a powerful city-stat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 period flourished between 1600BC and the collapse of their Bronze-Age civilization around 1100BC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were the Mycena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ns lived on the main 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cenaean civilization was dominated by a warrior aristocrac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only did the Mycenaeans defeat the Minoans, but according to legend, they defeated Troy, a powerful city-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 period flourished between 1600BC and the collapse of their Bronze-Age civilization around 1100BC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p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the Greeks became a civiliz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overtook the Minoans and the two merg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became powerful, but civil war weakened its strong fortresses and when invaders came they were easily overtak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invaders were the Dorians who spoke the Greek langua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the invaders the lost of many skills followed. Skills such as writing and boat making. This was know as the Dark Age for Gree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Greeks became a civil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overtook the Minoans and the two mer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became powerful, but civil war weakened its strong fortresses and when invaders came they were easily overtak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vaders were the Dorians who spoke the Greek langu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he invaders the lost of many skills followed. Skills such as writing and boat making. This was know as the Dark Age for Gree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 L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2500 B.C. -1450 B.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ycenaeans 2000 B.C.- 1150 B.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rians 1150B.C – 700B.C. (Dark Ag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(HELLENIC) emerged from the mix of these three civilizations to rule from 700B.C. to 336  B.C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we know as the Greeks were influenced more by the culture of these three civiliza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2500 B.C. -1450 B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cenaeans 2000 B.C.- 1150 B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ians 1150B.C – 700B.C. (Dark 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(HELLENIC) emerged from the mix of these three civilizations to rule from 700B.C. to 336  B.C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 know as the Greeks were influenced more by the culture of these three civil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13B5-34C5-433E-A8FA-8F8C40D38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0786-B795-4DA3-9ABA-F584781E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A183-2FAE-490F-8FF6-DA499AF26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DCA2-C2F0-41EB-8C94-578F4B730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C6BD-7622-4E99-8E82-64FA407C0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DA51-05FD-4AD9-A037-2967D10E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0B8C-DCA2-45B4-A843-93AD99DB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3CD1-BC87-4CFC-98F7-3808A49F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DC16-5347-41AC-8C02-241654C1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A0AD6-33D8-488E-BD26-9331D824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48A7-3755-4987-8035-7BB91262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2C28-068C-4DFE-B435-EBA11A83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F429-552D-40E9-BBEF-1DA0F68C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C87C-77D4-4F45-AFB0-6D044C44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B378-E5FC-4807-8616-8B4D6F26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5CEE-F00B-46E2-8220-1A84A0F53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5B7D-64A9-4B71-9089-67DA3C133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99B7-CBBC-45BA-89C3-FB8ECBE0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7A02-3C41-4403-83BB-6E2FF786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DF36-8792-4905-B984-97F025A3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5200-C3CC-4B72-894C-49F3FBBB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5EB0-BA8F-427B-8901-9CED7814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D8DA-4FE4-4F0C-B73B-17DF8B06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FE06-974D-496F-923B-AD70ED43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3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BD87-58C3-49AF-858E-343B075FE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3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5C84-6FD4-486D-9712-A968268520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oddess" TargetMode="External"/><Relationship Id="rId2" Type="http://schemas.openxmlformats.org/officeDocument/2006/relationships/hyperlink" Target="http://en.wikipedia.org/wiki/Mercantile" TargetMode="External"/><Relationship Id="rId3" Type="http://schemas.openxmlformats.org/officeDocument/2006/relationships/hyperlink" Target="http://en.wikipedia.org/wiki/Tin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sia Minor Standard 10.1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This is the area were most civilization began in prehistory and history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With many water ways and food source the fertile crescent became the center of the universe to its people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It is believed that this area was an abundant food source to the hunters and gather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With farming a big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population of people emerged out of the land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bestmap"/>
          <p:cNvPicPr/>
          <p:nvPr/>
        </p:nvPicPr>
        <p:blipFill>
          <a:blip r:embed="rId1"/>
          <a:stretch/>
        </p:blipFill>
        <p:spPr>
          <a:xfrm>
            <a:off x="4476600" y="838080"/>
            <a:ext cx="4667400" cy="5496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The people of the Asia Minor Standard 10.1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Mesopotamia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Egyp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Sumeria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Aramaean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Phoenician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Lydian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5" descr="bestmap"/>
          <p:cNvPicPr/>
          <p:nvPr/>
        </p:nvPicPr>
        <p:blipFill>
          <a:blip r:embed="rId1"/>
          <a:stretch/>
        </p:blipFill>
        <p:spPr>
          <a:xfrm>
            <a:off x="4476600" y="838080"/>
            <a:ext cx="4667400" cy="5496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fertile_crescent_350"/>
          <p:cNvPicPr/>
          <p:nvPr/>
        </p:nvPicPr>
        <p:blipFill>
          <a:blip r:embed="rId2"/>
          <a:stretch/>
        </p:blipFill>
        <p:spPr>
          <a:xfrm>
            <a:off x="1905120" y="3505320"/>
            <a:ext cx="2286000" cy="2743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3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are the Greeks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The Greeks sprang out of three civilizations,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Minoans &amp;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Mycenaeans &amp;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Dorians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19360" y="837720"/>
            <a:ext cx="4724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Both civilizations are known as the Aegean civilization which lived around the Mediterranean sea.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228600" y="563868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6" descr="asiaminormap"/>
          <p:cNvPicPr/>
          <p:nvPr/>
        </p:nvPicPr>
        <p:blipFill>
          <a:blip r:embed="rId1"/>
          <a:stretch/>
        </p:blipFill>
        <p:spPr>
          <a:xfrm>
            <a:off x="4495680" y="3124080"/>
            <a:ext cx="2800440" cy="261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are the Minoans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Minoans lived on the islands off Greece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Minoans culture is often characterized as a society centered on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goddess</a:t>
            </a: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worship.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Minoans were primarily a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mercantil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people engaged in overseas trade. Many historians and archaeologists believe that the Minoans were involved in the Bronze Age's important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tin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trade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Knossos_bull"/>
          <p:cNvPicPr/>
          <p:nvPr/>
        </p:nvPicPr>
        <p:blipFill>
          <a:blip r:embed="rId4"/>
          <a:stretch/>
        </p:blipFill>
        <p:spPr>
          <a:xfrm>
            <a:off x="1447920" y="1295280"/>
            <a:ext cx="5165640" cy="3370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were the Mycenaen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The Mycenaens lived on the main land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Mycenaean civilization was dominated by a warrior aristocracy.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Not only did the Mycenaeans defeat the Minoans, but according to legend, they defeated Troy, a powerful city-state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The Mycenaean period flourished between 1600BC and the collapse of their Bronze-Age civilization around 1100BC.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Map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09" name="Picture 5" descr="europa-popoli"/>
          <p:cNvPicPr/>
          <p:nvPr/>
        </p:nvPicPr>
        <p:blipFill>
          <a:blip r:embed="rId1"/>
          <a:stretch/>
        </p:blipFill>
        <p:spPr>
          <a:xfrm>
            <a:off x="4038480" y="762120"/>
            <a:ext cx="4870440" cy="5867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medseamaplarge"/>
          <p:cNvPicPr/>
          <p:nvPr/>
        </p:nvPicPr>
        <p:blipFill>
          <a:blip r:embed="rId2"/>
          <a:stretch/>
        </p:blipFill>
        <p:spPr>
          <a:xfrm>
            <a:off x="0" y="76212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/>
          <p:cNvSpPr/>
          <p:nvPr/>
        </p:nvSpPr>
        <p:spPr>
          <a:xfrm>
            <a:off x="152280" y="54100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How the Greeks became a civilization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Mycenaeans overtook the Minoans and the two merged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Mycenaeans became powerful, but civil war weakened its strong fortresses and when invaders came they were easily overtake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invaders were the Dorians who spoke the Greek language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With the invaders the lost of many skills followed. Skills such as writing and boat making. This was know as the Dark Age for Greece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1066680" y="5943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Time Lin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Minoans 2500 B.C. -1450 B.C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Mycenaeans 2000 B.C.- 1150 B.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Dorians 1150B.C – 700B.C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(Dark Age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The Greeks (HELLENIC) emerged from the mix of these three civilizations to rule from 700B.C. to 336  B.C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What we know as the Greeks were influenced more by the culture of these three civilization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323440" y="57913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8T01:38:55Z</dcterms:created>
  <dc:creator>Jason lundblad</dc:creator>
  <dc:description/>
  <cp:keywords/>
  <dc:language>en-US</dc:language>
  <cp:lastModifiedBy>LEGION</cp:lastModifiedBy>
  <dcterms:modified xsi:type="dcterms:W3CDTF">2017-07-03T10:00:00Z</dcterms:modified>
  <cp:revision>5</cp:revision>
  <dc:subject/>
  <dc:title>Who are the Greeks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3001033</vt:lpwstr>
  </property>
</Properties>
</file>