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2DC4-2A53-4777-95AE-432D1D913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9B09-19C6-405F-A14F-E27DB8E42FA2}" type="datetime">
              <a:rPr b="0" lang="en-GB" sz="1400" spc="-1" strike="noStrike">
                <a:solidFill>
                  <a:srgbClr val="80808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ab Tests, results, and Sulphuric aci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mmonium, nitrate, bromide and iodide 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907920"/>
            <a:ext cx="9144000" cy="1381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mmonium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and test the gas using damp litmus paper – ammonia gas turns damp litmus paper blu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0" y="2708280"/>
            <a:ext cx="9144000" cy="138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itrat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followed by aluminium powder and test using damp litmus pap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4508640"/>
            <a:ext cx="9144000" cy="211320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omide and iodid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rmal decomposition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A “thermal decomposition” reaction occurs when a compound breaks down (“decomposition”) through the action of hea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87280" y="1773360"/>
            <a:ext cx="6191280" cy="285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actical work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erform a thermal decomposition reaction on each of these compounds and stat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olour changes you observ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ction that happe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494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8" name="Group 15"/>
          <p:cNvGrpSpPr/>
          <p:nvPr/>
        </p:nvGrpSpPr>
        <p:grpSpPr>
          <a:xfrm>
            <a:off x="0" y="4581360"/>
            <a:ext cx="9144000" cy="1079640"/>
            <a:chOff x="0" y="4581360"/>
            <a:chExt cx="9144000" cy="1079640"/>
          </a:xfrm>
        </p:grpSpPr>
        <p:sp>
          <p:nvSpPr>
            <p:cNvPr id="229" name="Rectangle 13"/>
            <p:cNvSpPr/>
            <p:nvPr/>
          </p:nvSpPr>
          <p:spPr>
            <a:xfrm>
              <a:off x="0" y="4581360"/>
              <a:ext cx="9144000" cy="107964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0" y="4581360"/>
              <a:ext cx="70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pper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0" y="5778360"/>
            <a:ext cx="9144000" cy="1079640"/>
            <a:chOff x="0" y="5778360"/>
            <a:chExt cx="9144000" cy="1079640"/>
          </a:xfrm>
        </p:grpSpPr>
        <p:sp>
          <p:nvSpPr>
            <p:cNvPr id="232" name="Rectangle 14"/>
            <p:cNvSpPr/>
            <p:nvPr/>
          </p:nvSpPr>
          <p:spPr>
            <a:xfrm>
              <a:off x="0" y="5778360"/>
              <a:ext cx="9144000" cy="10796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0" y="5805360"/>
              <a:ext cx="30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inc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0" y="5084640"/>
            <a:ext cx="9144000" cy="510120"/>
            <a:chOff x="0" y="5084640"/>
            <a:chExt cx="9144000" cy="510120"/>
          </a:xfrm>
        </p:grpSpPr>
        <p:sp>
          <p:nvSpPr>
            <p:cNvPr id="235" name="Text Box 9"/>
            <p:cNvSpPr/>
            <p:nvPr/>
          </p:nvSpPr>
          <p:spPr>
            <a:xfrm>
              <a:off x="0" y="5084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u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Cu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Green – Black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1763640" y="530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7" name="Group 18"/>
          <p:cNvGrpSpPr/>
          <p:nvPr/>
        </p:nvGrpSpPr>
        <p:grpSpPr>
          <a:xfrm>
            <a:off x="0" y="6308640"/>
            <a:ext cx="9144000" cy="510120"/>
            <a:chOff x="0" y="6308640"/>
            <a:chExt cx="9144000" cy="510120"/>
          </a:xfrm>
        </p:grpSpPr>
        <p:sp>
          <p:nvSpPr>
            <p:cNvPr id="238" name="Text Box 10"/>
            <p:cNvSpPr/>
            <p:nvPr/>
          </p:nvSpPr>
          <p:spPr>
            <a:xfrm>
              <a:off x="0" y="6308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n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Z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White – Yellow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1692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Comic Sans MS"/>
              </a:rPr>
              <a:t>Sulphuric acid has many important uses – car batteries, detergents, fertilisers etc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341360"/>
            <a:ext cx="9144000" cy="39888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How sulphuric acid is ma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8900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1:  Burn sulphur in air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3139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2:  Pass the sulphur dioxide over a vanadium oxide catalyst at 450</a:t>
            </a:r>
            <a:r>
              <a:rPr b="0" i="1" lang="en-GB" sz="2000" spc="-1" strike="noStrike" baseline="30000">
                <a:solidFill>
                  <a:srgbClr val="ffcc99"/>
                </a:solidFill>
                <a:latin typeface="Comic Sans MS"/>
              </a:rPr>
              <a:t>O</a:t>
            </a: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C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0" y="45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3:  Dissolve the sulphur trioxide in sulphuric acid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0" y="58053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4:  Add water to the oleu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7" name="Group 18"/>
          <p:cNvGrpSpPr/>
          <p:nvPr/>
        </p:nvGrpSpPr>
        <p:grpSpPr>
          <a:xfrm>
            <a:off x="0" y="2421000"/>
            <a:ext cx="9144000" cy="398880"/>
            <a:chOff x="0" y="2421000"/>
            <a:chExt cx="9144000" cy="398880"/>
          </a:xfrm>
        </p:grpSpPr>
        <p:sp>
          <p:nvSpPr>
            <p:cNvPr id="248" name="Text Box 10"/>
            <p:cNvSpPr/>
            <p:nvPr/>
          </p:nvSpPr>
          <p:spPr>
            <a:xfrm>
              <a:off x="0" y="2421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+ oxygen                sulphur d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>
              <a:off x="4211640" y="263700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20"/>
          <p:cNvGrpSpPr/>
          <p:nvPr/>
        </p:nvGrpSpPr>
        <p:grpSpPr>
          <a:xfrm>
            <a:off x="0" y="5013360"/>
            <a:ext cx="9144000" cy="368280"/>
            <a:chOff x="0" y="5013360"/>
            <a:chExt cx="9144000" cy="368280"/>
          </a:xfrm>
        </p:grpSpPr>
        <p:sp>
          <p:nvSpPr>
            <p:cNvPr id="251" name="Text Box 12"/>
            <p:cNvSpPr/>
            <p:nvPr/>
          </p:nvSpPr>
          <p:spPr>
            <a:xfrm>
              <a:off x="0" y="5013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Sulphur trioxide + conc. sulphuric acid                  oleum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5796000" y="522936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0" y="3645000"/>
            <a:ext cx="9144000" cy="398880"/>
            <a:chOff x="0" y="3645000"/>
            <a:chExt cx="9144000" cy="398880"/>
          </a:xfrm>
        </p:grpSpPr>
        <p:sp>
          <p:nvSpPr>
            <p:cNvPr id="254" name="Text Box 11"/>
            <p:cNvSpPr/>
            <p:nvPr/>
          </p:nvSpPr>
          <p:spPr>
            <a:xfrm>
              <a:off x="0" y="3645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dioxide + oxygen                   sulphur tr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4716360" y="386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0" y="6308640"/>
            <a:ext cx="9144000" cy="398880"/>
            <a:chOff x="0" y="6308640"/>
            <a:chExt cx="9144000" cy="398880"/>
          </a:xfrm>
        </p:grpSpPr>
        <p:sp>
          <p:nvSpPr>
            <p:cNvPr id="257" name="Text Box 13"/>
            <p:cNvSpPr/>
            <p:nvPr/>
          </p:nvSpPr>
          <p:spPr>
            <a:xfrm>
              <a:off x="0" y="6308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Oleum + water                  sulphuric acid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>
              <a:off x="4140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tep 2 in the manufacture of sulphuric acid is an example of a reversible reac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1332000" y="1773360"/>
            <a:ext cx="6264360" cy="510120"/>
            <a:chOff x="1332000" y="1773360"/>
            <a:chExt cx="6264360" cy="510120"/>
          </a:xfrm>
        </p:grpSpPr>
        <p:sp>
          <p:nvSpPr>
            <p:cNvPr id="262" name="Text Box 5"/>
            <p:cNvSpPr/>
            <p:nvPr/>
          </p:nvSpPr>
          <p:spPr>
            <a:xfrm>
              <a:off x="1332000" y="1773360"/>
              <a:ext cx="626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427640" y="1844640"/>
              <a:ext cx="792000" cy="293400"/>
              <a:chOff x="4427640" y="1844640"/>
              <a:chExt cx="792000" cy="293400"/>
            </a:xfrm>
          </p:grpSpPr>
          <p:grpSp>
            <p:nvGrpSpPr>
              <p:cNvPr id="264" name="Group 18"/>
              <p:cNvGrpSpPr/>
              <p:nvPr/>
            </p:nvGrpSpPr>
            <p:grpSpPr>
              <a:xfrm>
                <a:off x="4427640" y="1844640"/>
                <a:ext cx="792000" cy="196920"/>
                <a:chOff x="4427640" y="1844640"/>
                <a:chExt cx="792000" cy="196920"/>
              </a:xfrm>
            </p:grpSpPr>
            <p:sp>
              <p:nvSpPr>
                <p:cNvPr id="265" name="AutoShape 19"/>
                <p:cNvSpPr/>
                <p:nvPr/>
              </p:nvSpPr>
              <p:spPr>
                <a:xfrm>
                  <a:off x="4427640" y="1844640"/>
                  <a:ext cx="792000" cy="196920"/>
                </a:xfrm>
                <a:prstGeom prst="rightArrow">
                  <a:avLst>
                    <a:gd name="adj1" fmla="val 50000"/>
                    <a:gd name="adj2" fmla="val 100548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4427640" y="1970280"/>
                  <a:ext cx="792000" cy="7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7" name="AutoShape 21"/>
              <p:cNvSpPr/>
              <p:nvPr/>
            </p:nvSpPr>
            <p:spPr>
              <a:xfrm rot="10800000">
                <a:off x="4427640" y="1941120"/>
                <a:ext cx="792000" cy="196920"/>
              </a:xfrm>
              <a:prstGeom prst="rightArrow">
                <a:avLst>
                  <a:gd name="adj1" fmla="val 50000"/>
                  <a:gd name="adj2" fmla="val 1005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Rectangle 22"/>
              <p:cNvSpPr/>
              <p:nvPr/>
            </p:nvSpPr>
            <p:spPr>
              <a:xfrm rot="10800000">
                <a:off x="4427640" y="1969920"/>
                <a:ext cx="792000" cy="4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" name="Group 27"/>
          <p:cNvGrpSpPr/>
          <p:nvPr/>
        </p:nvGrpSpPr>
        <p:grpSpPr>
          <a:xfrm>
            <a:off x="6877080" y="1628640"/>
            <a:ext cx="1944720" cy="649440"/>
            <a:chOff x="6877080" y="1628640"/>
            <a:chExt cx="1944720" cy="649440"/>
          </a:xfrm>
        </p:grpSpPr>
        <p:sp>
          <p:nvSpPr>
            <p:cNvPr id="270" name="AutoShape 25"/>
            <p:cNvSpPr/>
            <p:nvPr/>
          </p:nvSpPr>
          <p:spPr>
            <a:xfrm>
              <a:off x="687708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877080" y="177336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x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394920" y="1628640"/>
            <a:ext cx="3024720" cy="649440"/>
            <a:chOff x="394920" y="1628640"/>
            <a:chExt cx="3024720" cy="649440"/>
          </a:xfrm>
        </p:grpSpPr>
        <p:sp>
          <p:nvSpPr>
            <p:cNvPr id="273" name="AutoShape 26"/>
            <p:cNvSpPr/>
            <p:nvPr/>
          </p:nvSpPr>
          <p:spPr>
            <a:xfrm flipH="1">
              <a:off x="39456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611280" y="1773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nd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What would happen if the temperature was decreas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lution – use 45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 as a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0" y="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99"/>
                </a:solidFill>
                <a:latin typeface="Comic Sans MS"/>
              </a:rPr>
              <a:t>The reaction would favour the production of sulphur trioxide BUT the reaction would happen at a slower 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" name="Group 12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48" name="AutoShape 89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91"/>
            <p:cNvSpPr/>
            <p:nvPr/>
          </p:nvSpPr>
          <p:spPr>
            <a:xfrm>
              <a:off x="3166920" y="242892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92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93"/>
            <p:cNvSpPr/>
            <p:nvPr/>
          </p:nvSpPr>
          <p:spPr>
            <a:xfrm>
              <a:off x="3254400" y="5246640"/>
              <a:ext cx="1080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94"/>
            <p:cNvSpPr/>
            <p:nvPr/>
          </p:nvSpPr>
          <p:spPr>
            <a:xfrm>
              <a:off x="3254400" y="5075280"/>
              <a:ext cx="4572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95"/>
            <p:cNvSpPr/>
            <p:nvPr/>
          </p:nvSpPr>
          <p:spPr>
            <a:xfrm>
              <a:off x="3254400" y="490392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96"/>
            <p:cNvSpPr/>
            <p:nvPr/>
          </p:nvSpPr>
          <p:spPr>
            <a:xfrm>
              <a:off x="3254400" y="473220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97"/>
            <p:cNvSpPr/>
            <p:nvPr/>
          </p:nvSpPr>
          <p:spPr>
            <a:xfrm>
              <a:off x="3254400" y="456084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98"/>
            <p:cNvSpPr/>
            <p:nvPr/>
          </p:nvSpPr>
          <p:spPr>
            <a:xfrm>
              <a:off x="3254400" y="4387680"/>
              <a:ext cx="153720" cy="109080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Freeform 99"/>
            <p:cNvSpPr/>
            <p:nvPr/>
          </p:nvSpPr>
          <p:spPr>
            <a:xfrm>
              <a:off x="3252600" y="4216320"/>
              <a:ext cx="17928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0"/>
            <p:cNvSpPr/>
            <p:nvPr/>
          </p:nvSpPr>
          <p:spPr>
            <a:xfrm>
              <a:off x="3252600" y="404640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101"/>
            <p:cNvSpPr/>
            <p:nvPr/>
          </p:nvSpPr>
          <p:spPr>
            <a:xfrm>
              <a:off x="3252600" y="387504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102"/>
            <p:cNvSpPr/>
            <p:nvPr/>
          </p:nvSpPr>
          <p:spPr>
            <a:xfrm>
              <a:off x="3252600" y="3701880"/>
              <a:ext cx="247680" cy="176220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3252600" y="353052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>
              <a:off x="3252600" y="335916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3252600" y="318780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>
              <a:off x="3252600" y="3016080"/>
              <a:ext cx="328680" cy="235620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7"/>
            <p:cNvSpPr/>
            <p:nvPr/>
          </p:nvSpPr>
          <p:spPr>
            <a:xfrm>
              <a:off x="3252600" y="2917800"/>
              <a:ext cx="341280" cy="241128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8"/>
            <p:cNvSpPr/>
            <p:nvPr/>
          </p:nvSpPr>
          <p:spPr>
            <a:xfrm>
              <a:off x="3262320" y="291780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9"/>
            <p:cNvSpPr/>
            <p:nvPr/>
          </p:nvSpPr>
          <p:spPr>
            <a:xfrm>
              <a:off x="3286080" y="291780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10"/>
            <p:cNvSpPr/>
            <p:nvPr/>
          </p:nvSpPr>
          <p:spPr>
            <a:xfrm>
              <a:off x="3311280" y="2917800"/>
              <a:ext cx="282600" cy="198900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1"/>
            <p:cNvSpPr/>
            <p:nvPr/>
          </p:nvSpPr>
          <p:spPr>
            <a:xfrm>
              <a:off x="3335040" y="2917800"/>
              <a:ext cx="25884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Freeform 112"/>
            <p:cNvSpPr/>
            <p:nvPr/>
          </p:nvSpPr>
          <p:spPr>
            <a:xfrm>
              <a:off x="3359160" y="291780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Freeform 113"/>
            <p:cNvSpPr/>
            <p:nvPr/>
          </p:nvSpPr>
          <p:spPr>
            <a:xfrm>
              <a:off x="3384360" y="291780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14"/>
            <p:cNvSpPr/>
            <p:nvPr/>
          </p:nvSpPr>
          <p:spPr>
            <a:xfrm>
              <a:off x="3408120" y="291780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15"/>
            <p:cNvSpPr/>
            <p:nvPr/>
          </p:nvSpPr>
          <p:spPr>
            <a:xfrm>
              <a:off x="3431880" y="2917800"/>
              <a:ext cx="16056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16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17"/>
            <p:cNvSpPr/>
            <p:nvPr/>
          </p:nvSpPr>
          <p:spPr>
            <a:xfrm>
              <a:off x="3252600" y="291780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18"/>
            <p:cNvSpPr/>
            <p:nvPr/>
          </p:nvSpPr>
          <p:spPr>
            <a:xfrm>
              <a:off x="3133440" y="2351160"/>
              <a:ext cx="581040" cy="10296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19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20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121"/>
            <p:cNvSpPr/>
            <p:nvPr/>
          </p:nvSpPr>
          <p:spPr>
            <a:xfrm>
              <a:off x="3133440" y="240192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122"/>
            <p:cNvSpPr/>
            <p:nvPr/>
          </p:nvSpPr>
          <p:spPr>
            <a:xfrm>
              <a:off x="3402000" y="236052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83" name="Line 6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Line 7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5" name="Group 87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86" name="Oval 43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Oval 44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Oval 45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Oval 46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Oval 47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2" name="Group 8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9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custGeom>
              <a:avLst/>
              <a:gdLst>
                <a:gd name="textAreaLeft" fmla="*/ 322560 w 559080"/>
                <a:gd name="textAreaRight" fmla="*/ 471960 w 559080"/>
                <a:gd name="textAreaTop" fmla="*/ 61920 h 461880"/>
                <a:gd name="textAreaBottom" fmla="*/ 198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5" name="Group 86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9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3166920" y="243216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3254400" y="5249880"/>
              <a:ext cx="1116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3254400" y="5078520"/>
              <a:ext cx="4608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3254400" y="490716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3254400" y="473544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3254400" y="456408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254400" y="4391280"/>
              <a:ext cx="153720" cy="109044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3252600" y="4219560"/>
              <a:ext cx="17964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3252600" y="404964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3252600" y="387828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3252600" y="3705480"/>
              <a:ext cx="247680" cy="176184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3252600" y="353376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3252600" y="336240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3252600" y="319104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3252600" y="3019680"/>
              <a:ext cx="328680" cy="235584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3252600" y="2921040"/>
              <a:ext cx="341280" cy="241164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3262320" y="292104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286080" y="292104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311280" y="2921040"/>
              <a:ext cx="282600" cy="198936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335400" y="2921040"/>
              <a:ext cx="25848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359160" y="292104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384360" y="292104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3408120" y="292104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432240" y="2921040"/>
              <a:ext cx="16020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3252600" y="292104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3133800" y="2354400"/>
              <a:ext cx="581040" cy="10332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3133800" y="240516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3402000" y="236376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9" name="Group 126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30" name="Text Box 124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AutoShape 125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2" name="Group 130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33" name="Text Box 128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acid to carbon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Picture 4" descr="Acid and carbonate"/>
          <p:cNvPicPr/>
          <p:nvPr/>
        </p:nvPicPr>
        <p:blipFill>
          <a:blip r:embed="rId1"/>
          <a:srcRect l="2182" t="3763" r="4363" b="3416"/>
          <a:stretch/>
        </p:blipFill>
        <p:spPr>
          <a:xfrm>
            <a:off x="1619280" y="1844640"/>
            <a:ext cx="5761080" cy="3282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9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99"/>
                </a:solidFill>
                <a:latin typeface="Comic Sans MS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0" y="5445000"/>
            <a:ext cx="9144000" cy="642600"/>
            <a:chOff x="0" y="5445000"/>
            <a:chExt cx="9144000" cy="642600"/>
          </a:xfrm>
        </p:grpSpPr>
        <p:sp>
          <p:nvSpPr>
            <p:cNvPr id="139" name="Text Box 6"/>
            <p:cNvSpPr/>
            <p:nvPr/>
          </p:nvSpPr>
          <p:spPr>
            <a:xfrm>
              <a:off x="0" y="5445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200"/>
                  </a:solidFill>
                  <a:latin typeface="Comic Sans MS"/>
                </a:rPr>
                <a:t>Calcium carbonate + hydrochloric acid        calcium chloride + carbon dioxide + water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211640" y="5661000"/>
              <a:ext cx="360360" cy="0"/>
            </a:xfrm>
            <a:prstGeom prst="line">
              <a:avLst/>
            </a:prstGeom>
            <a:ln w="9360">
              <a:solidFill>
                <a:srgbClr val="fff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" name="Group 14"/>
          <p:cNvGrpSpPr/>
          <p:nvPr/>
        </p:nvGrpSpPr>
        <p:grpSpPr>
          <a:xfrm>
            <a:off x="0" y="5950080"/>
            <a:ext cx="9144000" cy="440640"/>
            <a:chOff x="0" y="5950080"/>
            <a:chExt cx="9144000" cy="440640"/>
          </a:xfrm>
        </p:grpSpPr>
        <p:sp>
          <p:nvSpPr>
            <p:cNvPr id="142" name="Text Box 9"/>
            <p:cNvSpPr/>
            <p:nvPr/>
          </p:nvSpPr>
          <p:spPr>
            <a:xfrm>
              <a:off x="0" y="5950080"/>
              <a:ext cx="914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Ca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3(s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+      H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       Ca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 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g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H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l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492360" y="6094440"/>
              <a:ext cx="93672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Text Box 12"/>
          <p:cNvSpPr/>
          <p:nvPr/>
        </p:nvSpPr>
        <p:spPr>
          <a:xfrm>
            <a:off x="2484360" y="5950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413000"/>
          <a:ext cx="8209080" cy="3703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Compounds containing lithium, sodium, potassium, calcium and barium can be recognised by burning the compound and observing the colours produc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755640" y="4581360"/>
            <a:ext cx="7758000" cy="1811520"/>
            <a:chOff x="755640" y="4581360"/>
            <a:chExt cx="7758000" cy="1811520"/>
          </a:xfrm>
        </p:grpSpPr>
        <p:pic>
          <p:nvPicPr>
            <p:cNvPr id="150" name="Picture 5" descr="BUNSEN"/>
            <p:cNvPicPr/>
            <p:nvPr/>
          </p:nvPicPr>
          <p:blipFill>
            <a:blip r:embed="rId1"/>
            <a:stretch/>
          </p:blipFill>
          <p:spPr>
            <a:xfrm>
              <a:off x="75564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BUNSEN"/>
            <p:cNvPicPr/>
            <p:nvPr/>
          </p:nvPicPr>
          <p:blipFill>
            <a:blip r:embed="rId2"/>
            <a:stretch/>
          </p:blipFill>
          <p:spPr>
            <a:xfrm>
              <a:off x="248436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BUNSEN"/>
            <p:cNvPicPr/>
            <p:nvPr/>
          </p:nvPicPr>
          <p:blipFill>
            <a:blip r:embed="rId3"/>
            <a:stretch/>
          </p:blipFill>
          <p:spPr>
            <a:xfrm>
              <a:off x="4284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BUNSEN"/>
            <p:cNvPicPr/>
            <p:nvPr/>
          </p:nvPicPr>
          <p:blipFill>
            <a:blip r:embed="rId4"/>
            <a:stretch/>
          </p:blipFill>
          <p:spPr>
            <a:xfrm>
              <a:off x="601200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BUNSEN"/>
            <p:cNvPicPr/>
            <p:nvPr/>
          </p:nvPicPr>
          <p:blipFill>
            <a:blip r:embed="rId5"/>
            <a:stretch/>
          </p:blipFill>
          <p:spPr>
            <a:xfrm>
              <a:off x="7740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1"/>
          <p:cNvGrpSpPr/>
          <p:nvPr/>
        </p:nvGrpSpPr>
        <p:grpSpPr>
          <a:xfrm>
            <a:off x="170640" y="3429000"/>
            <a:ext cx="1189800" cy="1751400"/>
            <a:chOff x="170640" y="3429000"/>
            <a:chExt cx="1189800" cy="1751400"/>
          </a:xfrm>
        </p:grpSpPr>
        <p:sp>
          <p:nvSpPr>
            <p:cNvPr id="156" name="Freeform 30"/>
            <p:cNvSpPr/>
            <p:nvPr/>
          </p:nvSpPr>
          <p:spPr>
            <a:xfrm>
              <a:off x="90000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170640" y="4220640"/>
              <a:ext cx="1016640" cy="959760"/>
              <a:chOff x="170640" y="4220640"/>
              <a:chExt cx="1016640" cy="959760"/>
            </a:xfrm>
          </p:grpSpPr>
          <p:sp>
            <p:nvSpPr>
              <p:cNvPr id="158" name="Rectangle 10"/>
              <p:cNvSpPr/>
              <p:nvPr/>
            </p:nvSpPr>
            <p:spPr>
              <a:xfrm rot="18765000">
                <a:off x="108000" y="4795200"/>
                <a:ext cx="71892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 flipV="1">
                <a:off x="683640" y="4247640"/>
                <a:ext cx="358560" cy="37476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Arc 12"/>
              <p:cNvSpPr/>
              <p:nvPr/>
            </p:nvSpPr>
            <p:spPr>
              <a:xfrm flipV="1">
                <a:off x="1042920" y="4220280"/>
                <a:ext cx="144360" cy="6948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1" name="Group 42"/>
          <p:cNvGrpSpPr/>
          <p:nvPr/>
        </p:nvGrpSpPr>
        <p:grpSpPr>
          <a:xfrm>
            <a:off x="1899000" y="3429000"/>
            <a:ext cx="1188720" cy="1753920"/>
            <a:chOff x="1899000" y="3429000"/>
            <a:chExt cx="1188720" cy="1753920"/>
          </a:xfrm>
        </p:grpSpPr>
        <p:sp>
          <p:nvSpPr>
            <p:cNvPr id="162" name="Freeform 31"/>
            <p:cNvSpPr/>
            <p:nvPr/>
          </p:nvSpPr>
          <p:spPr>
            <a:xfrm>
              <a:off x="26272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3" name="Group 14"/>
            <p:cNvGrpSpPr/>
            <p:nvPr/>
          </p:nvGrpSpPr>
          <p:grpSpPr>
            <a:xfrm>
              <a:off x="1899000" y="4222800"/>
              <a:ext cx="1017000" cy="960120"/>
              <a:chOff x="1899000" y="4222800"/>
              <a:chExt cx="1017000" cy="960120"/>
            </a:xfrm>
          </p:grpSpPr>
          <p:sp>
            <p:nvSpPr>
              <p:cNvPr id="164" name="Rectangle 15"/>
              <p:cNvSpPr/>
              <p:nvPr/>
            </p:nvSpPr>
            <p:spPr>
              <a:xfrm rot="18765000">
                <a:off x="183636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V="1">
                <a:off x="241236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Arc 17"/>
              <p:cNvSpPr/>
              <p:nvPr/>
            </p:nvSpPr>
            <p:spPr>
              <a:xfrm flipV="1">
                <a:off x="277164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" name="Group 43"/>
          <p:cNvGrpSpPr/>
          <p:nvPr/>
        </p:nvGrpSpPr>
        <p:grpSpPr>
          <a:xfrm>
            <a:off x="3699360" y="3429000"/>
            <a:ext cx="1188720" cy="1753920"/>
            <a:chOff x="3699360" y="3429000"/>
            <a:chExt cx="1188720" cy="1753920"/>
          </a:xfrm>
        </p:grpSpPr>
        <p:sp>
          <p:nvSpPr>
            <p:cNvPr id="168" name="Freeform 32"/>
            <p:cNvSpPr/>
            <p:nvPr/>
          </p:nvSpPr>
          <p:spPr>
            <a:xfrm>
              <a:off x="442764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9" name="Group 18"/>
            <p:cNvGrpSpPr/>
            <p:nvPr/>
          </p:nvGrpSpPr>
          <p:grpSpPr>
            <a:xfrm>
              <a:off x="3699360" y="4222800"/>
              <a:ext cx="1017000" cy="960120"/>
              <a:chOff x="3699360" y="4222800"/>
              <a:chExt cx="1017000" cy="960120"/>
            </a:xfrm>
          </p:grpSpPr>
          <p:sp>
            <p:nvSpPr>
              <p:cNvPr id="170" name="Rectangle 19"/>
              <p:cNvSpPr/>
              <p:nvPr/>
            </p:nvSpPr>
            <p:spPr>
              <a:xfrm rot="18765000">
                <a:off x="3636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Line 20"/>
              <p:cNvSpPr/>
              <p:nvPr/>
            </p:nvSpPr>
            <p:spPr>
              <a:xfrm flipV="1">
                <a:off x="4212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2" name="Arc 21"/>
              <p:cNvSpPr/>
              <p:nvPr/>
            </p:nvSpPr>
            <p:spPr>
              <a:xfrm flipV="1">
                <a:off x="4572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3" name="Group 44"/>
          <p:cNvGrpSpPr/>
          <p:nvPr/>
        </p:nvGrpSpPr>
        <p:grpSpPr>
          <a:xfrm>
            <a:off x="5426640" y="3429000"/>
            <a:ext cx="1190160" cy="1753920"/>
            <a:chOff x="5426640" y="3429000"/>
            <a:chExt cx="1190160" cy="1753920"/>
          </a:xfrm>
        </p:grpSpPr>
        <p:sp>
          <p:nvSpPr>
            <p:cNvPr id="174" name="Freeform 33"/>
            <p:cNvSpPr/>
            <p:nvPr/>
          </p:nvSpPr>
          <p:spPr>
            <a:xfrm>
              <a:off x="615636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75" name="Group 22"/>
            <p:cNvGrpSpPr/>
            <p:nvPr/>
          </p:nvGrpSpPr>
          <p:grpSpPr>
            <a:xfrm>
              <a:off x="5426640" y="4222800"/>
              <a:ext cx="1017000" cy="960120"/>
              <a:chOff x="5426640" y="4222800"/>
              <a:chExt cx="1017000" cy="960120"/>
            </a:xfrm>
          </p:grpSpPr>
          <p:sp>
            <p:nvSpPr>
              <p:cNvPr id="176" name="Rectangle 23"/>
              <p:cNvSpPr/>
              <p:nvPr/>
            </p:nvSpPr>
            <p:spPr>
              <a:xfrm rot="18765000">
                <a:off x="536400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7" name="Line 24"/>
              <p:cNvSpPr/>
              <p:nvPr/>
            </p:nvSpPr>
            <p:spPr>
              <a:xfrm flipV="1">
                <a:off x="594000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Arc 25"/>
              <p:cNvSpPr/>
              <p:nvPr/>
            </p:nvSpPr>
            <p:spPr>
              <a:xfrm flipV="1">
                <a:off x="629928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45"/>
          <p:cNvGrpSpPr/>
          <p:nvPr/>
        </p:nvGrpSpPr>
        <p:grpSpPr>
          <a:xfrm>
            <a:off x="7155360" y="3429000"/>
            <a:ext cx="1190160" cy="1753920"/>
            <a:chOff x="7155360" y="3429000"/>
            <a:chExt cx="1190160" cy="1753920"/>
          </a:xfrm>
        </p:grpSpPr>
        <p:sp>
          <p:nvSpPr>
            <p:cNvPr id="180" name="Freeform 34"/>
            <p:cNvSpPr/>
            <p:nvPr/>
          </p:nvSpPr>
          <p:spPr>
            <a:xfrm>
              <a:off x="78850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1" name="Group 26"/>
            <p:cNvGrpSpPr/>
            <p:nvPr/>
          </p:nvGrpSpPr>
          <p:grpSpPr>
            <a:xfrm>
              <a:off x="7155360" y="4222800"/>
              <a:ext cx="1017000" cy="960120"/>
              <a:chOff x="7155360" y="4222800"/>
              <a:chExt cx="1017000" cy="960120"/>
            </a:xfrm>
          </p:grpSpPr>
          <p:sp>
            <p:nvSpPr>
              <p:cNvPr id="182" name="Rectangle 27"/>
              <p:cNvSpPr/>
              <p:nvPr/>
            </p:nvSpPr>
            <p:spPr>
              <a:xfrm rot="18765000">
                <a:off x="7092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28"/>
              <p:cNvSpPr/>
              <p:nvPr/>
            </p:nvSpPr>
            <p:spPr>
              <a:xfrm flipV="1">
                <a:off x="7668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Arc 29"/>
              <p:cNvSpPr/>
              <p:nvPr/>
            </p:nvSpPr>
            <p:spPr>
              <a:xfrm flipV="1">
                <a:off x="8028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85" name="Text Box 35"/>
          <p:cNvSpPr/>
          <p:nvPr/>
        </p:nvSpPr>
        <p:spPr>
          <a:xfrm>
            <a:off x="324000" y="234936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20509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851280" y="2349360"/>
            <a:ext cx="165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3ad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3adff"/>
                </a:solidFill>
                <a:latin typeface="Comic Sans MS"/>
              </a:rPr>
              <a:t>Lila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58000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rick 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73087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66"/>
                </a:solidFill>
                <a:latin typeface="Comic Sans MS"/>
              </a:rPr>
              <a:t>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ff66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Metal compounds in a solution contain metal ions.  For example,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59280" y="2781360"/>
          <a:ext cx="374940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93" name="Group 216"/>
          <p:cNvGrpSpPr/>
          <p:nvPr/>
        </p:nvGrpSpPr>
        <p:grpSpPr>
          <a:xfrm>
            <a:off x="6139080" y="3213000"/>
            <a:ext cx="3004920" cy="1557000"/>
            <a:chOff x="6139080" y="3213000"/>
            <a:chExt cx="3004920" cy="1557000"/>
          </a:xfrm>
        </p:grpSpPr>
        <p:sp>
          <p:nvSpPr>
            <p:cNvPr id="194" name="AutoShape 215"/>
            <p:cNvSpPr/>
            <p:nvPr/>
          </p:nvSpPr>
          <p:spPr>
            <a:xfrm rot="11402400">
              <a:off x="6156360" y="3428640"/>
              <a:ext cx="1008000" cy="289080"/>
            </a:xfrm>
            <a:prstGeom prst="rightArrow">
              <a:avLst>
                <a:gd name="adj1" fmla="val 50000"/>
                <a:gd name="adj2" fmla="val 8717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Text Box 211"/>
            <p:cNvSpPr/>
            <p:nvPr/>
          </p:nvSpPr>
          <p:spPr>
            <a:xfrm>
              <a:off x="6877080" y="3213000"/>
              <a:ext cx="2266920" cy="1557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is in group 7 so a chloride ion will be Cl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6" name="Group 217"/>
          <p:cNvGrpSpPr/>
          <p:nvPr/>
        </p:nvGrpSpPr>
        <p:grpSpPr>
          <a:xfrm>
            <a:off x="108000" y="1989000"/>
            <a:ext cx="3114360" cy="2288520"/>
            <a:chOff x="108000" y="1989000"/>
            <a:chExt cx="3114360" cy="2288520"/>
          </a:xfrm>
        </p:grpSpPr>
        <p:sp>
          <p:nvSpPr>
            <p:cNvPr id="197" name="AutoShape 214"/>
            <p:cNvSpPr/>
            <p:nvPr/>
          </p:nvSpPr>
          <p:spPr>
            <a:xfrm rot="679200">
              <a:off x="2195640" y="3141720"/>
              <a:ext cx="1008000" cy="288720"/>
            </a:xfrm>
            <a:prstGeom prst="rightArrow">
              <a:avLst>
                <a:gd name="adj1" fmla="val 50000"/>
                <a:gd name="adj2" fmla="val 8728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108000" y="1989000"/>
              <a:ext cx="2663640" cy="228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is in group 2 and has two electrons in its outer shell, so it will form a 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on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9" name="Text Box 218"/>
          <p:cNvSpPr/>
          <p:nvPr/>
        </p:nvSpPr>
        <p:spPr>
          <a:xfrm>
            <a:off x="1187280" y="5661000"/>
            <a:ext cx="655344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chloride has the formula Ca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3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5" name="Text Box 8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9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Text Box 7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3141720"/>
          <a:ext cx="9144000" cy="3527280"/>
        </p:xfrm>
        <a:graphic>
          <a:graphicData uri="http://schemas.openxmlformats.org/drawingml/2006/table">
            <a:tbl>
              <a:tblPr/>
              <a:tblGrid>
                <a:gridCol w="2124000"/>
                <a:gridCol w="5688000"/>
                <a:gridCol w="1332000"/>
              </a:tblGrid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 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cipitate for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hydroxide: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+ OH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     Ca(OH)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2 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minium Al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Magnesium Mg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pper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I)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Line 42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esting for chloride and sulphate ion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780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99"/>
                </a:solidFill>
                <a:latin typeface="Comic Sans MS"/>
              </a:rPr>
              <a:t>Test 1:  Chlorid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Add a few drops of dilute nitric acid to the chloride ion solution followed by a few drops of silver nit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4941720"/>
            <a:ext cx="903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Comic Sans MS"/>
              </a:rPr>
              <a:t>Test 2:  Sulphat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Comic Sans MS"/>
              </a:rPr>
              <a:t>Add a few drops of dilute hydrochloric acid to the sulphate ion solution followed by a few drops of barium chlor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silver chloride (whi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barium sulphate (white aga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9280" y="907920"/>
            <a:ext cx="8785440" cy="1015920"/>
          </a:xfrm>
          <a:prstGeom prst="rect">
            <a:avLst/>
          </a:prstGeom>
          <a:noFill/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or each test state: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)  The colour of the precipi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2)  What compound i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4:05:06Z</dcterms:created>
  <dc:creator>WHS</dc:creator>
  <dc:description/>
  <dc:language>en-US</dc:language>
  <cp:lastModifiedBy>RomaK</cp:lastModifiedBy>
  <dcterms:modified xsi:type="dcterms:W3CDTF">2015-09-02T05:54:28Z</dcterms:modified>
  <cp:revision>96</cp:revision>
  <dc:subject/>
  <dc:title>Simple Chemical Reactions lab tests sulphuric acid</dc:title>
</cp:coreProperties>
</file>