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F594-34A5-421A-8955-B285F4778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Tests, results, and Sulphur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Tests, results, and 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, nitrate, bromide and iodid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sodium hydroxide and test the gas using damp litmus paper – ammonia gas turns damp litmus paper blu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ate 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sodium hydroxide followed by aluminium powder and test using damp litmus paper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de and iodide 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nitric acid followed by a few drops of silver nitrate solution.  A pale yellow precipitate should be formed for bromide ions and a darker yellow precipitate for iodide ions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um, nitrate, bromide and iodid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um 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sodium hydroxide and test the gas using damp litmus paper – ammonia gas turns damp litmus paper b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 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sodium hydroxide followed by aluminium powder and test using damp litmus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mide and iodide 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a few drops of dilute nitric acid followed by a few drops of silver nitrate solution.  A pale yellow precipitate should be formed for bromide ions and a darker yellow precipitate for iodide 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decomposi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thermal decomposition” reaction occurs when a compound breaks down (“decomposition”) through the action of heat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work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a thermal decomposition reaction on each of these compounds and stat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ur changes you observ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that happen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de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thermal decomposition” reaction occurs when a compound breaks down (“decomposition”) through the action of h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a thermal decomposition reaction on each of these compounds and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ur changes you ob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that happ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 has many important uses – car batteries, detergents, fertilisers etc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ulphuric acid is ma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 Burn sulphur in air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 Pass the sulphur dioxide over a vanadium oxide catalyst at 450OC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 Dissolve the sulphur trioxide in sulphuric acid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 Add water to the oleum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 has many important uses – car batteries, detergents, fertiliser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sulphuric acid is ma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 Burn sulphur in a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:  Pass the sulphur dioxide over a vanadium oxide catalyst at 450O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3:  Dissolve the sulphur trioxide in sulphur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4:  Add water to the ole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in the manufacture of sulphuric acid is an example of a reversible reaction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temperature was decrease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– use 450OC as a compromi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would favour the production of sulphur trioxide BUT the reaction would happen at a slower rat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in the manufacture of sulphuric acid is an example of a reversible re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temperature was decr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– use 450OC as a compro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would favour the production of sulphur trioxide BUT the reaction would happen at a slower 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carbon dioxid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sting for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acid to carbon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ates are compounds containing carbon and oxygen.  When an acid is added to a carbonate the carbonate starts to fizz.  A gas called _________ _______ is produced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acid to carbon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ates are compounds containing carbon and oxygen.  When an acid is added to a carbonate the carbonate starts to fizz.  A gas called _________ _______ is produc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s containing lithium, sodium, potassium, calcium and barium can be recognised by burning the compound and observing the colours produced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ck r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unds containing lithium, sodium, potassium, calcium and barium can be recognised by burning the compound and observing the colours produc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ick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compounds in a solution contain metal ions.  For example, consider calcium chlori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chloride has the formula CaCl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compounds in a solution contain metal ions.  For example, consider calcium chlor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chloride has the formula 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chloride and sulphat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1:  Chlorid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nitric acid to the chloride ion solution followed by a few drops of silver nitrat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2:  Sulphat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hydrochloric acid to the sulphate ion solution followed by a few drops of barium chlorid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silver chloride (white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barium sulphate (white again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test st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 colour of the precipita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What compound it 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chloride and sulphat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1:  Chlorid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nitric acid to the chloride ion solution followed by a few drops of silver nit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2:  Sulphat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hydrochloric acid to the sulphate ion solution followed by a few drops of barium chlor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silver chloride (wh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barium sulphate (white ag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test st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 colour of the precipi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What compound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EFCE-659F-442E-B76D-AD894BB98DDB}" type="datetime">
              <a:rPr b="0" lang="en-GB" sz="1400" spc="-1" strike="noStrike">
                <a:solidFill>
                  <a:srgbClr val="80808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Lab Tests, results, and Sulphuric acid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mmonium, nitrate, bromide and iodide ion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0" y="907920"/>
            <a:ext cx="9144000" cy="1381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Ammonium ion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 sodium hydroxide and test the gas using damp litmus paper – ammonia gas turns damp litmus paper blu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0" y="2708280"/>
            <a:ext cx="9144000" cy="13816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itrate ion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 sodium hydroxide followed by aluminium powder and test using damp litmus pap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0" y="4508640"/>
            <a:ext cx="9144000" cy="2113200"/>
          </a:xfrm>
          <a:prstGeom prst="rect">
            <a:avLst/>
          </a:prstGeom>
          <a:solidFill>
            <a:srgbClr val="6f0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Bromide and iodide ion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 a few drops of dilute nitric acid followed by a few drops of silver nitrate solution.  A pale yellow precipitate should be formed for bromide ions and a darker yellow precipitate for iodide ion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Thermal decomposition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A “thermal decomposition” reaction occurs when a compound breaks down (“decomposition”) through the action of hea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187280" y="1773360"/>
            <a:ext cx="6191280" cy="285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Practical work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erform a thermal decomposition reaction on each of these compounds and stat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colour changes you observ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reaction that happen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0" y="4941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8" name="Group 15"/>
          <p:cNvGrpSpPr/>
          <p:nvPr/>
        </p:nvGrpSpPr>
        <p:grpSpPr>
          <a:xfrm>
            <a:off x="0" y="4581360"/>
            <a:ext cx="9144000" cy="1079640"/>
            <a:chOff x="0" y="4581360"/>
            <a:chExt cx="9144000" cy="1079640"/>
          </a:xfrm>
        </p:grpSpPr>
        <p:sp>
          <p:nvSpPr>
            <p:cNvPr id="229" name="Rectangle 13"/>
            <p:cNvSpPr/>
            <p:nvPr/>
          </p:nvSpPr>
          <p:spPr>
            <a:xfrm>
              <a:off x="0" y="4581360"/>
              <a:ext cx="9144000" cy="107964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0" name="Text Box 7"/>
            <p:cNvSpPr/>
            <p:nvPr/>
          </p:nvSpPr>
          <p:spPr>
            <a:xfrm>
              <a:off x="0" y="4581360"/>
              <a:ext cx="70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opper carbonate: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1" name="Group 16"/>
          <p:cNvGrpSpPr/>
          <p:nvPr/>
        </p:nvGrpSpPr>
        <p:grpSpPr>
          <a:xfrm>
            <a:off x="0" y="5778360"/>
            <a:ext cx="9144000" cy="1079640"/>
            <a:chOff x="0" y="5778360"/>
            <a:chExt cx="9144000" cy="1079640"/>
          </a:xfrm>
        </p:grpSpPr>
        <p:sp>
          <p:nvSpPr>
            <p:cNvPr id="232" name="Rectangle 14"/>
            <p:cNvSpPr/>
            <p:nvPr/>
          </p:nvSpPr>
          <p:spPr>
            <a:xfrm>
              <a:off x="0" y="5778360"/>
              <a:ext cx="9144000" cy="107964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" name="Text Box 8"/>
            <p:cNvSpPr/>
            <p:nvPr/>
          </p:nvSpPr>
          <p:spPr>
            <a:xfrm>
              <a:off x="0" y="5805360"/>
              <a:ext cx="30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Zinc carbonate: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4" name="Group 17"/>
          <p:cNvGrpSpPr/>
          <p:nvPr/>
        </p:nvGrpSpPr>
        <p:grpSpPr>
          <a:xfrm>
            <a:off x="0" y="5084640"/>
            <a:ext cx="9144000" cy="510120"/>
            <a:chOff x="0" y="5084640"/>
            <a:chExt cx="9144000" cy="510120"/>
          </a:xfrm>
        </p:grpSpPr>
        <p:sp>
          <p:nvSpPr>
            <p:cNvPr id="235" name="Text Box 9"/>
            <p:cNvSpPr/>
            <p:nvPr/>
          </p:nvSpPr>
          <p:spPr>
            <a:xfrm>
              <a:off x="0" y="5084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u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 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Cu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+ 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g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(Green – Black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6" name="Line 11"/>
            <p:cNvSpPr/>
            <p:nvPr/>
          </p:nvSpPr>
          <p:spPr>
            <a:xfrm>
              <a:off x="1763640" y="5300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7" name="Group 18"/>
          <p:cNvGrpSpPr/>
          <p:nvPr/>
        </p:nvGrpSpPr>
        <p:grpSpPr>
          <a:xfrm>
            <a:off x="0" y="6308640"/>
            <a:ext cx="9144000" cy="510120"/>
            <a:chOff x="0" y="6308640"/>
            <a:chExt cx="9144000" cy="510120"/>
          </a:xfrm>
        </p:grpSpPr>
        <p:sp>
          <p:nvSpPr>
            <p:cNvPr id="238" name="Text Box 10"/>
            <p:cNvSpPr/>
            <p:nvPr/>
          </p:nvSpPr>
          <p:spPr>
            <a:xfrm>
              <a:off x="0" y="6308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Zn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 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Zn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+ 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g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(White – Yellow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9" name="Line 12"/>
            <p:cNvSpPr/>
            <p:nvPr/>
          </p:nvSpPr>
          <p:spPr>
            <a:xfrm>
              <a:off x="1692360" y="6524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Sulphuric acid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0" y="620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ff"/>
                </a:solidFill>
                <a:latin typeface="Comic Sans MS"/>
              </a:rPr>
              <a:t>Sulphuric acid has many important uses – car batteries, detergents, fertilisers etc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0" y="1341360"/>
            <a:ext cx="9144000" cy="398880"/>
          </a:xfrm>
          <a:prstGeom prst="rect">
            <a:avLst/>
          </a:prstGeom>
          <a:solidFill>
            <a:srgbClr val="6f0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How sulphuric acid is made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0" y="1989000"/>
            <a:ext cx="37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1:  Burn sulphur in air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0" y="3139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2:  Pass the sulphur dioxide over a vanadium oxide catalyst at 450</a:t>
            </a:r>
            <a:r>
              <a:rPr b="0" i="1" lang="en-GB" sz="2000" spc="-1" strike="noStrike" baseline="30000">
                <a:solidFill>
                  <a:srgbClr val="ffcc99"/>
                </a:solidFill>
                <a:latin typeface="Comic Sans MS"/>
              </a:rPr>
              <a:t>O</a:t>
            </a: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C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0" y="4510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3:  Dissolve the sulphur trioxide in sulphuric acid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0" y="580536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4:  Add water to the oleum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7" name="Group 18"/>
          <p:cNvGrpSpPr/>
          <p:nvPr/>
        </p:nvGrpSpPr>
        <p:grpSpPr>
          <a:xfrm>
            <a:off x="0" y="2421000"/>
            <a:ext cx="9144000" cy="398880"/>
            <a:chOff x="0" y="2421000"/>
            <a:chExt cx="9144000" cy="398880"/>
          </a:xfrm>
        </p:grpSpPr>
        <p:sp>
          <p:nvSpPr>
            <p:cNvPr id="248" name="Text Box 10"/>
            <p:cNvSpPr/>
            <p:nvPr/>
          </p:nvSpPr>
          <p:spPr>
            <a:xfrm>
              <a:off x="0" y="242100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Sulphur + oxygen                sulphur dioxide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9" name="Line 14"/>
            <p:cNvSpPr/>
            <p:nvPr/>
          </p:nvSpPr>
          <p:spPr>
            <a:xfrm>
              <a:off x="4211640" y="263700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0" name="Group 20"/>
          <p:cNvGrpSpPr/>
          <p:nvPr/>
        </p:nvGrpSpPr>
        <p:grpSpPr>
          <a:xfrm>
            <a:off x="0" y="5013360"/>
            <a:ext cx="9144000" cy="368280"/>
            <a:chOff x="0" y="5013360"/>
            <a:chExt cx="9144000" cy="368280"/>
          </a:xfrm>
        </p:grpSpPr>
        <p:sp>
          <p:nvSpPr>
            <p:cNvPr id="251" name="Text Box 12"/>
            <p:cNvSpPr/>
            <p:nvPr/>
          </p:nvSpPr>
          <p:spPr>
            <a:xfrm>
              <a:off x="0" y="50133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Sulphur trioxide + conc. sulphuric acid                  oleum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2" name="Line 15"/>
            <p:cNvSpPr/>
            <p:nvPr/>
          </p:nvSpPr>
          <p:spPr>
            <a:xfrm>
              <a:off x="5796000" y="522936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0" y="3645000"/>
            <a:ext cx="9144000" cy="398880"/>
            <a:chOff x="0" y="3645000"/>
            <a:chExt cx="9144000" cy="398880"/>
          </a:xfrm>
        </p:grpSpPr>
        <p:sp>
          <p:nvSpPr>
            <p:cNvPr id="254" name="Text Box 11"/>
            <p:cNvSpPr/>
            <p:nvPr/>
          </p:nvSpPr>
          <p:spPr>
            <a:xfrm>
              <a:off x="0" y="364500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Sulphur dioxide + oxygen                   sulphur trioxide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5" name="Line 16"/>
            <p:cNvSpPr/>
            <p:nvPr/>
          </p:nvSpPr>
          <p:spPr>
            <a:xfrm>
              <a:off x="4716360" y="3860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6" name="Group 21"/>
          <p:cNvGrpSpPr/>
          <p:nvPr/>
        </p:nvGrpSpPr>
        <p:grpSpPr>
          <a:xfrm>
            <a:off x="0" y="6308640"/>
            <a:ext cx="9144000" cy="398880"/>
            <a:chOff x="0" y="6308640"/>
            <a:chExt cx="9144000" cy="398880"/>
          </a:xfrm>
        </p:grpSpPr>
        <p:sp>
          <p:nvSpPr>
            <p:cNvPr id="257" name="Text Box 13"/>
            <p:cNvSpPr/>
            <p:nvPr/>
          </p:nvSpPr>
          <p:spPr>
            <a:xfrm>
              <a:off x="0" y="630864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Oleum + water                  sulphuric acid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8" name="Line 17"/>
            <p:cNvSpPr/>
            <p:nvPr/>
          </p:nvSpPr>
          <p:spPr>
            <a:xfrm>
              <a:off x="4140360" y="6524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Sulphuric acid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Step 2 in the manufacture of sulphuric acid is an example of a reversible reacti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61" name="Group 34"/>
          <p:cNvGrpSpPr/>
          <p:nvPr/>
        </p:nvGrpSpPr>
        <p:grpSpPr>
          <a:xfrm>
            <a:off x="1332000" y="1773360"/>
            <a:ext cx="6264360" cy="510120"/>
            <a:chOff x="1332000" y="1773360"/>
            <a:chExt cx="6264360" cy="510120"/>
          </a:xfrm>
        </p:grpSpPr>
        <p:sp>
          <p:nvSpPr>
            <p:cNvPr id="262" name="Text Box 5"/>
            <p:cNvSpPr/>
            <p:nvPr/>
          </p:nvSpPr>
          <p:spPr>
            <a:xfrm>
              <a:off x="1332000" y="1773360"/>
              <a:ext cx="6264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2S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+ 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2S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63" name="Group 17"/>
            <p:cNvGrpSpPr/>
            <p:nvPr/>
          </p:nvGrpSpPr>
          <p:grpSpPr>
            <a:xfrm>
              <a:off x="4427640" y="1844640"/>
              <a:ext cx="792000" cy="293400"/>
              <a:chOff x="4427640" y="1844640"/>
              <a:chExt cx="792000" cy="293400"/>
            </a:xfrm>
          </p:grpSpPr>
          <p:grpSp>
            <p:nvGrpSpPr>
              <p:cNvPr id="264" name="Group 18"/>
              <p:cNvGrpSpPr/>
              <p:nvPr/>
            </p:nvGrpSpPr>
            <p:grpSpPr>
              <a:xfrm>
                <a:off x="4427640" y="1844640"/>
                <a:ext cx="792000" cy="196920"/>
                <a:chOff x="4427640" y="1844640"/>
                <a:chExt cx="792000" cy="196920"/>
              </a:xfrm>
            </p:grpSpPr>
            <p:sp>
              <p:nvSpPr>
                <p:cNvPr id="265" name="AutoShape 19"/>
                <p:cNvSpPr/>
                <p:nvPr/>
              </p:nvSpPr>
              <p:spPr>
                <a:xfrm>
                  <a:off x="4427640" y="1844640"/>
                  <a:ext cx="792000" cy="196920"/>
                </a:xfrm>
                <a:prstGeom prst="rightArrow">
                  <a:avLst>
                    <a:gd name="adj1" fmla="val 50000"/>
                    <a:gd name="adj2" fmla="val 100548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Rectangle 20"/>
                <p:cNvSpPr/>
                <p:nvPr/>
              </p:nvSpPr>
              <p:spPr>
                <a:xfrm>
                  <a:off x="4427640" y="1970280"/>
                  <a:ext cx="792000" cy="7128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7" name="AutoShape 21"/>
              <p:cNvSpPr/>
              <p:nvPr/>
            </p:nvSpPr>
            <p:spPr>
              <a:xfrm rot="10800000">
                <a:off x="4427640" y="1941120"/>
                <a:ext cx="792000" cy="196920"/>
              </a:xfrm>
              <a:prstGeom prst="rightArrow">
                <a:avLst>
                  <a:gd name="adj1" fmla="val 50000"/>
                  <a:gd name="adj2" fmla="val 100548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8" name="Rectangle 22"/>
              <p:cNvSpPr/>
              <p:nvPr/>
            </p:nvSpPr>
            <p:spPr>
              <a:xfrm rot="10800000">
                <a:off x="4427640" y="1969920"/>
                <a:ext cx="792000" cy="4284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9" name="Group 27"/>
          <p:cNvGrpSpPr/>
          <p:nvPr/>
        </p:nvGrpSpPr>
        <p:grpSpPr>
          <a:xfrm>
            <a:off x="6877080" y="1628640"/>
            <a:ext cx="1944720" cy="649440"/>
            <a:chOff x="6877080" y="1628640"/>
            <a:chExt cx="1944720" cy="649440"/>
          </a:xfrm>
        </p:grpSpPr>
        <p:sp>
          <p:nvSpPr>
            <p:cNvPr id="270" name="AutoShape 25"/>
            <p:cNvSpPr/>
            <p:nvPr/>
          </p:nvSpPr>
          <p:spPr>
            <a:xfrm>
              <a:off x="6877080" y="1628640"/>
              <a:ext cx="1871640" cy="649440"/>
            </a:xfrm>
            <a:prstGeom prst="rightArrow">
              <a:avLst>
                <a:gd name="adj1" fmla="val 50000"/>
                <a:gd name="adj2" fmla="val 72048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1" name="Text Box 23"/>
            <p:cNvSpPr/>
            <p:nvPr/>
          </p:nvSpPr>
          <p:spPr>
            <a:xfrm>
              <a:off x="6877080" y="1773360"/>
              <a:ext cx="19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Exothermic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72" name="Group 28"/>
          <p:cNvGrpSpPr/>
          <p:nvPr/>
        </p:nvGrpSpPr>
        <p:grpSpPr>
          <a:xfrm>
            <a:off x="394920" y="1628640"/>
            <a:ext cx="3024720" cy="649440"/>
            <a:chOff x="394920" y="1628640"/>
            <a:chExt cx="3024720" cy="649440"/>
          </a:xfrm>
        </p:grpSpPr>
        <p:sp>
          <p:nvSpPr>
            <p:cNvPr id="273" name="AutoShape 26"/>
            <p:cNvSpPr/>
            <p:nvPr/>
          </p:nvSpPr>
          <p:spPr>
            <a:xfrm flipH="1">
              <a:off x="394560" y="1628640"/>
              <a:ext cx="1871640" cy="649440"/>
            </a:xfrm>
            <a:prstGeom prst="rightArrow">
              <a:avLst>
                <a:gd name="adj1" fmla="val 50000"/>
                <a:gd name="adj2" fmla="val 72048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4" name="Text Box 24"/>
            <p:cNvSpPr/>
            <p:nvPr/>
          </p:nvSpPr>
          <p:spPr>
            <a:xfrm>
              <a:off x="611280" y="177336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Endothermic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75" name="Text Box 29"/>
          <p:cNvSpPr/>
          <p:nvPr/>
        </p:nvSpPr>
        <p:spPr>
          <a:xfrm>
            <a:off x="0" y="299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</a:rPr>
              <a:t>What would happen if the temperature was decreased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Text Box 31"/>
          <p:cNvSpPr/>
          <p:nvPr/>
        </p:nvSpPr>
        <p:spPr>
          <a:xfrm>
            <a:off x="0" y="5734080"/>
            <a:ext cx="91440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olution – use 45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 as a compromi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Text Box 32"/>
          <p:cNvSpPr/>
          <p:nvPr/>
        </p:nvSpPr>
        <p:spPr>
          <a:xfrm>
            <a:off x="0" y="3860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99"/>
                </a:solidFill>
                <a:latin typeface="Comic Sans MS"/>
              </a:rPr>
              <a:t>The reaction would favour the production of sulphur trioxide BUT the reaction would happen at a slower rat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1979640" y="1268280"/>
            <a:ext cx="5219640" cy="432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7" name="Group 123"/>
          <p:cNvGrpSpPr/>
          <p:nvPr/>
        </p:nvGrpSpPr>
        <p:grpSpPr>
          <a:xfrm>
            <a:off x="3132000" y="2349360"/>
            <a:ext cx="587520" cy="3156120"/>
            <a:chOff x="3132000" y="2349360"/>
            <a:chExt cx="587520" cy="3156120"/>
          </a:xfrm>
        </p:grpSpPr>
        <p:sp>
          <p:nvSpPr>
            <p:cNvPr id="48" name="AutoShape 89"/>
            <p:cNvSpPr/>
            <p:nvPr/>
          </p:nvSpPr>
          <p:spPr>
            <a:xfrm>
              <a:off x="3132000" y="2349360"/>
              <a:ext cx="587520" cy="31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" name="Freeform 91"/>
            <p:cNvSpPr/>
            <p:nvPr/>
          </p:nvSpPr>
          <p:spPr>
            <a:xfrm>
              <a:off x="3166920" y="2428920"/>
              <a:ext cx="243000" cy="93600"/>
            </a:xfrm>
            <a:custGeom>
              <a:avLst/>
              <a:gdLst/>
              <a:ahLst/>
              <a:rect l="l" t="t" r="r" b="b"/>
              <a:pathLst>
                <a:path w="764" h="293">
                  <a:moveTo>
                    <a:pt x="204" y="293"/>
                  </a:moveTo>
                  <a:lnTo>
                    <a:pt x="207" y="237"/>
                  </a:lnTo>
                  <a:lnTo>
                    <a:pt x="239" y="196"/>
                  </a:lnTo>
                  <a:lnTo>
                    <a:pt x="295" y="169"/>
                  </a:lnTo>
                  <a:lnTo>
                    <a:pt x="368" y="149"/>
                  </a:lnTo>
                  <a:lnTo>
                    <a:pt x="457" y="136"/>
                  </a:lnTo>
                  <a:lnTo>
                    <a:pt x="554" y="123"/>
                  </a:lnTo>
                  <a:lnTo>
                    <a:pt x="764" y="86"/>
                  </a:lnTo>
                  <a:lnTo>
                    <a:pt x="621" y="79"/>
                  </a:lnTo>
                  <a:lnTo>
                    <a:pt x="486" y="68"/>
                  </a:lnTo>
                  <a:lnTo>
                    <a:pt x="364" y="54"/>
                  </a:lnTo>
                  <a:lnTo>
                    <a:pt x="254" y="38"/>
                  </a:lnTo>
                  <a:lnTo>
                    <a:pt x="160" y="23"/>
                  </a:lnTo>
                  <a:lnTo>
                    <a:pt x="85" y="11"/>
                  </a:lnTo>
                  <a:lnTo>
                    <a:pt x="31" y="3"/>
                  </a:lnTo>
                  <a:lnTo>
                    <a:pt x="0" y="0"/>
                  </a:lnTo>
                  <a:lnTo>
                    <a:pt x="9" y="9"/>
                  </a:lnTo>
                  <a:lnTo>
                    <a:pt x="33" y="34"/>
                  </a:lnTo>
                  <a:lnTo>
                    <a:pt x="65" y="70"/>
                  </a:lnTo>
                  <a:lnTo>
                    <a:pt x="101" y="114"/>
                  </a:lnTo>
                  <a:lnTo>
                    <a:pt x="170" y="211"/>
                  </a:lnTo>
                  <a:lnTo>
                    <a:pt x="194" y="256"/>
                  </a:lnTo>
                  <a:lnTo>
                    <a:pt x="204" y="293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" name="Freeform 92"/>
            <p:cNvSpPr/>
            <p:nvPr/>
          </p:nvSpPr>
          <p:spPr>
            <a:xfrm>
              <a:off x="3456000" y="291780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429" y="0"/>
                  </a:lnTo>
                  <a:lnTo>
                    <a:pt x="430" y="3030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" name="Freeform 93"/>
            <p:cNvSpPr/>
            <p:nvPr/>
          </p:nvSpPr>
          <p:spPr>
            <a:xfrm>
              <a:off x="3254400" y="5246640"/>
              <a:ext cx="10800" cy="76320"/>
            </a:xfrm>
            <a:custGeom>
              <a:avLst/>
              <a:gdLst/>
              <a:ahLst/>
              <a:rect l="l" t="t" r="r" b="b"/>
              <a:pathLst>
                <a:path w="34" h="244">
                  <a:moveTo>
                    <a:pt x="34" y="244"/>
                  </a:moveTo>
                  <a:lnTo>
                    <a:pt x="24" y="213"/>
                  </a:lnTo>
                  <a:lnTo>
                    <a:pt x="6" y="12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34" y="244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" name="Freeform 94"/>
            <p:cNvSpPr/>
            <p:nvPr/>
          </p:nvSpPr>
          <p:spPr>
            <a:xfrm>
              <a:off x="3254400" y="5075280"/>
              <a:ext cx="45720" cy="320760"/>
            </a:xfrm>
            <a:custGeom>
              <a:avLst/>
              <a:gdLst/>
              <a:ahLst/>
              <a:rect l="l" t="t" r="r" b="b"/>
              <a:pathLst>
                <a:path w="144" h="1012">
                  <a:moveTo>
                    <a:pt x="144" y="1012"/>
                  </a:moveTo>
                  <a:lnTo>
                    <a:pt x="126" y="984"/>
                  </a:lnTo>
                  <a:lnTo>
                    <a:pt x="81" y="900"/>
                  </a:lnTo>
                  <a:lnTo>
                    <a:pt x="44" y="812"/>
                  </a:lnTo>
                  <a:lnTo>
                    <a:pt x="35" y="784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144" y="1012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Freeform 95"/>
            <p:cNvSpPr/>
            <p:nvPr/>
          </p:nvSpPr>
          <p:spPr>
            <a:xfrm>
              <a:off x="3254400" y="4903920"/>
              <a:ext cx="74520" cy="528480"/>
            </a:xfrm>
            <a:custGeom>
              <a:avLst/>
              <a:gdLst/>
              <a:ahLst/>
              <a:rect l="l" t="t" r="r" b="b"/>
              <a:pathLst>
                <a:path w="237" h="1669">
                  <a:moveTo>
                    <a:pt x="237" y="1669"/>
                  </a:moveTo>
                  <a:lnTo>
                    <a:pt x="199" y="1627"/>
                  </a:lnTo>
                  <a:lnTo>
                    <a:pt x="161" y="1577"/>
                  </a:lnTo>
                  <a:lnTo>
                    <a:pt x="144" y="1552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237" y="1669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Freeform 96"/>
            <p:cNvSpPr/>
            <p:nvPr/>
          </p:nvSpPr>
          <p:spPr>
            <a:xfrm>
              <a:off x="3254400" y="4732200"/>
              <a:ext cx="101520" cy="723960"/>
            </a:xfrm>
            <a:custGeom>
              <a:avLst/>
              <a:gdLst/>
              <a:ahLst/>
              <a:rect l="l" t="t" r="r" b="b"/>
              <a:pathLst>
                <a:path w="323" h="2283">
                  <a:moveTo>
                    <a:pt x="323" y="2283"/>
                  </a:moveTo>
                  <a:lnTo>
                    <a:pt x="285" y="2253"/>
                  </a:lnTo>
                  <a:lnTo>
                    <a:pt x="241" y="2212"/>
                  </a:lnTo>
                  <a:lnTo>
                    <a:pt x="237" y="2209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323" y="2283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" name="Freeform 97"/>
            <p:cNvSpPr/>
            <p:nvPr/>
          </p:nvSpPr>
          <p:spPr>
            <a:xfrm>
              <a:off x="3254400" y="4560840"/>
              <a:ext cx="128520" cy="909720"/>
            </a:xfrm>
            <a:custGeom>
              <a:avLst/>
              <a:gdLst/>
              <a:ahLst/>
              <a:rect l="l" t="t" r="r" b="b"/>
              <a:pathLst>
                <a:path w="407" h="2868">
                  <a:moveTo>
                    <a:pt x="407" y="2868"/>
                  </a:moveTo>
                  <a:lnTo>
                    <a:pt x="381" y="2857"/>
                  </a:lnTo>
                  <a:lnTo>
                    <a:pt x="331" y="2828"/>
                  </a:lnTo>
                  <a:lnTo>
                    <a:pt x="324" y="282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407" y="286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" name="Freeform 98"/>
            <p:cNvSpPr/>
            <p:nvPr/>
          </p:nvSpPr>
          <p:spPr>
            <a:xfrm>
              <a:off x="3254400" y="4387680"/>
              <a:ext cx="153720" cy="1090800"/>
            </a:xfrm>
            <a:custGeom>
              <a:avLst/>
              <a:gdLst/>
              <a:ahLst/>
              <a:rect l="l" t="t" r="r" b="b"/>
              <a:pathLst>
                <a:path w="486" h="3433">
                  <a:moveTo>
                    <a:pt x="486" y="3433"/>
                  </a:moveTo>
                  <a:lnTo>
                    <a:pt x="483" y="3432"/>
                  </a:lnTo>
                  <a:lnTo>
                    <a:pt x="431" y="3419"/>
                  </a:lnTo>
                  <a:lnTo>
                    <a:pt x="407" y="3409"/>
                  </a:lnTo>
                  <a:lnTo>
                    <a:pt x="0" y="541"/>
                  </a:lnTo>
                  <a:lnTo>
                    <a:pt x="0" y="0"/>
                  </a:lnTo>
                  <a:lnTo>
                    <a:pt x="486" y="3433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7" name="Freeform 99"/>
            <p:cNvSpPr/>
            <p:nvPr/>
          </p:nvSpPr>
          <p:spPr>
            <a:xfrm>
              <a:off x="3252600" y="4216320"/>
              <a:ext cx="179280" cy="1263600"/>
            </a:xfrm>
            <a:custGeom>
              <a:avLst/>
              <a:gdLst/>
              <a:ahLst/>
              <a:rect l="l" t="t" r="r" b="b"/>
              <a:pathLst>
                <a:path w="563" h="3976">
                  <a:moveTo>
                    <a:pt x="537" y="3976"/>
                  </a:moveTo>
                  <a:lnTo>
                    <a:pt x="487" y="397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563" y="3974"/>
                  </a:lnTo>
                  <a:lnTo>
                    <a:pt x="537" y="3976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" name="Freeform 100"/>
            <p:cNvSpPr/>
            <p:nvPr/>
          </p:nvSpPr>
          <p:spPr>
            <a:xfrm>
              <a:off x="3252600" y="4046400"/>
              <a:ext cx="203400" cy="1432080"/>
            </a:xfrm>
            <a:custGeom>
              <a:avLst/>
              <a:gdLst/>
              <a:ahLst/>
              <a:rect l="l" t="t" r="r" b="b"/>
              <a:pathLst>
                <a:path w="638" h="4513">
                  <a:moveTo>
                    <a:pt x="563" y="4513"/>
                  </a:moveTo>
                  <a:lnTo>
                    <a:pt x="0" y="539"/>
                  </a:lnTo>
                  <a:lnTo>
                    <a:pt x="0" y="0"/>
                  </a:lnTo>
                  <a:lnTo>
                    <a:pt x="638" y="4499"/>
                  </a:lnTo>
                  <a:lnTo>
                    <a:pt x="591" y="4511"/>
                  </a:lnTo>
                  <a:lnTo>
                    <a:pt x="563" y="4513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" name="Freeform 101"/>
            <p:cNvSpPr/>
            <p:nvPr/>
          </p:nvSpPr>
          <p:spPr>
            <a:xfrm>
              <a:off x="3252600" y="3875040"/>
              <a:ext cx="225360" cy="1598760"/>
            </a:xfrm>
            <a:custGeom>
              <a:avLst/>
              <a:gdLst/>
              <a:ahLst/>
              <a:rect l="l" t="t" r="r" b="b"/>
              <a:pathLst>
                <a:path w="710" h="5039">
                  <a:moveTo>
                    <a:pt x="638" y="5039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710" y="5007"/>
                  </a:lnTo>
                  <a:lnTo>
                    <a:pt x="693" y="5017"/>
                  </a:lnTo>
                  <a:lnTo>
                    <a:pt x="643" y="5038"/>
                  </a:lnTo>
                  <a:lnTo>
                    <a:pt x="638" y="5039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" name="Freeform 102"/>
            <p:cNvSpPr/>
            <p:nvPr/>
          </p:nvSpPr>
          <p:spPr>
            <a:xfrm>
              <a:off x="3252600" y="3701880"/>
              <a:ext cx="247680" cy="1762200"/>
            </a:xfrm>
            <a:custGeom>
              <a:avLst/>
              <a:gdLst/>
              <a:ahLst/>
              <a:rect l="l" t="t" r="r" b="b"/>
              <a:pathLst>
                <a:path w="780" h="5548">
                  <a:moveTo>
                    <a:pt x="710" y="5548"/>
                  </a:moveTo>
                  <a:lnTo>
                    <a:pt x="0" y="541"/>
                  </a:lnTo>
                  <a:lnTo>
                    <a:pt x="0" y="0"/>
                  </a:lnTo>
                  <a:lnTo>
                    <a:pt x="780" y="5501"/>
                  </a:lnTo>
                  <a:lnTo>
                    <a:pt x="741" y="5529"/>
                  </a:lnTo>
                  <a:lnTo>
                    <a:pt x="710" y="554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3252600" y="3530520"/>
              <a:ext cx="270000" cy="1919520"/>
            </a:xfrm>
            <a:custGeom>
              <a:avLst/>
              <a:gdLst/>
              <a:ahLst/>
              <a:rect l="l" t="t" r="r" b="b"/>
              <a:pathLst>
                <a:path w="848" h="6041">
                  <a:moveTo>
                    <a:pt x="781" y="6041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848" y="5978"/>
                  </a:lnTo>
                  <a:lnTo>
                    <a:pt x="833" y="5993"/>
                  </a:lnTo>
                  <a:lnTo>
                    <a:pt x="789" y="6034"/>
                  </a:lnTo>
                  <a:lnTo>
                    <a:pt x="781" y="6041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>
              <a:off x="3252600" y="3359160"/>
              <a:ext cx="290520" cy="2070000"/>
            </a:xfrm>
            <a:custGeom>
              <a:avLst/>
              <a:gdLst/>
              <a:ahLst/>
              <a:rect l="l" t="t" r="r" b="b"/>
              <a:pathLst>
                <a:path w="912" h="6518">
                  <a:moveTo>
                    <a:pt x="848" y="6518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912" y="6438"/>
                  </a:lnTo>
                  <a:lnTo>
                    <a:pt x="875" y="6488"/>
                  </a:lnTo>
                  <a:lnTo>
                    <a:pt x="848" y="651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3252600" y="3187800"/>
              <a:ext cx="309600" cy="2216160"/>
            </a:xfrm>
            <a:custGeom>
              <a:avLst/>
              <a:gdLst/>
              <a:ahLst/>
              <a:rect l="l" t="t" r="r" b="b"/>
              <a:pathLst>
                <a:path w="976" h="6978">
                  <a:moveTo>
                    <a:pt x="913" y="6978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976" y="6877"/>
                  </a:lnTo>
                  <a:lnTo>
                    <a:pt x="949" y="6926"/>
                  </a:lnTo>
                  <a:lnTo>
                    <a:pt x="913" y="697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>
              <a:off x="3252600" y="3016080"/>
              <a:ext cx="328680" cy="2356200"/>
            </a:xfrm>
            <a:custGeom>
              <a:avLst/>
              <a:gdLst/>
              <a:ahLst/>
              <a:rect l="l" t="t" r="r" b="b"/>
              <a:pathLst>
                <a:path w="1035" h="7418">
                  <a:moveTo>
                    <a:pt x="977" y="7418"/>
                  </a:moveTo>
                  <a:lnTo>
                    <a:pt x="1" y="541"/>
                  </a:lnTo>
                  <a:lnTo>
                    <a:pt x="0" y="0"/>
                  </a:lnTo>
                  <a:lnTo>
                    <a:pt x="1035" y="7286"/>
                  </a:lnTo>
                  <a:lnTo>
                    <a:pt x="1031" y="7294"/>
                  </a:lnTo>
                  <a:lnTo>
                    <a:pt x="981" y="7410"/>
                  </a:lnTo>
                  <a:lnTo>
                    <a:pt x="977" y="741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5" name="Freeform 107"/>
            <p:cNvSpPr/>
            <p:nvPr/>
          </p:nvSpPr>
          <p:spPr>
            <a:xfrm>
              <a:off x="3252600" y="2917800"/>
              <a:ext cx="341280" cy="2411280"/>
            </a:xfrm>
            <a:custGeom>
              <a:avLst/>
              <a:gdLst/>
              <a:ahLst/>
              <a:rect l="l" t="t" r="r" b="b"/>
              <a:pathLst>
                <a:path w="1074" h="7596">
                  <a:moveTo>
                    <a:pt x="1035" y="7596"/>
                  </a:moveTo>
                  <a:lnTo>
                    <a:pt x="0" y="31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1074" y="7345"/>
                  </a:lnTo>
                  <a:lnTo>
                    <a:pt x="1074" y="7372"/>
                  </a:lnTo>
                  <a:lnTo>
                    <a:pt x="1069" y="7456"/>
                  </a:lnTo>
                  <a:lnTo>
                    <a:pt x="1050" y="7545"/>
                  </a:lnTo>
                  <a:lnTo>
                    <a:pt x="1035" y="7596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6" name="Freeform 108"/>
            <p:cNvSpPr/>
            <p:nvPr/>
          </p:nvSpPr>
          <p:spPr>
            <a:xfrm>
              <a:off x="3262320" y="2917800"/>
              <a:ext cx="331560" cy="2332080"/>
            </a:xfrm>
            <a:custGeom>
              <a:avLst/>
              <a:gdLst/>
              <a:ahLst/>
              <a:rect l="l" t="t" r="r" b="b"/>
              <a:pathLst>
                <a:path w="1042" h="7345">
                  <a:moveTo>
                    <a:pt x="1042" y="7345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1042" y="6805"/>
                  </a:lnTo>
                  <a:lnTo>
                    <a:pt x="1042" y="7345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Freeform 109"/>
            <p:cNvSpPr/>
            <p:nvPr/>
          </p:nvSpPr>
          <p:spPr>
            <a:xfrm>
              <a:off x="3286080" y="2917800"/>
              <a:ext cx="307800" cy="2160720"/>
            </a:xfrm>
            <a:custGeom>
              <a:avLst/>
              <a:gdLst/>
              <a:ahLst/>
              <a:rect l="l" t="t" r="r" b="b"/>
              <a:pathLst>
                <a:path w="966" h="6805">
                  <a:moveTo>
                    <a:pt x="966" y="6805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966" y="6265"/>
                  </a:lnTo>
                  <a:lnTo>
                    <a:pt x="966" y="6805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" name="Freeform 110"/>
            <p:cNvSpPr/>
            <p:nvPr/>
          </p:nvSpPr>
          <p:spPr>
            <a:xfrm>
              <a:off x="3311280" y="2917800"/>
              <a:ext cx="282600" cy="1989000"/>
            </a:xfrm>
            <a:custGeom>
              <a:avLst/>
              <a:gdLst/>
              <a:ahLst/>
              <a:rect l="l" t="t" r="r" b="b"/>
              <a:pathLst>
                <a:path w="888" h="6265">
                  <a:moveTo>
                    <a:pt x="888" y="6265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888" y="5727"/>
                  </a:lnTo>
                  <a:lnTo>
                    <a:pt x="888" y="6265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" name="Freeform 111"/>
            <p:cNvSpPr/>
            <p:nvPr/>
          </p:nvSpPr>
          <p:spPr>
            <a:xfrm>
              <a:off x="3335040" y="2917800"/>
              <a:ext cx="258840" cy="1819440"/>
            </a:xfrm>
            <a:custGeom>
              <a:avLst/>
              <a:gdLst/>
              <a:ahLst/>
              <a:rect l="l" t="t" r="r" b="b"/>
              <a:pathLst>
                <a:path w="813" h="5727">
                  <a:moveTo>
                    <a:pt x="813" y="572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812" y="5187"/>
                  </a:lnTo>
                  <a:lnTo>
                    <a:pt x="813" y="5727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" name="Freeform 112"/>
            <p:cNvSpPr/>
            <p:nvPr/>
          </p:nvSpPr>
          <p:spPr>
            <a:xfrm>
              <a:off x="3359160" y="2917800"/>
              <a:ext cx="233280" cy="1647720"/>
            </a:xfrm>
            <a:custGeom>
              <a:avLst/>
              <a:gdLst/>
              <a:ahLst/>
              <a:rect l="l" t="t" r="r" b="b"/>
              <a:pathLst>
                <a:path w="736" h="5187">
                  <a:moveTo>
                    <a:pt x="736" y="518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36" y="4648"/>
                  </a:lnTo>
                  <a:lnTo>
                    <a:pt x="736" y="5187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1" name="Freeform 113"/>
            <p:cNvSpPr/>
            <p:nvPr/>
          </p:nvSpPr>
          <p:spPr>
            <a:xfrm>
              <a:off x="3384360" y="2917800"/>
              <a:ext cx="208080" cy="1476360"/>
            </a:xfrm>
            <a:custGeom>
              <a:avLst/>
              <a:gdLst/>
              <a:ahLst/>
              <a:rect l="l" t="t" r="r" b="b"/>
              <a:pathLst>
                <a:path w="658" h="4648">
                  <a:moveTo>
                    <a:pt x="658" y="4648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658" y="4108"/>
                  </a:lnTo>
                  <a:lnTo>
                    <a:pt x="658" y="464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" name="Freeform 114"/>
            <p:cNvSpPr/>
            <p:nvPr/>
          </p:nvSpPr>
          <p:spPr>
            <a:xfrm>
              <a:off x="3408120" y="2917800"/>
              <a:ext cx="184320" cy="1305000"/>
            </a:xfrm>
            <a:custGeom>
              <a:avLst/>
              <a:gdLst/>
              <a:ahLst/>
              <a:rect l="l" t="t" r="r" b="b"/>
              <a:pathLst>
                <a:path w="583" h="4108">
                  <a:moveTo>
                    <a:pt x="583" y="4108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83" y="3569"/>
                  </a:lnTo>
                  <a:lnTo>
                    <a:pt x="583" y="410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" name="Freeform 115"/>
            <p:cNvSpPr/>
            <p:nvPr/>
          </p:nvSpPr>
          <p:spPr>
            <a:xfrm>
              <a:off x="3431880" y="2917800"/>
              <a:ext cx="160560" cy="1133640"/>
            </a:xfrm>
            <a:custGeom>
              <a:avLst/>
              <a:gdLst/>
              <a:ahLst/>
              <a:rect l="l" t="t" r="r" b="b"/>
              <a:pathLst>
                <a:path w="507" h="3569">
                  <a:moveTo>
                    <a:pt x="507" y="3569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06" y="3030"/>
                  </a:lnTo>
                  <a:lnTo>
                    <a:pt x="507" y="3569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" name="Freeform 116"/>
            <p:cNvSpPr/>
            <p:nvPr/>
          </p:nvSpPr>
          <p:spPr>
            <a:xfrm>
              <a:off x="3456000" y="291780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430" y="2490"/>
                  </a:lnTo>
                  <a:lnTo>
                    <a:pt x="430" y="3030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" name="Freeform 117"/>
            <p:cNvSpPr/>
            <p:nvPr/>
          </p:nvSpPr>
          <p:spPr>
            <a:xfrm>
              <a:off x="3252600" y="2917800"/>
              <a:ext cx="341280" cy="2562120"/>
            </a:xfrm>
            <a:custGeom>
              <a:avLst/>
              <a:gdLst/>
              <a:ahLst/>
              <a:rect l="l" t="t" r="r" b="b"/>
              <a:pathLst>
                <a:path w="1074" h="8067">
                  <a:moveTo>
                    <a:pt x="1071" y="0"/>
                  </a:moveTo>
                  <a:lnTo>
                    <a:pt x="1074" y="7372"/>
                  </a:lnTo>
                  <a:lnTo>
                    <a:pt x="1063" y="7486"/>
                  </a:lnTo>
                  <a:lnTo>
                    <a:pt x="1031" y="7605"/>
                  </a:lnTo>
                  <a:lnTo>
                    <a:pt x="980" y="7720"/>
                  </a:lnTo>
                  <a:lnTo>
                    <a:pt x="914" y="7829"/>
                  </a:lnTo>
                  <a:lnTo>
                    <a:pt x="835" y="7924"/>
                  </a:lnTo>
                  <a:lnTo>
                    <a:pt x="744" y="8000"/>
                  </a:lnTo>
                  <a:lnTo>
                    <a:pt x="645" y="8050"/>
                  </a:lnTo>
                  <a:lnTo>
                    <a:pt x="540" y="8067"/>
                  </a:lnTo>
                  <a:lnTo>
                    <a:pt x="435" y="8050"/>
                  </a:lnTo>
                  <a:lnTo>
                    <a:pt x="336" y="8000"/>
                  </a:lnTo>
                  <a:lnTo>
                    <a:pt x="246" y="7924"/>
                  </a:lnTo>
                  <a:lnTo>
                    <a:pt x="166" y="7829"/>
                  </a:lnTo>
                  <a:lnTo>
                    <a:pt x="99" y="7720"/>
                  </a:lnTo>
                  <a:lnTo>
                    <a:pt x="49" y="7604"/>
                  </a:lnTo>
                  <a:lnTo>
                    <a:pt x="18" y="7486"/>
                  </a:lnTo>
                  <a:lnTo>
                    <a:pt x="6" y="7372"/>
                  </a:lnTo>
                  <a:lnTo>
                    <a:pt x="0" y="0"/>
                  </a:lnTo>
                  <a:lnTo>
                    <a:pt x="1071" y="0"/>
                  </a:lnTo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468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" name="Freeform 118"/>
            <p:cNvSpPr/>
            <p:nvPr/>
          </p:nvSpPr>
          <p:spPr>
            <a:xfrm>
              <a:off x="3133440" y="2351160"/>
              <a:ext cx="581040" cy="102960"/>
            </a:xfrm>
            <a:custGeom>
              <a:avLst/>
              <a:gdLst/>
              <a:ahLst/>
              <a:rect l="l" t="t" r="r" b="b"/>
              <a:pathLst>
                <a:path w="1827" h="321">
                  <a:moveTo>
                    <a:pt x="0" y="160"/>
                  </a:moveTo>
                  <a:lnTo>
                    <a:pt x="19" y="193"/>
                  </a:lnTo>
                  <a:lnTo>
                    <a:pt x="72" y="222"/>
                  </a:lnTo>
                  <a:lnTo>
                    <a:pt x="156" y="250"/>
                  </a:lnTo>
                  <a:lnTo>
                    <a:pt x="267" y="273"/>
                  </a:lnTo>
                  <a:lnTo>
                    <a:pt x="403" y="294"/>
                  </a:lnTo>
                  <a:lnTo>
                    <a:pt x="559" y="308"/>
                  </a:lnTo>
                  <a:lnTo>
                    <a:pt x="730" y="317"/>
                  </a:lnTo>
                  <a:lnTo>
                    <a:pt x="913" y="321"/>
                  </a:lnTo>
                  <a:lnTo>
                    <a:pt x="1098" y="317"/>
                  </a:lnTo>
                  <a:lnTo>
                    <a:pt x="1269" y="308"/>
                  </a:lnTo>
                  <a:lnTo>
                    <a:pt x="1425" y="294"/>
                  </a:lnTo>
                  <a:lnTo>
                    <a:pt x="1559" y="273"/>
                  </a:lnTo>
                  <a:lnTo>
                    <a:pt x="1671" y="250"/>
                  </a:lnTo>
                  <a:lnTo>
                    <a:pt x="1754" y="222"/>
                  </a:lnTo>
                  <a:lnTo>
                    <a:pt x="1808" y="193"/>
                  </a:lnTo>
                  <a:lnTo>
                    <a:pt x="1827" y="160"/>
                  </a:lnTo>
                  <a:lnTo>
                    <a:pt x="1808" y="128"/>
                  </a:lnTo>
                  <a:lnTo>
                    <a:pt x="1754" y="98"/>
                  </a:lnTo>
                  <a:lnTo>
                    <a:pt x="1671" y="71"/>
                  </a:lnTo>
                  <a:lnTo>
                    <a:pt x="1559" y="47"/>
                  </a:lnTo>
                  <a:lnTo>
                    <a:pt x="1425" y="28"/>
                  </a:lnTo>
                  <a:lnTo>
                    <a:pt x="1269" y="12"/>
                  </a:lnTo>
                  <a:lnTo>
                    <a:pt x="1098" y="3"/>
                  </a:lnTo>
                  <a:lnTo>
                    <a:pt x="913" y="0"/>
                  </a:lnTo>
                  <a:lnTo>
                    <a:pt x="730" y="3"/>
                  </a:lnTo>
                  <a:lnTo>
                    <a:pt x="559" y="12"/>
                  </a:lnTo>
                  <a:lnTo>
                    <a:pt x="403" y="28"/>
                  </a:lnTo>
                  <a:lnTo>
                    <a:pt x="267" y="47"/>
                  </a:lnTo>
                  <a:lnTo>
                    <a:pt x="156" y="71"/>
                  </a:lnTo>
                  <a:lnTo>
                    <a:pt x="72" y="98"/>
                  </a:lnTo>
                  <a:lnTo>
                    <a:pt x="19" y="128"/>
                  </a:lnTo>
                  <a:lnTo>
                    <a:pt x="0" y="16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" name="Freeform 119"/>
            <p:cNvSpPr/>
            <p:nvPr/>
          </p:nvSpPr>
          <p:spPr>
            <a:xfrm>
              <a:off x="3252600" y="288612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8" name="Freeform 120"/>
            <p:cNvSpPr/>
            <p:nvPr/>
          </p:nvSpPr>
          <p:spPr>
            <a:xfrm>
              <a:off x="3252600" y="288612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468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9" name="Freeform 121"/>
            <p:cNvSpPr/>
            <p:nvPr/>
          </p:nvSpPr>
          <p:spPr>
            <a:xfrm>
              <a:off x="3133440" y="2401920"/>
              <a:ext cx="581040" cy="3097080"/>
            </a:xfrm>
            <a:custGeom>
              <a:avLst/>
              <a:gdLst/>
              <a:ahLst/>
              <a:rect l="l" t="t" r="r" b="b"/>
              <a:pathLst>
                <a:path w="1827" h="9755">
                  <a:moveTo>
                    <a:pt x="1827" y="0"/>
                  </a:moveTo>
                  <a:lnTo>
                    <a:pt x="1694" y="143"/>
                  </a:lnTo>
                  <a:lnTo>
                    <a:pt x="1588" y="266"/>
                  </a:lnTo>
                  <a:lnTo>
                    <a:pt x="1518" y="381"/>
                  </a:lnTo>
                  <a:lnTo>
                    <a:pt x="1499" y="440"/>
                  </a:lnTo>
                  <a:lnTo>
                    <a:pt x="1493" y="499"/>
                  </a:lnTo>
                  <a:lnTo>
                    <a:pt x="1493" y="9047"/>
                  </a:lnTo>
                  <a:lnTo>
                    <a:pt x="1480" y="9166"/>
                  </a:lnTo>
                  <a:lnTo>
                    <a:pt x="1446" y="9286"/>
                  </a:lnTo>
                  <a:lnTo>
                    <a:pt x="1391" y="9406"/>
                  </a:lnTo>
                  <a:lnTo>
                    <a:pt x="1319" y="9516"/>
                  </a:lnTo>
                  <a:lnTo>
                    <a:pt x="1233" y="9612"/>
                  </a:lnTo>
                  <a:lnTo>
                    <a:pt x="1134" y="9687"/>
                  </a:lnTo>
                  <a:lnTo>
                    <a:pt x="1028" y="9737"/>
                  </a:lnTo>
                  <a:lnTo>
                    <a:pt x="913" y="9755"/>
                  </a:lnTo>
                  <a:lnTo>
                    <a:pt x="799" y="9737"/>
                  </a:lnTo>
                  <a:lnTo>
                    <a:pt x="691" y="9687"/>
                  </a:lnTo>
                  <a:lnTo>
                    <a:pt x="591" y="9611"/>
                  </a:lnTo>
                  <a:lnTo>
                    <a:pt x="504" y="9516"/>
                  </a:lnTo>
                  <a:lnTo>
                    <a:pt x="430" y="9406"/>
                  </a:lnTo>
                  <a:lnTo>
                    <a:pt x="375" y="9286"/>
                  </a:lnTo>
                  <a:lnTo>
                    <a:pt x="340" y="9165"/>
                  </a:lnTo>
                  <a:lnTo>
                    <a:pt x="327" y="9047"/>
                  </a:lnTo>
                  <a:lnTo>
                    <a:pt x="327" y="499"/>
                  </a:lnTo>
                  <a:lnTo>
                    <a:pt x="322" y="439"/>
                  </a:lnTo>
                  <a:lnTo>
                    <a:pt x="305" y="377"/>
                  </a:lnTo>
                  <a:lnTo>
                    <a:pt x="241" y="251"/>
                  </a:lnTo>
                  <a:lnTo>
                    <a:pt x="138" y="124"/>
                  </a:lnTo>
                  <a:lnTo>
                    <a:pt x="0" y="0"/>
                  </a:lnTo>
                  <a:lnTo>
                    <a:pt x="19" y="33"/>
                  </a:lnTo>
                  <a:lnTo>
                    <a:pt x="72" y="62"/>
                  </a:lnTo>
                  <a:lnTo>
                    <a:pt x="156" y="90"/>
                  </a:lnTo>
                  <a:lnTo>
                    <a:pt x="267" y="113"/>
                  </a:lnTo>
                  <a:lnTo>
                    <a:pt x="403" y="134"/>
                  </a:lnTo>
                  <a:lnTo>
                    <a:pt x="559" y="148"/>
                  </a:lnTo>
                  <a:lnTo>
                    <a:pt x="730" y="157"/>
                  </a:lnTo>
                  <a:lnTo>
                    <a:pt x="913" y="161"/>
                  </a:lnTo>
                  <a:lnTo>
                    <a:pt x="1098" y="157"/>
                  </a:lnTo>
                  <a:lnTo>
                    <a:pt x="1269" y="148"/>
                  </a:lnTo>
                  <a:lnTo>
                    <a:pt x="1425" y="134"/>
                  </a:lnTo>
                  <a:lnTo>
                    <a:pt x="1559" y="113"/>
                  </a:lnTo>
                  <a:lnTo>
                    <a:pt x="1671" y="90"/>
                  </a:lnTo>
                  <a:lnTo>
                    <a:pt x="1754" y="62"/>
                  </a:lnTo>
                  <a:lnTo>
                    <a:pt x="1808" y="33"/>
                  </a:lnTo>
                  <a:lnTo>
                    <a:pt x="182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" name="Freeform 122"/>
            <p:cNvSpPr/>
            <p:nvPr/>
          </p:nvSpPr>
          <p:spPr>
            <a:xfrm>
              <a:off x="3402000" y="2360520"/>
              <a:ext cx="306360" cy="49320"/>
            </a:xfrm>
            <a:custGeom>
              <a:avLst/>
              <a:gdLst/>
              <a:ahLst/>
              <a:rect l="l" t="t" r="r" b="b"/>
              <a:pathLst>
                <a:path w="967" h="156">
                  <a:moveTo>
                    <a:pt x="320" y="0"/>
                  </a:moveTo>
                  <a:lnTo>
                    <a:pt x="479" y="13"/>
                  </a:lnTo>
                  <a:lnTo>
                    <a:pt x="648" y="32"/>
                  </a:lnTo>
                  <a:lnTo>
                    <a:pt x="799" y="57"/>
                  </a:lnTo>
                  <a:lnTo>
                    <a:pt x="858" y="69"/>
                  </a:lnTo>
                  <a:lnTo>
                    <a:pt x="903" y="83"/>
                  </a:lnTo>
                  <a:lnTo>
                    <a:pt x="940" y="110"/>
                  </a:lnTo>
                  <a:lnTo>
                    <a:pt x="960" y="129"/>
                  </a:lnTo>
                  <a:lnTo>
                    <a:pt x="967" y="144"/>
                  </a:lnTo>
                  <a:lnTo>
                    <a:pt x="959" y="152"/>
                  </a:lnTo>
                  <a:lnTo>
                    <a:pt x="936" y="156"/>
                  </a:lnTo>
                  <a:lnTo>
                    <a:pt x="902" y="156"/>
                  </a:lnTo>
                  <a:lnTo>
                    <a:pt x="856" y="151"/>
                  </a:lnTo>
                  <a:lnTo>
                    <a:pt x="797" y="143"/>
                  </a:lnTo>
                  <a:lnTo>
                    <a:pt x="728" y="132"/>
                  </a:lnTo>
                  <a:lnTo>
                    <a:pt x="649" y="119"/>
                  </a:lnTo>
                  <a:lnTo>
                    <a:pt x="464" y="86"/>
                  </a:lnTo>
                  <a:lnTo>
                    <a:pt x="245" y="51"/>
                  </a:lnTo>
                  <a:lnTo>
                    <a:pt x="0" y="16"/>
                  </a:lnTo>
                  <a:lnTo>
                    <a:pt x="9" y="15"/>
                  </a:lnTo>
                  <a:lnTo>
                    <a:pt x="35" y="13"/>
                  </a:lnTo>
                  <a:lnTo>
                    <a:pt x="120" y="7"/>
                  </a:lnTo>
                  <a:lnTo>
                    <a:pt x="224" y="1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Testing for carbon diox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2" name="Group 8"/>
          <p:cNvGrpSpPr/>
          <p:nvPr/>
        </p:nvGrpSpPr>
        <p:grpSpPr>
          <a:xfrm>
            <a:off x="3348000" y="2017800"/>
            <a:ext cx="71280" cy="2706480"/>
            <a:chOff x="3348000" y="2017800"/>
            <a:chExt cx="71280" cy="2706480"/>
          </a:xfrm>
        </p:grpSpPr>
        <p:sp>
          <p:nvSpPr>
            <p:cNvPr id="83" name="Line 6"/>
            <p:cNvSpPr/>
            <p:nvPr/>
          </p:nvSpPr>
          <p:spPr>
            <a:xfrm flipV="1">
              <a:off x="3348000" y="2017800"/>
              <a:ext cx="0" cy="27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4" name="Line 7"/>
            <p:cNvSpPr/>
            <p:nvPr/>
          </p:nvSpPr>
          <p:spPr>
            <a:xfrm flipV="1">
              <a:off x="3419280" y="2017800"/>
              <a:ext cx="0" cy="27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85" name="Group 87"/>
          <p:cNvGrpSpPr/>
          <p:nvPr/>
        </p:nvGrpSpPr>
        <p:grpSpPr>
          <a:xfrm>
            <a:off x="3348000" y="3030480"/>
            <a:ext cx="235080" cy="1838520"/>
            <a:chOff x="3348000" y="3030480"/>
            <a:chExt cx="235080" cy="1838520"/>
          </a:xfrm>
        </p:grpSpPr>
        <p:sp>
          <p:nvSpPr>
            <p:cNvPr id="86" name="Oval 43"/>
            <p:cNvSpPr/>
            <p:nvPr/>
          </p:nvSpPr>
          <p:spPr>
            <a:xfrm>
              <a:off x="3348000" y="4797360"/>
              <a:ext cx="7164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" name="Oval 44"/>
            <p:cNvSpPr/>
            <p:nvPr/>
          </p:nvSpPr>
          <p:spPr>
            <a:xfrm>
              <a:off x="3454560" y="373536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" name="Oval 45"/>
            <p:cNvSpPr/>
            <p:nvPr/>
          </p:nvSpPr>
          <p:spPr>
            <a:xfrm>
              <a:off x="3481560" y="342900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Oval 46"/>
            <p:cNvSpPr/>
            <p:nvPr/>
          </p:nvSpPr>
          <p:spPr>
            <a:xfrm>
              <a:off x="3511440" y="4159080"/>
              <a:ext cx="7164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Oval 47"/>
            <p:cNvSpPr/>
            <p:nvPr/>
          </p:nvSpPr>
          <p:spPr>
            <a:xfrm>
              <a:off x="3473280" y="453708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Oval 48"/>
            <p:cNvSpPr/>
            <p:nvPr/>
          </p:nvSpPr>
          <p:spPr>
            <a:xfrm>
              <a:off x="3467160" y="303048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2" name="Group 88"/>
          <p:cNvGrpSpPr/>
          <p:nvPr/>
        </p:nvGrpSpPr>
        <p:grpSpPr>
          <a:xfrm>
            <a:off x="3252240" y="1577880"/>
            <a:ext cx="1473840" cy="722520"/>
            <a:chOff x="3252240" y="1577880"/>
            <a:chExt cx="1473840" cy="722520"/>
          </a:xfrm>
        </p:grpSpPr>
        <p:sp>
          <p:nvSpPr>
            <p:cNvPr id="93" name="Text Box 49"/>
            <p:cNvSpPr/>
            <p:nvPr/>
          </p:nvSpPr>
          <p:spPr>
            <a:xfrm>
              <a:off x="3676680" y="157788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Ga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" name="AutoShape 50"/>
            <p:cNvSpPr/>
            <p:nvPr/>
          </p:nvSpPr>
          <p:spPr>
            <a:xfrm flipH="1" rot="16200000">
              <a:off x="3203280" y="1789920"/>
              <a:ext cx="559080" cy="461880"/>
            </a:xfrm>
            <a:custGeom>
              <a:avLst/>
              <a:gdLst>
                <a:gd name="textAreaLeft" fmla="*/ 322560 w 559080"/>
                <a:gd name="textAreaRight" fmla="*/ 471960 w 559080"/>
                <a:gd name="textAreaTop" fmla="*/ 61920 h 461880"/>
                <a:gd name="textAreaBottom" fmla="*/ 19836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5" name="Group 86"/>
          <p:cNvGrpSpPr/>
          <p:nvPr/>
        </p:nvGrpSpPr>
        <p:grpSpPr>
          <a:xfrm>
            <a:off x="3132000" y="2352600"/>
            <a:ext cx="587520" cy="3156120"/>
            <a:chOff x="3132000" y="2352600"/>
            <a:chExt cx="587520" cy="3156120"/>
          </a:xfrm>
        </p:grpSpPr>
        <p:sp>
          <p:nvSpPr>
            <p:cNvPr id="96" name="AutoShape 52"/>
            <p:cNvSpPr/>
            <p:nvPr/>
          </p:nvSpPr>
          <p:spPr>
            <a:xfrm>
              <a:off x="3132000" y="2352600"/>
              <a:ext cx="587520" cy="31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Freeform 54"/>
            <p:cNvSpPr/>
            <p:nvPr/>
          </p:nvSpPr>
          <p:spPr>
            <a:xfrm>
              <a:off x="3166920" y="2432160"/>
              <a:ext cx="243000" cy="93600"/>
            </a:xfrm>
            <a:custGeom>
              <a:avLst/>
              <a:gdLst/>
              <a:ahLst/>
              <a:rect l="l" t="t" r="r" b="b"/>
              <a:pathLst>
                <a:path w="764" h="293">
                  <a:moveTo>
                    <a:pt x="204" y="293"/>
                  </a:moveTo>
                  <a:lnTo>
                    <a:pt x="207" y="237"/>
                  </a:lnTo>
                  <a:lnTo>
                    <a:pt x="239" y="196"/>
                  </a:lnTo>
                  <a:lnTo>
                    <a:pt x="295" y="169"/>
                  </a:lnTo>
                  <a:lnTo>
                    <a:pt x="368" y="149"/>
                  </a:lnTo>
                  <a:lnTo>
                    <a:pt x="457" y="136"/>
                  </a:lnTo>
                  <a:lnTo>
                    <a:pt x="554" y="123"/>
                  </a:lnTo>
                  <a:lnTo>
                    <a:pt x="764" y="86"/>
                  </a:lnTo>
                  <a:lnTo>
                    <a:pt x="621" y="79"/>
                  </a:lnTo>
                  <a:lnTo>
                    <a:pt x="486" y="68"/>
                  </a:lnTo>
                  <a:lnTo>
                    <a:pt x="364" y="54"/>
                  </a:lnTo>
                  <a:lnTo>
                    <a:pt x="254" y="38"/>
                  </a:lnTo>
                  <a:lnTo>
                    <a:pt x="160" y="23"/>
                  </a:lnTo>
                  <a:lnTo>
                    <a:pt x="85" y="11"/>
                  </a:lnTo>
                  <a:lnTo>
                    <a:pt x="31" y="3"/>
                  </a:lnTo>
                  <a:lnTo>
                    <a:pt x="0" y="0"/>
                  </a:lnTo>
                  <a:lnTo>
                    <a:pt x="9" y="9"/>
                  </a:lnTo>
                  <a:lnTo>
                    <a:pt x="33" y="34"/>
                  </a:lnTo>
                  <a:lnTo>
                    <a:pt x="65" y="70"/>
                  </a:lnTo>
                  <a:lnTo>
                    <a:pt x="101" y="114"/>
                  </a:lnTo>
                  <a:lnTo>
                    <a:pt x="170" y="211"/>
                  </a:lnTo>
                  <a:lnTo>
                    <a:pt x="194" y="256"/>
                  </a:lnTo>
                  <a:lnTo>
                    <a:pt x="204" y="293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Freeform 55"/>
            <p:cNvSpPr/>
            <p:nvPr/>
          </p:nvSpPr>
          <p:spPr>
            <a:xfrm>
              <a:off x="3456000" y="292104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429" y="0"/>
                  </a:lnTo>
                  <a:lnTo>
                    <a:pt x="430" y="30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Freeform 56"/>
            <p:cNvSpPr/>
            <p:nvPr/>
          </p:nvSpPr>
          <p:spPr>
            <a:xfrm>
              <a:off x="3254400" y="5249880"/>
              <a:ext cx="11160" cy="76320"/>
            </a:xfrm>
            <a:custGeom>
              <a:avLst/>
              <a:gdLst/>
              <a:ahLst/>
              <a:rect l="l" t="t" r="r" b="b"/>
              <a:pathLst>
                <a:path w="34" h="244">
                  <a:moveTo>
                    <a:pt x="34" y="244"/>
                  </a:moveTo>
                  <a:lnTo>
                    <a:pt x="24" y="213"/>
                  </a:lnTo>
                  <a:lnTo>
                    <a:pt x="6" y="12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34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57"/>
            <p:cNvSpPr/>
            <p:nvPr/>
          </p:nvSpPr>
          <p:spPr>
            <a:xfrm>
              <a:off x="3254400" y="5078520"/>
              <a:ext cx="46080" cy="320760"/>
            </a:xfrm>
            <a:custGeom>
              <a:avLst/>
              <a:gdLst/>
              <a:ahLst/>
              <a:rect l="l" t="t" r="r" b="b"/>
              <a:pathLst>
                <a:path w="144" h="1012">
                  <a:moveTo>
                    <a:pt x="144" y="1012"/>
                  </a:moveTo>
                  <a:lnTo>
                    <a:pt x="126" y="984"/>
                  </a:lnTo>
                  <a:lnTo>
                    <a:pt x="81" y="900"/>
                  </a:lnTo>
                  <a:lnTo>
                    <a:pt x="44" y="812"/>
                  </a:lnTo>
                  <a:lnTo>
                    <a:pt x="35" y="784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144" y="10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58"/>
            <p:cNvSpPr/>
            <p:nvPr/>
          </p:nvSpPr>
          <p:spPr>
            <a:xfrm>
              <a:off x="3254400" y="4907160"/>
              <a:ext cx="74520" cy="528480"/>
            </a:xfrm>
            <a:custGeom>
              <a:avLst/>
              <a:gdLst/>
              <a:ahLst/>
              <a:rect l="l" t="t" r="r" b="b"/>
              <a:pathLst>
                <a:path w="237" h="1669">
                  <a:moveTo>
                    <a:pt x="237" y="1669"/>
                  </a:moveTo>
                  <a:lnTo>
                    <a:pt x="199" y="1627"/>
                  </a:lnTo>
                  <a:lnTo>
                    <a:pt x="161" y="1577"/>
                  </a:lnTo>
                  <a:lnTo>
                    <a:pt x="144" y="1552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237" y="16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Freeform 59"/>
            <p:cNvSpPr/>
            <p:nvPr/>
          </p:nvSpPr>
          <p:spPr>
            <a:xfrm>
              <a:off x="3254400" y="4735440"/>
              <a:ext cx="101520" cy="723960"/>
            </a:xfrm>
            <a:custGeom>
              <a:avLst/>
              <a:gdLst/>
              <a:ahLst/>
              <a:rect l="l" t="t" r="r" b="b"/>
              <a:pathLst>
                <a:path w="323" h="2283">
                  <a:moveTo>
                    <a:pt x="323" y="2283"/>
                  </a:moveTo>
                  <a:lnTo>
                    <a:pt x="285" y="2253"/>
                  </a:lnTo>
                  <a:lnTo>
                    <a:pt x="241" y="2212"/>
                  </a:lnTo>
                  <a:lnTo>
                    <a:pt x="237" y="2209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323" y="2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Freeform 60"/>
            <p:cNvSpPr/>
            <p:nvPr/>
          </p:nvSpPr>
          <p:spPr>
            <a:xfrm>
              <a:off x="3254400" y="4564080"/>
              <a:ext cx="128520" cy="909720"/>
            </a:xfrm>
            <a:custGeom>
              <a:avLst/>
              <a:gdLst/>
              <a:ahLst/>
              <a:rect l="l" t="t" r="r" b="b"/>
              <a:pathLst>
                <a:path w="407" h="2868">
                  <a:moveTo>
                    <a:pt x="407" y="2868"/>
                  </a:moveTo>
                  <a:lnTo>
                    <a:pt x="381" y="2857"/>
                  </a:lnTo>
                  <a:lnTo>
                    <a:pt x="331" y="2828"/>
                  </a:lnTo>
                  <a:lnTo>
                    <a:pt x="324" y="282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407" y="28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Freeform 61"/>
            <p:cNvSpPr/>
            <p:nvPr/>
          </p:nvSpPr>
          <p:spPr>
            <a:xfrm>
              <a:off x="3254400" y="4391280"/>
              <a:ext cx="153720" cy="1090440"/>
            </a:xfrm>
            <a:custGeom>
              <a:avLst/>
              <a:gdLst/>
              <a:ahLst/>
              <a:rect l="l" t="t" r="r" b="b"/>
              <a:pathLst>
                <a:path w="486" h="3433">
                  <a:moveTo>
                    <a:pt x="486" y="3433"/>
                  </a:moveTo>
                  <a:lnTo>
                    <a:pt x="483" y="3432"/>
                  </a:lnTo>
                  <a:lnTo>
                    <a:pt x="431" y="3419"/>
                  </a:lnTo>
                  <a:lnTo>
                    <a:pt x="407" y="3409"/>
                  </a:lnTo>
                  <a:lnTo>
                    <a:pt x="0" y="541"/>
                  </a:lnTo>
                  <a:lnTo>
                    <a:pt x="0" y="0"/>
                  </a:lnTo>
                  <a:lnTo>
                    <a:pt x="486" y="3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Freeform 62"/>
            <p:cNvSpPr/>
            <p:nvPr/>
          </p:nvSpPr>
          <p:spPr>
            <a:xfrm>
              <a:off x="3252600" y="4219560"/>
              <a:ext cx="179640" cy="1263600"/>
            </a:xfrm>
            <a:custGeom>
              <a:avLst/>
              <a:gdLst/>
              <a:ahLst/>
              <a:rect l="l" t="t" r="r" b="b"/>
              <a:pathLst>
                <a:path w="563" h="3976">
                  <a:moveTo>
                    <a:pt x="537" y="3976"/>
                  </a:moveTo>
                  <a:lnTo>
                    <a:pt x="487" y="397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563" y="3974"/>
                  </a:lnTo>
                  <a:lnTo>
                    <a:pt x="537" y="39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Freeform 63"/>
            <p:cNvSpPr/>
            <p:nvPr/>
          </p:nvSpPr>
          <p:spPr>
            <a:xfrm>
              <a:off x="3252600" y="4049640"/>
              <a:ext cx="203400" cy="1432080"/>
            </a:xfrm>
            <a:custGeom>
              <a:avLst/>
              <a:gdLst/>
              <a:ahLst/>
              <a:rect l="l" t="t" r="r" b="b"/>
              <a:pathLst>
                <a:path w="638" h="4513">
                  <a:moveTo>
                    <a:pt x="563" y="4513"/>
                  </a:moveTo>
                  <a:lnTo>
                    <a:pt x="0" y="539"/>
                  </a:lnTo>
                  <a:lnTo>
                    <a:pt x="0" y="0"/>
                  </a:lnTo>
                  <a:lnTo>
                    <a:pt x="638" y="4499"/>
                  </a:lnTo>
                  <a:lnTo>
                    <a:pt x="591" y="4511"/>
                  </a:lnTo>
                  <a:lnTo>
                    <a:pt x="563" y="45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Freeform 64"/>
            <p:cNvSpPr/>
            <p:nvPr/>
          </p:nvSpPr>
          <p:spPr>
            <a:xfrm>
              <a:off x="3252600" y="3878280"/>
              <a:ext cx="225360" cy="1598760"/>
            </a:xfrm>
            <a:custGeom>
              <a:avLst/>
              <a:gdLst/>
              <a:ahLst/>
              <a:rect l="l" t="t" r="r" b="b"/>
              <a:pathLst>
                <a:path w="710" h="5039">
                  <a:moveTo>
                    <a:pt x="638" y="5039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710" y="5007"/>
                  </a:lnTo>
                  <a:lnTo>
                    <a:pt x="693" y="5017"/>
                  </a:lnTo>
                  <a:lnTo>
                    <a:pt x="643" y="5038"/>
                  </a:lnTo>
                  <a:lnTo>
                    <a:pt x="638" y="50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Freeform 65"/>
            <p:cNvSpPr/>
            <p:nvPr/>
          </p:nvSpPr>
          <p:spPr>
            <a:xfrm>
              <a:off x="3252600" y="3705480"/>
              <a:ext cx="247680" cy="1761840"/>
            </a:xfrm>
            <a:custGeom>
              <a:avLst/>
              <a:gdLst/>
              <a:ahLst/>
              <a:rect l="l" t="t" r="r" b="b"/>
              <a:pathLst>
                <a:path w="780" h="5548">
                  <a:moveTo>
                    <a:pt x="710" y="5548"/>
                  </a:moveTo>
                  <a:lnTo>
                    <a:pt x="0" y="541"/>
                  </a:lnTo>
                  <a:lnTo>
                    <a:pt x="0" y="0"/>
                  </a:lnTo>
                  <a:lnTo>
                    <a:pt x="780" y="5501"/>
                  </a:lnTo>
                  <a:lnTo>
                    <a:pt x="741" y="5529"/>
                  </a:lnTo>
                  <a:lnTo>
                    <a:pt x="710" y="55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Freeform 66"/>
            <p:cNvSpPr/>
            <p:nvPr/>
          </p:nvSpPr>
          <p:spPr>
            <a:xfrm>
              <a:off x="3252600" y="3533760"/>
              <a:ext cx="270000" cy="1919520"/>
            </a:xfrm>
            <a:custGeom>
              <a:avLst/>
              <a:gdLst/>
              <a:ahLst/>
              <a:rect l="l" t="t" r="r" b="b"/>
              <a:pathLst>
                <a:path w="848" h="6041">
                  <a:moveTo>
                    <a:pt x="781" y="6041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848" y="5978"/>
                  </a:lnTo>
                  <a:lnTo>
                    <a:pt x="833" y="5993"/>
                  </a:lnTo>
                  <a:lnTo>
                    <a:pt x="789" y="6034"/>
                  </a:lnTo>
                  <a:lnTo>
                    <a:pt x="781" y="60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Freeform 67"/>
            <p:cNvSpPr/>
            <p:nvPr/>
          </p:nvSpPr>
          <p:spPr>
            <a:xfrm>
              <a:off x="3252600" y="3362400"/>
              <a:ext cx="290520" cy="2070000"/>
            </a:xfrm>
            <a:custGeom>
              <a:avLst/>
              <a:gdLst/>
              <a:ahLst/>
              <a:rect l="l" t="t" r="r" b="b"/>
              <a:pathLst>
                <a:path w="912" h="6518">
                  <a:moveTo>
                    <a:pt x="848" y="6518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912" y="6438"/>
                  </a:lnTo>
                  <a:lnTo>
                    <a:pt x="875" y="6488"/>
                  </a:lnTo>
                  <a:lnTo>
                    <a:pt x="848" y="65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Freeform 68"/>
            <p:cNvSpPr/>
            <p:nvPr/>
          </p:nvSpPr>
          <p:spPr>
            <a:xfrm>
              <a:off x="3252600" y="3191040"/>
              <a:ext cx="309600" cy="2216160"/>
            </a:xfrm>
            <a:custGeom>
              <a:avLst/>
              <a:gdLst/>
              <a:ahLst/>
              <a:rect l="l" t="t" r="r" b="b"/>
              <a:pathLst>
                <a:path w="976" h="6978">
                  <a:moveTo>
                    <a:pt x="913" y="6978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976" y="6877"/>
                  </a:lnTo>
                  <a:lnTo>
                    <a:pt x="949" y="6926"/>
                  </a:lnTo>
                  <a:lnTo>
                    <a:pt x="913" y="69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" name="Freeform 69"/>
            <p:cNvSpPr/>
            <p:nvPr/>
          </p:nvSpPr>
          <p:spPr>
            <a:xfrm>
              <a:off x="3252600" y="3019680"/>
              <a:ext cx="328680" cy="2355840"/>
            </a:xfrm>
            <a:custGeom>
              <a:avLst/>
              <a:gdLst/>
              <a:ahLst/>
              <a:rect l="l" t="t" r="r" b="b"/>
              <a:pathLst>
                <a:path w="1035" h="7418">
                  <a:moveTo>
                    <a:pt x="977" y="7418"/>
                  </a:moveTo>
                  <a:lnTo>
                    <a:pt x="1" y="541"/>
                  </a:lnTo>
                  <a:lnTo>
                    <a:pt x="0" y="0"/>
                  </a:lnTo>
                  <a:lnTo>
                    <a:pt x="1035" y="7286"/>
                  </a:lnTo>
                  <a:lnTo>
                    <a:pt x="1031" y="7294"/>
                  </a:lnTo>
                  <a:lnTo>
                    <a:pt x="981" y="7410"/>
                  </a:lnTo>
                  <a:lnTo>
                    <a:pt x="977" y="74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Freeform 70"/>
            <p:cNvSpPr/>
            <p:nvPr/>
          </p:nvSpPr>
          <p:spPr>
            <a:xfrm>
              <a:off x="3252600" y="2921040"/>
              <a:ext cx="341280" cy="2411640"/>
            </a:xfrm>
            <a:custGeom>
              <a:avLst/>
              <a:gdLst/>
              <a:ahLst/>
              <a:rect l="l" t="t" r="r" b="b"/>
              <a:pathLst>
                <a:path w="1074" h="7596">
                  <a:moveTo>
                    <a:pt x="1035" y="7596"/>
                  </a:moveTo>
                  <a:lnTo>
                    <a:pt x="0" y="31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1074" y="7345"/>
                  </a:lnTo>
                  <a:lnTo>
                    <a:pt x="1074" y="7372"/>
                  </a:lnTo>
                  <a:lnTo>
                    <a:pt x="1069" y="7456"/>
                  </a:lnTo>
                  <a:lnTo>
                    <a:pt x="1050" y="7545"/>
                  </a:lnTo>
                  <a:lnTo>
                    <a:pt x="1035" y="75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Freeform 71"/>
            <p:cNvSpPr/>
            <p:nvPr/>
          </p:nvSpPr>
          <p:spPr>
            <a:xfrm>
              <a:off x="3262320" y="2921040"/>
              <a:ext cx="331560" cy="2332080"/>
            </a:xfrm>
            <a:custGeom>
              <a:avLst/>
              <a:gdLst/>
              <a:ahLst/>
              <a:rect l="l" t="t" r="r" b="b"/>
              <a:pathLst>
                <a:path w="1042" h="7345">
                  <a:moveTo>
                    <a:pt x="1042" y="7345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1042" y="6805"/>
                  </a:lnTo>
                  <a:lnTo>
                    <a:pt x="1042" y="73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Freeform 72"/>
            <p:cNvSpPr/>
            <p:nvPr/>
          </p:nvSpPr>
          <p:spPr>
            <a:xfrm>
              <a:off x="3286080" y="2921040"/>
              <a:ext cx="307800" cy="2160720"/>
            </a:xfrm>
            <a:custGeom>
              <a:avLst/>
              <a:gdLst/>
              <a:ahLst/>
              <a:rect l="l" t="t" r="r" b="b"/>
              <a:pathLst>
                <a:path w="966" h="6805">
                  <a:moveTo>
                    <a:pt x="966" y="6805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966" y="6265"/>
                  </a:lnTo>
                  <a:lnTo>
                    <a:pt x="966" y="68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" name="Freeform 73"/>
            <p:cNvSpPr/>
            <p:nvPr/>
          </p:nvSpPr>
          <p:spPr>
            <a:xfrm>
              <a:off x="3311280" y="2921040"/>
              <a:ext cx="282600" cy="1989360"/>
            </a:xfrm>
            <a:custGeom>
              <a:avLst/>
              <a:gdLst/>
              <a:ahLst/>
              <a:rect l="l" t="t" r="r" b="b"/>
              <a:pathLst>
                <a:path w="888" h="6265">
                  <a:moveTo>
                    <a:pt x="888" y="6265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888" y="5727"/>
                  </a:lnTo>
                  <a:lnTo>
                    <a:pt x="888" y="62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" name="Freeform 74"/>
            <p:cNvSpPr/>
            <p:nvPr/>
          </p:nvSpPr>
          <p:spPr>
            <a:xfrm>
              <a:off x="3335400" y="2921040"/>
              <a:ext cx="258480" cy="1819440"/>
            </a:xfrm>
            <a:custGeom>
              <a:avLst/>
              <a:gdLst/>
              <a:ahLst/>
              <a:rect l="l" t="t" r="r" b="b"/>
              <a:pathLst>
                <a:path w="813" h="5727">
                  <a:moveTo>
                    <a:pt x="813" y="572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812" y="5187"/>
                  </a:lnTo>
                  <a:lnTo>
                    <a:pt x="813" y="57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8" name="Freeform 75"/>
            <p:cNvSpPr/>
            <p:nvPr/>
          </p:nvSpPr>
          <p:spPr>
            <a:xfrm>
              <a:off x="3359160" y="2921040"/>
              <a:ext cx="233280" cy="1647720"/>
            </a:xfrm>
            <a:custGeom>
              <a:avLst/>
              <a:gdLst/>
              <a:ahLst/>
              <a:rect l="l" t="t" r="r" b="b"/>
              <a:pathLst>
                <a:path w="736" h="5187">
                  <a:moveTo>
                    <a:pt x="736" y="518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36" y="4648"/>
                  </a:lnTo>
                  <a:lnTo>
                    <a:pt x="736" y="5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9" name="Freeform 76"/>
            <p:cNvSpPr/>
            <p:nvPr/>
          </p:nvSpPr>
          <p:spPr>
            <a:xfrm>
              <a:off x="3384360" y="2921040"/>
              <a:ext cx="208080" cy="1476360"/>
            </a:xfrm>
            <a:custGeom>
              <a:avLst/>
              <a:gdLst/>
              <a:ahLst/>
              <a:rect l="l" t="t" r="r" b="b"/>
              <a:pathLst>
                <a:path w="658" h="4648">
                  <a:moveTo>
                    <a:pt x="658" y="4648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658" y="4108"/>
                  </a:lnTo>
                  <a:lnTo>
                    <a:pt x="658" y="46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0" name="Freeform 77"/>
            <p:cNvSpPr/>
            <p:nvPr/>
          </p:nvSpPr>
          <p:spPr>
            <a:xfrm>
              <a:off x="3408120" y="2921040"/>
              <a:ext cx="184320" cy="1305000"/>
            </a:xfrm>
            <a:custGeom>
              <a:avLst/>
              <a:gdLst/>
              <a:ahLst/>
              <a:rect l="l" t="t" r="r" b="b"/>
              <a:pathLst>
                <a:path w="583" h="4108">
                  <a:moveTo>
                    <a:pt x="583" y="4108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83" y="3569"/>
                  </a:lnTo>
                  <a:lnTo>
                    <a:pt x="583" y="4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1" name="Freeform 78"/>
            <p:cNvSpPr/>
            <p:nvPr/>
          </p:nvSpPr>
          <p:spPr>
            <a:xfrm>
              <a:off x="3432240" y="2921040"/>
              <a:ext cx="160200" cy="1133640"/>
            </a:xfrm>
            <a:custGeom>
              <a:avLst/>
              <a:gdLst/>
              <a:ahLst/>
              <a:rect l="l" t="t" r="r" b="b"/>
              <a:pathLst>
                <a:path w="507" h="3569">
                  <a:moveTo>
                    <a:pt x="507" y="3569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06" y="3030"/>
                  </a:lnTo>
                  <a:lnTo>
                    <a:pt x="507" y="35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" name="Freeform 79"/>
            <p:cNvSpPr/>
            <p:nvPr/>
          </p:nvSpPr>
          <p:spPr>
            <a:xfrm>
              <a:off x="3456000" y="292104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430" y="2490"/>
                  </a:lnTo>
                  <a:lnTo>
                    <a:pt x="430" y="30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" name="Freeform 80"/>
            <p:cNvSpPr/>
            <p:nvPr/>
          </p:nvSpPr>
          <p:spPr>
            <a:xfrm>
              <a:off x="3252600" y="2921040"/>
              <a:ext cx="341280" cy="2562120"/>
            </a:xfrm>
            <a:custGeom>
              <a:avLst/>
              <a:gdLst/>
              <a:ahLst/>
              <a:rect l="l" t="t" r="r" b="b"/>
              <a:pathLst>
                <a:path w="1074" h="8067">
                  <a:moveTo>
                    <a:pt x="1071" y="0"/>
                  </a:moveTo>
                  <a:lnTo>
                    <a:pt x="1074" y="7372"/>
                  </a:lnTo>
                  <a:lnTo>
                    <a:pt x="1063" y="7486"/>
                  </a:lnTo>
                  <a:lnTo>
                    <a:pt x="1031" y="7605"/>
                  </a:lnTo>
                  <a:lnTo>
                    <a:pt x="980" y="7720"/>
                  </a:lnTo>
                  <a:lnTo>
                    <a:pt x="914" y="7829"/>
                  </a:lnTo>
                  <a:lnTo>
                    <a:pt x="835" y="7924"/>
                  </a:lnTo>
                  <a:lnTo>
                    <a:pt x="744" y="8000"/>
                  </a:lnTo>
                  <a:lnTo>
                    <a:pt x="645" y="8050"/>
                  </a:lnTo>
                  <a:lnTo>
                    <a:pt x="540" y="8067"/>
                  </a:lnTo>
                  <a:lnTo>
                    <a:pt x="435" y="8050"/>
                  </a:lnTo>
                  <a:lnTo>
                    <a:pt x="336" y="8000"/>
                  </a:lnTo>
                  <a:lnTo>
                    <a:pt x="246" y="7924"/>
                  </a:lnTo>
                  <a:lnTo>
                    <a:pt x="166" y="7829"/>
                  </a:lnTo>
                  <a:lnTo>
                    <a:pt x="99" y="7720"/>
                  </a:lnTo>
                  <a:lnTo>
                    <a:pt x="49" y="7604"/>
                  </a:lnTo>
                  <a:lnTo>
                    <a:pt x="18" y="7486"/>
                  </a:lnTo>
                  <a:lnTo>
                    <a:pt x="6" y="7372"/>
                  </a:lnTo>
                  <a:lnTo>
                    <a:pt x="0" y="0"/>
                  </a:lnTo>
                  <a:lnTo>
                    <a:pt x="1071" y="0"/>
                  </a:lnTo>
                </a:path>
              </a:pathLst>
            </a:custGeom>
            <a:solidFill>
              <a:srgbClr val="ffffff"/>
            </a:solidFill>
            <a:ln w="468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4" name="Freeform 81"/>
            <p:cNvSpPr/>
            <p:nvPr/>
          </p:nvSpPr>
          <p:spPr>
            <a:xfrm>
              <a:off x="3133800" y="2354400"/>
              <a:ext cx="581040" cy="103320"/>
            </a:xfrm>
            <a:custGeom>
              <a:avLst/>
              <a:gdLst/>
              <a:ahLst/>
              <a:rect l="l" t="t" r="r" b="b"/>
              <a:pathLst>
                <a:path w="1827" h="321">
                  <a:moveTo>
                    <a:pt x="0" y="160"/>
                  </a:moveTo>
                  <a:lnTo>
                    <a:pt x="19" y="193"/>
                  </a:lnTo>
                  <a:lnTo>
                    <a:pt x="72" y="222"/>
                  </a:lnTo>
                  <a:lnTo>
                    <a:pt x="156" y="250"/>
                  </a:lnTo>
                  <a:lnTo>
                    <a:pt x="267" y="273"/>
                  </a:lnTo>
                  <a:lnTo>
                    <a:pt x="403" y="294"/>
                  </a:lnTo>
                  <a:lnTo>
                    <a:pt x="559" y="308"/>
                  </a:lnTo>
                  <a:lnTo>
                    <a:pt x="730" y="317"/>
                  </a:lnTo>
                  <a:lnTo>
                    <a:pt x="913" y="321"/>
                  </a:lnTo>
                  <a:lnTo>
                    <a:pt x="1098" y="317"/>
                  </a:lnTo>
                  <a:lnTo>
                    <a:pt x="1269" y="308"/>
                  </a:lnTo>
                  <a:lnTo>
                    <a:pt x="1425" y="294"/>
                  </a:lnTo>
                  <a:lnTo>
                    <a:pt x="1559" y="273"/>
                  </a:lnTo>
                  <a:lnTo>
                    <a:pt x="1671" y="250"/>
                  </a:lnTo>
                  <a:lnTo>
                    <a:pt x="1754" y="222"/>
                  </a:lnTo>
                  <a:lnTo>
                    <a:pt x="1808" y="193"/>
                  </a:lnTo>
                  <a:lnTo>
                    <a:pt x="1827" y="160"/>
                  </a:lnTo>
                  <a:lnTo>
                    <a:pt x="1808" y="128"/>
                  </a:lnTo>
                  <a:lnTo>
                    <a:pt x="1754" y="98"/>
                  </a:lnTo>
                  <a:lnTo>
                    <a:pt x="1671" y="71"/>
                  </a:lnTo>
                  <a:lnTo>
                    <a:pt x="1559" y="47"/>
                  </a:lnTo>
                  <a:lnTo>
                    <a:pt x="1425" y="28"/>
                  </a:lnTo>
                  <a:lnTo>
                    <a:pt x="1269" y="12"/>
                  </a:lnTo>
                  <a:lnTo>
                    <a:pt x="1098" y="3"/>
                  </a:lnTo>
                  <a:lnTo>
                    <a:pt x="913" y="0"/>
                  </a:lnTo>
                  <a:lnTo>
                    <a:pt x="730" y="3"/>
                  </a:lnTo>
                  <a:lnTo>
                    <a:pt x="559" y="12"/>
                  </a:lnTo>
                  <a:lnTo>
                    <a:pt x="403" y="28"/>
                  </a:lnTo>
                  <a:lnTo>
                    <a:pt x="267" y="47"/>
                  </a:lnTo>
                  <a:lnTo>
                    <a:pt x="156" y="71"/>
                  </a:lnTo>
                  <a:lnTo>
                    <a:pt x="72" y="98"/>
                  </a:lnTo>
                  <a:lnTo>
                    <a:pt x="19" y="128"/>
                  </a:lnTo>
                  <a:lnTo>
                    <a:pt x="0" y="16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5" name="Freeform 82"/>
            <p:cNvSpPr/>
            <p:nvPr/>
          </p:nvSpPr>
          <p:spPr>
            <a:xfrm>
              <a:off x="3252600" y="288936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6" name="Freeform 83"/>
            <p:cNvSpPr/>
            <p:nvPr/>
          </p:nvSpPr>
          <p:spPr>
            <a:xfrm>
              <a:off x="3252600" y="288936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</a:path>
              </a:pathLst>
            </a:custGeom>
            <a:solidFill>
              <a:srgbClr val="ffffff"/>
            </a:solidFill>
            <a:ln w="468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7" name="Freeform 84"/>
            <p:cNvSpPr/>
            <p:nvPr/>
          </p:nvSpPr>
          <p:spPr>
            <a:xfrm>
              <a:off x="3133800" y="2405160"/>
              <a:ext cx="581040" cy="3097080"/>
            </a:xfrm>
            <a:custGeom>
              <a:avLst/>
              <a:gdLst/>
              <a:ahLst/>
              <a:rect l="l" t="t" r="r" b="b"/>
              <a:pathLst>
                <a:path w="1827" h="9755">
                  <a:moveTo>
                    <a:pt x="1827" y="0"/>
                  </a:moveTo>
                  <a:lnTo>
                    <a:pt x="1694" y="143"/>
                  </a:lnTo>
                  <a:lnTo>
                    <a:pt x="1588" y="266"/>
                  </a:lnTo>
                  <a:lnTo>
                    <a:pt x="1518" y="381"/>
                  </a:lnTo>
                  <a:lnTo>
                    <a:pt x="1499" y="440"/>
                  </a:lnTo>
                  <a:lnTo>
                    <a:pt x="1493" y="499"/>
                  </a:lnTo>
                  <a:lnTo>
                    <a:pt x="1493" y="9047"/>
                  </a:lnTo>
                  <a:lnTo>
                    <a:pt x="1480" y="9166"/>
                  </a:lnTo>
                  <a:lnTo>
                    <a:pt x="1446" y="9286"/>
                  </a:lnTo>
                  <a:lnTo>
                    <a:pt x="1391" y="9406"/>
                  </a:lnTo>
                  <a:lnTo>
                    <a:pt x="1319" y="9516"/>
                  </a:lnTo>
                  <a:lnTo>
                    <a:pt x="1233" y="9612"/>
                  </a:lnTo>
                  <a:lnTo>
                    <a:pt x="1134" y="9687"/>
                  </a:lnTo>
                  <a:lnTo>
                    <a:pt x="1028" y="9737"/>
                  </a:lnTo>
                  <a:lnTo>
                    <a:pt x="913" y="9755"/>
                  </a:lnTo>
                  <a:lnTo>
                    <a:pt x="799" y="9737"/>
                  </a:lnTo>
                  <a:lnTo>
                    <a:pt x="691" y="9687"/>
                  </a:lnTo>
                  <a:lnTo>
                    <a:pt x="591" y="9611"/>
                  </a:lnTo>
                  <a:lnTo>
                    <a:pt x="504" y="9516"/>
                  </a:lnTo>
                  <a:lnTo>
                    <a:pt x="430" y="9406"/>
                  </a:lnTo>
                  <a:lnTo>
                    <a:pt x="375" y="9286"/>
                  </a:lnTo>
                  <a:lnTo>
                    <a:pt x="340" y="9165"/>
                  </a:lnTo>
                  <a:lnTo>
                    <a:pt x="327" y="9047"/>
                  </a:lnTo>
                  <a:lnTo>
                    <a:pt x="327" y="499"/>
                  </a:lnTo>
                  <a:lnTo>
                    <a:pt x="322" y="439"/>
                  </a:lnTo>
                  <a:lnTo>
                    <a:pt x="305" y="377"/>
                  </a:lnTo>
                  <a:lnTo>
                    <a:pt x="241" y="251"/>
                  </a:lnTo>
                  <a:lnTo>
                    <a:pt x="138" y="124"/>
                  </a:lnTo>
                  <a:lnTo>
                    <a:pt x="0" y="0"/>
                  </a:lnTo>
                  <a:lnTo>
                    <a:pt x="19" y="33"/>
                  </a:lnTo>
                  <a:lnTo>
                    <a:pt x="72" y="62"/>
                  </a:lnTo>
                  <a:lnTo>
                    <a:pt x="156" y="90"/>
                  </a:lnTo>
                  <a:lnTo>
                    <a:pt x="267" y="113"/>
                  </a:lnTo>
                  <a:lnTo>
                    <a:pt x="403" y="134"/>
                  </a:lnTo>
                  <a:lnTo>
                    <a:pt x="559" y="148"/>
                  </a:lnTo>
                  <a:lnTo>
                    <a:pt x="730" y="157"/>
                  </a:lnTo>
                  <a:lnTo>
                    <a:pt x="913" y="161"/>
                  </a:lnTo>
                  <a:lnTo>
                    <a:pt x="1098" y="157"/>
                  </a:lnTo>
                  <a:lnTo>
                    <a:pt x="1269" y="148"/>
                  </a:lnTo>
                  <a:lnTo>
                    <a:pt x="1425" y="134"/>
                  </a:lnTo>
                  <a:lnTo>
                    <a:pt x="1559" y="113"/>
                  </a:lnTo>
                  <a:lnTo>
                    <a:pt x="1671" y="90"/>
                  </a:lnTo>
                  <a:lnTo>
                    <a:pt x="1754" y="62"/>
                  </a:lnTo>
                  <a:lnTo>
                    <a:pt x="1808" y="33"/>
                  </a:lnTo>
                  <a:lnTo>
                    <a:pt x="182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8" name="Freeform 85"/>
            <p:cNvSpPr/>
            <p:nvPr/>
          </p:nvSpPr>
          <p:spPr>
            <a:xfrm>
              <a:off x="3402000" y="2363760"/>
              <a:ext cx="306360" cy="49320"/>
            </a:xfrm>
            <a:custGeom>
              <a:avLst/>
              <a:gdLst/>
              <a:ahLst/>
              <a:rect l="l" t="t" r="r" b="b"/>
              <a:pathLst>
                <a:path w="967" h="156">
                  <a:moveTo>
                    <a:pt x="320" y="0"/>
                  </a:moveTo>
                  <a:lnTo>
                    <a:pt x="479" y="13"/>
                  </a:lnTo>
                  <a:lnTo>
                    <a:pt x="648" y="32"/>
                  </a:lnTo>
                  <a:lnTo>
                    <a:pt x="799" y="57"/>
                  </a:lnTo>
                  <a:lnTo>
                    <a:pt x="858" y="69"/>
                  </a:lnTo>
                  <a:lnTo>
                    <a:pt x="903" y="83"/>
                  </a:lnTo>
                  <a:lnTo>
                    <a:pt x="940" y="110"/>
                  </a:lnTo>
                  <a:lnTo>
                    <a:pt x="960" y="129"/>
                  </a:lnTo>
                  <a:lnTo>
                    <a:pt x="967" y="144"/>
                  </a:lnTo>
                  <a:lnTo>
                    <a:pt x="959" y="152"/>
                  </a:lnTo>
                  <a:lnTo>
                    <a:pt x="936" y="156"/>
                  </a:lnTo>
                  <a:lnTo>
                    <a:pt x="902" y="156"/>
                  </a:lnTo>
                  <a:lnTo>
                    <a:pt x="856" y="151"/>
                  </a:lnTo>
                  <a:lnTo>
                    <a:pt x="797" y="143"/>
                  </a:lnTo>
                  <a:lnTo>
                    <a:pt x="728" y="132"/>
                  </a:lnTo>
                  <a:lnTo>
                    <a:pt x="649" y="119"/>
                  </a:lnTo>
                  <a:lnTo>
                    <a:pt x="464" y="86"/>
                  </a:lnTo>
                  <a:lnTo>
                    <a:pt x="245" y="51"/>
                  </a:lnTo>
                  <a:lnTo>
                    <a:pt x="0" y="16"/>
                  </a:lnTo>
                  <a:lnTo>
                    <a:pt x="9" y="15"/>
                  </a:lnTo>
                  <a:lnTo>
                    <a:pt x="35" y="13"/>
                  </a:lnTo>
                  <a:lnTo>
                    <a:pt x="120" y="7"/>
                  </a:lnTo>
                  <a:lnTo>
                    <a:pt x="224" y="1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29" name="Group 126"/>
          <p:cNvGrpSpPr/>
          <p:nvPr/>
        </p:nvGrpSpPr>
        <p:grpSpPr>
          <a:xfrm>
            <a:off x="3708360" y="4365720"/>
            <a:ext cx="3024360" cy="1191240"/>
            <a:chOff x="3708360" y="4365720"/>
            <a:chExt cx="3024360" cy="1191240"/>
          </a:xfrm>
        </p:grpSpPr>
        <p:sp>
          <p:nvSpPr>
            <p:cNvPr id="130" name="Text Box 124"/>
            <p:cNvSpPr/>
            <p:nvPr/>
          </p:nvSpPr>
          <p:spPr>
            <a:xfrm>
              <a:off x="4211640" y="4365720"/>
              <a:ext cx="252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Limewater turns milky/cloudy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AutoShape 125"/>
            <p:cNvSpPr/>
            <p:nvPr/>
          </p:nvSpPr>
          <p:spPr>
            <a:xfrm>
              <a:off x="3708360" y="4581360"/>
              <a:ext cx="503280" cy="360000"/>
            </a:xfrm>
            <a:prstGeom prst="leftArrow">
              <a:avLst>
                <a:gd name="adj1" fmla="val 50000"/>
                <a:gd name="adj2" fmla="val 3495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32" name="Group 130"/>
          <p:cNvGrpSpPr/>
          <p:nvPr/>
        </p:nvGrpSpPr>
        <p:grpSpPr>
          <a:xfrm>
            <a:off x="3708360" y="3213000"/>
            <a:ext cx="3024360" cy="459720"/>
            <a:chOff x="3708360" y="3213000"/>
            <a:chExt cx="3024360" cy="459720"/>
          </a:xfrm>
        </p:grpSpPr>
        <p:sp>
          <p:nvSpPr>
            <p:cNvPr id="133" name="Text Box 128"/>
            <p:cNvSpPr/>
            <p:nvPr/>
          </p:nvSpPr>
          <p:spPr>
            <a:xfrm>
              <a:off x="4211640" y="3213000"/>
              <a:ext cx="25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Limewater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4" name="AutoShape 129"/>
            <p:cNvSpPr/>
            <p:nvPr/>
          </p:nvSpPr>
          <p:spPr>
            <a:xfrm>
              <a:off x="3708360" y="3284640"/>
              <a:ext cx="503280" cy="360360"/>
            </a:xfrm>
            <a:prstGeom prst="leftArrow">
              <a:avLst>
                <a:gd name="adj1" fmla="val 50000"/>
                <a:gd name="adj2" fmla="val 349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Adding acid to carbonate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6" name="Picture 4" descr="Acid and carbonate"/>
          <p:cNvPicPr/>
          <p:nvPr/>
        </p:nvPicPr>
        <p:blipFill>
          <a:blip r:embed="rId1"/>
          <a:srcRect l="2182" t="3763" r="4363" b="3416"/>
          <a:stretch/>
        </p:blipFill>
        <p:spPr>
          <a:xfrm>
            <a:off x="1619280" y="1844640"/>
            <a:ext cx="5761080" cy="3282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0" y="692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99"/>
                </a:solidFill>
                <a:latin typeface="Comic Sans MS"/>
              </a:rPr>
              <a:t>Carbonates are compounds containing carbon and oxygen.  When an acid is added to a carbonate the carbonate starts to fizz.  A gas called _________ _______ is produced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8" name="Group 13"/>
          <p:cNvGrpSpPr/>
          <p:nvPr/>
        </p:nvGrpSpPr>
        <p:grpSpPr>
          <a:xfrm>
            <a:off x="0" y="5445000"/>
            <a:ext cx="9144000" cy="642600"/>
            <a:chOff x="0" y="5445000"/>
            <a:chExt cx="9144000" cy="642600"/>
          </a:xfrm>
        </p:grpSpPr>
        <p:sp>
          <p:nvSpPr>
            <p:cNvPr id="139" name="Text Box 6"/>
            <p:cNvSpPr/>
            <p:nvPr/>
          </p:nvSpPr>
          <p:spPr>
            <a:xfrm>
              <a:off x="0" y="544500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200"/>
                  </a:solidFill>
                  <a:latin typeface="Comic Sans MS"/>
                </a:rPr>
                <a:t>Calcium carbonate + hydrochloric acid        calcium chloride + carbon dioxide + water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0" name="Line 10"/>
            <p:cNvSpPr/>
            <p:nvPr/>
          </p:nvSpPr>
          <p:spPr>
            <a:xfrm>
              <a:off x="4211640" y="5661000"/>
              <a:ext cx="360360" cy="0"/>
            </a:xfrm>
            <a:prstGeom prst="line">
              <a:avLst/>
            </a:prstGeom>
            <a:ln w="9360">
              <a:solidFill>
                <a:srgbClr val="fff2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41" name="Group 14"/>
          <p:cNvGrpSpPr/>
          <p:nvPr/>
        </p:nvGrpSpPr>
        <p:grpSpPr>
          <a:xfrm>
            <a:off x="0" y="5950080"/>
            <a:ext cx="9144000" cy="440640"/>
            <a:chOff x="0" y="5950080"/>
            <a:chExt cx="9144000" cy="440640"/>
          </a:xfrm>
        </p:grpSpPr>
        <p:sp>
          <p:nvSpPr>
            <p:cNvPr id="142" name="Text Box 9"/>
            <p:cNvSpPr/>
            <p:nvPr/>
          </p:nvSpPr>
          <p:spPr>
            <a:xfrm>
              <a:off x="0" y="5950080"/>
              <a:ext cx="9144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CaCO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3(s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  +      HCl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(aq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         CaCl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2(aq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+     CO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2(g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+    H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O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(l)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>
              <a:off x="3492360" y="6094440"/>
              <a:ext cx="936720" cy="0"/>
            </a:xfrm>
            <a:prstGeom prst="line">
              <a:avLst/>
            </a:prstGeom>
            <a:ln w="93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4" name="Text Box 12"/>
          <p:cNvSpPr/>
          <p:nvPr/>
        </p:nvSpPr>
        <p:spPr>
          <a:xfrm>
            <a:off x="2484360" y="59500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Flame test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5280" y="1413000"/>
          <a:ext cx="8209080" cy="3703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mpo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 of fl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8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Flame test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83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Compounds containing lithium, sodium, potassium, calcium and barium can be recognised by burning the compound and observing the colours produce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49" name="Group 40"/>
          <p:cNvGrpSpPr/>
          <p:nvPr/>
        </p:nvGrpSpPr>
        <p:grpSpPr>
          <a:xfrm>
            <a:off x="755640" y="4581360"/>
            <a:ext cx="7758000" cy="1811520"/>
            <a:chOff x="755640" y="4581360"/>
            <a:chExt cx="7758000" cy="1811520"/>
          </a:xfrm>
        </p:grpSpPr>
        <p:pic>
          <p:nvPicPr>
            <p:cNvPr id="150" name="Picture 5" descr="BUNSEN"/>
            <p:cNvPicPr/>
            <p:nvPr/>
          </p:nvPicPr>
          <p:blipFill>
            <a:blip r:embed="rId1"/>
            <a:stretch/>
          </p:blipFill>
          <p:spPr>
            <a:xfrm>
              <a:off x="755640" y="4581360"/>
              <a:ext cx="77328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6" descr="BUNSEN"/>
            <p:cNvPicPr/>
            <p:nvPr/>
          </p:nvPicPr>
          <p:blipFill>
            <a:blip r:embed="rId2"/>
            <a:stretch/>
          </p:blipFill>
          <p:spPr>
            <a:xfrm>
              <a:off x="2484360" y="4581360"/>
              <a:ext cx="77328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7" descr="BUNSEN"/>
            <p:cNvPicPr/>
            <p:nvPr/>
          </p:nvPicPr>
          <p:blipFill>
            <a:blip r:embed="rId3"/>
            <a:stretch/>
          </p:blipFill>
          <p:spPr>
            <a:xfrm>
              <a:off x="4284720" y="4581360"/>
              <a:ext cx="77292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8" descr="BUNSEN"/>
            <p:cNvPicPr/>
            <p:nvPr/>
          </p:nvPicPr>
          <p:blipFill>
            <a:blip r:embed="rId4"/>
            <a:stretch/>
          </p:blipFill>
          <p:spPr>
            <a:xfrm>
              <a:off x="6012000" y="4581360"/>
              <a:ext cx="77292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9" descr="BUNSEN"/>
            <p:cNvPicPr/>
            <p:nvPr/>
          </p:nvPicPr>
          <p:blipFill>
            <a:blip r:embed="rId5"/>
            <a:stretch/>
          </p:blipFill>
          <p:spPr>
            <a:xfrm>
              <a:off x="7740720" y="4581360"/>
              <a:ext cx="772920" cy="181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Group 41"/>
          <p:cNvGrpSpPr/>
          <p:nvPr/>
        </p:nvGrpSpPr>
        <p:grpSpPr>
          <a:xfrm>
            <a:off x="170640" y="3429000"/>
            <a:ext cx="1189800" cy="1751400"/>
            <a:chOff x="170640" y="3429000"/>
            <a:chExt cx="1189800" cy="1751400"/>
          </a:xfrm>
        </p:grpSpPr>
        <p:sp>
          <p:nvSpPr>
            <p:cNvPr id="156" name="Freeform 30"/>
            <p:cNvSpPr/>
            <p:nvPr/>
          </p:nvSpPr>
          <p:spPr>
            <a:xfrm>
              <a:off x="90000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57" name="Group 13"/>
            <p:cNvGrpSpPr/>
            <p:nvPr/>
          </p:nvGrpSpPr>
          <p:grpSpPr>
            <a:xfrm>
              <a:off x="170640" y="4220640"/>
              <a:ext cx="1016640" cy="959760"/>
              <a:chOff x="170640" y="4220640"/>
              <a:chExt cx="1016640" cy="959760"/>
            </a:xfrm>
          </p:grpSpPr>
          <p:sp>
            <p:nvSpPr>
              <p:cNvPr id="158" name="Rectangle 10"/>
              <p:cNvSpPr/>
              <p:nvPr/>
            </p:nvSpPr>
            <p:spPr>
              <a:xfrm rot="18765000">
                <a:off x="108000" y="4795200"/>
                <a:ext cx="71892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" name="Line 11"/>
              <p:cNvSpPr/>
              <p:nvPr/>
            </p:nvSpPr>
            <p:spPr>
              <a:xfrm flipV="1">
                <a:off x="683640" y="4247640"/>
                <a:ext cx="358560" cy="37476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" name="Arc 12"/>
              <p:cNvSpPr/>
              <p:nvPr/>
            </p:nvSpPr>
            <p:spPr>
              <a:xfrm flipV="1">
                <a:off x="1042920" y="4220280"/>
                <a:ext cx="144360" cy="6948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1" name="Group 42"/>
          <p:cNvGrpSpPr/>
          <p:nvPr/>
        </p:nvGrpSpPr>
        <p:grpSpPr>
          <a:xfrm>
            <a:off x="1899000" y="3429000"/>
            <a:ext cx="1188720" cy="1753920"/>
            <a:chOff x="1899000" y="3429000"/>
            <a:chExt cx="1188720" cy="1753920"/>
          </a:xfrm>
        </p:grpSpPr>
        <p:sp>
          <p:nvSpPr>
            <p:cNvPr id="162" name="Freeform 31"/>
            <p:cNvSpPr/>
            <p:nvPr/>
          </p:nvSpPr>
          <p:spPr>
            <a:xfrm>
              <a:off x="262728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fff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63" name="Group 14"/>
            <p:cNvGrpSpPr/>
            <p:nvPr/>
          </p:nvGrpSpPr>
          <p:grpSpPr>
            <a:xfrm>
              <a:off x="1899000" y="4222800"/>
              <a:ext cx="1017000" cy="960120"/>
              <a:chOff x="1899000" y="4222800"/>
              <a:chExt cx="1017000" cy="960120"/>
            </a:xfrm>
          </p:grpSpPr>
          <p:sp>
            <p:nvSpPr>
              <p:cNvPr id="164" name="Rectangle 15"/>
              <p:cNvSpPr/>
              <p:nvPr/>
            </p:nvSpPr>
            <p:spPr>
              <a:xfrm rot="18765000">
                <a:off x="183636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5" name="Line 16"/>
              <p:cNvSpPr/>
              <p:nvPr/>
            </p:nvSpPr>
            <p:spPr>
              <a:xfrm flipV="1">
                <a:off x="241236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6" name="Arc 17"/>
              <p:cNvSpPr/>
              <p:nvPr/>
            </p:nvSpPr>
            <p:spPr>
              <a:xfrm flipV="1">
                <a:off x="277164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7" name="Group 43"/>
          <p:cNvGrpSpPr/>
          <p:nvPr/>
        </p:nvGrpSpPr>
        <p:grpSpPr>
          <a:xfrm>
            <a:off x="3699360" y="3429000"/>
            <a:ext cx="1188720" cy="1753920"/>
            <a:chOff x="3699360" y="3429000"/>
            <a:chExt cx="1188720" cy="1753920"/>
          </a:xfrm>
        </p:grpSpPr>
        <p:sp>
          <p:nvSpPr>
            <p:cNvPr id="168" name="Freeform 32"/>
            <p:cNvSpPr/>
            <p:nvPr/>
          </p:nvSpPr>
          <p:spPr>
            <a:xfrm>
              <a:off x="442764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69" name="Group 18"/>
            <p:cNvGrpSpPr/>
            <p:nvPr/>
          </p:nvGrpSpPr>
          <p:grpSpPr>
            <a:xfrm>
              <a:off x="3699360" y="4222800"/>
              <a:ext cx="1017000" cy="960120"/>
              <a:chOff x="3699360" y="4222800"/>
              <a:chExt cx="1017000" cy="960120"/>
            </a:xfrm>
          </p:grpSpPr>
          <p:sp>
            <p:nvSpPr>
              <p:cNvPr id="170" name="Rectangle 19"/>
              <p:cNvSpPr/>
              <p:nvPr/>
            </p:nvSpPr>
            <p:spPr>
              <a:xfrm rot="18765000">
                <a:off x="363672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1" name="Line 20"/>
              <p:cNvSpPr/>
              <p:nvPr/>
            </p:nvSpPr>
            <p:spPr>
              <a:xfrm flipV="1">
                <a:off x="421272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2" name="Arc 21"/>
              <p:cNvSpPr/>
              <p:nvPr/>
            </p:nvSpPr>
            <p:spPr>
              <a:xfrm flipV="1">
                <a:off x="457200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3" name="Group 44"/>
          <p:cNvGrpSpPr/>
          <p:nvPr/>
        </p:nvGrpSpPr>
        <p:grpSpPr>
          <a:xfrm>
            <a:off x="5426640" y="3429000"/>
            <a:ext cx="1190160" cy="1753920"/>
            <a:chOff x="5426640" y="3429000"/>
            <a:chExt cx="1190160" cy="1753920"/>
          </a:xfrm>
        </p:grpSpPr>
        <p:sp>
          <p:nvSpPr>
            <p:cNvPr id="174" name="Freeform 33"/>
            <p:cNvSpPr/>
            <p:nvPr/>
          </p:nvSpPr>
          <p:spPr>
            <a:xfrm>
              <a:off x="615636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75" name="Group 22"/>
            <p:cNvGrpSpPr/>
            <p:nvPr/>
          </p:nvGrpSpPr>
          <p:grpSpPr>
            <a:xfrm>
              <a:off x="5426640" y="4222800"/>
              <a:ext cx="1017000" cy="960120"/>
              <a:chOff x="5426640" y="4222800"/>
              <a:chExt cx="1017000" cy="960120"/>
            </a:xfrm>
          </p:grpSpPr>
          <p:sp>
            <p:nvSpPr>
              <p:cNvPr id="176" name="Rectangle 23"/>
              <p:cNvSpPr/>
              <p:nvPr/>
            </p:nvSpPr>
            <p:spPr>
              <a:xfrm rot="18765000">
                <a:off x="536400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7" name="Line 24"/>
              <p:cNvSpPr/>
              <p:nvPr/>
            </p:nvSpPr>
            <p:spPr>
              <a:xfrm flipV="1">
                <a:off x="594000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8" name="Arc 25"/>
              <p:cNvSpPr/>
              <p:nvPr/>
            </p:nvSpPr>
            <p:spPr>
              <a:xfrm flipV="1">
                <a:off x="629928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9" name="Group 45"/>
          <p:cNvGrpSpPr/>
          <p:nvPr/>
        </p:nvGrpSpPr>
        <p:grpSpPr>
          <a:xfrm>
            <a:off x="7155360" y="3429000"/>
            <a:ext cx="1190160" cy="1753920"/>
            <a:chOff x="7155360" y="3429000"/>
            <a:chExt cx="1190160" cy="1753920"/>
          </a:xfrm>
        </p:grpSpPr>
        <p:sp>
          <p:nvSpPr>
            <p:cNvPr id="180" name="Freeform 34"/>
            <p:cNvSpPr/>
            <p:nvPr/>
          </p:nvSpPr>
          <p:spPr>
            <a:xfrm>
              <a:off x="788508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66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1" name="Group 26"/>
            <p:cNvGrpSpPr/>
            <p:nvPr/>
          </p:nvGrpSpPr>
          <p:grpSpPr>
            <a:xfrm>
              <a:off x="7155360" y="4222800"/>
              <a:ext cx="1017000" cy="960120"/>
              <a:chOff x="7155360" y="4222800"/>
              <a:chExt cx="1017000" cy="960120"/>
            </a:xfrm>
          </p:grpSpPr>
          <p:sp>
            <p:nvSpPr>
              <p:cNvPr id="182" name="Rectangle 27"/>
              <p:cNvSpPr/>
              <p:nvPr/>
            </p:nvSpPr>
            <p:spPr>
              <a:xfrm rot="18765000">
                <a:off x="709272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3" name="Line 28"/>
              <p:cNvSpPr/>
              <p:nvPr/>
            </p:nvSpPr>
            <p:spPr>
              <a:xfrm flipV="1">
                <a:off x="766872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4" name="Arc 29"/>
              <p:cNvSpPr/>
              <p:nvPr/>
            </p:nvSpPr>
            <p:spPr>
              <a:xfrm flipV="1">
                <a:off x="802800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85" name="Text Box 35"/>
          <p:cNvSpPr/>
          <p:nvPr/>
        </p:nvSpPr>
        <p:spPr>
          <a:xfrm>
            <a:off x="324000" y="2349360"/>
            <a:ext cx="165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th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Comic Sans MS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 Box 36"/>
          <p:cNvSpPr/>
          <p:nvPr/>
        </p:nvSpPr>
        <p:spPr>
          <a:xfrm>
            <a:off x="2050920" y="2349360"/>
            <a:ext cx="16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od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Comic Sans MS"/>
              </a:rPr>
              <a:t>Yello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 Box 37"/>
          <p:cNvSpPr/>
          <p:nvPr/>
        </p:nvSpPr>
        <p:spPr>
          <a:xfrm>
            <a:off x="3851280" y="2349360"/>
            <a:ext cx="1655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3adff"/>
                </a:solidFill>
                <a:latin typeface="Comic Sans MS"/>
              </a:rPr>
              <a:t>Potass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3adff"/>
                </a:solidFill>
                <a:latin typeface="Comic Sans MS"/>
              </a:rPr>
              <a:t>Lila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38"/>
          <p:cNvSpPr/>
          <p:nvPr/>
        </p:nvSpPr>
        <p:spPr>
          <a:xfrm>
            <a:off x="5580000" y="2349360"/>
            <a:ext cx="16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omic Sans MS"/>
              </a:rPr>
              <a:t>Calc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rick r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39"/>
          <p:cNvSpPr/>
          <p:nvPr/>
        </p:nvSpPr>
        <p:spPr>
          <a:xfrm>
            <a:off x="7308720" y="2349360"/>
            <a:ext cx="16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66"/>
                </a:solidFill>
                <a:latin typeface="Comic Sans MS"/>
              </a:rPr>
              <a:t>Bar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ff66"/>
                </a:solidFill>
                <a:latin typeface="Comic Sans MS"/>
              </a:rPr>
              <a:t>Gre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Metal ion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Metal compounds in a solution contain metal ions.  For example, consider calcium chlorid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059280" y="2781360"/>
          <a:ext cx="3749400" cy="19209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pSp>
        <p:nvGrpSpPr>
          <p:cNvPr id="193" name="Group 216"/>
          <p:cNvGrpSpPr/>
          <p:nvPr/>
        </p:nvGrpSpPr>
        <p:grpSpPr>
          <a:xfrm>
            <a:off x="6139080" y="3213000"/>
            <a:ext cx="3004920" cy="1557000"/>
            <a:chOff x="6139080" y="3213000"/>
            <a:chExt cx="3004920" cy="1557000"/>
          </a:xfrm>
        </p:grpSpPr>
        <p:sp>
          <p:nvSpPr>
            <p:cNvPr id="194" name="AutoShape 215"/>
            <p:cNvSpPr/>
            <p:nvPr/>
          </p:nvSpPr>
          <p:spPr>
            <a:xfrm rot="11402400">
              <a:off x="6156360" y="3428640"/>
              <a:ext cx="1008000" cy="289080"/>
            </a:xfrm>
            <a:prstGeom prst="rightArrow">
              <a:avLst>
                <a:gd name="adj1" fmla="val 50000"/>
                <a:gd name="adj2" fmla="val 87173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5" name="Text Box 211"/>
            <p:cNvSpPr/>
            <p:nvPr/>
          </p:nvSpPr>
          <p:spPr>
            <a:xfrm>
              <a:off x="6877080" y="3213000"/>
              <a:ext cx="2266920" cy="1557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hlorine is in group 7 so a chloride ion will be Cl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96" name="Group 217"/>
          <p:cNvGrpSpPr/>
          <p:nvPr/>
        </p:nvGrpSpPr>
        <p:grpSpPr>
          <a:xfrm>
            <a:off x="108000" y="1989000"/>
            <a:ext cx="3114360" cy="2288520"/>
            <a:chOff x="108000" y="1989000"/>
            <a:chExt cx="3114360" cy="2288520"/>
          </a:xfrm>
        </p:grpSpPr>
        <p:sp>
          <p:nvSpPr>
            <p:cNvPr id="197" name="AutoShape 214"/>
            <p:cNvSpPr/>
            <p:nvPr/>
          </p:nvSpPr>
          <p:spPr>
            <a:xfrm rot="679200">
              <a:off x="2195640" y="3141720"/>
              <a:ext cx="1008000" cy="288720"/>
            </a:xfrm>
            <a:prstGeom prst="rightArrow">
              <a:avLst>
                <a:gd name="adj1" fmla="val 50000"/>
                <a:gd name="adj2" fmla="val 87282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8" name="Text Box 5"/>
            <p:cNvSpPr/>
            <p:nvPr/>
          </p:nvSpPr>
          <p:spPr>
            <a:xfrm>
              <a:off x="108000" y="1989000"/>
              <a:ext cx="2663640" cy="2288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is in group 2 and has two electrons in its outer shell, so it will form a Ca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2+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ion.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9" name="Text Box 218"/>
          <p:cNvSpPr/>
          <p:nvPr/>
        </p:nvSpPr>
        <p:spPr>
          <a:xfrm>
            <a:off x="1187280" y="5661000"/>
            <a:ext cx="655344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lcium chloride has the formula CaCl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Metal ions and precipitate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0" y="83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Some metal ions form precipitates, i.e. an insoluble solid that is formed when sodium hydroxide is added to them.  Consider calcium chlorid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02" name="Group 7"/>
          <p:cNvGrpSpPr/>
          <p:nvPr/>
        </p:nvGrpSpPr>
        <p:grpSpPr>
          <a:xfrm>
            <a:off x="0" y="2276640"/>
            <a:ext cx="9144000" cy="510120"/>
            <a:chOff x="0" y="2276640"/>
            <a:chExt cx="9144000" cy="510120"/>
          </a:xfrm>
        </p:grpSpPr>
        <p:sp>
          <p:nvSpPr>
            <p:cNvPr id="203" name="Text Box 5"/>
            <p:cNvSpPr/>
            <p:nvPr/>
          </p:nvSpPr>
          <p:spPr>
            <a:xfrm>
              <a:off x="0" y="2276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2+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OH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Ca(OH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s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4" name="Line 6"/>
            <p:cNvSpPr/>
            <p:nvPr/>
          </p:nvSpPr>
          <p:spPr>
            <a:xfrm>
              <a:off x="4859280" y="2492640"/>
              <a:ext cx="50472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05" name="Text Box 8"/>
          <p:cNvSpPr/>
          <p:nvPr/>
        </p:nvSpPr>
        <p:spPr>
          <a:xfrm>
            <a:off x="3780000" y="2276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Metal ions and precipitate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0" y="83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Some metal ions form precipitates, i.e. an insoluble solid that is formed when sodium hydroxide is added to them.  Consider calcium chlorid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0" y="2276640"/>
            <a:ext cx="9144000" cy="510120"/>
            <a:chOff x="0" y="2276640"/>
            <a:chExt cx="9144000" cy="510120"/>
          </a:xfrm>
        </p:grpSpPr>
        <p:sp>
          <p:nvSpPr>
            <p:cNvPr id="209" name="Text Box 5"/>
            <p:cNvSpPr/>
            <p:nvPr/>
          </p:nvSpPr>
          <p:spPr>
            <a:xfrm>
              <a:off x="0" y="2276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2+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OH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Ca(OH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s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0" name="Line 6"/>
            <p:cNvSpPr/>
            <p:nvPr/>
          </p:nvSpPr>
          <p:spPr>
            <a:xfrm>
              <a:off x="4859280" y="2492640"/>
              <a:ext cx="50472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11" name="Text Box 7"/>
          <p:cNvSpPr/>
          <p:nvPr/>
        </p:nvSpPr>
        <p:spPr>
          <a:xfrm>
            <a:off x="3780000" y="2276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0" y="3141720"/>
          <a:ext cx="9144000" cy="3527280"/>
        </p:xfrm>
        <a:graphic>
          <a:graphicData uri="http://schemas.openxmlformats.org/drawingml/2006/table">
            <a:tbl>
              <a:tblPr/>
              <a:tblGrid>
                <a:gridCol w="2124000"/>
                <a:gridCol w="5688000"/>
                <a:gridCol w="1332000"/>
              </a:tblGrid>
              <a:tr h="611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tal 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cipitate for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Calcium Ca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Calcium hydroxide: Ca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(aq)</a:t>
                      </a: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 + OH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-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(aq)</a:t>
                      </a: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      Ca(OH)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2 (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Whi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uminium Al</a:t>
                      </a:r>
                      <a:r>
                        <a:rPr b="0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Magnesium Mg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pper</a:t>
                      </a:r>
                      <a:r>
                        <a:rPr b="0" lang="en-GB" sz="18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(II) 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u</a:t>
                      </a:r>
                      <a:r>
                        <a:rPr b="0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Iron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(II) </a:t>
                      </a: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 Fe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ron</a:t>
                      </a:r>
                      <a:r>
                        <a:rPr b="0" lang="en-GB" sz="18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(III)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Fe</a:t>
                      </a:r>
                      <a:r>
                        <a:rPr b="0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Line 42"/>
          <p:cNvSpPr/>
          <p:nvPr/>
        </p:nvSpPr>
        <p:spPr>
          <a:xfrm>
            <a:off x="6156360" y="4005360"/>
            <a:ext cx="2887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Testing for chloride and sulphate ion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0" y="22780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99"/>
                </a:solidFill>
                <a:latin typeface="Comic Sans MS"/>
              </a:rPr>
              <a:t>Test 1:  Chloride 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99"/>
                </a:solidFill>
                <a:latin typeface="Comic Sans MS"/>
              </a:rPr>
              <a:t>Add a few drops of dilute nitric acid to the chloride ion solution followed by a few drops of silver nitrat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0" y="4941720"/>
            <a:ext cx="903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Comic Sans MS"/>
              </a:rPr>
              <a:t>Test 2:  Sulphate 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Comic Sans MS"/>
              </a:rPr>
              <a:t>Add a few drops of dilute hydrochloric acid to the sulphate ion solution followed by a few drops of barium chlorid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0" y="3789360"/>
            <a:ext cx="9144000" cy="459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ecipitate formed = silver chloride (whit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ecipitate formed = barium sulphate (white agai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79280" y="907920"/>
            <a:ext cx="8785440" cy="1015920"/>
          </a:xfrm>
          <a:prstGeom prst="rect">
            <a:avLst/>
          </a:prstGeom>
          <a:noFill/>
          <a:ln w="349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For each test state: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)  The colour of the precipita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2)  What compound it i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14:05:06Z</dcterms:created>
  <dc:creator>WHS</dc:creator>
  <dc:description/>
  <dc:language>en-US</dc:language>
  <cp:lastModifiedBy>RomaK</cp:lastModifiedBy>
  <dcterms:modified xsi:type="dcterms:W3CDTF">2015-09-02T05:54:28Z</dcterms:modified>
  <cp:revision>96</cp:revision>
  <dc:subject/>
  <dc:title>Simple Chemical Reactions lab tests sulphuric acid</dc:title>
</cp:coreProperties>
</file>