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CD5C-23CC-4F98-93C3-F6B1ED306041}"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1786D-E81D-44D9-804E-E67DE547B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D9599-37F4-42C6-A156-81BB12779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F2445-EF7F-4901-985B-B0499BCFE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4420C-E617-489F-9A98-8926DDA02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9FE29-A67C-4985-BCC9-07937F627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2A50D-EF9D-4CFD-BE28-AA10F87CE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EDD40-80DB-4B9F-B144-536CC3364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84541-DFE5-4B58-BA13-12F874CAD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4AC61-029E-4DD4-B051-4ADDC6102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A2F57-6EF1-442C-814F-057809B2F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07EF6-272F-46BF-99FF-D6A1B16B9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F3D4A-8B31-4163-BD10-DFD0D8251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7AC0A-88DE-45D3-9DDC-0EF65345B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B7393-EAAE-4451-8874-C66A0B43C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2176D-B26C-4E9B-A3BC-213F98808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A02F4-4F08-4B78-A042-0AD14EA15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A26A1-0BB9-45BD-9F19-AAE1DAC79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89674-B9CE-4B63-82D5-9D83DDCB4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702B4-AE2A-4B24-86A1-CC78F5FED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C879E-E6E6-422B-82E7-63E60EBB2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3E6DF-5D12-4A25-95C7-439B16267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D388-AAD4-439B-9CB4-8D9DDA063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40183-4885-4186-9EE4-57670D166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E8CD-CF6A-4E40-B09F-2E6D7B250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4850-6A2D-4BF8-B409-F365CD4E254C}"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CE60-E350-487D-950B-AEE6BD5F0E1E}"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LEGION</cp:lastModifiedBy>
  <dcterms:modified xsi:type="dcterms:W3CDTF">2017-07-03T09:59:51Z</dcterms:modified>
  <cp:revision>6</cp:revision>
  <dc:subject/>
  <dc:title>What were Social effects of the industrial revolution</dc:title>
</cp:coreProperties>
</file>