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B8EB-5631-4C55-BF9E-D649D084BA07}"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F006AF-5E83-45E0-9D17-521FA7F8D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D11C4-E529-42BD-AD91-BB4284CA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E7C71-36FB-4560-8950-581AB3037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8EC60-7EA4-4249-9889-207851118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80B5A-4EAB-47E1-AC27-EDE7A9AFB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D1B9-73B6-498F-A69A-D27D845DB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3FDA2-7AA3-40D3-B36C-4ADB70717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E9F2F-1B53-4162-84B7-82592356C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84085-7C1C-4271-AE5A-742B60341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8330A-2D8A-469F-BC3E-B10E20E18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5ED6F-9785-47E7-9D1C-DB7D99521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FE260-8FD8-4ACD-A929-9338DAB24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A5FF1-E0FB-4929-92D6-54A7401F4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F5106-F38A-4156-ADAD-D508C6577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17668-01AC-4AA1-9D6A-5D5120C0E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F10CA-7A50-4BF1-91D8-B602BBA49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6BBBC-8912-4BC8-9874-0E924942F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D8D56-5109-4BF9-8C7B-C82F2DF8B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C18BD-8695-454D-8D21-F39595AAA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1EB67-37EE-40EC-8405-CD91AB905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410AE-EE13-4E13-B86A-AE2E012C3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99735-95C0-46CF-BE9F-880A0BFE5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F0B9-D655-4EAA-8278-503FA270A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F15D-A21F-4FE4-8033-9B2AAD3BF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0C14-68D6-4958-9D4F-03A8767A5FAE}"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2C66-F4AA-4E4B-B86B-3344D3547016}"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LEGION</cp:lastModifiedBy>
  <dcterms:modified xsi:type="dcterms:W3CDTF">2017-07-03T09:59:51Z</dcterms:modified>
  <cp:revision>6</cp:revision>
  <dc:subject/>
  <dc:title>What were Social effects of the industrial revolution</dc:title>
</cp:coreProperties>
</file>