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80A8-1908-4927-BA82-38F0229A135B}"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81155-1BD5-4C80-BC28-7F7E26CBA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6AE8D-866E-414F-A27A-D2937EDEA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F7F7F-C070-421C-9F7D-9052924DF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7A99A-9CA5-43DC-95B1-9D8FCC3CB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2B082-E583-4CC6-9B88-EDFC3CA46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C6B2F-A124-4DAE-AD2B-B547A9A74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7E432-7FF5-4C88-BF39-8D44A0A65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B3ECF-4A0B-4A43-A704-5A95C0E5C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6339D-2464-4FB5-A58C-2841ADD10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EB836-8ABF-4A46-B541-0E6677F82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0FD58-6AC7-4393-A5B9-3C624DC0B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A6929-8556-42CA-869A-CC4767B57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105AC-D4BA-413F-9F82-715470574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5B0CF-F09F-4616-983F-1C6B12E29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39520-A3CB-4626-9B31-C1D1AB24A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D6240-3AF3-4C92-A2FE-9A552BFFC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8C026-026C-49B3-854E-B9D282D1D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8A154-D31C-4B09-9DCB-812B7D194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BEC04-8375-4560-8A43-89CF05C24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7E5AE-FA99-4CFC-8D31-9D78A26E1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448F7-EE39-402E-8CE5-DA36E15F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BD808-DD71-477E-9350-4D20D38B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8F43-4EF0-4075-AA37-DFC85C61F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6ADEB-FC0E-4753-8873-7545543F7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7572A-3D39-45D5-8424-E0CEA2BE41B8}"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2F5E-A774-4567-A074-CD3D47A9CB04}"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LEGION</cp:lastModifiedBy>
  <dcterms:modified xsi:type="dcterms:W3CDTF">2017-07-03T09:59:51Z</dcterms:modified>
  <cp:revision>6</cp:revision>
  <dc:subject/>
  <dc:title>What were Social effects of the industrial revolution</dc:title>
</cp:coreProperties>
</file>