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0585-2632-42BA-B819-620C5BFE252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89EFE-B161-4715-887D-807501CAA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DF891-0632-4530-8EA8-2426EB9AA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1C4FA-80BD-4A82-93A5-80C668D79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F10BF-6334-43ED-9358-51929F603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26DAB-0088-4C2F-ACDA-82FDDB076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3CDA9-F712-4BDA-84AF-892888687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858D2-41BD-44A7-9464-799C43440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E7582-397A-4859-B75F-38B4D8CCE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92FAF-85B4-4E75-8D34-2BE9C9ED1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0F87E-E14B-45B6-9198-1255DE8C4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084FD-C422-4543-B78C-A7C7EB8CE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E433-32DC-4B87-8889-FFED4C5F6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149CB-5BF6-46F6-B3A5-355C2F5D7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69BBF-8EF8-47E9-8241-86C077FD6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0C32B-807D-4BD0-B03E-51B5A5AE1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1484C-ECD3-4FC1-B2E9-E19C1E370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8E7A5-397D-4895-91BA-0A2D98518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A9102-35AB-45F1-8015-8F84C71D8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AC2C9-3983-4E70-9283-8627FE57D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F0432-06BC-417F-8B9A-DC0CE982F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74D6E-D453-40BE-9B60-932F3A775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A87DE-B5E2-4A56-ADD5-6A45F19E7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1051D-AE73-4A00-A9AE-3331E0B5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1772-E63F-435F-9212-271E39A36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FCE3-9760-4CF0-A7C2-E7B694774583}"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FBE4-8E3E-4E6F-BC95-C412F0F0B9AD}"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LEGION</cp:lastModifiedBy>
  <dcterms:modified xsi:type="dcterms:W3CDTF">2017-07-03T09:59:51Z</dcterms:modified>
  <cp:revision>6</cp:revision>
  <dc:subject/>
  <dc:title>What were Social effects of the industrial revolution</dc:title>
</cp:coreProperties>
</file>