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6524-B642-40BB-9AB8-EA18BE7FD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A01-B959-4E2B-A391-AC4A5133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207-6BCA-40AF-9A90-DF9CA56C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333-BE8E-4370-98FA-044B3722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C22-B0D2-461B-86E4-1D64D472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18B2-F978-4037-9783-CB85B868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80C3-E537-4F0E-9BDF-4E56EB68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81B6-2348-4201-9147-0E937A0A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2E55-F802-45F8-944B-D0E5DD27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256A-3E89-4B08-AF03-862A7636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BB26-4B9B-4E6D-93B6-A54CCBE2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9AD6-27DE-486F-9EC2-CF0D2FC7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0AC-0579-4143-946F-4666C235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ACD8-5734-40DA-932E-9732A1E1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9B90-1A0B-42A2-ADCC-0D77B964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CC0D-A792-433B-B51F-9EAAAFE6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4056-AE70-4FA2-9B1A-03A531DC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25C6-BC86-4113-B548-B7092D4E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ED3-D12F-4F49-BAE2-B7E87E05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41A-692C-460A-B6BD-61247CE2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8C7-3BDD-4351-8C68-0D5F38B4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596-7B16-467A-B56F-E2DC33CC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E86-78A0-4F0C-B95C-0109CF9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5D3-BC66-4CD4-BE99-8B4E372C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FC8-EFC0-4682-B00A-B47D23C4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74E7-E2F1-4739-AEB8-E5E270C928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AAED-378A-4CEF-A945-A412029FB2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LEGION</cp:lastModifiedBy>
  <dcterms:modified xsi:type="dcterms:W3CDTF">2017-07-03T09:58:50Z</dcterms:modified>
  <cp:revision>8</cp:revision>
  <dc:subject/>
  <dc:title>What is culture? Standard 10.1</dc:title>
</cp:coreProperties>
</file>