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8FD9-1285-4FB4-9314-DDCF36588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A093-723E-48BF-B1C2-402729CA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6A7-BD66-4348-A57A-071EBE70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EFD-1339-4443-8C58-32F93B33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529-2F12-4B3B-8E2C-A609F0EA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9A78-A70A-421D-B134-3DC6B8BF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0FFC-084B-4A92-8403-F1856FE2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5DA2-5323-4D29-B8AD-096AE868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AFA6-1B82-474B-ABD5-E9B31A9B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8E3B-2AC6-4BB2-888E-E99D9AFA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C423-0B96-4BE8-8200-A22A1828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7A28-6505-40E8-ADC9-A064C85F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D2C-CF02-4994-948B-36AD655E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E942-E493-4A6F-824C-4C0075FB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E9A0-0D97-4EE0-AE0A-CAAB661B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2DB1-C112-473F-8151-D0ABDDFC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2413-77ED-4326-B3F3-7A136866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46A8-3876-4583-871D-66F2783F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60E-A53A-445E-A7F3-D6A16DF9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F37-B426-48AE-90CF-C6878A61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E9D-2A89-460B-82B4-51856912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AAD0-9E61-4F2B-A2B6-65779FFB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143A-4051-47FA-83E6-B7DDC782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BCA-9E7B-49DF-BD83-4D490B66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B38F-1114-49FD-959A-6412FED1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ACF8-3F8E-4577-BD5C-FC31BCD155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B57A-EFA1-4FA2-AFFC-DB640ADCDB6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6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LEGION</cp:lastModifiedBy>
  <dcterms:modified xsi:type="dcterms:W3CDTF">2017-07-03T09:58:50Z</dcterms:modified>
  <cp:revision>8</cp:revision>
  <dc:subject/>
  <dc:title>What is culture? Standard 10.1</dc:title>
</cp:coreProperties>
</file>