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AFAD-4F68-4DBD-873D-0ADB8AFA6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159-A29C-493E-ADEC-588CD9E9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F00-A494-4994-8888-03DFCD33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DC0-9212-4639-8428-F244AF50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C12-E857-4BEF-9BDB-BEE80DB5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3DDA-9944-4360-BA92-4629120B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6788-5F69-4DCE-A55B-7D504385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DDAB-02E4-4F8B-A449-EE80B9B4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1A12-6A98-4F22-BEB2-612385FD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0998-04A4-4610-8271-CC82B1CB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4230-20AC-4CF4-B4BD-AC8B56E6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E94A-4CCA-4811-8E13-AEB8C4CE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256-0EC6-4AD1-BFCE-42F7BC63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8DA8-B3F2-4A67-A4F1-674E6718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E2B1-9F7C-46C0-8ADD-6D279AFE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2B91-0C9E-450D-BB91-9E571E65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4AB3-E317-49D9-A740-1297F906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2AF0-8A8B-428F-A7F2-E13764D9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FDB-D0AF-4942-8C42-CD965A37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880-49C7-405A-9031-E6DA12A3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21D-A720-4060-92A5-21E75C57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4A2-F267-4131-933B-55764CAE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494-65B4-4CCC-B2F9-BBC7E50E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2CA-CA54-40F1-8BA0-B8A7D273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2E0-F6EC-489D-9BB0-C9DF3D6D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0EA9-4357-4472-AAB1-658CDCD3C4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D8E-BD11-4B61-AF86-D92E98F594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LEGION</cp:lastModifiedBy>
  <dcterms:modified xsi:type="dcterms:W3CDTF">2017-07-03T09:58:50Z</dcterms:modified>
  <cp:revision>8</cp:revision>
  <dc:subject/>
  <dc:title>What is culture? Standard 10.1</dc:title>
</cp:coreProperties>
</file>