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F22B-0262-461B-BCEF-5A922B2F01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1A170-0B99-40D6-8EB3-C982FDF06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0BBCD-EBB8-458A-90CE-3AC7157CC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AD458-4754-4911-8FE1-2E0D1C160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11B75-B35B-4DEC-B2AF-E63E9E90E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35D74-7498-4B81-88DE-DAA365258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FBBE4-FE83-4BFE-ABF6-5DDB1817F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E9F2E-140C-4A27-9089-4B9C91BA9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6199B-9592-4A7B-9F8E-9D7F67330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564C9-8849-49B7-B865-A7B9E2480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75ECC-8725-4478-9E95-92CC05DCB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DD90F-4E76-4FE1-BF36-6F0DA9470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DE127-3379-4C11-84F7-92D23DD38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0E942-7016-4744-B5DD-5185511BC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B7061-351E-4E27-A997-DFAE0E154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45F8D-3996-4918-A696-363ED045C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55DD4-D759-4696-8CFB-E7D1BA30B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EAA3A2-6FC9-4BD7-B733-A656E4C471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59E76-AC81-45B0-9801-75C927C31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13C30-BE66-46CD-B6EB-FF4188C53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856BD-B918-4ABF-B528-0820DA832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CF1A4-9342-4E41-84FD-10815E716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66732-4ABE-4A05-AE26-9879677DE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B8B9B-0C54-4780-8761-764778E18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09240-DB95-4EB3-A053-A970DA625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9A9B-D2AC-4DDC-8D20-8D12F44296C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DA76-659D-4361-8EA0-0E73CE26C934}"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LEGION</cp:lastModifiedBy>
  <dcterms:modified xsi:type="dcterms:W3CDTF">2017-07-03T09:59:33Z</dcterms:modified>
  <cp:revision>8</cp:revision>
  <dc:subject/>
  <dc:title>What is civilization?</dc:title>
</cp:coreProperties>
</file>