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F6E4-2A46-4AE3-9A19-A68F05D889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6A67E-8CCD-49FF-9DA3-4843CB39A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21EF3-7F40-4F6A-879F-44762F3C9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F7496-837B-4358-877C-A099B0E80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EE3D3-ED51-4F1A-8AE4-6B4A1E6AF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91015-CFE9-43F7-8CFA-B0E53F093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47612-901F-49C5-850E-F095C3EDC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22162-5D11-4CEA-BA91-2018F7234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D4C19-87A1-45D6-AB50-6432EFE65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22709-7F42-4040-A03C-46453CEF6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83BA1-B8D8-4DEB-8B06-2F3C9506A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0F15C-364B-4086-9709-A3B720166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24390-3333-458B-B872-B8E3F1930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2F869-5AE0-49D0-8575-E17A854C4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B025E-94D3-4748-8D3A-626E4D7F6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90BAC-F43E-4BD3-A04D-C8265629F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237F1-7810-4CC4-A3BC-DCF9C3C84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00239-32FE-4796-9647-CAEC7DE2F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1B48B-8879-4707-9FC5-CE64E4061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51788-FD95-4244-B433-B530DFCB9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BE2AF-992D-4165-B583-CDF4B7A76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8C4BE-3C81-4335-9D62-FB930B104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E11E2-2DDB-48F3-84F7-E02E5F08D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BB007-A70B-466B-96F4-8055B0966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0E381-9526-49A7-A02D-6BA7C023E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F72C-86D1-4959-9E87-2A95FE4F1F6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5B06-586D-4174-9F56-9B539D2E77CC}"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LEGION</cp:lastModifiedBy>
  <dcterms:modified xsi:type="dcterms:W3CDTF">2017-07-03T09:59:33Z</dcterms:modified>
  <cp:revision>8</cp:revision>
  <dc:subject/>
  <dc:title>What is civilization?</dc:title>
</cp:coreProperties>
</file>