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6907-2ADB-4CEB-B5DB-BFA02AFC22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5E899-C7A4-41D6-908E-350084290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3E9AC-152E-45A8-B5F0-570D9ED73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7D26E-E4C9-4F66-9657-4031B1243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F7104-C0EB-411A-98C3-8C7A1CD29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03A88-5110-424F-B416-7F496294F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44678-574A-439F-9B64-241AF9558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118C0-E9FE-4C29-8335-D93F6EEF8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73995-06EE-4894-89C6-83B9A8B18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2DA1A-17A6-4F52-A145-2E8DC8BCD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3961B-5AD7-4985-B6F6-530D3D25E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F1FF5-4A62-4FB7-84B4-80B5243C6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C64CD-EC56-49D3-AA38-A2E91389F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29085-A3F5-4D57-8770-D670F9C5D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599FE-4989-4878-8086-CEDF70683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CEFB9-9AB4-4DE8-9FFA-5021D7C3B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6AA302-FFD9-4687-8F56-3B68CC7DD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29D4BF-F934-4CE5-AA80-99BF22BD9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6CBD-DB6D-4815-8C84-B3D9A290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FDBA0-376E-4BA3-BE9B-347C227FA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32F94-1D71-4CD3-BCFC-D41BFB035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07871-2F0B-4B41-9054-DCA150018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F10F-AC66-47E3-921C-DCB69E391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163DC-64B9-43D8-9187-B36660717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EBB3-F64C-4F29-9AF6-29034436A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08C4-3EC0-45A6-A000-80FE6CD90AC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0A64-57AC-47AD-9F19-0D3CD1845E7A}"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LEGION</cp:lastModifiedBy>
  <dcterms:modified xsi:type="dcterms:W3CDTF">2017-07-03T09:59:33Z</dcterms:modified>
  <cp:revision>8</cp:revision>
  <dc:subject/>
  <dc:title>What is civilization?</dc:title>
</cp:coreProperties>
</file>