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A5C6-F9C5-45F8-B3C8-845E3FC9D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F755B-3DC2-4D84-93CB-3EED73B1C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2B163-5570-4EFF-8DBB-A954CB47E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09C6B-8EEF-4108-8816-7C351ACD9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993BA-E06B-4119-AF22-45215C2CC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97C98-7457-4F42-80FF-5A228C31D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E1153-CB22-4D04-94CF-9ADBEFAFD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C35E8-AAB4-4A8B-A993-E46C5DA3E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7E9D9-42F6-4EA1-80ED-10F5722FB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BF805-528C-4454-BA5F-6F86590AC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591C9-CD14-40E5-A7EA-6BAEF8345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A4EE2-A63F-4C06-8F82-C4C563473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C956A-C68E-420C-BC8D-B13239161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C14F-7C35-49A4-96F0-BD7A1740984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LEGION</cp:lastModifiedBy>
  <dcterms:modified xsi:type="dcterms:W3CDTF">2017-07-03T09:59:15Z</dcterms:modified>
  <cp:revision>38</cp:revision>
  <dc:subject/>
  <dc:title>Slide 1</dc:title>
</cp:coreProperties>
</file>