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36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png" ContentType="image/png"/>
  <Override PartName="/ppt/media/image5.jpeg" ContentType="image/jpeg"/>
  <Override PartName="/ppt/media/image26.jpeg" ContentType="image/jpeg"/>
  <Override PartName="/ppt/media/image3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AE5F-8817-46C3-815C-2E4C19C3997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 Warf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asters and Dise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firstworldwar.com/features/trenchlife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 Warf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asters and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firstworldwar.com/features/trenchlif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ad bodies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 to rot in the trenches because of the machine gun fire that kept the soldiers in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asy food source for rats and a place to breed 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ad bodi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 to rot in the trenches because of the machine gun fire that kept the soldiers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asy food source for rats and a place to breed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ring r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ring r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of all nations hunted the rats– sometimes rations were short and meat was added to their di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of all nations hunted the rats– sometimes rations were short and meat was added to their di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ristmas tru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ristmas tr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son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w weapon, hard to combat.  Different gas mask styles were created by different countries. None were 100% effec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son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w weapon, hard to combat.  Different gas mask styles were created by different countries. None were 100% effe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gian Uniforms and mas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stralian Gas m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gian Uniforms and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stralian Ga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apanese gas m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U. S. gas m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panese ga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. S. ga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as Tr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as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etry and Literature of World War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a Credit is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etry and Literature of World War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a Credit is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eeping whe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build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eeping w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buil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lce Et Decorum 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t double, like old beggars under sack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ck-kneed, coughing like hags, we cursed through sludg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ll on the haunting flares we turned our back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owards our distant rest began to trudg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marched asleep. Many had lost their b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limped on, blood-shod. All went lame; all blind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unk with fatigue; deaf even to the h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disappointed shells that dropped behin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! Gas! Quick, boys!-- An ecstasy of fumbl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ting the clumsy helmets just in time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someone still was yelling out and stumb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loundering like a man in fire or lime.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, through the misty panes and thick green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under a green sea, I saw him drowning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lce Et Decorum 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t double, like old beggars under sack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ck-kneed, coughing like hags, we cursed through sludg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ll on the haunting flares we turned our back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owards our distant rest began to trudg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marched asleep. Many had lost their b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limped on, blood-shod. All went lame; all blind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unk with fatigue; deaf even to the h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disappointed shells that dropped behin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! Gas! Quick, boys!-- An ecstasy of fumbl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ting the clumsy helmets just in time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someone still was yelling out and stumb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loundering like a man in fire or lime.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, through the misty panes and thick green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under a green sea, I saw him drowning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It is sweet and proper to die for your countr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ilfred Owen, died 1918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ll my dreams, before my helpless sight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lunges at me, guttering, choking, drowning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in some smothering dreams you too could pa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ind the wagon that we flung him i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atch the white eyes writhing in his fac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hanging face, like a devil's sick of sin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could hear, at every jolt, the bloo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e gargling from the froth-corrupted lung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cene as cancer, bitter as the cu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vile, incurable sores on innocent tongues,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friend, you would not tell with such high z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hildren ardent for some desperate glor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ld Lie: Dulce et decorum 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 patria mori. 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It is sweet and proper to die for your countr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ilfred Owen, died 1918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ll my dreams, before my helpless sight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lunges at me, guttering, choking, drowning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in some smothering dreams you too could pa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ind the wagon that we flung him i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atch the white eyes writhing in his fac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hanging face, like a devil's sick of sin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could hear, at every jolt, the bloo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e gargling from the froth-corrupted lung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cene as cancer, bitter as the cu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vile, incurable sores on innocent tongues,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friend, you would not tell with such high z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hildren ardent for some desperate glor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ld Lie: Dulce et decorum 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 patria mori. 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use Hun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des -- stark and glisten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lling in lurid glee. Grinning fa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raging lim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rl over the floor one fir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shirt verminously bus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n soldier tore from his throat, with oath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head might shrink at, but not the lic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soon the shirt was afl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the candle he'd lit while we l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we all sprang up and strip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unt the verminous broo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on like a demons' pantom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was raging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use H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des -- stark and glisten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lling in lurid glee. Grinning fa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raging lim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rl over the floor one fir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shirt verminously bus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n soldier tore from his throat, with oath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head might shrink at, but not the lic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soon the shirt was afl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the candle he'd lit while we l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we all sprang up and strip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unt the verminous broo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on like a demons' pantom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was raging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 louse looks like if it were large enough to se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 louse looks like if it were large enough to se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silhouettes agap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glibbering shadow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 with the battled arms on the w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gargantuan hooked fing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ck in supreme fles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mutch supreme littlenes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merry limbs in hot Highland f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some wizard verm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med from the quiet this reve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our ears were half lull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dark mus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wn from Sleep's trump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aac Rosenber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silhouettes agap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glibbering shadow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 with the battled arms on the w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gargantuan hooked fing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ck in supreme fles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mutch supreme littlenes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merry limbs in hot Highland f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some wizard verm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med from the quiet this reve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our ears were half lull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dark mus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wn from Sleep's trump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aac Rosenber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McCrae, died 19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 the poppies bl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he crosses, row on 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mark our place; and in the sk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ks, still bravely singing, f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arce heard amid the guns below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 the Dead. Short days ag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ived, felt dawn, saw sunset glow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ved and were loved, and now we l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up our quarrel with the fo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you from failing hands we th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rch; be yours to hold it high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e break faith with us who d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hall not sleep, though poppies g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McCrae, died 19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 the poppies bl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he crosses, row on 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mark our place; and in the sk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ks, still bravely singing, f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arce heard amid the guns below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 the Dead. Short days ag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ived, felt dawn, saw sunset glow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ved and were loved, and now we l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up our quarrel with the fo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you from failing hands we th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rch; be yours to hold it high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e break faith with us who d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hall not sleep, though poppies g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resources on page 986 of the text.  Possible extra credit test s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 poem as if you were a soldier or a medic during World War I, living and working in the trenches.  It must be at least 12 lines and actually be dec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resources on page 986 of the text.  Possible extra credit test s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 poem as if you were a soldier or a medic during World War I, living and working in the trenches.  It must be at least 12 lines and actually be dec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ways to build from a French hand bo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ways to build from a French hand 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fought from within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usually tight quar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fought from with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usually tight quar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es were used by both the Allies and the Central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erial photograph of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line of defe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es were used by both the Allies and the Central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erial photograph of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line of 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trenches were dee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nations fought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trenches were dee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nations fought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h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an easy tar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an easy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gers of Trench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ngers of Trench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f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having wet feet most of the time and nowhere to dry them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f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having wet feet most of the time and nowhere to dry them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67A6-7C54-4706-A16D-13CAAFD54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5DA9-B8D9-44F9-941F-1D5B9418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F66A-C787-43AC-9BEE-C704BB79B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DE76-9885-44CE-814A-20333E43C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DA3C-F3EC-4983-B101-E27320EAE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53576-7915-430F-AA65-946FBA0D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9C23-4752-423E-BB4C-24D42E2F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63BD-0E54-49D0-B60E-9AE093A2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B1AD-AF26-4300-B06E-E705619B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B90D1-683A-4C15-A8DF-F25371A9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5D1C-BE96-40F1-83A8-E3650E2A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ED3C-B499-4694-88A8-E14AC4EB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1F76-5E0F-4890-B093-40248A3D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F265-7075-4FD0-BC24-237C55F2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51A6-A41B-4258-94F3-47D98407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DAE7-2884-4E90-8644-0490B175D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9303-2568-4B92-B05C-EA9E65764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89A9D-DBAF-414D-AA36-B30C52140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BCB00-3F2D-4956-86E5-F6FBA2FC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C65CA-B0A2-4C7B-A32B-7C7E0491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0DA8D-0501-4B7C-9F33-D666BFA6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78C84-F4B0-47D2-A32B-9755F52E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16E7-9FE9-4F63-98D8-AC1256D2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50582-7ECA-4BE1-AC1A-35E79B23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E04BA-A71C-4631-BB08-8F4A4C0F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7BE36-0B6A-4C29-A3E1-78F60EA5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8C457-87DA-4DBF-954A-A5F9C6F3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461F9-E464-46C1-9375-B8635EE4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C1AAD-4D6E-4043-99DD-1F73B49C5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39ACE-2933-4BC5-8A62-571E7491D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9B9E1-3089-47DE-BC52-DBF3C2A6F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F5CEC-BDE7-46A6-8F43-5F2EA8EB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2A07D-38BF-44F2-8473-1D4540E2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3A7D-C825-4EDE-9885-30AB1088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8BE50-3A33-499F-8556-70E3BB34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EA647-7922-42B7-AE0E-7A76A654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B1C21-B1EA-49D4-B0D7-A5064D2F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80504-1CE4-4A30-B8AA-9DA27E4A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B3B14-5B03-4FA9-B8E4-66610B85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DFF9A-3D8D-48C9-A2B2-D525D735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80EF7-FC60-432E-93C0-80111F73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6FD42-4F17-4A32-AF22-10572AE29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A55C1-45C7-4C84-813F-C4C709B84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30D44-E904-46EA-BAD4-0A72907E2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69EB-5FB7-425F-BC23-966A7BAC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1CFE6-53AA-4A35-B4AC-C6E24219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F9C92-CE44-4DAF-AB9B-6BBBEBB4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36BE2-00B9-4647-BC47-89AA2826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77CC0-8CB8-456D-81BE-1F5D7DEE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947C4-2BD5-426D-A1B1-D7A83EE7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F3149-1E41-4AEB-A67A-516D0908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572BD-8F95-498D-BD26-F9D0130C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B5C92-0B66-4FB7-9890-B2E8FC00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8192D-6773-47A5-ACEC-E886E1D8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6961F-10BB-4A5D-960A-B18617266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2D29-1F1E-4E28-B0BA-A952C939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B82CC-81D6-48F1-8AD8-2229D89B1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B893-245C-443A-AB98-A627D272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336A-48E1-4964-BBF6-1169E5DA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4B4C-89D6-4730-8AD0-7D1ADA3A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EC18-6CED-40D4-89B5-D527D3DC2A26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Rounded Rectangle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5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9C37-9F0A-49D5-95CF-DA524B69FCB0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96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Rounded Rectangle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100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3660-40E0-4815-8AAD-88ABDB62EA54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45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F5D9-B040-4DDD-A171-B28DA07DBB85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91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1313-6355-4D36-848A-FD24CF66DBFB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Trench Warfare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Disasters and Disea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685800" y="5562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firstworldwar.com/features/trenchlif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ead bodies…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160" y="5028840"/>
            <a:ext cx="3932280" cy="152388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eft to rot in the trenches because of the machine gun fire that kept the soldiers in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7840" y="4998960"/>
            <a:ext cx="3932280" cy="132552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 easy food source for rats and a place to breed dise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1" name="Content Placeholder 6" descr="untitleddead.bmp"/>
          <p:cNvPicPr/>
          <p:nvPr/>
        </p:nvPicPr>
        <p:blipFill>
          <a:blip r:embed="rId1"/>
          <a:stretch/>
        </p:blipFill>
        <p:spPr>
          <a:xfrm>
            <a:off x="1100160" y="1447920"/>
            <a:ext cx="2946240" cy="3489120"/>
          </a:xfrm>
          <a:prstGeom prst="rect">
            <a:avLst/>
          </a:prstGeom>
          <a:ln w="0">
            <a:noFill/>
          </a:ln>
        </p:spPr>
      </p:pic>
      <p:pic>
        <p:nvPicPr>
          <p:cNvPr id="282" name="Content Placeholder 7" descr="15618_f260.jpg"/>
          <p:cNvPicPr/>
          <p:nvPr/>
        </p:nvPicPr>
        <p:blipFill>
          <a:blip r:embed="rId2"/>
          <a:stretch/>
        </p:blipFill>
        <p:spPr>
          <a:xfrm>
            <a:off x="4334040" y="1752480"/>
            <a:ext cx="4330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Bring ra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Content Placeholder 6" descr="10-german-slodiers-after-rat-hunting-gw000.jpg"/>
          <p:cNvPicPr/>
          <p:nvPr/>
        </p:nvPicPr>
        <p:blipFill>
          <a:blip r:embed="rId1"/>
          <a:stretch/>
        </p:blipFill>
        <p:spPr>
          <a:xfrm>
            <a:off x="1523880" y="685800"/>
            <a:ext cx="708372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038120" y="4647960"/>
            <a:ext cx="3932280" cy="190476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ldiers of all nations hunted the rats– sometimes rations were short and meat was added to their di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" name="Content Placeholder 6" descr="0906rats.jpg"/>
          <p:cNvPicPr/>
          <p:nvPr/>
        </p:nvPicPr>
        <p:blipFill>
          <a:blip r:embed="rId1"/>
          <a:stretch/>
        </p:blipFill>
        <p:spPr>
          <a:xfrm>
            <a:off x="304920" y="380880"/>
            <a:ext cx="2776320" cy="3729240"/>
          </a:xfrm>
          <a:prstGeom prst="rect">
            <a:avLst/>
          </a:prstGeom>
          <a:ln w="0">
            <a:noFill/>
          </a:ln>
        </p:spPr>
      </p:pic>
      <p:pic>
        <p:nvPicPr>
          <p:cNvPr id="290" name="Content Placeholder 7" descr="Images%20-%20Rats%20001.jpg"/>
          <p:cNvPicPr/>
          <p:nvPr/>
        </p:nvPicPr>
        <p:blipFill>
          <a:blip r:embed="rId2"/>
          <a:stretch/>
        </p:blipFill>
        <p:spPr>
          <a:xfrm>
            <a:off x="3124080" y="304920"/>
            <a:ext cx="5843880" cy="44193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Je%20Sais%20Tout%20-%20Rats%20005.jpg"/>
          <p:cNvPicPr/>
          <p:nvPr/>
        </p:nvPicPr>
        <p:blipFill>
          <a:blip r:embed="rId3"/>
          <a:stretch/>
        </p:blipFill>
        <p:spPr>
          <a:xfrm>
            <a:off x="1219320" y="3398760"/>
            <a:ext cx="259056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hristmas truc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93" name="Content Placeholder 3" descr="christmas-truce-1.jpg"/>
          <p:cNvPicPr/>
          <p:nvPr/>
        </p:nvPicPr>
        <p:blipFill>
          <a:blip r:embed="rId1"/>
          <a:stretch/>
        </p:blipFill>
        <p:spPr>
          <a:xfrm>
            <a:off x="738360" y="272880"/>
            <a:ext cx="711036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Content Placeholder 3" descr="trench3.jpg"/>
          <p:cNvPicPr/>
          <p:nvPr/>
        </p:nvPicPr>
        <p:blipFill>
          <a:blip r:embed="rId1"/>
          <a:stretch/>
        </p:blipFill>
        <p:spPr>
          <a:xfrm>
            <a:off x="2362320" y="304920"/>
            <a:ext cx="6541920" cy="43336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Poison Ga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Text Placeholder 2"/>
          <p:cNvSpPr/>
          <p:nvPr/>
        </p:nvSpPr>
        <p:spPr>
          <a:xfrm>
            <a:off x="457200" y="4648320"/>
            <a:ext cx="81532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new weapon, hard to combat.  Different gas mask styles were created by different countries. None were 100% eff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Belgian Uniforms and mask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stralian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0" name="Content Placeholder 6" descr="belgian-gas-masks-WWI.jpg"/>
          <p:cNvPicPr/>
          <p:nvPr/>
        </p:nvPicPr>
        <p:blipFill>
          <a:blip r:embed="rId1"/>
          <a:stretch/>
        </p:blipFill>
        <p:spPr>
          <a:xfrm>
            <a:off x="608040" y="1717560"/>
            <a:ext cx="3930480" cy="2949840"/>
          </a:xfrm>
          <a:prstGeom prst="rect">
            <a:avLst/>
          </a:prstGeom>
          <a:ln w="0">
            <a:noFill/>
          </a:ln>
        </p:spPr>
      </p:pic>
      <p:pic>
        <p:nvPicPr>
          <p:cNvPr id="301" name="Content Placeholder 7" descr="Aussie.jpg"/>
          <p:cNvPicPr/>
          <p:nvPr/>
        </p:nvPicPr>
        <p:blipFill>
          <a:blip r:embed="rId2"/>
          <a:stretch/>
        </p:blipFill>
        <p:spPr>
          <a:xfrm>
            <a:off x="5457960" y="1447920"/>
            <a:ext cx="232092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Japanese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. S.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Content Placeholder 6" descr="gas_maskjapanese.jpg"/>
          <p:cNvPicPr/>
          <p:nvPr/>
        </p:nvPicPr>
        <p:blipFill>
          <a:blip r:embed="rId1"/>
          <a:stretch/>
        </p:blipFill>
        <p:spPr>
          <a:xfrm>
            <a:off x="890640" y="1447920"/>
            <a:ext cx="3365280" cy="3489120"/>
          </a:xfrm>
          <a:prstGeom prst="rect">
            <a:avLst/>
          </a:prstGeom>
          <a:ln w="0">
            <a:noFill/>
          </a:ln>
        </p:spPr>
      </p:pic>
      <p:pic>
        <p:nvPicPr>
          <p:cNvPr id="306" name="Content Placeholder 7" descr="US_WWI_Gas_mask_with_bag.jpg"/>
          <p:cNvPicPr/>
          <p:nvPr/>
        </p:nvPicPr>
        <p:blipFill>
          <a:blip r:embed="rId2"/>
          <a:stretch/>
        </p:blipFill>
        <p:spPr>
          <a:xfrm>
            <a:off x="4794120" y="1447920"/>
            <a:ext cx="364824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Content Placeholder 4" descr="WWI-Gas-training.jpg"/>
          <p:cNvPicPr/>
          <p:nvPr/>
        </p:nvPicPr>
        <p:blipFill>
          <a:blip r:embed="rId1"/>
          <a:stretch/>
        </p:blipFill>
        <p:spPr>
          <a:xfrm>
            <a:off x="663480" y="712800"/>
            <a:ext cx="7718400" cy="4925880"/>
          </a:xfrm>
          <a:prstGeom prst="rect">
            <a:avLst/>
          </a:prstGeom>
          <a:ln w="0">
            <a:noFill/>
          </a:ln>
        </p:spPr>
      </p:pic>
      <p:sp>
        <p:nvSpPr>
          <p:cNvPr id="308" name="Title 1"/>
          <p:cNvSpPr/>
          <p:nvPr/>
        </p:nvSpPr>
        <p:spPr>
          <a:xfrm>
            <a:off x="762120" y="5410080"/>
            <a:ext cx="777240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Gas Tra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wwi_sergeant_and_his_dog_wearing_gas_masks_1915_poster-p228219550221623327tdar_210.jpg"/>
          <p:cNvPicPr/>
          <p:nvPr/>
        </p:nvPicPr>
        <p:blipFill>
          <a:blip r:embed="rId1"/>
          <a:stretch/>
        </p:blipFill>
        <p:spPr>
          <a:xfrm>
            <a:off x="228600" y="228600"/>
            <a:ext cx="3895560" cy="38955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" descr="WWI-Horses-Gasmasks.jpg"/>
          <p:cNvPicPr/>
          <p:nvPr/>
        </p:nvPicPr>
        <p:blipFill>
          <a:blip r:embed="rId2"/>
          <a:stretch/>
        </p:blipFill>
        <p:spPr>
          <a:xfrm>
            <a:off x="6324480" y="609480"/>
            <a:ext cx="2381400" cy="34671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german-messenger-dog-with-gas-protection-mask-wwi-500x367.jpg"/>
          <p:cNvPicPr/>
          <p:nvPr/>
        </p:nvPicPr>
        <p:blipFill>
          <a:blip r:embed="rId3"/>
          <a:stretch/>
        </p:blipFill>
        <p:spPr>
          <a:xfrm>
            <a:off x="2895480" y="3195720"/>
            <a:ext cx="445788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Poetry and Literature of World War I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Extra Credit is avail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Sleeping where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ow to build th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Content Placeholder 6" descr="diagram.jpg"/>
          <p:cNvPicPr/>
          <p:nvPr/>
        </p:nvPicPr>
        <p:blipFill>
          <a:blip r:embed="rId1"/>
          <a:stretch/>
        </p:blipFill>
        <p:spPr>
          <a:xfrm>
            <a:off x="533520" y="1295280"/>
            <a:ext cx="801828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ulce Et Decorum Es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Text Placeholder 2"/>
          <p:cNvSpPr/>
          <p:nvPr/>
        </p:nvSpPr>
        <p:spPr>
          <a:xfrm>
            <a:off x="457200" y="685800"/>
            <a:ext cx="8153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br>
              <a:rPr sz="7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nt double, like old beggars under sack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ck-kneed, coughing like hags, we cursed through sludg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ll on the haunting flares we turned our back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towards our distant rest began to trudg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n marched asleep. Many had lost their boo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limped on, blood-shod. All went lame; all blind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unk with fatigue; deaf even to the hoo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disappointed shells that dropped behind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S! Gas! Quick, boys!-- An ecstasy of fumbling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tting the clumsy helmets just in tim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someone still was yelling out and stumb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floundering like a man in fire or lime.--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m, through the misty panes and thick green ligh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 under a green sea, I saw him drowning.</a:t>
            </a:r>
            <a:br>
              <a:rPr sz="2000"/>
            </a:br>
            <a:br>
              <a:rPr sz="2000"/>
            </a:br>
            <a:br>
              <a:rPr sz="7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* It is sweet and proper to die for your country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br>
              <a:rPr sz="1600"/>
            </a:b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 Wilfred Owen, died 1918 </a:t>
            </a:r>
            <a:br>
              <a:rPr sz="3200"/>
            </a:br>
            <a:endParaRPr b="1" lang="en-US" sz="1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7" name="Rectangle 2"/>
          <p:cNvSpPr/>
          <p:nvPr/>
        </p:nvSpPr>
        <p:spPr>
          <a:xfrm>
            <a:off x="990720" y="990720"/>
            <a:ext cx="6400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all my dreams, before my helpless sight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 plunges at me, guttering, choking, drowning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in some smothering dreams you too could pa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hind the wagon that we flung him in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 watch the white eyes writhing in his fac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s hanging face, like a devil's sick of sin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you could hear, at every jolt, the bloo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e gargling from the froth-corrupted lung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bscene as cancer, bitter as the cu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 vile, incurable sores on innocent tongues,-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y friend, you would not tell with such high ze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children ardent for some desperate glory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old Lie: Dulce et decorum e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 patria mori.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itle 1"/>
          <p:cNvSpPr/>
          <p:nvPr/>
        </p:nvSpPr>
        <p:spPr>
          <a:xfrm>
            <a:off x="228600" y="53352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Louse H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Placeholder 2"/>
          <p:cNvSpPr/>
          <p:nvPr/>
        </p:nvSpPr>
        <p:spPr>
          <a:xfrm>
            <a:off x="1447920" y="1295280"/>
            <a:ext cx="647676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des -- stark and glistening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elling in lurid glee. Grinning fac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raging limb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rl over the floor one fir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a shirt verminously bus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n soldier tore from his throat, with oath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dhead might shrink at, but not the lic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soon the shirt was afla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ver the candle he'd lit while we l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n we all sprang up and strip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hunt the verminous broo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on like a demons' pantomi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lace was raging.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7f09"/>
                </a:solidFill>
                <a:latin typeface="Verdana"/>
              </a:rPr>
              <a:t>What a louse looks like if it were large enough to see.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1" name="Content Placeholder 4" descr="lice.jpg"/>
          <p:cNvPicPr/>
          <p:nvPr/>
        </p:nvPicPr>
        <p:blipFill>
          <a:blip r:embed="rId1"/>
          <a:stretch/>
        </p:blipFill>
        <p:spPr>
          <a:xfrm>
            <a:off x="762120" y="1773360"/>
            <a:ext cx="4626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"/>
          <p:cNvSpPr/>
          <p:nvPr/>
        </p:nvSpPr>
        <p:spPr>
          <a:xfrm>
            <a:off x="2057400" y="45720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silhouettes agap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glibbering shadow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xed with the battled arms on the wall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gargantuan hooked fing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uck in supreme fles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mutch supreme littlenes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merry limbs in hot Highland f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cause some wizard verm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rmed from the quiet this rev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our ears were half lull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the dark musi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lown from Sleep's trump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itle 1"/>
          <p:cNvSpPr/>
          <p:nvPr/>
        </p:nvSpPr>
        <p:spPr>
          <a:xfrm>
            <a:off x="533520" y="533412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ff8d3e"/>
                </a:solidFill>
                <a:latin typeface="Verdana"/>
              </a:rPr>
              <a:t>Isaac Rosenber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183520" cy="6760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9766f"/>
                </a:solidFill>
                <a:latin typeface="Verdana"/>
              </a:rPr>
              <a:t>In Flanders Field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5c00"/>
                </a:solidFill>
                <a:latin typeface="Verdana"/>
              </a:rPr>
              <a:t>John McCrae, died 191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Box 3"/>
          <p:cNvSpPr/>
          <p:nvPr/>
        </p:nvSpPr>
        <p:spPr>
          <a:xfrm>
            <a:off x="1232640" y="1143000"/>
            <a:ext cx="4568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 the poppies bl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ween the crosses, row on 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at mark our place; and in the sk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larks, still bravely singing, f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arce heard amid the guns below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are the Dead. Short days ag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lived, felt dawn, saw sunset glow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ved and were loved, and now we l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ke up our quarrel with the foe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you from failing hands we th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torch; be yours to hold it high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ye break faith with us who d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shall not sleep, though poppies g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Placeholder 4" descr="thepoem_clip_image002.jpg"/>
          <p:cNvPicPr/>
          <p:nvPr/>
        </p:nvPicPr>
        <p:blipFill>
          <a:blip r:embed="rId1"/>
          <a:stretch/>
        </p:blipFill>
        <p:spPr>
          <a:xfrm>
            <a:off x="420840" y="433440"/>
            <a:ext cx="5924520" cy="43466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dsc00783.jpg"/>
          <p:cNvPicPr/>
          <p:nvPr/>
        </p:nvPicPr>
        <p:blipFill>
          <a:blip r:embed="rId2"/>
          <a:stretch/>
        </p:blipFill>
        <p:spPr>
          <a:xfrm>
            <a:off x="6019920" y="2133720"/>
            <a:ext cx="2800080" cy="37335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p161082-Bruges-Flanders_Fields.jpg"/>
          <p:cNvPicPr/>
          <p:nvPr/>
        </p:nvPicPr>
        <p:blipFill>
          <a:blip r:embed="rId3"/>
          <a:stretch/>
        </p:blipFill>
        <p:spPr>
          <a:xfrm>
            <a:off x="380880" y="350532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ounded Rectangle 4"/>
          <p:cNvSpPr/>
          <p:nvPr/>
        </p:nvSpPr>
        <p:spPr>
          <a:xfrm>
            <a:off x="304920" y="380880"/>
            <a:ext cx="8534160" cy="6096240"/>
          </a:xfrm>
          <a:prstGeom prst="roundRect">
            <a:avLst>
              <a:gd name="adj" fmla="val 16667"/>
            </a:avLst>
          </a:prstGeom>
          <a:solidFill>
            <a:srgbClr val="0d0d0d"/>
          </a:solidFill>
          <a:ln w="424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8229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66f"/>
                </a:solidFill>
                <a:latin typeface="Verdana"/>
              </a:rPr>
              <a:t>More resources on page 986 of the text.  Possible extra credit test scor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90360" y="533160"/>
            <a:ext cx="7559640" cy="42116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rite a poem as if you were a soldier or a medic during World War I, living and working in the trenches.  It must be at least 12 lines and actually be decent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538600" y="533160"/>
            <a:ext cx="2971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07f09"/>
                </a:solidFill>
                <a:latin typeface="Verdana"/>
              </a:rPr>
              <a:t>More ways to build from a French hand book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0" name="Content Placeholder 4" descr="tren001.jpg"/>
          <p:cNvPicPr/>
          <p:nvPr/>
        </p:nvPicPr>
        <p:blipFill>
          <a:blip r:embed="rId1"/>
          <a:stretch/>
        </p:blipFill>
        <p:spPr>
          <a:xfrm>
            <a:off x="960480" y="380880"/>
            <a:ext cx="422892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ldiers fought from within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t was usually tight quart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Content Placeholder 6" descr="default.jpg"/>
          <p:cNvPicPr/>
          <p:nvPr/>
        </p:nvPicPr>
        <p:blipFill>
          <a:blip r:embed="rId1"/>
          <a:stretch/>
        </p:blipFill>
        <p:spPr>
          <a:xfrm>
            <a:off x="608040" y="2009880"/>
            <a:ext cx="3930480" cy="2365200"/>
          </a:xfrm>
          <a:prstGeom prst="rect">
            <a:avLst/>
          </a:prstGeom>
          <a:ln w="0">
            <a:noFill/>
          </a:ln>
        </p:spPr>
      </p:pic>
      <p:pic>
        <p:nvPicPr>
          <p:cNvPr id="255" name="Content Placeholder 7" descr="3.jpg"/>
          <p:cNvPicPr/>
          <p:nvPr/>
        </p:nvPicPr>
        <p:blipFill>
          <a:blip r:embed="rId2"/>
          <a:stretch/>
        </p:blipFill>
        <p:spPr>
          <a:xfrm>
            <a:off x="4653000" y="1774800"/>
            <a:ext cx="39304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Trenches were used by both the Allies and the Central Power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n aerial photograph of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rst line of defen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Content Placeholder 6" descr="tren008.jpg"/>
          <p:cNvPicPr/>
          <p:nvPr/>
        </p:nvPicPr>
        <p:blipFill>
          <a:blip r:embed="rId1"/>
          <a:stretch/>
        </p:blipFill>
        <p:spPr>
          <a:xfrm>
            <a:off x="685800" y="1447920"/>
            <a:ext cx="3794040" cy="3946320"/>
          </a:xfrm>
          <a:prstGeom prst="rect">
            <a:avLst/>
          </a:prstGeom>
          <a:ln w="0">
            <a:noFill/>
          </a:ln>
        </p:spPr>
      </p:pic>
      <p:pic>
        <p:nvPicPr>
          <p:cNvPr id="260" name="Content Placeholder 7" descr="image.jpg"/>
          <p:cNvPicPr/>
          <p:nvPr/>
        </p:nvPicPr>
        <p:blipFill>
          <a:blip r:embed="rId2"/>
          <a:stretch/>
        </p:blipFill>
        <p:spPr>
          <a:xfrm>
            <a:off x="4653000" y="1592280"/>
            <a:ext cx="3930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In the trench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ot all trenches were dee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any nations fought togeth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Content Placeholder 9" descr="Trench_warfare.jpg"/>
          <p:cNvPicPr/>
          <p:nvPr/>
        </p:nvPicPr>
        <p:blipFill>
          <a:blip r:embed="rId1"/>
          <a:stretch/>
        </p:blipFill>
        <p:spPr>
          <a:xfrm>
            <a:off x="4843440" y="1447920"/>
            <a:ext cx="3170160" cy="3962160"/>
          </a:xfrm>
          <a:prstGeom prst="rect">
            <a:avLst/>
          </a:prstGeom>
          <a:ln w="0">
            <a:noFill/>
          </a:ln>
        </p:spPr>
      </p:pic>
      <p:pic>
        <p:nvPicPr>
          <p:cNvPr id="265" name="Content Placeholder 8" descr="trenches.jpg"/>
          <p:cNvPicPr/>
          <p:nvPr/>
        </p:nvPicPr>
        <p:blipFill>
          <a:blip r:embed="rId2"/>
          <a:stretch/>
        </p:blipFill>
        <p:spPr>
          <a:xfrm>
            <a:off x="457200" y="1828800"/>
            <a:ext cx="430056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Fightin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metimes an easy targ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Content Placeholder 6" descr="untitled.bmp"/>
          <p:cNvPicPr/>
          <p:nvPr/>
        </p:nvPicPr>
        <p:blipFill>
          <a:blip r:embed="rId1"/>
          <a:stretch/>
        </p:blipFill>
        <p:spPr>
          <a:xfrm>
            <a:off x="898560" y="1447920"/>
            <a:ext cx="3349440" cy="3489120"/>
          </a:xfrm>
          <a:prstGeom prst="rect">
            <a:avLst/>
          </a:prstGeom>
          <a:ln w="0">
            <a:noFill/>
          </a:ln>
        </p:spPr>
      </p:pic>
      <p:pic>
        <p:nvPicPr>
          <p:cNvPr id="270" name="Content Placeholder 7" descr="trenchPA_468x607.jpg"/>
          <p:cNvPicPr/>
          <p:nvPr/>
        </p:nvPicPr>
        <p:blipFill>
          <a:blip r:embed="rId2"/>
          <a:stretch/>
        </p:blipFill>
        <p:spPr>
          <a:xfrm>
            <a:off x="5273640" y="1447920"/>
            <a:ext cx="268920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angers of Trench lif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2" name="Content Placeholder 3" descr="duncan15.gif"/>
          <p:cNvPicPr/>
          <p:nvPr/>
        </p:nvPicPr>
        <p:blipFill>
          <a:blip r:embed="rId1"/>
          <a:stretch/>
        </p:blipFill>
        <p:spPr>
          <a:xfrm>
            <a:off x="728640" y="1305000"/>
            <a:ext cx="727236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Trenchfoo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163008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om having wet feet most of the time and nowhere to dry them o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Content Placeholder 6" descr="waterfilledtrench.jpg"/>
          <p:cNvPicPr/>
          <p:nvPr/>
        </p:nvPicPr>
        <p:blipFill>
          <a:blip r:embed="rId1"/>
          <a:stretch/>
        </p:blipFill>
        <p:spPr>
          <a:xfrm>
            <a:off x="896760" y="593640"/>
            <a:ext cx="3353040" cy="5197680"/>
          </a:xfrm>
          <a:prstGeom prst="rect">
            <a:avLst/>
          </a:prstGeom>
          <a:ln w="0">
            <a:noFill/>
          </a:ln>
        </p:spPr>
      </p:pic>
      <p:pic>
        <p:nvPicPr>
          <p:cNvPr id="277" name="Content Placeholder 7" descr="foot.jpg"/>
          <p:cNvPicPr/>
          <p:nvPr/>
        </p:nvPicPr>
        <p:blipFill>
          <a:blip r:embed="rId2"/>
          <a:stretch/>
        </p:blipFill>
        <p:spPr>
          <a:xfrm>
            <a:off x="5486400" y="2438280"/>
            <a:ext cx="231300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7:38Z</dcterms:created>
  <dc:creator>SBHC</dc:creator>
  <dc:description/>
  <dc:language>en-US</dc:language>
  <cp:lastModifiedBy>LEGION</cp:lastModifiedBy>
  <dcterms:modified xsi:type="dcterms:W3CDTF">2017-07-03T09:58:31Z</dcterms:modified>
  <cp:revision>21</cp:revision>
  <dc:subject/>
  <dc:title>Slide 1</dc:title>
</cp:coreProperties>
</file>