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EDD2-41DE-459B-9090-9E16F885AD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310-6911-44AD-86E4-5EC7D08C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41D-74C3-48AC-AB17-E3AFDC5E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DC6-10C9-4F1B-82D3-B7F12707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51D-4E5A-43F1-AE25-EB816AF2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42A8-6F41-45A0-B6D3-327A0966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ACED-9D10-4ADA-9B8D-828CB040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41DE-8F54-4968-A247-74D344DF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29ED-3F85-49D9-B4C4-927E6378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6698-56A4-4163-B4BD-DF551512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500A-26CB-4D20-B935-9BADE95F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37B6-0F45-416B-9214-D62B6B3E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215-3FE3-4FAF-893B-C2234152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51DB-36A4-46DB-9832-F10866AC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A841-DACE-4E34-BDC4-E0775033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4DC2-7117-4F28-BFB1-105B3E78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E480-3EED-4623-865E-0F3A5D52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BD51-1C9F-4574-AE47-9A8BD459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DB202-DCC1-4DE3-BE35-4C85069A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A3294-385B-424A-B6AD-3AE4E392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07F95-9F42-4905-8776-DD90F3BD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6C94B-229A-4972-9930-69C018C7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4518-45DB-445C-A363-2A9488FE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37B-81FC-4E0C-ADAD-A349A622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5833E-A7B5-409D-88E7-564774B5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9EC9-1BA8-48BD-BD51-25553C4F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0F5C3-E98D-4AF5-8950-661B4470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599D1-2121-47D5-82E3-B48170D6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20F02-AAF7-4162-99C2-816A0345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B52B8-EC73-4945-820D-BC7BEF48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6D516-57AA-4378-83FC-9C8D107B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58046-EDE1-44C3-81FF-61698DBB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F99A1-8400-4EB3-8FDE-3E825149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22EB4-DB7D-43F1-8BB4-995F5761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D0F-455B-4122-A27C-4E4FED11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0590B-3F60-4BC3-8977-20361991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EFD0B-CAFE-45FE-93F3-DC6D8BA3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E18CC-543F-4FF5-8545-A14DF9F0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1D951-2A1D-46D3-B0DB-C76418C7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92E1F-DCE9-4AF7-9D82-61E9345F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1DEEB-51BD-4AF0-B9DA-3A41B13B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3887C-415C-488C-B947-52609C7C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A7904-F702-4FDB-A984-A072A548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DEBE5-AC13-4680-9964-677D1988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3C64C-774E-4760-99D0-5E5259D9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399C-9DED-4D0D-A0F7-91FE79D7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FAECE-51F6-4C58-AF3E-A34D7FCD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9A600-3DF7-417C-B3F4-D3E81EBC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E3950-ED69-4545-88C1-82F6AEAA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85231-3C34-4B4D-AC8A-22B4AB98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CFB40-15E8-4294-BAE9-CDD4635D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B5276-BA5F-47C3-95AD-C5801E11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A1100-D9F5-4282-80A8-056844EB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7B525-831C-4997-9A0E-8F047D0B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E6C4E-457B-48BD-ADD7-ED7DAA0C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DAC63-5802-4171-8D3D-915B2706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746-799D-41E3-9FB7-4BEA2CBB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C4428-3E54-4D93-AF7D-1DA1F504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A39-BC44-4C4B-9851-21AC7EEE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E59-1113-47F6-80F6-04C490F5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3A7-7C31-48F0-A505-067531B3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0C20-167F-4A69-96FC-71C8F74CA4F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C66C-EBFB-46FC-AC52-D07FD821AF4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FCC3-8A1A-4CA9-85CD-D5672F29075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C441-6013-4CF2-9711-BA45F1C2B63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5A2B-022E-41D5-8FE1-15DB47D77A6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8580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firstworldwar.com/features/trenchlif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2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90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3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1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6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8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1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20840" y="433440"/>
            <a:ext cx="5924520" cy="4346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5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60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5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70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896760" y="593640"/>
            <a:ext cx="3353040" cy="5197680"/>
          </a:xfrm>
          <a:prstGeom prst="rect">
            <a:avLst/>
          </a:prstGeom>
          <a:ln w="0">
            <a:noFill/>
          </a:ln>
        </p:spPr>
      </p:pic>
      <p:pic>
        <p:nvPicPr>
          <p:cNvPr id="277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LEGION</cp:lastModifiedBy>
  <dcterms:modified xsi:type="dcterms:W3CDTF">2017-07-03T09:58:31Z</dcterms:modified>
  <cp:revision>21</cp:revision>
  <dc:subject/>
  <dc:title>Slide 1</dc:title>
</cp:coreProperties>
</file>