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1506-EB1B-495B-ADC1-4CC35085F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7FB-E99E-4383-A472-5971CAC2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556-322E-4E0E-A34E-9EA30FDC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958-D51D-4DE8-A65A-E5919300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DA7-B41A-451A-B2E5-331DAE20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7F3-7320-462C-BDC8-17C026B4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48C-1144-4CD7-86DE-E201E72A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60F-16E1-4499-8D5D-F39CE8BE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3EC-7DE4-453D-A9F8-BF393E15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7A1-BCF7-4D07-B37B-8A8E3008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B66-74AF-499E-A5AD-FA2D02A1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350-149A-4924-9058-F5D2BF33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FA3-8A99-4D91-B288-963F8B13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0224-B5A2-428C-B5B6-06DBA2D09A7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LEGION</cp:lastModifiedBy>
  <dcterms:modified xsi:type="dcterms:W3CDTF">2017-07-03T09:58:03Z</dcterms:modified>
  <cp:revision>8</cp:revision>
  <dc:subject>Trench Warfare in WWI</dc:subject>
  <dc:title>Trench Warfare in WWI</dc:title>
</cp:coreProperties>
</file>