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76A0-140E-4891-AB26-763E8BCBEC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5DA-04E3-4758-9294-5921440E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1D96-1C6B-464A-9D95-8B536E66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E8B-2B74-4A7C-8365-00D7749A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C3F0-06B3-42FA-9EC7-60425109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1EE-D13C-46CE-9CAA-C532BBB2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A42-B0B6-43CE-AD24-467C1FFF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133-E861-4BDA-8A28-BCE8E894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B0C-9648-45D2-96D6-A3834371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71E8-7E04-491F-9D8E-3DD0B345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EE8-05A3-4238-BDDB-32957E21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8F9-8D06-41D5-83F3-F4910270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32A-5888-4EE0-82CE-1B5EF50D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C6E3-812F-40DE-A56C-C631A06A5A2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 in WW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My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1" name="Picture 4" descr="Worcester regiment off to war"/>
          <p:cNvPicPr/>
          <p:nvPr/>
        </p:nvPicPr>
        <p:blipFill>
          <a:blip r:embed="rId1"/>
          <a:stretch/>
        </p:blipFill>
        <p:spPr>
          <a:xfrm>
            <a:off x="324000" y="1341360"/>
            <a:ext cx="835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Realit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3" name="Picture 4" descr="Trenches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he Trench Syste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Trench system"/>
          <p:cNvPicPr/>
          <p:nvPr/>
        </p:nvPicPr>
        <p:blipFill>
          <a:blip r:embed="rId1"/>
          <a:stretch/>
        </p:blipFill>
        <p:spPr>
          <a:xfrm>
            <a:off x="4716360" y="1268280"/>
            <a:ext cx="40006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renches"/>
          <p:cNvPicPr/>
          <p:nvPr/>
        </p:nvPicPr>
        <p:blipFill>
          <a:blip r:embed="rId2"/>
          <a:stretch/>
        </p:blipFill>
        <p:spPr>
          <a:xfrm>
            <a:off x="4716360" y="3860640"/>
            <a:ext cx="40719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Going over the top"/>
          <p:cNvPicPr/>
          <p:nvPr/>
        </p:nvPicPr>
        <p:blipFill>
          <a:blip r:embed="rId1"/>
          <a:stretch/>
        </p:blipFill>
        <p:spPr>
          <a:xfrm>
            <a:off x="4716360" y="1557360"/>
            <a:ext cx="410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Suggested Task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1:06:16Z</dcterms:created>
  <dc:creator>Carol</dc:creator>
  <dc:description>Trench Warfare in WWI</dc:description>
  <cp:keywords>Trench Warfare in WWI</cp:keywords>
  <dc:language>en-US</dc:language>
  <cp:lastModifiedBy>LEGION</cp:lastModifiedBy>
  <dcterms:modified xsi:type="dcterms:W3CDTF">2017-07-03T09:58:03Z</dcterms:modified>
  <cp:revision>8</cp:revision>
  <dc:subject>Trench Warfare in WWI</dc:subject>
  <dc:title>Trench Warfare in WWI</dc:title>
</cp:coreProperties>
</file>