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AE26-E5FC-4896-B83A-9AD6A0EC0C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W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ce’s Finest Hou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W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ce’s Finest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nection to the Pa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odern marathon has its roots in the Battle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idippides died from exhaustion after delivering his mess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day’s 26 mile marathon races remember his heroic act of martyrd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to the P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rn marathon has its roots in the Battle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dippides died from exhaustion after delivering hi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26 mile marathon races remember his heroic act of martyr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k for Reve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Emperor Darius never returned, but his son Emperor Xerxes di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480 B.C. the Persians returned to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brought even more men this time aro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 for Rev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Emperor Darius never returned, but his son Emperor Xerxes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480 B.C. the Persians returned to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rought even more men this time 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Thermopyla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s met a force of Greeks at Thermopyla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 a small mountain pass that controlled access to all of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two days 7,000 Greeks held the Persians back, bu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Thermopy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s met a force of Greeks at Thermopy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a small mountain pass that controlled access to all of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wo days 7,000 Greeks held the Persians back, bu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wnfa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eek traitor showed the Persians a secret passage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llowed the Persians to sneak up from behind and attack the Gree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the Greek defenders ran a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w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ek traitor showed the Persians a secret passag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the Persians to sneak up from behind and attack the Gr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Greek defenders ran a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Heroic A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out 300 Spartans stayed behind and fought to their dea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llowed the other Greeks to escape capture or certain de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roic 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0 Spartans stayed behind and fought to their de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the other Greeks to escape capture or certain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e come the Pers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poured into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got their revenge by wreaking havo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even burned Athens to the gro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re the Greeks to do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come the Pers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poured into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ot their revenge by wreaking hav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even burned Athens to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re the Greeks to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were quick to follow the retreating Greeks to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were quick to follow the retreating Greeks to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here is Persia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re is Persi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ose Clever Athen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then turned quickly around and began ramming the Persian ship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once again retreated back to Pers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Clever Athen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hen turned quickly around and began ramming the Persian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once again retreated back to Per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inal Batt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Plata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and Persians at equal str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and Sparta fought side by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k military superiority won out and Persia retreated for go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nal B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Plata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and Persians at equal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and Sparta fought side by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 military superiority won out and Persia retreated for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did the Greeks do i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ree reas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herent advantage of the defen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were better soldier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used the element of surpri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Greeks do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a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herent advantage of the def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better soldi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the element of su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Figh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ks had been settling on the west coast of Asia Minor (Persi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 conquered these colo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sent troops to support the revol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F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s had been settling on the west coast of Asia Minor (Pers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 conquered thes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sent troops to support the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ushing the Revol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peror Darius of Persia crushed the revolt rather quick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 decided to punish Athens for helping the colo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fter training for a few years Darius sent troops to invade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ailed on to the Bay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shing the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eror Darius of Persia crushed the revolt rather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ecided to punish Athens for helping th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raining for a few years Darius sent troops to invade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on to the Bay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Athens took on the mighty Persian Empire by themsel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Athens took on the mighty Persian Empire by themse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erious Mismat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 troops—100,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ian troops—20,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d Athens really have any hope against these odd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rious Mism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 troops—10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ian troops—2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Athens really have any hope against these od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c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soldiers turned and ran from the oncoming Athen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soldiers turned and ran from the oncoming Athen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laugh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thenian army almost drove the Persians back to the s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 t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s—6, 400 d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—192 d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arius returned to Persia never to retur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augh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henian army almost drove the Persians back to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s—6, 400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—192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ius returned to Persia never to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E221-9710-4283-8DEC-17BC629EE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809B-314A-4092-8B01-30747086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7AA1-70EB-4720-A228-F754F652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3397-9DC2-4CFA-B86A-1D37340B1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305F-C58E-4C35-A544-2908F7206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7BC7-B2A0-4833-ACD4-86FB7E84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42F6-AC13-40CF-9A36-0196AFE7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224A-7433-403E-8E3D-2240C658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9D7A-60DF-47FD-8EBC-11DFFA58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C380-8E44-42A1-86B1-46020BBE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606F-7FE8-4244-AF27-769F71D1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5BD1-09A9-4373-A5D2-50A7FE4D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4F4E-68B0-4304-9857-D21800E6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7B10-4335-4F5C-B716-8B657B97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43E7-6393-4870-B015-A3F57030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F80A-7CB2-48DC-8A0D-63669F53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3376-D8AF-43B3-A9F3-9F38D0EB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B498-9CE2-456C-8E52-E95DEBE0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9C33-4DEA-440C-970B-953BE5EF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F0B1-616E-43D9-8207-1FC2EB35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2021-E357-4651-AA6C-03FB3132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F42F-5CA0-45B8-982B-42ACB9C2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CE31-6530-4248-A458-ED282EBB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83B2-B654-4E9B-AA7D-C2C7D197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A7B5-7BD7-4D54-9433-B2416FF726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DEB0-A689-4CAE-8090-430866A07D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Persian Wa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ce’s Finest H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nection to the Pa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odern marathon has its roots in the Battle of Marath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idippides died from exhaustion after delivering his mess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’s 26 mile marathon races remember his heroic act of martyr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ck for Reven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 Emperor Darius never returned, but his son Emperor Xerxes d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480 B.C. the Persians returned to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brought even more men this time a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Thermopyla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ns met a force of Greeks at Thermopyl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was a small mountain pass that controlled access to all of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two days 7,000 Greeks held the Persians back, but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thermopyla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Downfal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reek traitor showed the Persians a secret passage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llowed the Persians to sneak up from behind and attack the Gree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of the Greek defenders ran a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Heroic Ac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300 Spartans stayed behind and fought to their dea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llowed the other Greeks to escape capture or certain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spartans01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35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spartansend"/>
          <p:cNvPicPr/>
          <p:nvPr/>
        </p:nvPicPr>
        <p:blipFill>
          <a:blip r:embed="rId1"/>
          <a:stretch/>
        </p:blipFill>
        <p:spPr>
          <a:xfrm>
            <a:off x="0" y="204840"/>
            <a:ext cx="9144000" cy="6653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re come the Pers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s poured into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got their revenge by wreaking hav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even burned Athens to the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were the Greeks to d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Salam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s were quick to follow the retreating Greeks to Salam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ere is Persia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2" name="Picture 4" descr="greecepersiamaplarge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86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ose Clever Athen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then turned quickly around and began ramming the Persian shi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rsians once again retreated back to Per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maxisalamiseng"/>
          <p:cNvPicPr/>
          <p:nvPr/>
        </p:nvPicPr>
        <p:blipFill>
          <a:blip r:embed="rId1"/>
          <a:stretch/>
        </p:blipFill>
        <p:spPr>
          <a:xfrm>
            <a:off x="0" y="98280"/>
            <a:ext cx="9144000" cy="6759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Final Batt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ttle of Plata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eeks and Persians at equal str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and Sparta fought side by s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k military superiority won out and Persia retreated for 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did the Greeks do i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reas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herent advantage of the defe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re better soldi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used the element of surpr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Figh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ks had been settling on the west coast of Asia Minor (Pers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 conquered these colon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sent troops to support the revo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rushing the Revol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eror Darius of Persia crushed the revolt rather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decided to punish Athens for helping the colon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raining for a few years Darius sent troops to invade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iled on to the Bay of Marath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Marath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Athens took on the mighty Persian Empire by themsel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erious Mismatc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n troops—10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ian troops—2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Athens really have any hope against these od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ic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 soldiers turned and ran from the oncoming Atheni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10029246aBattle%20of%20Marath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laugh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henian army almost drove the Persians back to the s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t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ians—6, 400 d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hens—192 d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ius returned to Persia never to retu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22:47:39Z</dcterms:created>
  <dc:creator>brobison</dc:creator>
  <dc:description/>
  <dc:language>en-US</dc:language>
  <cp:lastModifiedBy>LEGION</cp:lastModifiedBy>
  <dcterms:modified xsi:type="dcterms:W3CDTF">2017-07-03T09:55:55Z</dcterms:modified>
  <cp:revision>9</cp:revision>
  <dc:subject/>
  <dc:title>The Persian Wars</dc:title>
</cp:coreProperties>
</file>