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8034-D846-4942-9C0A-DFB65ED20B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DDF-4173-4562-AC92-870276EC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4F2-7C6E-4291-B3EB-F5F453BC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0AC-1A04-4A31-8537-1F2A9491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7F9-EC3C-419F-A21D-863A8279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78A8-4BA8-412F-B0BE-EC5DA79F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8D55-2E79-4E71-946B-E67E916B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F1FD-E973-4205-B120-46BDAA0B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4480-6B42-4CDF-AF39-9119FD9A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4ACE-9281-4DB0-87DF-C584F770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EAC0-2B6E-4919-BAD5-A18EBE04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60FF-0F47-4E8F-AA76-44DFBF1D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A59-A463-45D2-8F46-202B7E46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82C0-DE21-4016-8352-97358DB5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5F4A-2092-4F2E-AA29-985BD036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0EC4-2B32-4056-BD5E-F0314D12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C420-6B1A-45DE-8D56-3889028E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2340-5F9C-4045-9135-D41046A5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7FE-C7B7-4CD8-BB38-1E4C911C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483-D00D-4B64-8799-68C3BB2D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26D-F7DF-4489-850A-D48CA644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23A-2312-4000-B912-965FD084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B46-C383-45D6-A0D8-94C2BC8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FC3-4652-4BEA-8465-FDE608A2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866-CC46-42D4-AFC1-FC6BCB85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3A0F-70F8-450D-9986-A37355DCB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E683-23EB-4385-BD39-0E2B38296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LEGION</cp:lastModifiedBy>
  <dcterms:modified xsi:type="dcterms:W3CDTF">2017-07-03T09:55:55Z</dcterms:modified>
  <cp:revision>9</cp:revision>
  <dc:subject/>
  <dc:title>The Persian Wars</dc:title>
</cp:coreProperties>
</file>