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2210-A92B-487B-8A62-903B7B6DE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DA1-875E-4DE1-A46F-69D18C8A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2E4-3AF8-4707-8F65-0F0A5D27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99A-8232-4909-A0D4-4E6846A6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A7D-936B-4748-9502-F0783025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65CF-F9FA-497A-A7D9-B3DBD3EA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D023-F802-4D55-B62E-9D0A110E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CEA0-C97F-4A84-9465-1B4B6D1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276D-CA35-44C5-9325-B3C5D64F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FF2A-3C06-4F72-B78C-31290DE0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21FF-D3AE-48DA-A9E6-A0A534D3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78BD-1175-49AE-8697-38F19E16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815-0DB4-4BBC-A394-4E0A0BCA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7E72-A10D-47CB-97ED-86810F7F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0F07-2402-4CCB-84B8-31D8B782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70C7-D0A8-4F8E-AA99-0CC346A1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9872-8047-4C8D-AD2D-89FD7A24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01FF-D6BD-4186-AF7B-3FFB4574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286-97B8-4FBB-B01F-77581FAF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54C-6E2A-4D48-8BB3-EB7ACF88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52F-1076-4561-BAC4-02CDF580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A28-1402-47F6-BBFB-8A1DD76E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93E-BA57-4D1C-BE1C-79C5A096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6B8-5948-4AE1-9909-986C2ACB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99C-A6B4-4F15-9305-CA89D44A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B35C-A77B-4C94-9DF8-7CDD1FB0BB0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2825-38D0-454E-9915-11C1DCA4BFA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LEGION</cp:lastModifiedBy>
  <dcterms:modified xsi:type="dcterms:W3CDTF">2017-07-03T10:45:19Z</dcterms:modified>
  <cp:revision>22</cp:revision>
  <dc:subject/>
  <dc:title>The French Revolution</dc:title>
</cp:coreProperties>
</file>