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87CB-F00D-41D1-A98E-7C740743E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C33-0768-4998-8C07-69FDC90F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FBA-7809-400D-9562-91930765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C2E-5614-4C0B-990C-A8B05AAF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435-F5FF-488C-A2E2-7A27C283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5E14-0D18-4BB4-BA2D-78729308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009D-2E11-4BD3-849A-AE3B2A3F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E73E-4E4B-4CA3-B2DE-A9336744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A53D-D238-415D-B1FE-56D2F2DD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9917-D900-4BA4-B305-36D3284B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3476-87CE-409B-B959-117809BD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2512-A753-49C4-A598-29BB71FC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45D-530F-4648-B8B4-19FB6C94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3FB9-3DFC-4022-A167-F19594BD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B0AB-D23F-4E5D-AC16-F515F8FD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0D3B-E9A3-48D7-9A4A-C54748F6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8295-F0EE-4BAA-99BF-7EDFF97C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ACBC-B28D-4ABD-835E-27CBF0F7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84C-78D7-4C2E-AE42-84D8524E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990-D414-4BE1-96B2-86C0B318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542-DBF2-4687-93E6-A11F61D4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69B-06B0-4941-A1B7-8719574D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8D7-3633-4CA8-9B1F-B7ADF936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737-9776-40AD-AAF8-A91B0368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78A-7C02-465D-9180-D819A8B4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D505-4DDE-4736-BAD3-CE604D0D4DD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88CF-F4BF-4E33-B0CA-1D769ABAE26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LEGION</cp:lastModifiedBy>
  <dcterms:modified xsi:type="dcterms:W3CDTF">2017-07-03T10:45:19Z</dcterms:modified>
  <cp:revision>22</cp:revision>
  <dc:subject/>
  <dc:title>The French Revolution</dc:title>
</cp:coreProperties>
</file>