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12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CD94-0E94-447D-BF92-ADDE2CF70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1789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vents continue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ench created their own Declaration of the Rights of Man and Citizen modeled after TJ’s Declaration of Independenc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s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created their own Declaration of the Rights of Man and Citizen modeled after TJ’s Declaration of Indepen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ffects of the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oth the King and Queen were beheade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ench monarchy no mor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he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King and Queen were behea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monarchy no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ffects continued. . 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old Louisiana to TJ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continued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d Louisiana to T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nlightenment ideas of John Locke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lightenment ideas of John Loc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Vast majority of people were broke and hungry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Vast majority were in the lowest estat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t majority of people were broke and hung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t majority were in the lowest e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ree Estates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ee Est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ourgeoisi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t of the third estate, they were the “middle class”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were bankers, merchants, factory owners (educated people)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Led the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rgeoi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the third estate, they were the “middle class”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bankers, merchants, factory owners (educated peo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d the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evolution - beginning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- beginn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read rio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eople were hungry; the country was brok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picture is from an all-woman bread riot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arie Antionette said “let them eat cake”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d ri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ere hungry; the country was br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cture is from an all-woman bread ri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e Antionette said “let them eat cak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King Louis XVI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is grandfather Louis XIV was the ultimate “absolutist” king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king was weak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Louis X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grandfather Louis XIV was the ultimate “absolutist” 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king was w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states General mee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tes General m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AD5C-FC50-491A-9148-DFC8D1A2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2778-FAE7-4BB6-BFBE-D9113491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16D9-17A2-4F62-95FD-B83411663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0872-FC4D-4F9D-9307-491FE8748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5B28-C360-496A-B1C7-B72CF1287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57C8-309A-436C-9E9F-D1D47CF1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FC50-9C76-4EE9-9156-FDCE3E5D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0D34-D545-4BC3-BC50-57C5B6D5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DD87-16B7-4560-A99C-237DE61A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2653-1483-4A83-AF93-4F04C499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D492-B94F-428C-A457-07E20C65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4EFB-033D-462C-B6A9-73DBFA2A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9D71-F385-413C-901C-0CD144E3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FA68-1CEB-4395-BF56-B40FCEC2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31F5-DEBF-4BD7-B2BA-D3D6DA8F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03DA-963F-4F50-9099-967BD8DA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B38C-B97C-42FB-8139-FEE0B331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E684-088F-48EA-9DAD-16668777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6075-CF38-4072-902C-5D813AA1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AD7E-5C6F-4DAA-BA96-EE2335A8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80DC-1AD7-43EE-8270-51C67344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9684-A017-42C3-AA62-D66E68EE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EB73-105D-4695-AE92-A202978B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678E-EE10-44F2-90D2-FCE62724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9DCE-50D7-4EC7-93F3-B7B20DEED33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5195-4B59-4B94-8EB1-7BEDD9576A72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789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Picture 4" descr="travel-france-pic-liberte"/>
          <p:cNvPicPr/>
          <p:nvPr/>
        </p:nvPicPr>
        <p:blipFill>
          <a:blip r:embed="rId1"/>
          <a:stretch/>
        </p:blipFill>
        <p:spPr>
          <a:xfrm>
            <a:off x="3505320" y="2895480"/>
            <a:ext cx="2514600" cy="30067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vents continue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21016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French created their own </a:t>
            </a:r>
            <a:r>
              <a:rPr b="0" i="1" lang="en-US" sz="2800" spc="-1" strike="noStrike">
                <a:solidFill>
                  <a:srgbClr val="0b0a09"/>
                </a:solidFill>
                <a:latin typeface="Times New Roman"/>
              </a:rPr>
              <a:t>Declaration of the Rights of Man and Citizen </a:t>
            </a: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modeled after TJ’s </a:t>
            </a:r>
            <a:r>
              <a:rPr b="0" i="1" lang="en-US" sz="2800" spc="-1" strike="noStrike">
                <a:solidFill>
                  <a:srgbClr val="0b0a09"/>
                </a:solidFill>
                <a:latin typeface="Times New Roman"/>
              </a:rPr>
              <a:t>Declaration of Independen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4" name="Picture 6" descr="frenchrevolution1"/>
          <p:cNvPicPr/>
          <p:nvPr/>
        </p:nvPicPr>
        <p:blipFill>
          <a:blip r:embed="rId1"/>
          <a:stretch/>
        </p:blipFill>
        <p:spPr>
          <a:xfrm>
            <a:off x="3429000" y="2216160"/>
            <a:ext cx="5715000" cy="35622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ffects of the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2101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Both the King and Queen were behead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French monarchy no mo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8" name="Picture 6" descr="guillotine"/>
          <p:cNvPicPr/>
          <p:nvPr/>
        </p:nvPicPr>
        <p:blipFill>
          <a:blip r:embed="rId1"/>
          <a:stretch/>
        </p:blipFill>
        <p:spPr>
          <a:xfrm>
            <a:off x="4191120" y="914400"/>
            <a:ext cx="4286160" cy="57150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Effects continued. . .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5000" y="1295280"/>
            <a:ext cx="312408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Sold Louisiana to TJ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2" name="Picture 6" descr="Napoleon"/>
          <p:cNvPicPr/>
          <p:nvPr/>
        </p:nvPicPr>
        <p:blipFill>
          <a:blip r:embed="rId1"/>
          <a:stretch/>
        </p:blipFill>
        <p:spPr>
          <a:xfrm>
            <a:off x="479520" y="1066680"/>
            <a:ext cx="5159160" cy="54864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auses of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a09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a09"/>
                </a:solidFill>
                <a:latin typeface="Times New Roman"/>
              </a:rPr>
              <a:t>Enlightenment ideas of John Locke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auses of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b0a09"/>
                </a:solidFill>
                <a:latin typeface="Times New Roman"/>
              </a:rPr>
              <a:t>Vast majority of people were broke and hungry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b0a09"/>
                </a:solidFill>
                <a:latin typeface="Times New Roman"/>
              </a:rPr>
              <a:t>Vast majority were in the lowest estate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ree Estates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228600" y="2101680"/>
          <a:ext cx="86104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01680"/>
                    <a:ext cx="8610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ourgeoisi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21016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Part of the third estate, they were the “middle class”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They were bankers, merchants, factory owners (educated peopl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Led the revolu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4" name="Picture 5" descr="images"/>
          <p:cNvPicPr/>
          <p:nvPr/>
        </p:nvPicPr>
        <p:blipFill>
          <a:blip r:embed="rId1"/>
          <a:stretch/>
        </p:blipFill>
        <p:spPr>
          <a:xfrm>
            <a:off x="4753080" y="1523880"/>
            <a:ext cx="3882960" cy="46926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Revolution - beginning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8840" y="1371600"/>
            <a:ext cx="380988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0a09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8" name="Picture 6" descr="Maria_1"/>
          <p:cNvPicPr/>
          <p:nvPr/>
        </p:nvPicPr>
        <p:blipFill>
          <a:blip r:embed="rId1"/>
          <a:stretch/>
        </p:blipFill>
        <p:spPr>
          <a:xfrm>
            <a:off x="141120" y="1219320"/>
            <a:ext cx="4456440" cy="56386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read rio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People were hungry; the country was brok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This picture is from an all-woman bread rio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Marie Antionette said “let them eat cake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Picture 1030" descr="womenversailles"/>
          <p:cNvPicPr/>
          <p:nvPr/>
        </p:nvPicPr>
        <p:blipFill>
          <a:blip r:embed="rId1"/>
          <a:stretch/>
        </p:blipFill>
        <p:spPr>
          <a:xfrm>
            <a:off x="0" y="2286000"/>
            <a:ext cx="5486400" cy="4222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King Louis XVI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21016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His grandfather Louis XIV was the ultimate “absolutist” king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This king was weak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6" name="Picture 6" descr="louis16france"/>
          <p:cNvPicPr/>
          <p:nvPr/>
        </p:nvPicPr>
        <p:blipFill>
          <a:blip r:embed="rId1"/>
          <a:stretch/>
        </p:blipFill>
        <p:spPr>
          <a:xfrm>
            <a:off x="4981680" y="1219320"/>
            <a:ext cx="4079880" cy="56386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states General mee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0" name="Picture 6" descr="frenchrevolutionassemblee"/>
          <p:cNvPicPr/>
          <p:nvPr/>
        </p:nvPicPr>
        <p:blipFill>
          <a:blip r:embed="rId1"/>
          <a:stretch/>
        </p:blipFill>
        <p:spPr>
          <a:xfrm>
            <a:off x="0" y="2973240"/>
            <a:ext cx="5410080" cy="33656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6:25:44Z</dcterms:created>
  <dc:creator> jcollins</dc:creator>
  <dc:description/>
  <dc:language>en-US</dc:language>
  <cp:lastModifiedBy>LEGION</cp:lastModifiedBy>
  <dcterms:modified xsi:type="dcterms:W3CDTF">2017-07-03T10:45:19Z</dcterms:modified>
  <cp:revision>22</cp:revision>
  <dc:subject/>
  <dc:title>The French Revolution</dc:title>
</cp:coreProperties>
</file>