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F788-C049-440E-B77A-08648794B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60B-5F7C-447B-96D5-F5C9564E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D26-6B96-406B-A70C-80A5B198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D61-FA5B-4E06-8E81-872529DE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AF5-3DC7-43F1-A4F3-84646A49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C2F0-11BC-40E8-B715-8A2FE033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A1D-DBD6-4D65-AF0D-5AA34364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81B2-12F9-4838-8A8C-FC12FD9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621C-2738-4CFD-A615-5DD0FDFC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B856-A2F9-4FAF-A8BE-9CE51272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B9A0-ABA7-40F3-A8C0-1F331334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1E22-468B-439B-8EB6-20B2022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9B1-A7D8-4AC5-959A-866425C8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9B28-B354-459D-918D-16BD4B4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EF96-1F84-4B77-87D3-5CFA168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05D5-3D0A-4602-ACE2-080B3D0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0A86-8D4A-413C-90CD-B1673574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D5DD-2338-49F2-8879-4B332A4F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6D2-B1E5-4D8F-BBD6-7DE76731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C97-DE3D-4C73-BF35-D05A651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9D8-6A97-4684-8047-1EA91861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005-3BAF-4197-835E-1ED8DCBA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D81-92DC-4B45-ACB0-24C52CF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046-17D2-4932-8463-D877514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2E1-5470-4053-90C0-0815CC1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7CD-68E6-49CB-9F21-1B1A8FEB56E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CAB7-7034-4DD1-980D-0592FCD1042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LEGION</cp:lastModifiedBy>
  <dcterms:modified xsi:type="dcterms:W3CDTF">2017-07-03T10:45:19Z</dcterms:modified>
  <cp:revision>22</cp:revision>
  <dc:subject/>
  <dc:title>The French Revolution</dc:title>
</cp:coreProperties>
</file>