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779F-1C8D-4A9B-AF85-7B300EC410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F33-59D2-4967-AE99-64817BAD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76A-44C3-4D5E-83AF-4EC7BAAF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4CE-30A7-4E97-BE63-99025AF3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EDF-A444-47E4-A119-DFBFEF9A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C70-FAF0-4DFB-BD1C-6BEA93D0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3532-67A0-4B6F-BEF2-AC66166A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C6C-0869-434D-8D46-AE8FC71E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1AE-200A-4A9D-99A2-6DF299EB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53F-261B-445E-B3EB-51A236EC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DB7-9792-45E5-BEC9-386A5747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215-11CF-4997-B60F-E7DBB024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FF0-FB13-464B-9ACA-FA6BA861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B288-8EC2-4BB8-B6C4-E5A46DD14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3T10:45:40Z</dcterms:modified>
  <cp:revision>23</cp:revision>
  <dc:subject/>
  <dc:title>The French and Indian War</dc:title>
</cp:coreProperties>
</file>