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D68F-87D0-4722-A97C-3A0F99B582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3A3-0502-49A4-B27C-09B9CC44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EE4-30C6-45DF-B701-E720CAC1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EE4-4EA0-4116-B823-3567A069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DD9-07B3-43F0-B6D1-43EFEBBB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A49-0158-40D2-A4EB-BAAD07CD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925-2C23-4862-84B4-F7991296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A0C-A5E6-416A-B483-FAE159D1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AD2-0A92-4285-B643-3D0160C1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2FF-EE95-4403-B7F5-F61AB67D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261-5A29-4BDB-9B35-FF9813E2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A36-C105-4D9D-BF6F-5EA190B0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998-CE5F-4D9F-9061-E79E340A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7F0F-DFFB-4305-8C4B-C3C117E59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3T10:45:40Z</dcterms:modified>
  <cp:revision>23</cp:revision>
  <dc:subject/>
  <dc:title>The French and Indian War</dc:title>
</cp:coreProperties>
</file>