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F192-003F-40C2-8E3D-3C02D25F40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and Indian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nd the French are like two edges of a pair of shears, and we are the cloth that is cut to pieces between them.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to an English 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Begins and Sprea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keep British out of the valley, they destroy a British trading post (Pickawilla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then built forts to protect the region linking their Canadian and Louisiana sett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ginia Re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d major George Washington to ask the French to le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build a fort close to present day Pittsbu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seize the fort before they were done and name it Fort Duques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told me the Country belogn’d to them, that no English Man had a right to trade upon them Waters; &amp; that he had Orders to make every Person Prisoner that attempted it on the Ohio or the Waters on it.” – G.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t Neces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ton was on his way to Fort Duquesne when he heard of its surre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ead, he built a small fort but was attacked and forced to surrender (July 3, 175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Albany Plan of Un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the fighting was beginning, representatives were trying to get the Iroquois to fight with the colonists (Englis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Ben Franklin was trying to get the colonists to join together for defensive purpo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ncil that could collect taxes, make treaties, raise an army, and make new sett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ddock’s Def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ly 9, 1755: Marched on Fort Duquesne with 2 regiments and Washing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ambushed and destroy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0 English men were killed or woun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glish new it would take more to defeat the Fre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ritish Take Quebec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Pitt – Sec. of S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Philosophy on the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t more troops, nations top generals and more money to win the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ning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bec – cliff 300 feet above the St. Lawrence River loaded with cannons and tro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2 months sailed around looking for a way to capture it – eventually found an unguarded path up the cli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ing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night fall 4,000 British snuck up the cliff and wai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prised the French in the mo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treal falls within the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do you think Battle of Quebec is a turning point  in the w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reaty of Paris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ain received all land east of the Mississip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in received all land west of the Mississippi and New Orleans for its hel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Britain got Florida from Spain in exchange for Cuba and the Philippin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reaty ended the war as well as French power in North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nce Claims Western 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exploring interior of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te 1600’s – France had claimed the Ohio River Valley, the Mississippi River Valley, and the great lake reg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uisiana (La Salle) stretched from the Appalachian Mountains to the Rocky Mounta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132 and 1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ntiac’s Rebel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Proclamation of 1763 – forbid colonists to settle west of Appalachian 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/C new they couldn’t protect them against Natives or Fre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ists are not happy about this; feel it is their right to settle the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Main Sett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bec and Mont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ed along the St. Lawrence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Orleans – Mississippi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are these settlements so importa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Pop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60 – NEW FRANCE had about 80,000 people (England had over 1 mill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is their such a difference in popul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were mostly fur trappers who traded with the Nativ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s, guns, knives, iron pots,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Alli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English competed with the French for f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Native American groups competed to supply Europeans with f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Alli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he fur trade created economic and military rivalries and alliances between the Native Americans and the Europea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lliances between the Natives and Europeans led to their involvement in the w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onquin and Huron sided with the French while the Iroquois became divi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Conflict in the Ohio River Vall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ds of war planted by when British fur traders moved into the Ohio River Valley in the 1750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ish land companies were also planning to settle colonists the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DFD2-8C07-498A-98DD-30DF4AADE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C6E2-C9A3-4D39-9F3A-61374695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EB2A-5571-4A53-BA87-C2A873E9B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9F97-E473-4DD1-9B36-8EE251D9A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FAE3-050F-4E5A-B68D-4B745329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EC96-7D69-423E-8E20-7189B671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2974-7842-4D33-8590-FCFF8164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F77A-5631-4E2A-AC37-0B4DFC39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3ABB-D542-4A1C-87B9-524A656C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9403-22AA-4A63-9DAD-17C594EA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87C6-21D0-4F7C-88AA-1274318A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965D-8ECC-4DA8-82A6-D591CA17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C52D-0260-42FE-8662-AA648B1D6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rench and Indi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http://www.lordnelsons.com/gallery/frontier/wright/images/Shawnee.jpg"/>
          <p:cNvPicPr/>
          <p:nvPr/>
        </p:nvPicPr>
        <p:blipFill>
          <a:blip r:embed="rId1"/>
          <a:stretch/>
        </p:blipFill>
        <p:spPr>
          <a:xfrm>
            <a:off x="0" y="4068720"/>
            <a:ext cx="2057400" cy="2789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1600200" y="2209680"/>
            <a:ext cx="7086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nd the French are like two edges of a pair of shears, and we are the cloth that is cut to pieces between them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ve American to an English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england indian france"/>
          <p:cNvPicPr/>
          <p:nvPr/>
        </p:nvPicPr>
        <p:blipFill>
          <a:blip r:embed="rId2"/>
          <a:stretch/>
        </p:blipFill>
        <p:spPr>
          <a:xfrm>
            <a:off x="5867280" y="3936960"/>
            <a:ext cx="3276720" cy="29210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 Begins and Sp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keep British out of the valley, they destroy a British trading post (Pickawilla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ench then built forts to protect the region linking their Canadian and Louisiana sett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rginia Rea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major George Washington to ask the French to le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build a fort close to present day Pittsbu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seize the fort before they were done and name i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t Duques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duquesne_diorama"/>
          <p:cNvPicPr/>
          <p:nvPr/>
        </p:nvPicPr>
        <p:blipFill>
          <a:blip r:embed="rId1"/>
          <a:stretch/>
        </p:blipFill>
        <p:spPr>
          <a:xfrm>
            <a:off x="4238640" y="3927600"/>
            <a:ext cx="4905360" cy="29304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457200" y="426708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told me the Country belogn’d to them, that no English Man had a right to trade upon them Waters; &amp; that he had Orders to make every Person Prisoner that attempted it on the Ohio or the Waters on it.” – G.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t Neces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ton was on his way to Fort Duquesne when he heard of its surr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he built a small fort but was attacked and forced to surrender (July 3, 17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858"/>
          <p:cNvPicPr/>
          <p:nvPr/>
        </p:nvPicPr>
        <p:blipFill>
          <a:blip r:embed="rId1"/>
          <a:stretch/>
        </p:blipFill>
        <p:spPr>
          <a:xfrm>
            <a:off x="4314960" y="4667400"/>
            <a:ext cx="4829040" cy="2190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FtNecessity"/>
          <p:cNvPicPr/>
          <p:nvPr/>
        </p:nvPicPr>
        <p:blipFill>
          <a:blip r:embed="rId2"/>
          <a:stretch/>
        </p:blipFill>
        <p:spPr>
          <a:xfrm>
            <a:off x="0" y="3581280"/>
            <a:ext cx="4876920" cy="26514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Albany Plan of U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the fighting was beginning, representatives were trying to get the Iroquois to fight with the colonists (Engl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n Frankl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trying to get the colonists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join together for defensive purp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cil that could collect taxes, make treaties, raise an army, and make new sett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http://www.benfranklin300.org/exhibition/_html/5_1/_images/a457.jpg"/>
          <p:cNvPicPr/>
          <p:nvPr/>
        </p:nvPicPr>
        <p:blipFill>
          <a:blip r:embed="rId1"/>
          <a:stretch/>
        </p:blipFill>
        <p:spPr>
          <a:xfrm>
            <a:off x="990720" y="4343400"/>
            <a:ext cx="3124080" cy="2208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http://www.ben1776.com/images/Ben_ok2_sharp.jpg"/>
          <p:cNvPicPr/>
          <p:nvPr/>
        </p:nvPicPr>
        <p:blipFill>
          <a:blip r:embed="rId2"/>
          <a:stretch/>
        </p:blipFill>
        <p:spPr>
          <a:xfrm>
            <a:off x="6726240" y="4114800"/>
            <a:ext cx="2417760" cy="27432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ddock’s Def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9, 1755: Marched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t Duques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2 regiments and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ambushed and destr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 English men were killed or wou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glish new it would take more to defeat the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Image, Source: digital file from b&amp;w film copy neg."/>
          <p:cNvPicPr/>
          <p:nvPr/>
        </p:nvPicPr>
        <p:blipFill>
          <a:blip r:embed="rId1"/>
          <a:stretch/>
        </p:blipFill>
        <p:spPr>
          <a:xfrm>
            <a:off x="5486400" y="4132440"/>
            <a:ext cx="3657600" cy="2725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duquesne_diorama"/>
          <p:cNvPicPr/>
          <p:nvPr/>
        </p:nvPicPr>
        <p:blipFill>
          <a:blip r:embed="rId2"/>
          <a:stretch/>
        </p:blipFill>
        <p:spPr>
          <a:xfrm>
            <a:off x="0" y="4719600"/>
            <a:ext cx="3581280" cy="21384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ritish Take Quebec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 Pitt – Sec. of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Philosophy on the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 more troops, nations top generals and more money to win the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WilliamPittLg"/>
          <p:cNvPicPr/>
          <p:nvPr/>
        </p:nvPicPr>
        <p:blipFill>
          <a:blip r:embed="rId1"/>
          <a:stretch/>
        </p:blipFill>
        <p:spPr>
          <a:xfrm>
            <a:off x="0" y="3352680"/>
            <a:ext cx="2673360" cy="35053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ing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– cliff 300 feet above the St. Lawrence River loaded with cannons and tr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2 months sailed around looking for a way to capture it – eventually found an unguarded path up the cl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1600Map"/>
          <p:cNvPicPr/>
          <p:nvPr/>
        </p:nvPicPr>
        <p:blipFill>
          <a:blip r:embed="rId1"/>
          <a:stretch/>
        </p:blipFill>
        <p:spPr>
          <a:xfrm>
            <a:off x="5181480" y="3768840"/>
            <a:ext cx="3962520" cy="3089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flower+156"/>
          <p:cNvPicPr/>
          <p:nvPr/>
        </p:nvPicPr>
        <p:blipFill>
          <a:blip r:embed="rId2"/>
          <a:stretch/>
        </p:blipFill>
        <p:spPr>
          <a:xfrm>
            <a:off x="0" y="3862440"/>
            <a:ext cx="4495680" cy="299556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uring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night fall 4,000 British snuck up the cliff and wa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prised the French in the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real falls within the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do you think Battle of Quebec is a turning point  in the w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post-1374-1184537522"/>
          <p:cNvPicPr/>
          <p:nvPr/>
        </p:nvPicPr>
        <p:blipFill>
          <a:blip r:embed="rId1"/>
          <a:stretch/>
        </p:blipFill>
        <p:spPr>
          <a:xfrm>
            <a:off x="4419720" y="3959280"/>
            <a:ext cx="4724280" cy="289872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c000355k"/>
          <p:cNvPicPr/>
          <p:nvPr/>
        </p:nvPicPr>
        <p:blipFill>
          <a:blip r:embed="rId1"/>
          <a:stretch/>
        </p:blipFill>
        <p:spPr>
          <a:xfrm>
            <a:off x="838080" y="733320"/>
            <a:ext cx="7620120" cy="528660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eaty of Paris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rit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ceived a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 east of the Mississip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ceived a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 west of the Mississipp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New Orleans for its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Britain got Florida from Spain in exchange for Cuba and the Philipp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Treat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ded the w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ell 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ench pow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http://www.american.edu/TED/ice/images4/kckbritish-era-1763-75.png"/>
          <p:cNvPicPr/>
          <p:nvPr/>
        </p:nvPicPr>
        <p:blipFill>
          <a:blip r:embed="rId1"/>
          <a:stretch/>
        </p:blipFill>
        <p:spPr>
          <a:xfrm>
            <a:off x="5562720" y="3797280"/>
            <a:ext cx="3581280" cy="306072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ce Claims Western 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exploring interior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 1600’s – France had claimed the Ohio River Valley, the Mississippi River Valley, and the great lake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isiana (La Salle) stretched from the Appalachian Mountains to the Rocky Mountai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132 and 1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tiac’s Rebell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Proclamation of 1763 – forbid colonists to settle west of Appalachian Mou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/C new they couldn’t protect them against Natives or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ists are not happy about this; feel it is their right to settle the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map-british-north-america1775"/>
          <p:cNvPicPr/>
          <p:nvPr/>
        </p:nvPicPr>
        <p:blipFill>
          <a:blip r:embed="rId1"/>
          <a:stretch/>
        </p:blipFill>
        <p:spPr>
          <a:xfrm>
            <a:off x="5638680" y="3276720"/>
            <a:ext cx="3505320" cy="35812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600Map"/>
          <p:cNvPicPr/>
          <p:nvPr/>
        </p:nvPicPr>
        <p:blipFill>
          <a:blip r:embed="rId1"/>
          <a:stretch/>
        </p:blipFill>
        <p:spPr>
          <a:xfrm>
            <a:off x="990720" y="0"/>
            <a:ext cx="75438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Main Sett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and Mont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d along the St. Lawrenc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Orleans – Mississippi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are these settlements so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Po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60 – NEW FRANCE had about 80,000 people (England had over 1 mill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is their such a difference in popul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nch were mostly fur trappers who traded with the Nativ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s, guns, knives, iron pots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picture"/>
          <p:cNvPicPr/>
          <p:nvPr/>
        </p:nvPicPr>
        <p:blipFill>
          <a:blip r:embed="rId1"/>
          <a:stretch/>
        </p:blipFill>
        <p:spPr>
          <a:xfrm>
            <a:off x="0" y="2514600"/>
            <a:ext cx="4724280" cy="4343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hal_mhc_mhm_birchbark_canoe_sm_93335_7"/>
          <p:cNvPicPr/>
          <p:nvPr/>
        </p:nvPicPr>
        <p:blipFill>
          <a:blip r:embed="rId2"/>
          <a:stretch/>
        </p:blipFill>
        <p:spPr>
          <a:xfrm>
            <a:off x="4876920" y="2438280"/>
            <a:ext cx="4267080" cy="44197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ve American Al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English competed with the French for f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Native American groups competed to supply Europeans with f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marquette"/>
          <p:cNvPicPr/>
          <p:nvPr/>
        </p:nvPicPr>
        <p:blipFill>
          <a:blip r:embed="rId1"/>
          <a:stretch/>
        </p:blipFill>
        <p:spPr>
          <a:xfrm>
            <a:off x="1371600" y="3352680"/>
            <a:ext cx="6477120" cy="330372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ve American Al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ur tr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reat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conomic and military rivalries and allia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ween the Native Americans and the Europea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lliances between the Natives and Europeans led to their involvement in the w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nquin and Huron sided with the French while the Iroquois became di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Conflict in the Ohio River Vall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ds of war planted by when British fur traders moved into the Ohio River Valley in the 1750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ish land companies were also planning to settle colonists th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6da20ecd-5b25-47ae-8a51-7030ade4b170"/>
          <p:cNvPicPr/>
          <p:nvPr/>
        </p:nvPicPr>
        <p:blipFill>
          <a:blip r:embed="rId1"/>
          <a:stretch/>
        </p:blipFill>
        <p:spPr>
          <a:xfrm>
            <a:off x="0" y="3362400"/>
            <a:ext cx="3809880" cy="3495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1600Map"/>
          <p:cNvPicPr/>
          <p:nvPr/>
        </p:nvPicPr>
        <p:blipFill>
          <a:blip r:embed="rId2"/>
          <a:stretch/>
        </p:blipFill>
        <p:spPr>
          <a:xfrm>
            <a:off x="4648320" y="3352680"/>
            <a:ext cx="4495680" cy="350532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3:50:12Z</dcterms:created>
  <dc:creator>M. Dexheimer</dc:creator>
  <dc:description/>
  <dc:language>en-US</dc:language>
  <cp:lastModifiedBy>LEGION</cp:lastModifiedBy>
  <dcterms:modified xsi:type="dcterms:W3CDTF">2017-07-03T10:45:40Z</dcterms:modified>
  <cp:revision>23</cp:revision>
  <dc:subject/>
  <dc:title>The French and Indian War</dc:title>
</cp:coreProperties>
</file>