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9CA9-3D60-4454-B6E4-7DBAAD66CF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0617-6AB6-4FC7-A89A-2AF70D90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959-251B-44D7-8824-E8492928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F68D-F342-46C4-AACA-62FD1745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283-CD77-4307-910F-783FEF12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C22C-4A22-4D09-9498-8CA5BB607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C7E2-9CE1-40B6-9913-63317E26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3AA0E-BABC-43DE-BAFD-C357D238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FA93-85E0-4BD2-BB03-38F6A41D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14A6-6545-4A51-9A38-18C053EE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D0EF-3F68-40B7-8EE3-649DFB32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4BC2-B5AD-4923-AA59-458502F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EFB-3B4B-44D2-898C-E2495022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8590-BB1B-4417-84C8-1517230C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83A8-750F-4A35-B369-21F6A049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B5B9-E3F4-470D-B396-9DBD97A1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B375A-ED82-44E8-8135-8389E630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7141-7A02-40A7-9485-D16302E7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C38E-AA96-4DDA-95F2-F098866F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965-A5AB-4B62-AB78-21F000E8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B95-2203-4B3E-B9B6-EB753A7B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A39A-9E11-4DEF-A56C-EAF475E9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91F-508A-454A-9039-C4F8EB90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B223-BA76-4384-A94A-6D6316B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439-389E-45AF-AAB6-00FCD50D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8030-8E31-49B4-9662-5B64355065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0491-644F-4FC7-82F1-C6A3CA74C45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LEGION</cp:lastModifiedBy>
  <dcterms:modified xsi:type="dcterms:W3CDTF">2017-07-03T11:27:24Z</dcterms:modified>
  <cp:revision>9</cp:revision>
  <dc:subject>The Drugs Revolution and the Development of Penicillin</dc:subject>
  <dc:title>The Drugs Revolution and the Development of Penicillin</dc:title>
</cp:coreProperties>
</file>