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B625-C7B2-45E9-872E-866A6E154A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B3D-8362-4877-A960-C342ED43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1AE-608C-406A-8DED-9291C24E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7D9-F47C-45DA-BE48-080B22AB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3CB-81EA-4A2B-BF2E-B3BCA4D6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6C59-5188-47AD-A322-ED380CB6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24F3-E1A3-416A-B4D7-94164043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8C28-5B6F-4A09-9165-EE16435E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65E1-EC89-4708-AE57-D604DDA6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B85C-6BDB-47B5-B194-79A9F414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A39D-1CC5-4FFB-8628-B978E846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6059-F53C-469B-AFD5-61D2DE7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4C7-3798-4ABE-B238-C1A41D5B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0C83-C665-4043-8731-EA3F94CB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5DDE-719C-4736-8776-C42B5547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872F-7FA1-4CF5-8668-0E4E7E66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6E25-09AF-40AC-8FD8-600D7AD5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83E8-1DA8-4921-853B-7EA4D40B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276-C4DE-4E9C-B8E7-46740B7A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BE4-E7A5-403A-8171-7860C91F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A70-7B71-4F1F-A078-8E4E034E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03E-F2C3-40CE-8783-574C5863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D4C-3C0F-49F9-B0BE-2E479307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705-A469-4DB8-91FA-0091A474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EBF-4D06-4B9F-9544-0B927BF4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CF91-3190-44F5-87EF-3B227499E2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0FF0-3677-4D13-AFD5-271385D7B5D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LEGION</cp:lastModifiedBy>
  <dcterms:modified xsi:type="dcterms:W3CDTF">2017-07-03T11:27:24Z</dcterms:modified>
  <cp:revision>9</cp:revision>
  <dc:subject>The Drugs Revolution and the Development of Penicillin</dc:subject>
  <dc:title>The Drugs Revolution and the Development of Penicillin</dc:title>
</cp:coreProperties>
</file>