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18.png" ContentType="image/png"/>
  <Override PartName="/ppt/media/image6.jpeg" ContentType="image/jpeg"/>
  <Override PartName="/ppt/media/image1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9.png" ContentType="image/png"/>
  <Override PartName="/ppt/media/image15.png" ContentType="image/png"/>
  <Override PartName="/ppt/media/image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0DA40-5A77-4444-BD98-44A55481D5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an Repub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oman Repub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an Expansion (in Ital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quest of Ita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ok 200 ye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nted full or partial citizensh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x and legal benef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eloped loyalty in conquered Italian ar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asion by King Pyrrhus (pyrrhic victor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an colon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tablished in strategic lo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tablished by trea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oops sent when need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stoms of the area left int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onies were mostly for trade, with some military purpo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an Expansion (in Ital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quest of Ita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ok 200 ye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nted full or partial citizensh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x and legal benef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eloped loyalty in conquered Italian ar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asion by King Pyrrhus (pyrrhic victor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an colon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tablished in strategic lo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tablished by trea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oops sent when need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stoms of the area left int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onies were mostly for trade, with some military purpo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an Expansion (outside Ital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nic W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oenicians (Poen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ci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nibal attacked R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p of non-Roman Italians(?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an Expansion (outside Ital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nic W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oenicians (Poen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ci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nibal attacked R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p of non-Roman Italians(?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an Expansion (outside Ital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quest of the East and W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ies rather than servants or sla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le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ruption in the Greek kingd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states given to the Rom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st, direct attacks with strong determination and disci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numbered in most battl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ctory over Parthia (parthian sho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an Expansion (outside Ital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quest of the East and W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ies rather than servants or sla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le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ruption in the Greek kingd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states given to the Rom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st, direct attacks with strong determination and disci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numbered in most battl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ctory over Parthia (parthian sho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ing an Empi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e of the "empire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ill a republican form of gover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s and bala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parties emerg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timares (conservatives, Cato and Cice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pulares (power to peop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mi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lues (according to the Roma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e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i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ug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gree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ghteous w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ver qu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ing an Empi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e of the "empire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ill a republican form of gover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s and bala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parties emerg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timares (conservatives, Cato and Cice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pulares (power to peop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mi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lues (according to the Roma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e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i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ug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gree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ghteous w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ver qu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ing an Empi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us of Wo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sence of men at 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men gained economic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p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ility to divorce and retain proper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als eventually eroded, in part because home-life erod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ing an Empi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us of Wo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sence of men at 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men gained economic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p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ility to divorce and retain proper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als eventually eroded, in part because home-life erod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ing an Empi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av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quests increas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the number of sla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ituted 40% of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the pop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ditions were po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ans feared slave upri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aves took jobs from the plebs so plebs were given food and other benef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ing an Empi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av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quests increas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the number of sla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ituted 40% of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the pop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ditions were po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ans feared slave upri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aves took jobs from the plebs so plebs were given food and other benef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lapse of the Repub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cchus broth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olence used to impose one's wi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i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-election to consulate (many tim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ing ar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l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umption of dictator pow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of the army to override counci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scription 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lapse of the Repub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cchus broth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olence used to impose one's wi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i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-election to consulate (many tim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ing ar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l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umption of dictator pow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of the army to override counci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scription 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lius Caesa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0-44 B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ly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rn to aristocratic famil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esarian s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gend that he descended from the go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n for partying and sexual appet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ptured by pirates and held for rans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urned to area and killed pir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ointed to a series of government jo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ue of Alexan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lius Caesa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0-44 B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ly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rn to aristocratic famil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esarian s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gend that he descended from the go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n for partying and sexual appet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ptured by pirates and held for rans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urned to area and killed pir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ointed to a series of government jo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ue of Alexan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lius Caes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umvi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aised for his work in Sp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ointed governor in Gaul (conques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iance with Crassus and Pompey to form the triumvirate (not initially, but later elect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valry with Pompey after death of Crass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ssing the Rub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prising in As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ni, vidi, vici—I came, I saw, I conque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quest of Egy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eopat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lius Caes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umvi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aised for his work in Sp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ointed governor in Gaul (conques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iance with Crassus and Pompey to form the triumvirate (not initially, but later elect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valry with Pompey after death of Crass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ssing the Rub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prising in As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ni, vidi, vici—I came, I saw, I conque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quest of Egy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eopat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lius Caes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urned to Rome as a conquering he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ion for each territory on a different day (Gaul, Africa, Spain, Asia) and games for many additional d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fered crown (as emperor) twice and refused it when people didn't respond favorab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ctator (rule by one ma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ointed for 10 years and then for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esar’s plans for R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endar (Jul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braries, theaters, other public wor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ve citizenship to people in Spain and Gau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lius Caes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urned to Rome as a conquering he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ion for each territory on a different day (Gaul, Africa, Spain, Asia) and games for many additional d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fered crown (as emperor) twice and refused it when people didn't respond favorab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ctator (rule by one ma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ointed for 10 years and then for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esar’s plans for R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endar (Jul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braries, theaters, other public wor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ve citizenship to people in Spain and Gau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nding of Rome –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oman R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ale of Aeneas (The Aenei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do at Carthage and other travels (like The Odysse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storical evid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tlements from 11th Century B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nding of Rome –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oman R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ale of Aeneas (The Aenei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do at Carthage and other travels (like The Odysse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storical evid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tlements from 11th Century B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lius Caes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rder of Caes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lled by senatorial oppon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tigated by his usurpation of power and their fear that he would become emper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d March 15, 44 B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bbed by 20 sena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utus—illegitimate 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k Anthony and Octavi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llied against the conspira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lius Caes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rder of Caes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lled by senatorial oppon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tigated by his usurpation of power and their fear that he would become emper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d March 15, 44 B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bbed by 20 sena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utus—illegitimate 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k Anthony and Octavi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llied against the conspira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nk Yo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ank Yo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lapse of the Repub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olence used to eliminate enemies and impose one’s wi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cch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-election to consulate (many times) and standing ar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i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umption of dictator powers, use of the army to override councils, proscription 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l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lapse of the Repub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olence used to eliminate enemies and impose one’s wi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cch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-election to consulate (many times) and standing ar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i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umption of dictator powers, use of the army to override councils, proscription 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l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an Repub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e conquered Greece 150 B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ans took on much Greek cul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ds and goddesses parallel each o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ds had Indo-European roo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an Repub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e conquered Greece 150 B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ans took on much Greek cul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ds and goddesses parallel each o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ds had Indo-European roo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que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ar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quest over other powers and then direct conquest to subdue the local trib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quest continued through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republic and empire period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sterix and Obelis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que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ar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quest over other powers and then direct conquest to subdue the local trib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quest continued through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republic and empire period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sterix and Obelis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ing an Empi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conom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enough land to support the peo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rmers were needed and respec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quisition of wheat and other foods became a prior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ctory over Carthage provided more 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e was a consu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ding profits made many Romans ri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remes of wealth and pover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tizens did not have to pay tax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ing an Empi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conom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enough land to support the peo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rmers were needed and respec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quisition of wheat and other foods became a prior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ctory over Carthage provided more 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e was a consu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ding profits made many Romans ri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remes of wealth and pover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tizens did not have to pay tax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nding of Rome –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oman R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rs against the Latins (like The Illia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pe of the Sabine Women (Jacques Louis Davi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nding of Rome –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oman R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rs against the Latins (like The Illia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pe of the Sabine Women (Jacques Louis Davi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nding of Rome –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ity (Kingdom) of R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ulus and Rem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tin princess was Vestal virg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ped by Mars, bore twin boy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dered killed by non-Latin k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kled by a wo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w and founded a city (753B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ulus killed Rem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storic Evid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truscans conquered the Romans (non-Latin kin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ans eventually overthrew Etruscans and established kingdo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ins of home of king (Romulus?) date from 8th Century B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nding of Rome –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ity (Kingdom) of R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ulus and Rem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tin princess was Vestal virg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ped by Mars, bore twin boy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dered killed by non-Latin k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kled by a wo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w and founded a city (753B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ulus killed Rem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storic Evid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truscans conquered the Romans (non-Latin kin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ans eventually overthrew Etruscans and established kingdo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ins of home of king (Romulus?) date from 8th Century B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al Peri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gan with war of independence from Etruscans (500 B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r heroes exhibit desired qualities of Rom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ratio at the bridge (Oath of the Horatii by Jacques Louis Davi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ories became legends for Romans throughout their his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re to American War of Independ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al peri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led by 7 k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volted against last king to found the repub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al Peri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gan with war of independence from Etruscans (500 B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r heroes exhibit desired qualities of Rom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ratio at the bridge (Oath of the Horatii by Jacques Louis Davi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ories became legends for Romans throughout their his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re to American War of Independ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al peri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led by 7 k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volted against last king to found the repub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ublican Gover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led by a senate and the peo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QR= Senate and the People of R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ate (patricians) appointed consuls (1 yea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eign affairs and the milit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rect access by the people to the consu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ople (plebs) organized by tribes and they elected 10 tribu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verned local aff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d veto power (individuall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ublican Gover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led by a senate and the peo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QR= Senate and the People of R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ate (patricians) appointed consuls (1 yea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eign affairs and the milit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rect access by the people to the consu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ople (plebs) organized by tribes and they elected 10 tribu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verned local aff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d veto power (individuall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itu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balanced pow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ver made laws but advice was accep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d power to appoint a person to solve a specific problem (He was a "speaker" or "dictator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ointed censors (moral guardian/rank judg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ointed govern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cilium pleb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de all the laws (called plebecit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ed magistrates (administrators) and jud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itia Curiata/Centuriata – plebs and patrici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itted the emporium (military pow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met in the forum (looked over each oth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ntifex Maxim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igious lea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itu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balanced pow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ver made laws but advice was accep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d power to appoint a person to solve a specific problem (He was a "speaker" or "dictator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ointed censors (moral guardian/rank judg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ointed govern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cilium pleb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de all the laws (called plebecit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ed magistrates (administrators) and jud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itia Curiata/Centuriata – plebs and patrici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itted the emporium (military pow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met in the forum (looked over each oth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ntifex Maxim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igious lea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ver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risons with US gover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lance of p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ate and House of Representa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ul (= presid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bune (veto pow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rts (independ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litary power (?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nsor (?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ver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risons with US gover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lance of p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ate and House of Representa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ul (= presid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bune (veto pow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rts (independ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litary power (?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nsor (?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litary Organ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nturies — 100 armed 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ded by Centurian (from the rank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iples—3 Centu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ld move quickly through difficult terrain (better than phalan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ependent decisions (tribun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gions—groups of Manip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000 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ported by light caval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i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ath for individual insubordi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imation for coward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litary Organ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nturies — 100 armed 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ded by Centurian (from the rank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iples—3 Centu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ld move quickly through difficult terrain (better than phalan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ependent decisions (tribun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gions—groups of Manip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000 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ported by light caval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i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ath for individual insubordi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imation for coward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1E5E4-895C-40D7-B540-A84E8ECEF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82EBC-FF00-40F7-8F13-97192B904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EE1CE-27BB-4D2E-BB63-0D3A10AB1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ADA8C-A82D-4A56-B17B-2459394CF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F27CE-670A-4CE3-B16B-C826BB356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27F6B-743E-41D6-8828-416FB00F9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6426A-1231-41BC-B17F-EAAD26366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D1DF5-D92A-4A3C-B784-37A612082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222D2-6CBC-4955-B14E-544E4C4C8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3F970-503D-4CCD-B7F7-96F383E0C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D433D-DD92-4587-963E-02B78AF7A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DE3F8-AF71-4BAD-A0EB-73426D166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21B1E-0E3F-4C27-ABDC-85C3202A1E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Roman Republ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7" descr="spqr"/>
          <p:cNvPicPr/>
          <p:nvPr/>
        </p:nvPicPr>
        <p:blipFill>
          <a:blip r:embed="rId1"/>
          <a:stretch/>
        </p:blipFill>
        <p:spPr>
          <a:xfrm>
            <a:off x="1828800" y="2514600"/>
            <a:ext cx="5562720" cy="38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Roman Expansion (in Italy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3848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quest of Ita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ook 200 ye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Granted full or partial citizensh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ax and legal benefi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eveloped loyalty in conquered Italian are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vasion by King Pyrrhus (pyrrhic victor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oman colon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stablished in strategic lo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stablished by trea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oops sent when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ustoms of the area left int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lonies were mostly for trade, with some military purpo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12" descr="exp1"/>
          <p:cNvPicPr/>
          <p:nvPr/>
        </p:nvPicPr>
        <p:blipFill>
          <a:blip r:embed="rId1"/>
          <a:stretch/>
        </p:blipFill>
        <p:spPr>
          <a:xfrm>
            <a:off x="4800600" y="990720"/>
            <a:ext cx="3962520" cy="26542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5" descr="exp5"/>
          <p:cNvPicPr/>
          <p:nvPr/>
        </p:nvPicPr>
        <p:blipFill>
          <a:blip r:embed="rId2"/>
          <a:stretch/>
        </p:blipFill>
        <p:spPr>
          <a:xfrm>
            <a:off x="4724280" y="3886200"/>
            <a:ext cx="4038840" cy="27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oman Expansion (outside Italy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581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nic W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oenicians (Poen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c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nnibal attacked R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Help of non-Roman Italians(?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7" descr="map_punic_wars.gif"/>
          <p:cNvPicPr/>
          <p:nvPr/>
        </p:nvPicPr>
        <p:blipFill>
          <a:blip r:embed="rId1"/>
          <a:stretch/>
        </p:blipFill>
        <p:spPr>
          <a:xfrm>
            <a:off x="3809880" y="1195560"/>
            <a:ext cx="5334120" cy="39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oman Expansion (outside Italy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quest of the East and 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lies rather than servants or sla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Tole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rruption in the Greek kingdo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states given to the Rom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Fast, direct attacks with strong determination and discip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numbered in most battl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ctory over Parthia (parthian sho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exp12"/>
          <p:cNvPicPr/>
          <p:nvPr/>
        </p:nvPicPr>
        <p:blipFill>
          <a:blip r:embed="rId1"/>
          <a:stretch/>
        </p:blipFill>
        <p:spPr>
          <a:xfrm>
            <a:off x="4114800" y="1676520"/>
            <a:ext cx="5029200" cy="33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Building an Empi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381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ructure of the "empire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ill a republican form of gover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hecks and bala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wo parties emerg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ptimares (conservatives, Cato and Cicer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opulares (power to peop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am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alues (according to the Roma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ie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iscip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rug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t gree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ighteous w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ever qu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7" descr="cato"/>
          <p:cNvPicPr/>
          <p:nvPr/>
        </p:nvPicPr>
        <p:blipFill>
          <a:blip r:embed="rId1"/>
          <a:stretch/>
        </p:blipFill>
        <p:spPr>
          <a:xfrm>
            <a:off x="7086600" y="3352680"/>
            <a:ext cx="1857240" cy="23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Building an Empi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943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atus of Wo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bsence of men at w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omen gained economic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   po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bility to divorce and retain proper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rals eventually eroded, in part because home-life ero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7" descr="girl_peplos2"/>
          <p:cNvPicPr/>
          <p:nvPr/>
        </p:nvPicPr>
        <p:blipFill>
          <a:blip r:embed="rId1"/>
          <a:stretch/>
        </p:blipFill>
        <p:spPr>
          <a:xfrm>
            <a:off x="6400800" y="1219320"/>
            <a:ext cx="252396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Building an Empi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lav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quests increased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              the number of sla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stituted 40% of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      the pop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ditions were po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omans feared slave upri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laves took jobs from the plebs so plebs were given food and other benef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7" descr="slaves2"/>
          <p:cNvPicPr/>
          <p:nvPr/>
        </p:nvPicPr>
        <p:blipFill>
          <a:blip r:embed="rId1"/>
          <a:srcRect l="0" t="2520" r="0" b="4401"/>
          <a:stretch/>
        </p:blipFill>
        <p:spPr>
          <a:xfrm>
            <a:off x="5257800" y="1676520"/>
            <a:ext cx="3733920" cy="260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nodeType="clickEffect" fill="hold">
                      <p:stCondLst>
                        <p:cond delay="0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Collapse of the Republ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cchus 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olence used to impose one's wi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i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-election to consulate (many tim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anding arm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ul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umption of dictator po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of the army to override counci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scription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Julius Caesar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100-44 B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arly Li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orn to aristocratic fami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esarian s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egend that he descended from the g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Known for partying and sexual appet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ptured by pirates and held for rans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turned to area and killed pir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ppointed to a series of government jo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atue of Alexan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6" descr="julcaes"/>
          <p:cNvPicPr/>
          <p:nvPr/>
        </p:nvPicPr>
        <p:blipFill>
          <a:blip r:embed="rId1"/>
          <a:srcRect l="0" t="3231" r="6104" b="3231"/>
          <a:stretch/>
        </p:blipFill>
        <p:spPr>
          <a:xfrm>
            <a:off x="7010280" y="228600"/>
            <a:ext cx="190512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nodeType="clickEffect" fill="hold">
                      <p:stCondLst>
                        <p:cond delay="0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Julius Caes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600" y="20574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riumvi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aised for his work in Sp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ppointed governor in Gaul (conques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lliance with Crassus and Pompey to form the triumvirate (not initially, but later elect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ivalry with Pompey after death of Crass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rossing the Rubic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prising in As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eni, vidi, vici—I came, I saw, I conqu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quest of Egy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eopat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6" descr="jcaesar_coin"/>
          <p:cNvPicPr/>
          <p:nvPr/>
        </p:nvPicPr>
        <p:blipFill>
          <a:blip r:embed="rId1"/>
          <a:stretch/>
        </p:blipFill>
        <p:spPr>
          <a:xfrm>
            <a:off x="6248520" y="228600"/>
            <a:ext cx="2590560" cy="25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Julius Caes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turned to Rome as a conquering he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cession for each territory on a different day (Gaul, Africa, Spain, Asia) and games for many additional d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ffered crown (as emperor) twice and refused it when people didn't respond favorab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ctator (rule by one ma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ppointed for 10 years and then for li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esar’s plans for R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lendar (Jul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ibraries, theaters, other public wor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ave citizenship to people in Spain and Ga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Founding of Rome –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The Roman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Georgia"/>
              </a:rPr>
              <a:t>Ra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tale of Aeneas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The Aeneid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ido at Carthage and other travels (like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The Odyssey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istorical ev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ttlements from 1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Verdana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Century B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aeneid"/>
          <p:cNvPicPr/>
          <p:nvPr/>
        </p:nvPicPr>
        <p:blipFill>
          <a:blip r:embed="rId1"/>
          <a:stretch/>
        </p:blipFill>
        <p:spPr>
          <a:xfrm>
            <a:off x="1523880" y="2971800"/>
            <a:ext cx="6019920" cy="37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Julius Caes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8769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urder of Caes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Killed by senatorial op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stigated by his usurpation of power and their fear that he would become empe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ed March 15, 44 B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abbed by 20 sena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rutus—illegitimate 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rk Anthony and Octavi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allied against the conspira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6" descr="romanhist10"/>
          <p:cNvPicPr/>
          <p:nvPr/>
        </p:nvPicPr>
        <p:blipFill>
          <a:blip r:embed="rId1"/>
          <a:stretch/>
        </p:blipFill>
        <p:spPr>
          <a:xfrm>
            <a:off x="5435640" y="1066680"/>
            <a:ext cx="335124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Georgia"/>
              </a:rPr>
              <a:t>Thank You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Collapse of the Republ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iolence used to eliminate enemies and impose one’s wi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racch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-election to consulate (many times) and standing arm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ri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umption of dictator powers, use of the army to override councils, proscription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l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Roman Republ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ome conquered Greece 150 B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omans took on much Greek cul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ods and goddesses parallel each 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ods had Indo-European roo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RomanWorld133BC-display"/>
          <p:cNvPicPr/>
          <p:nvPr/>
        </p:nvPicPr>
        <p:blipFill>
          <a:blip r:embed="rId1"/>
          <a:srcRect l="1453" t="1912" r="1093" b="12539"/>
          <a:stretch/>
        </p:blipFill>
        <p:spPr>
          <a:xfrm>
            <a:off x="304920" y="228600"/>
            <a:ext cx="8534160" cy="64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Conques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ther are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quest over other powers and then direct conquest to subdue the local trib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quest continued through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republic and empire period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7" descr="asterix"/>
          <p:cNvPicPr/>
          <p:nvPr/>
        </p:nvPicPr>
        <p:blipFill>
          <a:blip r:embed="rId1"/>
          <a:stretch/>
        </p:blipFill>
        <p:spPr>
          <a:xfrm>
            <a:off x="6473880" y="3429000"/>
            <a:ext cx="2450880" cy="322884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9"/>
          <p:cNvSpPr/>
          <p:nvPr/>
        </p:nvSpPr>
        <p:spPr>
          <a:xfrm>
            <a:off x="3553200" y="5029200"/>
            <a:ext cx="263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sterix and Obelis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Building an Empi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conom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t enough land to support the peo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armers were needed and respec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quisition of wheat and other foods became a prio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ictory over Carthage provided more 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ome was a consum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ading profits made many Romans ri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tremes of wealth and pover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itizens did not have to pay tax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5" descr="sabine-women"/>
          <p:cNvPicPr/>
          <p:nvPr/>
        </p:nvPicPr>
        <p:blipFill>
          <a:blip r:embed="rId1"/>
          <a:stretch/>
        </p:blipFill>
        <p:spPr>
          <a:xfrm>
            <a:off x="1752480" y="2895480"/>
            <a:ext cx="5067360" cy="37404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Founding of Rome –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The Roman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Georgia"/>
              </a:rPr>
              <a:t>Ra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rs against the Latins (lik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he Illia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pe of the Sabine Wome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Jacques Louis Davi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Founding of Rome –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The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Georgia"/>
              </a:rPr>
              <a:t>City (Kingdom)</a:t>
            </a: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 of Ro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-360" y="1600200"/>
            <a:ext cx="53341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omulus and Rem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atin princess was Vestal virg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aped by Mars, bore twin boy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rdered killed by non-Latin k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uckled by a wol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rew and founded a city (753B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omulus killed Rem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istoric Ev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Etruscans conquered the Romans (non-Latin k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omans eventually overthrew Etruscans and established kingdo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uins of home of king (Romulus?) date from 8</a:t>
            </a:r>
            <a:r>
              <a:rPr b="0" lang="en-US" sz="2000" spc="-1" strike="noStrike" baseline="30000">
                <a:solidFill>
                  <a:srgbClr val="000000"/>
                </a:solidFill>
                <a:latin typeface="Verdana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Century B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dc1"/>
          <p:cNvPicPr/>
          <p:nvPr/>
        </p:nvPicPr>
        <p:blipFill>
          <a:blip r:embed="rId1"/>
          <a:srcRect l="1917" t="11720" r="6006" b="8280"/>
          <a:stretch/>
        </p:blipFill>
        <p:spPr>
          <a:xfrm>
            <a:off x="5257800" y="2362320"/>
            <a:ext cx="3657600" cy="23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al Peri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03848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gan with war of independence from Etruscans (500 B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r heroes exhibit desired qualities of Rom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ratio at the bridge (Oath of the Horatii by Jacques Louis Davi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Stories became legends for Romans throughout their his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are to American War of Independ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al peri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d by 7 k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volted against last king to found the repub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6" descr="The image “http://www.louvre.fr/img/photos/collec/peint/grande/inv3692.jpg” cannot be displayed, because it contains errors."/>
          <p:cNvPicPr/>
          <p:nvPr/>
        </p:nvPicPr>
        <p:blipFill>
          <a:blip r:embed="rId1"/>
          <a:stretch/>
        </p:blipFill>
        <p:spPr>
          <a:xfrm>
            <a:off x="4419720" y="2971800"/>
            <a:ext cx="4724280" cy="36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Georgia"/>
              </a:rPr>
              <a:t>Republican Govern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52280" y="12949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uled by a senate and the peo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PQR= Senate and the People of R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nate (patricians) appointed consuls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(1 yea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reign affairs and the milit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rect access by the people to the cons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ople (plebs) organized by tribes and they elected 10 tribu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overned local affai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ad veto power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individuall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6" descr="SPQR"/>
          <p:cNvPicPr/>
          <p:nvPr/>
        </p:nvPicPr>
        <p:blipFill>
          <a:blip r:embed="rId1"/>
          <a:srcRect l="14584" t="15060" r="13543" b="6683"/>
          <a:stretch/>
        </p:blipFill>
        <p:spPr>
          <a:xfrm>
            <a:off x="5791320" y="4381560"/>
            <a:ext cx="3352680" cy="24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5029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Georgia"/>
              </a:rPr>
              <a:t>Constitution</a:t>
            </a:r>
            <a:br>
              <a:rPr sz="4000"/>
            </a:br>
            <a:r>
              <a:rPr b="1" lang="en-US" sz="4000" spc="-1" strike="noStrike">
                <a:solidFill>
                  <a:srgbClr val="ff0000"/>
                </a:solidFill>
                <a:latin typeface="Georgia"/>
              </a:rPr>
              <a:t>(balanced power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228600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n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ever made laws but advice was accep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ad power to appoint a person to solve a specific problem (He was a "speaker" or "dictator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ppointed censors (moral guardian/rank judg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ppointed govern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Concilium pleb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d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all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the laws (called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plebecite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lected magistrates (administrators) and jud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Comitia Curiata/Centuriata –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lebs and patrici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mmitted the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emporium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(military pow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ll met in the forum (looked over each oth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Pontifex Maxim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ligious lea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senate"/>
          <p:cNvPicPr/>
          <p:nvPr/>
        </p:nvPicPr>
        <p:blipFill>
          <a:blip r:embed="rId1"/>
          <a:stretch/>
        </p:blipFill>
        <p:spPr>
          <a:xfrm>
            <a:off x="5181480" y="152280"/>
            <a:ext cx="3753000" cy="24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0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Govern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parisons with US gover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alance of po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nate and House of Representa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sul (= presiden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ribune (veto pow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urts (independen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ilitary power (?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ensor (?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U"/>
          <p:cNvPicPr/>
          <p:nvPr/>
        </p:nvPicPr>
        <p:blipFill>
          <a:blip r:embed="rId1"/>
          <a:stretch/>
        </p:blipFill>
        <p:spPr>
          <a:xfrm>
            <a:off x="5638680" y="4300560"/>
            <a:ext cx="3276720" cy="23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Georgia"/>
              </a:rPr>
              <a:t>Military Organ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601992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enturies — 100 armed 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eaded by Centurian (from the ran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niples—3 Centu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uld move quickly through difficult terrain (better than phala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dependent decisions (tribun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egions—groups of Manip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6000 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pported by light caval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ip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ath for individual insubord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cimation for coward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8" descr="caesar-m"/>
          <p:cNvPicPr/>
          <p:nvPr/>
        </p:nvPicPr>
        <p:blipFill>
          <a:blip r:embed="rId1"/>
          <a:stretch/>
        </p:blipFill>
        <p:spPr>
          <a:xfrm>
            <a:off x="6324480" y="1295280"/>
            <a:ext cx="2540160" cy="317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02T21:31:48Z</dcterms:created>
  <dc:creator>strongb</dc:creator>
  <dc:description/>
  <dc:language>en-US</dc:language>
  <cp:lastModifiedBy>LEGION</cp:lastModifiedBy>
  <dcterms:modified xsi:type="dcterms:W3CDTF">2017-07-03T09:57:17Z</dcterms:modified>
  <cp:revision>43</cp:revision>
  <dc:subject/>
  <dc:title>Corporate Creativity</dc:title>
</cp:coreProperties>
</file>