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6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9.png" ContentType="image/png"/>
  <Override PartName="/ppt/media/image15.png" ContentType="image/png"/>
  <Override PartName="/ppt/media/image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3BF16-3D5A-4635-9F9E-6CC875D7BB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 Repub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oman Repub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 Expansion (in Ita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quest of Ita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ok 200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nted full or partial citizen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x and legal benef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ed loyalty in conquered Italian ar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asion by King Pyrrhus (pyrrhic victo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 colon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ablished in strategic lo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ablished by trea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oops sent when nee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stoms of the area left int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nies were mostly for trade, with some military purpo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 Expansion (in Ita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quest of Ita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ok 200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nted full or partial citizen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x and legal benef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ed loyalty in conquered Italian ar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asion by King Pyrrhus (pyrrhic victo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 colon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ablished in strategic lo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ablished by trea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oops sent when nee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stoms of the area left int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nies were mostly for trade, with some military purpo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 Expansion (outside Ita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nic W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enicians (Poen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c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nibal attacked R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 of non-Roman Italians(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 Expansion (outside Ita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nic W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enicians (Poen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c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nibal attacked R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 of non-Roman Italians(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 Expansion (outside Ita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quest of the East and W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ies rather than servants or sl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l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ruption in the Greek kingd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states given to the Rom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st, direct attacks with strong determination and disci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numbered in most batt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ctory over Parthia (parthian sho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 Expansion (outside Ita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quest of the East and W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ies rather than servants or sl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l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ruption in the Greek kingd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states given to the Rom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st, direct attacks with strong determination and disci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numbered in most batt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ctory over Parthia (parthian sho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ing an Emp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 of the "empire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ll a republican form of gover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s and bal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parties emerg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mares (conservatives, Cato and Cice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pulares (power to peop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ues (according to the Roma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e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i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ug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gree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eous w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ver q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ing an Emp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 of the "empire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ll a republican form of gover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s and bal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parties emerg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mares (conservatives, Cato and Cice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pulares (power to peop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ues (according to the Roma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e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i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ug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gree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eous w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ver q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ing an Emp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us of Wo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ence of men at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men gained economic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ility to divorce and retain prope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als eventually eroded, in part because home-life ero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ing an Emp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us of Wo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ence of men at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men gained economic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ility to divorce and retain prope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als eventually eroded, in part because home-life ero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ing an Emp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av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quests increas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the number of sl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ituted 40% of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the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ditions were po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s feared slave upri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aves took jobs from the plebs so plebs were given food and other benef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ing an Emp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av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quests increas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the number of sl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ituted 40% of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the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ditions were po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s feared slave upri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aves took jobs from the plebs so plebs were given food and other benef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apse of the Repub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cchus br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olence used to impose one's wi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-election to consulate (many tim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ing ar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l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umption of dictator po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of the army to override counci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scription 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apse of the Repub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cchus br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olence used to impose one's wi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-election to consulate (many tim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ing ar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l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umption of dictator po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of the army to override counci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scription 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ius Caesa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-44 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ly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 to aristocratic famil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esarian s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gend that he descended from the g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n for partying and sexual appet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tured by pirates and held for rans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urned to area and killed pi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ointed to a series of government jo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ue of Alexa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ius Caesa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-44 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ly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 to aristocratic famil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esarian s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gend that he descended from the g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n for partying and sexual appet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tured by pirates and held for rans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urned to area and killed pi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ointed to a series of government jo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ue of Alexa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ius Caes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umvi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ised for his work in Sp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ointed governor in Gaul (conque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iance with Crassus and Pompey to form the triumvirate (not initially, but later elect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valry with Pompey after death of Crass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ssing the Rub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rising in A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i, vidi, vici—I came, I saw, I conque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quest of Egy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eopat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ius Caes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umvi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ised for his work in Sp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ointed governor in Gaul (conque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iance with Crassus and Pompey to form the triumvirate (not initially, but later elect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valry with Pompey after death of Crass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ssing the Rub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rising in A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i, vidi, vici—I came, I saw, I conque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quest of Egy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eopat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ius Caes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urned to Rome as a conquering h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ion for each territory on a different day (Gaul, Africa, Spain, Asia) and games for many additional d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fered crown (as emperor) twice and refused it when people didn't respond favorab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ctator (rule by one ma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ointed for 10 years and then for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esar’s plans for R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endar (Ju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braries, theaters, other public wo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ve citizenship to people in Spain and Gau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ius Caes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urned to Rome as a conquering h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ion for each territory on a different day (Gaul, Africa, Spain, Asia) and games for many additional d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fered crown (as emperor) twice and refused it when people didn't respond favorab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ctator (rule by one ma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ointed for 10 years and then for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esar’s plans for R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endar (Ju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braries, theaters, other public wo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ve citizenship to people in Spain and Gau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ing of Rome –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oman R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ale of Aeneas (The Aene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do at Carthage and other travels (like The Odysse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ical evi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tlements from 11th Century 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ing of Rome –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oman R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ale of Aeneas (The Aene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do at Carthage and other travels (like The Odysse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ical evi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tlements from 11th Century 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ius Caes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rder of Caes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lled by senatorial oppon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igated by his usurpation of power and their fear that he would become emper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d March 15, 44 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bbed by 20 sen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utus—illegitimate 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k Anthony and Octavi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llied against the conspir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ius Caes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rder of Caes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lled by senatorial oppon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igated by his usurpation of power and their fear that he would become emper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d March 15, 44 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bbed by 20 sen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utus—illegitimate 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k Anthony and Octavi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llied against the conspir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apse of the Repub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olence used to eliminate enemies and impose one’s wi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cch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-election to consulate (many times) and standing ar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umption of dictator powers, use of the army to override councils, proscription 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l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apse of the Repub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olence used to eliminate enemies and impose one’s wi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cch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-election to consulate (many times) and standing ar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umption of dictator powers, use of the army to override councils, proscription 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l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 Repub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e conquered Greece 150 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s took on much Greek 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s and goddesses parallel each 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s had Indo-European roo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 Repub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e conquered Greece 150 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s took on much Greek 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s and goddesses parallel each 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s had Indo-European roo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qu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ar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quest over other powers and then direct conquest to subdue the local tri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quest continued through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republic and empire perio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sterix and Obelis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qu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ar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quest over other powers and then direct conquest to subdue the local tri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quest continued through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republic and empire perio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sterix and Obelis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ing an Emp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onom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enough land to support the peo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rmers were needed and resp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quisition of wheat and other foods became a prio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ctory over Carthage provided more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e was a consu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ding profits made many Romans ri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remes of wealth and pove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tizens did not have to pay ta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ing an Emp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onom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enough land to support the peo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rmers were needed and resp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quisition of wheat and other foods became a prio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ctory over Carthage provided more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e was a consu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ding profits made many Romans ri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remes of wealth and pove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tizens did not have to pay ta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ing of Rome –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oman R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s against the Latins (like The Illia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pe of the Sabine Women (Jacques Louis Dav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ing of Rome –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oman R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s against the Latins (like The Illia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pe of the Sabine Women (Jacques Louis Dav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ing of Rome –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ity (Kingdom) of R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ulus and Rem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in princess was Vestal vir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ped by Mars, bore twin boy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dered killed by non-Latin k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kled by a wo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w and founded a city (753B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ulus killed Rem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ic Evi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truscans conquered the Romans (non-Latin k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s eventually overthrew Etruscans and established kingdo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ins of home of king (Romulus?) date from 8th Century 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ing of Rome –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ity (Kingdom) of R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ulus and Rem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in princess was Vestal vir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ped by Mars, bore twin boy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dered killed by non-Latin k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kled by a wo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w and founded a city (753B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ulus killed Rem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ic Evi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truscans conquered the Romans (non-Latin k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s eventually overthrew Etruscans and established kingdo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ins of home of king (Romulus?) date from 8th Century 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al Peri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an with war of independence from Etruscans (500 B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 heroes exhibit desired qualities of Rom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ratio at the bridge (Oath of the Horatii by Jacques Louis Dav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ries became legends for Romans throughout their hi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e to American War of Indepen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al peri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led by 7 k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olted against last king to found the repub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al Peri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an with war of independence from Etruscans (500 B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 heroes exhibit desired qualities of Rom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ratio at the bridge (Oath of the Horatii by Jacques Louis Dav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ries became legends for Romans throughout their hi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e to American War of Indepen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al peri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led by 7 k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olted against last king to found the repub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ublican Gover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led by a senate and the peo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QR= Senate and the People of R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ate (patricians) appointed consuls (1 yea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eign affairs and the milit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rect access by the people to the consu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ople (plebs) organized by tribes and they elected 10 tribu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verned local aff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d veto power (individual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ublican Gover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led by a senate and the peo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QR= Senate and the People of R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ate (patricians) appointed consuls (1 yea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eign affairs and the milit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rect access by the people to the consu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ople (plebs) organized by tribes and they elected 10 tribu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verned local aff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d veto power (individual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itu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alanced pow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ver made laws but advice was accep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d power to appoint a person to solve a specific problem (He was a "speaker" or "dictator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ointed censors (moral guardian/rank judg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ointed govern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ilium pleb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all the laws (called plebecit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ed magistrates (administrators) and jud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itia Curiata/Centuriata – plebs and patric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itted the emporium (military pow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met in the forum (looked over each oth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ntifex Maxim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igious l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itu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alanced pow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ver made laws but advice was accep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d power to appoint a person to solve a specific problem (He was a "speaker" or "dictator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ointed censors (moral guardian/rank judg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ointed govern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ilium pleb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all the laws (called plebecit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ed magistrates (administrators) and jud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itia Curiata/Centuriata – plebs and patric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itted the emporium (military pow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met in the forum (looked over each oth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ntifex Maxim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igious l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ver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isons with US gover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e of 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ate and House of Representa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ul (= presid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bune (veto pow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rts (independ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litary power (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sor (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ver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isons with US gover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e of 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ate and House of Representa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ul (= presid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bune (veto pow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rts (independ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litary power (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sor (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litary Organ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turies — 100 armed 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ed by Centurian (from the rank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iples—3 Centu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move quickly through difficult terrain (better than phalan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ependent decisions (tribun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gions—groups of Mani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000 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ed by light caval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i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ath for individual insubord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imation for coward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litary Organ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turies — 100 armed 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ed by Centurian (from the rank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iples—3 Centu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move quickly through difficult terrain (better than phalan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ependent decisions (tribun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gions—groups of Mani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000 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ed by light caval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i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ath for individual insubord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imation for coward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1F70-0B8C-4254-94F0-F9F9DBC35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4BF3-85C6-4C1A-BDF1-66C8B886B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16B0-2197-42A0-8616-191B0B555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9BFE-A560-4C3B-B122-768A2AB2F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9141-D3BD-4D86-9CFB-96690D7B6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EEEE-5D28-4BE3-B4CE-363455353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E1DE-0E09-4655-AAA7-130AF9ADB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80CB-3A6E-43A3-A1EB-30AB6B1AF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3B9A-618D-4096-8A5F-E51F4E2B7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8895-9969-486F-AE90-8534898DD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61B6-CD14-467C-AABB-4F159E184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5674-96BA-49FF-BD65-ED9903ABB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BA9D9-5B82-423D-8F5B-5E3B2B3563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Roman Republ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spqr"/>
          <p:cNvPicPr/>
          <p:nvPr/>
        </p:nvPicPr>
        <p:blipFill>
          <a:blip r:embed="rId1"/>
          <a:stretch/>
        </p:blipFill>
        <p:spPr>
          <a:xfrm>
            <a:off x="1828800" y="2514600"/>
            <a:ext cx="5562720" cy="38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Roman Expansion (in Italy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3848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quest of Ita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ook 200 y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Granted full or partial citizen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ax and legal benef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veloped loyalty in conquered Italian are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vasion by King Pyrrhus (pyrrhic victo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oman colon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stablished in strategic lo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stablished by trea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oops sent when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ustoms of the area left int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lonies were mostly for trade, with some military purpo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2" descr="exp1"/>
          <p:cNvPicPr/>
          <p:nvPr/>
        </p:nvPicPr>
        <p:blipFill>
          <a:blip r:embed="rId1"/>
          <a:stretch/>
        </p:blipFill>
        <p:spPr>
          <a:xfrm>
            <a:off x="4800600" y="990720"/>
            <a:ext cx="3962520" cy="26542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5" descr="exp5"/>
          <p:cNvPicPr/>
          <p:nvPr/>
        </p:nvPicPr>
        <p:blipFill>
          <a:blip r:embed="rId2"/>
          <a:stretch/>
        </p:blipFill>
        <p:spPr>
          <a:xfrm>
            <a:off x="4724280" y="3886200"/>
            <a:ext cx="4038840" cy="27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oman Expansion (outside Italy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581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nic W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oenicians (Poen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c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nibal attacked R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Help of non-Roman Italians(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7" descr="map_punic_wars.gif"/>
          <p:cNvPicPr/>
          <p:nvPr/>
        </p:nvPicPr>
        <p:blipFill>
          <a:blip r:embed="rId1"/>
          <a:stretch/>
        </p:blipFill>
        <p:spPr>
          <a:xfrm>
            <a:off x="3809880" y="1195560"/>
            <a:ext cx="5334120" cy="39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oman Expansion (outside Italy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quest of the East and 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lies rather than servants or sla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ol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ruption in the Greek kingdo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states given to the Rom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Fast, direct attacks with strong determination and discip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numbered in most batt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ctory over Parthia (parthian sho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exp12"/>
          <p:cNvPicPr/>
          <p:nvPr/>
        </p:nvPicPr>
        <p:blipFill>
          <a:blip r:embed="rId1"/>
          <a:stretch/>
        </p:blipFill>
        <p:spPr>
          <a:xfrm>
            <a:off x="4114800" y="1676520"/>
            <a:ext cx="5029200" cy="33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Building an Empi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ructure of the "empire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ill a republican form of gover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hecks and bala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wo parties emerg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ptimares (conservatives, Cato and Cicer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opulares (power to peop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am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lues (according to the Roma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ie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scip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rug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t gree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ighteous w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ver qu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7" descr="cato"/>
          <p:cNvPicPr/>
          <p:nvPr/>
        </p:nvPicPr>
        <p:blipFill>
          <a:blip r:embed="rId1"/>
          <a:stretch/>
        </p:blipFill>
        <p:spPr>
          <a:xfrm>
            <a:off x="7086600" y="3352680"/>
            <a:ext cx="185724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Building an Empi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943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atus of Wo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bsence of men at w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omen gained economic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p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bility to divorce and retain proper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rals eventually eroded, in part because home-life ero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7" descr="girl_peplos2"/>
          <p:cNvPicPr/>
          <p:nvPr/>
        </p:nvPicPr>
        <p:blipFill>
          <a:blip r:embed="rId1"/>
          <a:stretch/>
        </p:blipFill>
        <p:spPr>
          <a:xfrm>
            <a:off x="6400800" y="1219320"/>
            <a:ext cx="252396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Building an Empi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la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quests increased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           the number of sla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stituted 40% of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   the pop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ditions were po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omans feared slave upri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laves took jobs from the plebs so plebs were given food and other benef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7" descr="slaves2"/>
          <p:cNvPicPr/>
          <p:nvPr/>
        </p:nvPicPr>
        <p:blipFill>
          <a:blip r:embed="rId1"/>
          <a:srcRect l="0" t="2520" r="0" b="4401"/>
          <a:stretch/>
        </p:blipFill>
        <p:spPr>
          <a:xfrm>
            <a:off x="5257800" y="1676520"/>
            <a:ext cx="3733920" cy="26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0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Collapse of the Republ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cchus 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olence used to impose one's wi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i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-election to consulate (many tim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nding ar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ul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umption of dictator po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of the army to override counc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scription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Julius Caesar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100-44 B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arly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orn to aristocratic fami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esarian s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gend that he descended from the g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nown for partying and sexual appet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ptured by pirates and held for rans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turned to area and killed pir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ppointed to a series of government jo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tue of Alexan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julcaes"/>
          <p:cNvPicPr/>
          <p:nvPr/>
        </p:nvPicPr>
        <p:blipFill>
          <a:blip r:embed="rId1"/>
          <a:srcRect l="0" t="3231" r="6104" b="3231"/>
          <a:stretch/>
        </p:blipFill>
        <p:spPr>
          <a:xfrm>
            <a:off x="7010280" y="228600"/>
            <a:ext cx="190512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0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Julius Caes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20574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iumvi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aised for his work in Sp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ppointed governor in Gaul (conque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liance with Crassus and Pompey to form the triumvirate (not initially, but later elect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ivalry with Pompey after death of Crass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rossing the Rubic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prising in As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eni, vidi, vici—I came, I saw, I conqu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quest of Egy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eopat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6" descr="jcaesar_coin"/>
          <p:cNvPicPr/>
          <p:nvPr/>
        </p:nvPicPr>
        <p:blipFill>
          <a:blip r:embed="rId1"/>
          <a:stretch/>
        </p:blipFill>
        <p:spPr>
          <a:xfrm>
            <a:off x="6248520" y="228600"/>
            <a:ext cx="2590560" cy="25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Julius Caes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turned to Rome as a conquering h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cession for each territory on a different day (Gaul, Africa, Spain, Asia) and games for many additional d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ffered crown (as emperor) twice and refused it when people didn't respond favorab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ctator (rule by one ma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ppointed for 10 years and then for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esar’s plans for R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lendar (Ju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braries, theaters, other public 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ave citizenship to people in Spain and Ga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Founding of Rome –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The Roman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Georgia"/>
              </a:rPr>
              <a:t>R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tale of Aeneas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The Aenei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do at Carthage and other travels (like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The Odysse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istorical ev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ttlements from 1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Century 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aeneid"/>
          <p:cNvPicPr/>
          <p:nvPr/>
        </p:nvPicPr>
        <p:blipFill>
          <a:blip r:embed="rId1"/>
          <a:stretch/>
        </p:blipFill>
        <p:spPr>
          <a:xfrm>
            <a:off x="1523880" y="2971800"/>
            <a:ext cx="6019920" cy="37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Julius Caes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8769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rder of Caes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Killed by senatorial op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stigated by his usurpation of power and their fear that he would become empe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ed March 15, 44 B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bbed by 20 sen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rutus—illegitimate 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rk Anthony and Octavi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allied against the conspir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" descr="romanhist10"/>
          <p:cNvPicPr/>
          <p:nvPr/>
        </p:nvPicPr>
        <p:blipFill>
          <a:blip r:embed="rId1"/>
          <a:stretch/>
        </p:blipFill>
        <p:spPr>
          <a:xfrm>
            <a:off x="5435640" y="1066680"/>
            <a:ext cx="335124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Georgia"/>
              </a:rPr>
              <a:t>Thank Yo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Collapse of the Republ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iolence used to eliminate enemies and impose one’s wi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racch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-election to consulate (many times) and standing ar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ri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umption of dictator powers, use of the army to override councils, proscription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l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Roman Republ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ome conquered Greece 150 B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omans took on much Greek cul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ds and goddesses parallel each 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ds had Indo-European roo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RomanWorld133BC-display"/>
          <p:cNvPicPr/>
          <p:nvPr/>
        </p:nvPicPr>
        <p:blipFill>
          <a:blip r:embed="rId1"/>
          <a:srcRect l="1453" t="1912" r="1093" b="12539"/>
          <a:stretch/>
        </p:blipFill>
        <p:spPr>
          <a:xfrm>
            <a:off x="304920" y="228600"/>
            <a:ext cx="8534160" cy="64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Conque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ther ar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quest over other powers and then direct conquest to subdue the local trib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quest continued through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republic and empire period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7" descr="asterix"/>
          <p:cNvPicPr/>
          <p:nvPr/>
        </p:nvPicPr>
        <p:blipFill>
          <a:blip r:embed="rId1"/>
          <a:stretch/>
        </p:blipFill>
        <p:spPr>
          <a:xfrm>
            <a:off x="6473880" y="3429000"/>
            <a:ext cx="2450880" cy="322884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9"/>
          <p:cNvSpPr/>
          <p:nvPr/>
        </p:nvSpPr>
        <p:spPr>
          <a:xfrm>
            <a:off x="3553200" y="5029200"/>
            <a:ext cx="263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sterix and Obelis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Building an Empi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conom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t enough land to support the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armers were needed and resp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quisition of wheat and other foods became a prio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ictory over Carthage provided more 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ome was a consu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ding profits made many Romans ri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tremes of wealth and pove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itizens did not have to pay tax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sabine-women"/>
          <p:cNvPicPr/>
          <p:nvPr/>
        </p:nvPicPr>
        <p:blipFill>
          <a:blip r:embed="rId1"/>
          <a:stretch/>
        </p:blipFill>
        <p:spPr>
          <a:xfrm>
            <a:off x="1752480" y="2895480"/>
            <a:ext cx="5067360" cy="37404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Founding of Rome –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The Roman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Georgia"/>
              </a:rPr>
              <a:t>R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rs against the Latins (lik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he Illia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pe of the Sabine Wome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Jacques Louis Davi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Founding of Rome –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The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Georgia"/>
              </a:rPr>
              <a:t>City (Kingdom)</a:t>
            </a: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 of Ro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53341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omulus and Rem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atin princess was Vestal vir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aped by Mars, bore twin boy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dered killed by non-Latin k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ckled by a wol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rew and founded a city (753B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omulus killed Rem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istoric Ev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Etruscans conquered the Romans (non-Latin k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omans eventually overthrew Etruscans and established kingd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uins of home of king (Romulus?) date from 8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Century 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dc1"/>
          <p:cNvPicPr/>
          <p:nvPr/>
        </p:nvPicPr>
        <p:blipFill>
          <a:blip r:embed="rId1"/>
          <a:srcRect l="1917" t="11720" r="6006" b="8280"/>
          <a:stretch/>
        </p:blipFill>
        <p:spPr>
          <a:xfrm>
            <a:off x="5257800" y="2362320"/>
            <a:ext cx="3657600" cy="23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al Peri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03848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gan with war of independence from Etruscans (500 B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r heroes exhibit desired qualities of Rom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ratio at the bridge (Oath of the Horatii by Jacques Louis Davi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tories became legends for Romans throughout their his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re to American War of Independ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al peri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d by 7 k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olted against last king to found the repub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6" descr="The image “http://www.louvre.fr/img/photos/collec/peint/grande/inv3692.jpg” cannot be displayed, because it contains errors."/>
          <p:cNvPicPr/>
          <p:nvPr/>
        </p:nvPicPr>
        <p:blipFill>
          <a:blip r:embed="rId1"/>
          <a:stretch/>
        </p:blipFill>
        <p:spPr>
          <a:xfrm>
            <a:off x="4419720" y="2971800"/>
            <a:ext cx="472428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Georgia"/>
              </a:rPr>
              <a:t>Republican Gover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uled by a senate and the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QR= Senate and the People of R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nate (patricians) appointed consuls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(1 yea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eign affairs and the milit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rect access by the people to the cons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ople (plebs) organized by tribes and they elected 10 tribu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overned local affai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d veto power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individual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SPQR"/>
          <p:cNvPicPr/>
          <p:nvPr/>
        </p:nvPicPr>
        <p:blipFill>
          <a:blip r:embed="rId1"/>
          <a:srcRect l="14584" t="15060" r="13543" b="6683"/>
          <a:stretch/>
        </p:blipFill>
        <p:spPr>
          <a:xfrm>
            <a:off x="5791320" y="4381560"/>
            <a:ext cx="335268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5029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Georgia"/>
              </a:rPr>
              <a:t>Constitution</a:t>
            </a:r>
            <a:br>
              <a:rPr sz="4000"/>
            </a:br>
            <a:r>
              <a:rPr b="1" lang="en-US" sz="4000" spc="-1" strike="noStrike">
                <a:solidFill>
                  <a:srgbClr val="ff0000"/>
                </a:solidFill>
                <a:latin typeface="Georgia"/>
              </a:rPr>
              <a:t>(balanced power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228600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n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ver made laws but advice was accep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ad power to appoint a person to solve a specific problem (He was a "speaker" or "dictator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ppointed censors (moral guardian/rank jud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ppointed govern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Concilium pleb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d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all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the laws (called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plebecite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lected magistrates (administrators) and jud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Comitia Curiata/Centuriata –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lebs and patrici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mitted the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emporium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(military pow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l met in the forum (looked over each oth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Pontifex Maxim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ligious lea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senate"/>
          <p:cNvPicPr/>
          <p:nvPr/>
        </p:nvPicPr>
        <p:blipFill>
          <a:blip r:embed="rId1"/>
          <a:stretch/>
        </p:blipFill>
        <p:spPr>
          <a:xfrm>
            <a:off x="5181480" y="152280"/>
            <a:ext cx="3753000" cy="24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0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Gover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arisons with US gover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alance of p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nate and House of Representa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sul (= presid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ibune (veto pow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urts (independ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ilitary power (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ensor (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U"/>
          <p:cNvPicPr/>
          <p:nvPr/>
        </p:nvPicPr>
        <p:blipFill>
          <a:blip r:embed="rId1"/>
          <a:stretch/>
        </p:blipFill>
        <p:spPr>
          <a:xfrm>
            <a:off x="5638680" y="4300560"/>
            <a:ext cx="3276720" cy="23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Georgia"/>
              </a:rPr>
              <a:t>Military Organ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60199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enturies — 100 armed 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aded by Centurian (from the ran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iples—3 Centu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uld move quickly through difficult terrain (better than phala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dependent decisions (tribun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egions—groups of Mani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6000 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pported by light caval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ip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ath for individual insubord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cimation for coward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8" descr="caesar-m"/>
          <p:cNvPicPr/>
          <p:nvPr/>
        </p:nvPicPr>
        <p:blipFill>
          <a:blip r:embed="rId1"/>
          <a:stretch/>
        </p:blipFill>
        <p:spPr>
          <a:xfrm>
            <a:off x="6324480" y="1295280"/>
            <a:ext cx="2540160" cy="31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2T21:31:48Z</dcterms:created>
  <dc:creator>strongb</dc:creator>
  <dc:description/>
  <dc:language>en-US</dc:language>
  <cp:lastModifiedBy>LEGION</cp:lastModifiedBy>
  <dcterms:modified xsi:type="dcterms:W3CDTF">2017-07-03T09:57:17Z</dcterms:modified>
  <cp:revision>43</cp:revision>
  <dc:subject/>
  <dc:title>Corporate Creativity</dc:title>
</cp:coreProperties>
</file>