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49E1-714C-488E-BD32-50FC4234D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witz, Tony. Let’s Bury Reaganomics With It’s Founder. 8 June 2004.  26 December 2008. http://www.commondreams.org/views04/0608-13.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B.  Arthur. The Laffer Curve: Past, Present, and Future. 1 June 2004. http://www.heritage.org/Research/Taxes/bg1765.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Rebecca. The Handy History Answer Book. Canton, Michigan: Visible Ink Press,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ikipedia. 23 December 2008. 24 December 2008. http://en.wikipedia.org/wiki/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 29 March 2005. 6 January 2009. http://lvb.net/item/8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Richard. President Reagan: The Triumph of Imagination. New York: Simon &amp; Schuster Paperbacks,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witz, Tony. Let’s Bury Reaganomics With It’s Founder. 8 June 2004.  26 December 2008. http://www.commondreams.org/views04/0608-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B.  Arthur. The Laffer Curve: Past, Present, and Future. 1 June 2004. http://www.heritage.org/Research/Taxes/bg1765.cf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Rebecca. The Handy History Answer Book. Canton, Michigan: Visible Ink Press, 199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ikipedia. 23 December 2008. 24 December 2008. http://en.wikipedia.org/wiki/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 29 March 2005. 6 January 2009. http://lvb.net/item/8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Richard. President Reagan: The Triumph of Imagination. New York: Simon &amp; Schuster Paperbacks,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enour, Amy. Reaganomics: Were the 1980s the Decade of Greed?. 8 January 2004. http://www.nationalcenter.org/WCT010804.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Carter. Presidents: All You Need to Know. New York: Hylas Publishing, 2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ion: Reaganomics Finally Trickles Down To Area Man. 22 October 2007.  26 December 2008.  http://dialogic.blogspot.com/2007/10/onion-reaganomics-finally-trickles-down.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enour, Amy. Reaganomics: Were the 1980s the Decade of Greed?. 8 January 2004. http://www.nationalcenter.org/WCT010804.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Carter. Presidents: All You Need to Know. New York: Hylas Publishing,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ion: Reaganomics Finally Trickles Down To Area Man. 22 October 2007.  26 December 2008.  http://dialogic.blogspot.com/2007/10/onion-reaganomics-finally-trickles-down.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reagan2020.us/images/1982ReaganomicsTime.jpg .  Reaganomics Time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capitolstreet.files.wordpress.com/2008/06/stagflation.gif . Stagflation Cartoon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marketoracle.co.uk/images/united_states_rebate_check.jpg. Trickle dow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images.google.com/imgres?imgurl=http://bp3.blogger.com/ . Stagflation Cartoon#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heritage.org/Research/Taxes/images/35038257.gif . Laffer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SDMksN-ZTR4&amp;feature=related . Reagan Video #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GhgiOSgBEYY. Reagan Vide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December 2008. http://www.archives.gov/press/press-kits/picturing-the-century-photos/images/reagan-at-durenberger-rally.jpg . Reagan with the Flag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www.tea.state.tx.us/student.assessment/resources/online/eoc00/ushistory/p28no40.gif. Reaga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blogs.e-rockford.com/applesauce/files/2008/07/1a1.jpg . Reagan Thumbs Up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timesonline.typepad.com/comment/images/bill_clinton_at_the_labour_party_confere.jpg.  Clinto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i272.photobucket.com/albums/jj183/laughtech/Page_1-30.jpg . Clinto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img.photobucket.com/albums/v423/meh_cd/06_podborka_09.jpg. Horowitz view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worldhum.com/images/c_uploads/TonyHorwitz_225.jpg. Picture of 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chud.com/nextraimages/RobinHoodFreudian.jpg. Picture of The King from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disneythemes.com/disney-robin-hood/disney-robin-hood-wallpapers-preview.jpg. Picture of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gfmd-fmmd.org/en/system/files/images/verhofstadt.preview.jpg. Picture of  Guy Verhofstadt, The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lvb.net/item/954. Picture of Reaganomics and how it works 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reagan2020.us/images/1982ReaganomicsTime.jpg .  Reaganomics Time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capitolstreet.files.wordpress.com/2008/06/stagflation.gif . Stagflation Carto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marketoracle.co.uk/images/united_states_rebate_check.jpg. Trickle dow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images.google.com/imgres?imgurl=http://bp3.blogger.com/ . Stagflation Carto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heritage.org/Research/Taxes/images/35038257.gif . Laffer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SDMksN-ZTR4&amp;feature=related . Reagan Video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GhgiOSgBEYY. Reagan Video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December 2008. http://www.archives.gov/press/press-kits/picturing-the-century-photos/images/reagan-at-durenberger-rally.jpg . Reagan with the Flag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www.tea.state.tx.us/student.assessment/resources/online/eoc00/ushistory/p28no40.gif. Reaga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blogs.e-rockford.com/applesauce/files/2008/07/1a1.jpg . Reagan Thumbs Up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timesonline.typepad.com/comment/images/bill_clinton_at_the_labour_party_confere.jpg.  Clinto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i272.photobucket.com/albums/jj183/laughtech/Page_1-30.jpg . Clinto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img.photobucket.com/albums/v423/meh_cd/06_podborka_09.jpg. Horowitz view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worldhum.com/images/c_uploads/TonyHorwitz_225.jpg. Picture of 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chud.com/nextraimages/RobinHoodFreudian.jpg. Picture of The King from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disneythemes.com/disney-robin-hood/disney-robin-hood-wallpapers-preview.jpg. Picture of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gfmd-fmmd.org/en/system/files/images/verhofstadt.preview.jpg. Picture of  Guy Verhofstadt, The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lvb.net/item/954. Picture of Reaganomics and how it works 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A04B7-9E8E-478E-8890-C887061FC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2E692-5C2A-45A2-A8D7-896CDE575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AA3D5-0308-4FA2-8A58-629AAE41A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9048E-19EB-4620-917A-3354F136A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FF352-4C17-4A28-AFE4-AFB0627B7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E6B5F-71E1-44F1-B077-16C2A5E5A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83923-82AD-40E6-8C00-91EFA0FA9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9F956-69C2-4C16-A30D-80E13E507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B3B6D-79B8-4912-9F5B-BA344AEB1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588C1-43FA-4890-AF34-30E587543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0AF89-BE87-4C2A-91E9-0103DDDCB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80BBF-400D-4B07-B9C8-54641A978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469C-0AE1-4E69-96FA-769DC2643E65}"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hyperlink" Target="http://en.wikipedia.org/wiki/Windfall_profits_tax" TargetMode="External"/><Relationship Id="rId4" Type="http://schemas.openxmlformats.org/officeDocument/2006/relationships/hyperlink" Target="http://en.wikipedia.org/wiki/1979_energy_crisis" TargetMode="External"/><Relationship Id="rId5" Type="http://schemas.openxmlformats.org/officeDocument/2006/relationships/hyperlink" Target="http://en.wikipedia.org/wiki/Windfall_profits_tax" TargetMode="External"/><Relationship Id="rId6" Type="http://schemas.openxmlformats.org/officeDocument/2006/relationships/hyperlink" Target="http://en.wikipedia.org/wiki/1980s_oil_glut" TargetMode="External"/><Relationship Id="rId7" Type="http://schemas.openxmlformats.org/officeDocument/2006/relationships/hyperlink" Target="http://en.wikipedia.org/wiki/Tax_Reform_Act_of_1986" TargetMode="External"/><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wikipedia.org/wiki/Gross_Domestic_Product" TargetMode="External"/><Relationship Id="rId2" Type="http://schemas.openxmlformats.org/officeDocument/2006/relationships/hyperlink" Target="http://en.wikipedia.org/wiki/World_War_II"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n.wikipedia.org/wiki/Trickle-down_economics" TargetMode="External"/><Relationship Id="rId3" Type="http://schemas.openxmlformats.org/officeDocument/2006/relationships/hyperlink" Target="http://en.wikipedia.org/wiki/Cold_War" TargetMode="External"/><Relationship Id="rId4" Type="http://schemas.openxmlformats.org/officeDocument/2006/relationships/hyperlink" Target="http://en.wikipedia.org/wiki/Savings_and_Loan_crisis" TargetMode="External"/><Relationship Id="rId5" Type="http://schemas.openxmlformats.org/officeDocument/2006/relationships/hyperlink" Target="http://en.wikipedia.org/wiki/United_States" TargetMode="External"/><Relationship Id="rId6" Type="http://schemas.openxmlformats.org/officeDocument/2006/relationships/hyperlink" Target="http://en.wikipedia.org/wiki/National_debt" TargetMode="Externa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ommondreams.org/views04/0608-13.htm" TargetMode="External"/><Relationship Id="rId2" Type="http://schemas.openxmlformats.org/officeDocument/2006/relationships/hyperlink" Target="http://www.heritage.org/Research/Taxes/bg1765.cfm" TargetMode="External"/><Relationship Id="rId3" Type="http://schemas.openxmlformats.org/officeDocument/2006/relationships/hyperlink" Target="http://en.wikipedia.org/wiki/Reaganomics" TargetMode="External"/><Relationship Id="rId4" Type="http://schemas.openxmlformats.org/officeDocument/2006/relationships/hyperlink" Target="http://lvb.net/item/820" TargetMode="External"/><Relationship Id="rId5" Type="http://schemas.openxmlformats.org/officeDocument/2006/relationships/hyperlink" Target="http://robot-heart.tumblr.com/post/44868981/reaganomics-wealth-redistribution-and-corporate" TargetMode="External"/><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nationalcenter.org/WCT010804.html" TargetMode="External"/><Relationship Id="rId2" Type="http://schemas.openxmlformats.org/officeDocument/2006/relationships/hyperlink" Target="http://demopedia.democraticunderground.com/discuss/duboard.php?az=show_mesg&amp;forum=296&amp;topic_id=7858&amp;mesg_id=7858" TargetMode="External"/><Relationship Id="rId3" Type="http://schemas.openxmlformats.org/officeDocument/2006/relationships/hyperlink" Target="http://dialogic.blogspot.com/2007/10/onion-reaganomics-finally-trickles-down.html" TargetMode="Externa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reagan2020.us/images/1982ReaganomicsTime.jpg" TargetMode="External"/><Relationship Id="rId2" Type="http://schemas.openxmlformats.org/officeDocument/2006/relationships/hyperlink" Target="http://capitolstreet.files.wordpress.com/2008/06/stagflation.gif" TargetMode="External"/><Relationship Id="rId3" Type="http://schemas.openxmlformats.org/officeDocument/2006/relationships/hyperlink" Target="http://www.marketoracle.co.uk/images/united_states_rebate_check.jpg" TargetMode="External"/><Relationship Id="rId4" Type="http://schemas.openxmlformats.org/officeDocument/2006/relationships/hyperlink" Target="http://images.google.com/imgres?imgurl=http://bp3.blogger.com/" TargetMode="External"/><Relationship Id="rId5" Type="http://schemas.openxmlformats.org/officeDocument/2006/relationships/hyperlink" Target="http://www.heritage.org/Research/Taxes/images/35038257.gif" TargetMode="External"/><Relationship Id="rId6" Type="http://schemas.openxmlformats.org/officeDocument/2006/relationships/hyperlink" Target="http://www.youtube.com/watch?v=SDMksN-ZTR4&amp;feature=related" TargetMode="External"/><Relationship Id="rId7" Type="http://schemas.openxmlformats.org/officeDocument/2006/relationships/hyperlink" Target="http://www.youtube.com/watch?v=GhgiOSgBEYY" TargetMode="External"/><Relationship Id="rId8" Type="http://schemas.openxmlformats.org/officeDocument/2006/relationships/hyperlink" Target="http://www.archives.gov/press/press-kits/picturing-the-century-photos/images/reagan-at-durenberger-rally.jpg" TargetMode="External"/><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a:t>
            </a:r>
            <a:r>
              <a:rPr b="0" lang="en-US" sz="2800" spc="-1" strike="noStrike" u="sng">
                <a:solidFill>
                  <a:srgbClr val="0066cc"/>
                </a:solidFill>
                <a:uFillTx/>
                <a:latin typeface="Impact"/>
                <a:hlinkClick r:id="rId3"/>
              </a:rPr>
              <a:t>Windfall profits tax</a:t>
            </a:r>
            <a:r>
              <a:rPr b="0" lang="en-US" sz="2800" spc="-1" strike="noStrike">
                <a:solidFill>
                  <a:srgbClr val="000000"/>
                </a:solidFill>
                <a:latin typeface="Impact"/>
              </a:rPr>
              <a:t>  in August 1981, helping end the </a:t>
            </a:r>
            <a:r>
              <a:rPr b="0" lang="en-US" sz="2800" spc="-1" strike="noStrike" u="sng">
                <a:solidFill>
                  <a:srgbClr val="0066cc"/>
                </a:solidFill>
                <a:uFillTx/>
                <a:latin typeface="Impact"/>
                <a:hlinkClick r:id="rId4"/>
              </a:rPr>
              <a:t>1979 energy crisis</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a:t>
            </a:r>
            <a:r>
              <a:rPr b="0" lang="en-US" sz="2800" spc="-1" strike="noStrike" u="sng">
                <a:solidFill>
                  <a:srgbClr val="0066cc"/>
                </a:solidFill>
                <a:uFillTx/>
                <a:latin typeface="Impact"/>
                <a:hlinkClick r:id="rId5"/>
              </a:rPr>
              <a:t>Windfall profits tax</a:t>
            </a:r>
            <a:r>
              <a:rPr b="0" lang="en-US" sz="2800" spc="-1" strike="noStrike">
                <a:solidFill>
                  <a:srgbClr val="000000"/>
                </a:solidFill>
                <a:latin typeface="Impact"/>
              </a:rPr>
              <a:t> in 1988 during </a:t>
            </a:r>
            <a:r>
              <a:rPr b="0" lang="en-US" sz="2800" spc="-1" strike="noStrike" u="sng">
                <a:solidFill>
                  <a:srgbClr val="0066cc"/>
                </a:solidFill>
                <a:uFillTx/>
                <a:latin typeface="Impact"/>
                <a:hlinkClick r:id="rId6"/>
              </a:rPr>
              <a:t>1980s oil glut</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7"/>
              </a:rPr>
              <a:t>Tax Reform Act of 1986</a:t>
            </a:r>
            <a:r>
              <a:rPr b="0" lang="en-US" sz="2800" spc="-1" strike="noStrike">
                <a:solidFill>
                  <a:srgbClr val="000000"/>
                </a:solidFill>
                <a:latin typeface="Impact"/>
              </a:rPr>
              <a:t>, Reagan and Congress sought to broaden the tax base and reduce perceived tax favoritism</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a:t>
            </a:r>
            <a:r>
              <a:rPr b="0" lang="en-US" sz="2400" spc="-1" strike="noStrike" u="sng">
                <a:solidFill>
                  <a:srgbClr val="0066cc"/>
                </a:solidFill>
                <a:uFillTx/>
                <a:latin typeface="Impact"/>
                <a:hlinkClick r:id="rId1"/>
              </a:rPr>
              <a:t>Gross Domestic Product</a:t>
            </a:r>
            <a:r>
              <a:rPr b="0" lang="en-US" sz="2400" spc="-1" strike="noStrike">
                <a:solidFill>
                  <a:srgbClr val="000000"/>
                </a:solidFill>
                <a:latin typeface="Impact"/>
              </a:rPr>
              <a:t> (GDP) growth recovered strongly after the 1982 recession  at annual rate of 3.4% per year slightly lower than post-</a:t>
            </a:r>
            <a:r>
              <a:rPr b="0" lang="en-US" sz="2400" spc="-1" strike="noStrike" u="sng">
                <a:solidFill>
                  <a:srgbClr val="0066cc"/>
                </a:solidFill>
                <a:uFillTx/>
                <a:latin typeface="Impact"/>
                <a:hlinkClick r:id="rId2"/>
              </a:rPr>
              <a:t>World War II</a:t>
            </a:r>
            <a:r>
              <a:rPr b="0" lang="en-US" sz="2400" spc="-1" strike="noStrike">
                <a:solidFill>
                  <a:srgbClr val="000000"/>
                </a:solidFill>
                <a:latin typeface="Impact"/>
              </a:rPr>
              <a:t> average of 3.6%</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a:t>
            </a:r>
            <a:r>
              <a:rPr b="0" lang="en-US" sz="2400" spc="-1" strike="noStrike" u="sng">
                <a:solidFill>
                  <a:srgbClr val="0066cc"/>
                </a:solidFill>
                <a:uFillTx/>
                <a:latin typeface="Impact"/>
                <a:hlinkClick r:id="rId2"/>
              </a:rPr>
              <a:t>Trickle-down economics</a:t>
            </a:r>
            <a:r>
              <a:rPr b="0" lang="en-US" sz="2400" spc="-1" strike="noStrike">
                <a:solidFill>
                  <a:srgbClr val="000000"/>
                </a:solidFill>
                <a:latin typeface="Impact"/>
              </a:rPr>
              <a:t>“</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a:t>
            </a:r>
            <a:r>
              <a:rPr b="0" lang="en-US" sz="2400" spc="-1" strike="noStrike" u="sng">
                <a:solidFill>
                  <a:srgbClr val="0066cc"/>
                </a:solidFill>
                <a:uFillTx/>
                <a:latin typeface="Impact"/>
                <a:hlinkClick r:id="rId3"/>
              </a:rPr>
              <a:t>Cold War</a:t>
            </a:r>
            <a:r>
              <a:rPr b="0" lang="en-US" sz="2400" spc="-1" strike="noStrike">
                <a:solidFill>
                  <a:srgbClr val="000000"/>
                </a:solidFill>
                <a:latin typeface="Impact"/>
              </a:rPr>
              <a:t> related defense spending caused large budget defici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a:t>
            </a:r>
            <a:r>
              <a:rPr b="0" lang="en-US" sz="2400" spc="-1" strike="noStrike" u="sng">
                <a:solidFill>
                  <a:srgbClr val="0066cc"/>
                </a:solidFill>
                <a:uFillTx/>
                <a:latin typeface="Impact"/>
                <a:hlinkClick r:id="rId4"/>
              </a:rPr>
              <a:t>Savings and Loan crisi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a:t>
            </a:r>
            <a:r>
              <a:rPr b="0" lang="en-US" sz="2400" spc="-1" strike="noStrike" u="sng">
                <a:solidFill>
                  <a:srgbClr val="0066cc"/>
                </a:solidFill>
                <a:uFillTx/>
                <a:latin typeface="Impact"/>
                <a:hlinkClick r:id="rId5"/>
              </a:rPr>
              <a:t>United States</a:t>
            </a:r>
            <a:r>
              <a:rPr b="0" lang="en-US" sz="2400" spc="-1" strike="noStrike">
                <a:solidFill>
                  <a:srgbClr val="000000"/>
                </a:solidFill>
                <a:latin typeface="Impact"/>
              </a:rPr>
              <a:t> borrowed heavily both domestically and abroad raising </a:t>
            </a:r>
            <a:r>
              <a:rPr b="0" lang="en-US" sz="2400" spc="-1" strike="noStrike" u="sng">
                <a:solidFill>
                  <a:srgbClr val="0066cc"/>
                </a:solidFill>
                <a:uFillTx/>
                <a:latin typeface="Impact"/>
                <a:hlinkClick r:id="rId6"/>
              </a:rPr>
              <a:t>national debt</a:t>
            </a:r>
            <a:r>
              <a:rPr b="0" lang="en-US" sz="2400" spc="-1" strike="noStrike">
                <a:solidFill>
                  <a:srgbClr val="000000"/>
                </a:solidFill>
                <a:latin typeface="Impact"/>
              </a:rPr>
              <a:t> $700 billion to $3 trillion</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a:t>
            </a:r>
            <a:endParaRPr b="0" lang="en-US" sz="4400" spc="-1" strike="noStrike">
              <a:solidFill>
                <a:srgbClr val="000000"/>
              </a:solidFill>
              <a:latin typeface="Impact"/>
            </a:endParaRPr>
          </a:p>
        </p:txBody>
      </p:sp>
      <p:sp>
        <p:nvSpPr>
          <p:cNvPr id="167" name="PlaceHolder 2"/>
          <p:cNvSpPr>
            <a:spLocks noGrp="1"/>
          </p:cNvSpPr>
          <p:nvPr>
            <p:ph/>
          </p:nvPr>
        </p:nvSpPr>
        <p:spPr>
          <a:xfrm>
            <a:off x="304560" y="838080"/>
            <a:ext cx="7543800" cy="6019920"/>
          </a:xfrm>
          <a:prstGeom prst="rect">
            <a:avLst/>
          </a:prstGeom>
          <a:noFill/>
          <a:ln w="0">
            <a:noFill/>
          </a:ln>
          <a:effectLst>
            <a:outerShdw dist="25455" dir="2700000" blurRad="0" rotWithShape="0">
              <a:srgbClr val="ffffff"/>
            </a:outerShdw>
          </a:effectLst>
        </p:spPr>
        <p:txBody>
          <a:bodyPr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Horwitz, Tony. </a:t>
            </a:r>
            <a:r>
              <a:rPr b="0" lang="en-US" sz="2000" spc="-1" strike="noStrike" u="sng">
                <a:solidFill>
                  <a:srgbClr val="000000"/>
                </a:solidFill>
                <a:uFillTx/>
                <a:latin typeface="Impact"/>
              </a:rPr>
              <a:t>Let’s Bury Reaganomics With It’s Founder. </a:t>
            </a:r>
            <a:r>
              <a:rPr b="0" lang="en-US" sz="2000" spc="-1" strike="noStrike">
                <a:solidFill>
                  <a:srgbClr val="000000"/>
                </a:solidFill>
                <a:latin typeface="Impact"/>
              </a:rPr>
              <a:t>8 June 2004.  26 December 2008. </a:t>
            </a:r>
            <a:r>
              <a:rPr b="0" lang="en-US" sz="2000" spc="-1" strike="noStrike" u="sng">
                <a:solidFill>
                  <a:srgbClr val="0066cc"/>
                </a:solidFill>
                <a:uFillTx/>
                <a:latin typeface="Impact"/>
                <a:hlinkClick r:id="rId1"/>
              </a:rPr>
              <a:t>http://www.commondreams.org/views04/0608-13.ht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affer, B.  Arthur. </a:t>
            </a:r>
            <a:r>
              <a:rPr b="0" lang="en-US" sz="2000" spc="-1" strike="noStrike" u="sng">
                <a:solidFill>
                  <a:srgbClr val="000000"/>
                </a:solidFill>
                <a:uFillTx/>
                <a:latin typeface="Impact"/>
              </a:rPr>
              <a:t>The Laffer Curve: Past, Present, and Future.</a:t>
            </a:r>
            <a:r>
              <a:rPr b="0" lang="en-US" sz="2000" spc="-1" strike="noStrike">
                <a:solidFill>
                  <a:srgbClr val="000000"/>
                </a:solidFill>
                <a:latin typeface="Impact"/>
              </a:rPr>
              <a:t> 1 June 2004</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2"/>
              </a:rPr>
              <a:t>http://www.heritage.org/Research/Taxes/bg1765.cf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Nelson, Rebecca. </a:t>
            </a:r>
            <a:r>
              <a:rPr b="0" lang="en-US" sz="2000" spc="-1" strike="noStrike" u="sng">
                <a:solidFill>
                  <a:srgbClr val="000000"/>
                </a:solidFill>
                <a:uFillTx/>
                <a:latin typeface="Impact"/>
              </a:rPr>
              <a:t>The Handy History Answer Book. </a:t>
            </a:r>
            <a:r>
              <a:rPr b="0" lang="en-US" sz="2000" spc="-1" strike="noStrike">
                <a:solidFill>
                  <a:srgbClr val="000000"/>
                </a:solidFill>
                <a:latin typeface="Impact"/>
              </a:rPr>
              <a:t>Canton, Michigan: Visible Ink Press, 1999.</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a:t>
            </a:r>
            <a:r>
              <a:rPr b="0" lang="en-US" sz="2000" spc="-1" strike="noStrike">
                <a:solidFill>
                  <a:srgbClr val="000000"/>
                </a:solidFill>
                <a:latin typeface="Impact"/>
              </a:rPr>
              <a:t>  Wikipedia. 23 December 2008. 24 December 2008.</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3"/>
              </a:rPr>
              <a:t>http://en.wikipedia.org/wiki/Reaganomics</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a Success </a:t>
            </a:r>
            <a:r>
              <a:rPr b="0" lang="en-US" sz="2000" spc="-1" strike="noStrike">
                <a:solidFill>
                  <a:srgbClr val="000000"/>
                </a:solidFill>
                <a:latin typeface="Impact"/>
              </a:rPr>
              <a:t>Story. 29 March 2005. 6 January 2009. </a:t>
            </a:r>
            <a:r>
              <a:rPr b="0" lang="en-US" sz="2000" spc="-1" strike="noStrike" u="sng">
                <a:solidFill>
                  <a:srgbClr val="0066cc"/>
                </a:solidFill>
                <a:uFillTx/>
                <a:latin typeface="Impact"/>
                <a:hlinkClick r:id="rId4"/>
              </a:rPr>
              <a:t>http://lvb.net/item/820</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Wealth Redistribution, and  Corporate Accountability: In which conservatives fail to understand their own  policies.  </a:t>
            </a:r>
            <a:r>
              <a:rPr b="0" lang="en-US" sz="2000" spc="-1" strike="noStrike">
                <a:solidFill>
                  <a:srgbClr val="000000"/>
                </a:solidFill>
                <a:latin typeface="Impact"/>
              </a:rPr>
              <a:t>5 August 2008. 6 January 2009. </a:t>
            </a:r>
            <a:r>
              <a:rPr b="0" lang="en-US" sz="2000" spc="-1" strike="noStrike" u="sng">
                <a:solidFill>
                  <a:srgbClr val="0066cc"/>
                </a:solidFill>
                <a:uFillTx/>
                <a:latin typeface="Impact"/>
                <a:hlinkClick r:id="rId5"/>
              </a:rPr>
              <a:t>http://robot-heart.tumblr.com/post/44868981/reaganomics-wealth-redistribution-and-corporate</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eeves, Richard. </a:t>
            </a:r>
            <a:r>
              <a:rPr b="0" lang="en-US" sz="2000" spc="-1" strike="noStrike" u="sng">
                <a:solidFill>
                  <a:srgbClr val="000000"/>
                </a:solidFill>
                <a:uFillTx/>
                <a:latin typeface="Impact"/>
              </a:rPr>
              <a:t>President Reagan: The Triumph of Imagination.</a:t>
            </a:r>
            <a:r>
              <a:rPr b="0" lang="en-US" sz="2000" spc="-1" strike="noStrike">
                <a:solidFill>
                  <a:srgbClr val="000000"/>
                </a:solidFill>
                <a:latin typeface="Impact"/>
              </a:rPr>
              <a:t> New York: Simon &amp; Schuster Paperbacks, 2005.</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2</a:t>
            </a:r>
            <a:endParaRPr b="0" lang="en-US" sz="4400" spc="-1" strike="noStrike">
              <a:solidFill>
                <a:srgbClr val="000000"/>
              </a:solidFill>
              <a:latin typeface="Impact"/>
            </a:endParaRPr>
          </a:p>
        </p:txBody>
      </p:sp>
      <p:sp>
        <p:nvSpPr>
          <p:cNvPr id="169" name=""/>
          <p:cNvSpPr txBox="1"/>
          <p:nvPr/>
        </p:nvSpPr>
        <p:spPr>
          <a:xfrm>
            <a:off x="304560" y="1295280"/>
            <a:ext cx="7543800" cy="518184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idenour, Amy. </a:t>
            </a:r>
            <a:r>
              <a:rPr b="0" lang="en-US" sz="2000" spc="-1" strike="noStrike" u="sng">
                <a:solidFill>
                  <a:srgbClr val="000000"/>
                </a:solidFill>
                <a:uFillTx/>
                <a:latin typeface="Impact"/>
              </a:rPr>
              <a:t>Reaganomics: Were the 1980s the Decade of Greed?. </a:t>
            </a:r>
            <a:r>
              <a:rPr b="0" lang="en-US" sz="2000" spc="-1" strike="noStrike">
                <a:solidFill>
                  <a:srgbClr val="000000"/>
                </a:solidFill>
                <a:latin typeface="Impact"/>
              </a:rPr>
              <a:t>8 January 2004. </a:t>
            </a:r>
            <a:r>
              <a:rPr b="0" lang="en-US" sz="2000" spc="-1" strike="noStrike" u="sng">
                <a:solidFill>
                  <a:srgbClr val="0066cc"/>
                </a:solidFill>
                <a:uFillTx/>
                <a:latin typeface="Impact"/>
                <a:hlinkClick r:id="rId1"/>
              </a:rPr>
              <a:t>http://www.nationalcenter.org/WCT010804.html</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mith, Carter. </a:t>
            </a:r>
            <a:r>
              <a:rPr b="0" lang="en-US" sz="2000" spc="-1" strike="noStrike" u="sng">
                <a:solidFill>
                  <a:srgbClr val="000000"/>
                </a:solidFill>
                <a:uFillTx/>
                <a:latin typeface="Impact"/>
              </a:rPr>
              <a:t>Presidents: All You Need to Know.</a:t>
            </a:r>
            <a:r>
              <a:rPr b="0" lang="en-US" sz="2000" spc="-1" strike="noStrike">
                <a:solidFill>
                  <a:srgbClr val="000000"/>
                </a:solidFill>
                <a:latin typeface="Impact"/>
              </a:rPr>
              <a:t> New York: Hylas Publishing, 2004.</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winney, Clarence. </a:t>
            </a:r>
            <a:r>
              <a:rPr b="0" lang="en-US" sz="2000" spc="-1" strike="noStrike" u="sng">
                <a:solidFill>
                  <a:srgbClr val="000000"/>
                </a:solidFill>
                <a:uFillTx/>
                <a:latin typeface="Impact"/>
              </a:rPr>
              <a:t>PRAISE CLINTON GREATEST RECORD BY FAR</a:t>
            </a:r>
            <a:r>
              <a:rPr b="0" lang="en-US" sz="2000" spc="-1" strike="noStrike">
                <a:solidFill>
                  <a:srgbClr val="000000"/>
                </a:solidFill>
                <a:latin typeface="Impact"/>
              </a:rPr>
              <a:t>. 2001 - 2008 .  31 December 2008. </a:t>
            </a:r>
            <a:r>
              <a:rPr b="0" lang="en-US" sz="2000" spc="-1" strike="noStrike" u="sng">
                <a:solidFill>
                  <a:srgbClr val="0066cc"/>
                </a:solidFill>
                <a:uFillTx/>
                <a:latin typeface="Impact"/>
                <a:hlinkClick r:id="rId2"/>
              </a:rPr>
              <a:t>http://demopedia.democraticunderground.com/discuss/duboard.php?az=show_mesg&amp;forum=296&amp;topic_id=7858&amp;mesg_id=7858 </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The Onion: Reaganomics Finally Trickles Down To Area Man</a:t>
            </a:r>
            <a:r>
              <a:rPr b="0" lang="en-US" sz="2000" spc="-1" strike="noStrike">
                <a:solidFill>
                  <a:srgbClr val="000000"/>
                </a:solidFill>
                <a:latin typeface="Impact"/>
              </a:rPr>
              <a:t>. 22 OCTOBER 2007.  26 DECEMBER 2008.  </a:t>
            </a:r>
            <a:r>
              <a:rPr b="0" lang="en-US" sz="2000" spc="-1" strike="noStrike" u="sng">
                <a:solidFill>
                  <a:srgbClr val="0066cc"/>
                </a:solidFill>
                <a:uFillTx/>
                <a:latin typeface="Impact"/>
                <a:hlinkClick r:id="rId3"/>
              </a:rPr>
              <a:t>http://dialogic.blogspot.com/2007/10/onion-reaganomics-finally-trickles-down.html </a:t>
            </a:r>
            <a:r>
              <a:rPr b="0" lang="en-US" sz="2000" spc="-1" strike="noStrike">
                <a:solidFill>
                  <a:srgbClr val="000000"/>
                </a:solidFill>
                <a:latin typeface="Impact"/>
              </a:rPr>
              <a:t>.</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 3</a:t>
            </a:r>
            <a:endParaRPr b="0" lang="en-US" sz="4400" spc="-1" strike="noStrike">
              <a:solidFill>
                <a:srgbClr val="000000"/>
              </a:solidFill>
              <a:latin typeface="Impact"/>
            </a:endParaRPr>
          </a:p>
        </p:txBody>
      </p:sp>
      <p:sp>
        <p:nvSpPr>
          <p:cNvPr id="171" name=""/>
          <p:cNvSpPr txBox="1"/>
          <p:nvPr/>
        </p:nvSpPr>
        <p:spPr>
          <a:xfrm>
            <a:off x="228240" y="1143000"/>
            <a:ext cx="7543800" cy="601992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1"/>
              </a:rPr>
              <a:t>http://reagan2020.us/images/1982ReaganomicsTime.jpg </a:t>
            </a:r>
            <a:r>
              <a:rPr b="0" lang="en-US" sz="1200" spc="-1" strike="noStrike">
                <a:solidFill>
                  <a:srgbClr val="000000"/>
                </a:solidFill>
                <a:latin typeface="Impact"/>
              </a:rPr>
              <a:t>.  Reaganomics Time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2"/>
              </a:rPr>
              <a:t>http://capitolstreet.files.wordpress.com/2008/06/stagflation.gif </a:t>
            </a:r>
            <a:r>
              <a:rPr b="1" lang="en-US" sz="1200" spc="-1" strike="noStrike">
                <a:solidFill>
                  <a:srgbClr val="000000"/>
                </a:solidFill>
                <a:latin typeface="Impact"/>
              </a:rPr>
              <a:t>. </a:t>
            </a:r>
            <a:r>
              <a:rPr b="0" lang="en-US" sz="1200" spc="-1" strike="noStrike">
                <a:solidFill>
                  <a:srgbClr val="000000"/>
                </a:solidFill>
                <a:latin typeface="Impact"/>
              </a:rPr>
              <a:t>Stagflation Cartoon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3"/>
              </a:rPr>
              <a:t>http://www.marketoracle.co.uk/images/united_states_rebate_check.jpg</a:t>
            </a:r>
            <a:r>
              <a:rPr b="1" lang="en-US" sz="1200" spc="-1" strike="noStrike">
                <a:solidFill>
                  <a:srgbClr val="000000"/>
                </a:solidFill>
                <a:latin typeface="Impact"/>
              </a:rPr>
              <a:t>. </a:t>
            </a:r>
            <a:r>
              <a:rPr b="0" lang="en-US" sz="1200" spc="-1" strike="noStrike">
                <a:solidFill>
                  <a:srgbClr val="000000"/>
                </a:solidFill>
                <a:latin typeface="Impact"/>
              </a:rPr>
              <a:t>Trickle dow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4"/>
              </a:rPr>
              <a:t>http://images.google.com/imgres?imgurl=http://bp3.blogger.com/ </a:t>
            </a:r>
            <a:r>
              <a:rPr b="0" lang="en-US" sz="1200" spc="-1" strike="noStrike">
                <a:solidFill>
                  <a:srgbClr val="000000"/>
                </a:solidFill>
                <a:latin typeface="Impact"/>
              </a:rPr>
              <a:t>. Stagflation Cartoon#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5"/>
              </a:rPr>
              <a:t>http://www.heritage.org/Research/Taxes/images/35038257.gif </a:t>
            </a:r>
            <a:r>
              <a:rPr b="0" lang="en-US" sz="1200" spc="-1" strike="noStrike">
                <a:solidFill>
                  <a:srgbClr val="000000"/>
                </a:solidFill>
                <a:latin typeface="Impact"/>
              </a:rPr>
              <a:t>. Laffer Imag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6"/>
              </a:rPr>
              <a:t>http://www.youtube.com/watch?v=SDMksN-ZTR4&amp;feature=related </a:t>
            </a:r>
            <a:r>
              <a:rPr b="1" lang="en-US" sz="1200" spc="-1" strike="noStrike">
                <a:solidFill>
                  <a:srgbClr val="000000"/>
                </a:solidFill>
                <a:latin typeface="Impact"/>
              </a:rPr>
              <a:t>. </a:t>
            </a:r>
            <a:r>
              <a:rPr b="0" lang="en-US" sz="1200" spc="-1" strike="noStrike">
                <a:solidFill>
                  <a:srgbClr val="000000"/>
                </a:solidFill>
                <a:latin typeface="Impact"/>
              </a:rPr>
              <a:t>Reagan Video #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 </a:t>
            </a:r>
            <a:r>
              <a:rPr b="0" lang="en-US" sz="1200" spc="-1" strike="noStrike" u="sng">
                <a:solidFill>
                  <a:srgbClr val="0066cc"/>
                </a:solidFill>
                <a:uFillTx/>
                <a:latin typeface="Impact"/>
                <a:hlinkClick r:id="rId7"/>
              </a:rPr>
              <a:t>http://www.youtube.com/watch?v=GhgiOSgBEYY</a:t>
            </a:r>
            <a:r>
              <a:rPr b="0" lang="en-US" sz="1200" spc="-1" strike="noStrike">
                <a:solidFill>
                  <a:srgbClr val="000000"/>
                </a:solidFill>
                <a:latin typeface="Impact"/>
              </a:rPr>
              <a:t>. Reagan Video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6 December 2008. </a:t>
            </a:r>
            <a:r>
              <a:rPr b="0" lang="en-US" sz="1200" spc="-1" strike="noStrike" u="sng">
                <a:solidFill>
                  <a:srgbClr val="0066cc"/>
                </a:solidFill>
                <a:uFillTx/>
                <a:latin typeface="Impact"/>
                <a:hlinkClick r:id="rId8"/>
              </a:rPr>
              <a:t>http://www.archives.gov/press/press-kits/picturing-the-century-photos/images/reagan-at-durenberger-rally.jpg </a:t>
            </a:r>
            <a:r>
              <a:rPr b="0" lang="en-US" sz="1200" spc="-1" strike="noStrike">
                <a:solidFill>
                  <a:srgbClr val="000000"/>
                </a:solidFill>
                <a:latin typeface="Impact"/>
              </a:rPr>
              <a:t>. Reagan with the Flag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www.tea.state.tx.us/student.assessment/resources/online/eoc00/ushistory/p28no40.gif. Reaga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blogs.e-rockford.com/applesauce/files/2008/07/1a1.jpg . Reagan Thumbs Up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timesonline.typepad.com/comment/images/bill_clinton_at_the_labour_party_confere.jpg.  Clinto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i272.photobucket.com/albums/jj183/laughtech/Page_1-30.jpg . Clinto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img.photobucket.com/albums/v423/meh_cd/06_podborka_09.jpg. Horowitz view of Reaganomics.</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worldhum.com/images/c_uploads/TonyHorwitz_225.jpg. Picture of Tony Horwitz.</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chud.com/nextraimages/RobinHoodFreudian.jpg. Picture of The King from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disneythemes.com/disney-robin-hood/disney-robin-hood-wallpapers-preview.jpg. Picture of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gfmd-fmmd.org/en/system/files/images/verhofstadt.preview.jpg. Picture of  Guy Verhofstadt, The Belgian Prime Minister.</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lvb.net/item/954. Picture of Reaganomics and how it works in Belgium.</a:t>
            </a:r>
            <a:endParaRPr b="0" lang="en-US" sz="1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LEGION</cp:lastModifiedBy>
  <dcterms:modified xsi:type="dcterms:W3CDTF">2017-07-03T09:56:40Z</dcterms:modified>
  <cp:revision>131</cp:revision>
  <dc:subject/>
  <dc:title>Reaganomics</dc:title>
</cp:coreProperties>
</file>